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DB1-5944-4E24-BE36-9C873BC6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548-12BD-4A6D-9B91-F3ABBE0F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7F9-1A65-4B80-983C-0D7DA36F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74B-8A37-4808-891B-D9155EF5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29B-34A2-4DE4-BA70-72BB4B47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367-F51F-4B99-A574-8D5A86F4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4DA-27C6-4437-95E7-C0DA2113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911-8A59-4C2A-BAF6-66C6371B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0FC-9A8A-4AAE-A39D-ECB826BC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075-BF66-4824-8D2D-79B74C80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AD47-C3E5-430C-AFF9-67C50511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F36-1E9D-422E-AB8B-9F02F8E8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4752-7401-4138-9992-7B96C1035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ИЕНТИРОВ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 Какое созвездие может указать нам направление на север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99760" y="2642760"/>
            <a:ext cx="71866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озвездие Малая Медведиц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озвездие Южный Крес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озвездие Гончих Пс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озвездие Водоле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. Можно ли только по одному из местных признаков точно определить стороны горизон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9680" y="2285640"/>
            <a:ext cx="8186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Это могут только хорошо подготовленные люд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Можно, если этот признак очень отчетливо проявляется на мест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Можно, если стороны горизонта определяют не менее 3-х челове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ельз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В каких местах компас может указывать неверное направл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57200" y="2500200"/>
            <a:ext cx="73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В густом еловом лес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 пустынной мест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Рядом с высоковольтными линиями электропередач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а берегу крупной ре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Что такое азиму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рибор для определения сторон горизон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Местный признак для определения сторон горизон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Направление, постоянно указывающее на севе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Угол между направлением на север и на какой либо предмет ме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Сколько примерно градусов составляет азимут в направлении деревни Маренни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428560" y="2999880"/>
            <a:ext cx="625788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90 градус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180 градус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270 градус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360 граду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Где находится Солнце в час дня по местному времени лето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43120" y="3071880"/>
            <a:ext cx="604368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а север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На юг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На запад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а восто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. Что такое гномон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Устройство для определения сторон горизон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Местный признак для определения сторон горизон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Направление, постоянно указывающее на севе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Угол между направлением на север и на какой либо предмет ме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В летний полдень тень отбрасываемая человеком будет указыва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85680" y="3357360"/>
            <a:ext cx="5900760" cy="29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а юг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На севе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На запа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а вост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По каким из местных примет нельзя определить стороны горизон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99840" y="2928600"/>
            <a:ext cx="6186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Деревьям и пня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Муравейник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Лишайникам и мх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ухой тра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 Могут ли церкви и кладбища указать нам стороны горизон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13920" y="2356920"/>
            <a:ext cx="747252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ет, не могу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Да,  но только крещенным людя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Да, но только в период церковных праздник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Да, могут, в любо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3:21:22Z</dcterms:created>
  <dc:creator>Admin</dc:creator>
  <dc:description/>
  <dc:language>en-US</dc:language>
  <cp:lastModifiedBy>Admin</cp:lastModifiedBy>
  <dcterms:modified xsi:type="dcterms:W3CDTF">2002-01-01T03:53:30Z</dcterms:modified>
  <cp:revision>4</cp:revision>
  <dc:subject/>
  <dc:title>ОРИЕНТИРОВАНИЕ.</dc:title>
</cp:coreProperties>
</file>