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F51-8FFE-483F-B025-AFDFEB89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4D0-151B-4A78-B614-2EA4800B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0D3-E934-485F-8819-572D0621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0A3-7F62-464E-9841-3412FB4B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30E-CB1E-4C0E-B6F4-47E3C7C1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48E-6300-4A59-900F-27145E6C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021-B73D-40C6-B0B5-3DF892B7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313-1A3C-4AA7-8079-424EEF3B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45CB-09CF-4C52-AA64-55FC8F13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7A8-2464-42C7-81B2-C6B64789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E81-0A5E-4519-953B-A0C04708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B91-DE25-424F-9232-928630D0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CB43-78BD-4E97-8B7F-51F9F4448C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ИЕНТИРОВ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 Какое созвездие может указать нам направление на север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99760" y="2642760"/>
            <a:ext cx="718668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озвездие Малая Медведиц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Созвездие Южный Крес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озвездие Гончих Пс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озвездие Водоле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. Можно ли только по одному из местных признаков точно определить стороны горизон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9680" y="2285640"/>
            <a:ext cx="8186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Это могут только хорошо подготовленные люд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Можно, если этот признак очень отчетливо проявляется на мест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Можно, если стороны горизонта определяют не менее 3-х челове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ельз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В каких местах компас может указывать неверное направл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57200" y="2500200"/>
            <a:ext cx="73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В густом еловом лес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В пустынной мест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Рядом с высоковольтными линиями электропередач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а берегу крупной ре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Что такое азиму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рибор для определения сторон горизон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Местный признак для определения сторон горизон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Направление, постоянно указывающее на севе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Угол между направлением на север и на какой либо предмет ме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Сколько примерно градусов составляет азимут в направлении деревни Маренни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428560" y="2999880"/>
            <a:ext cx="625788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90 градус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180 градус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270 градус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360 граду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Где находится Солнце в час дня по местному времени лето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43120" y="3071880"/>
            <a:ext cx="604368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а север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На юг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На запад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а восто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. Что такое гномон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Устройство для определения сторон горизон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Местный признак для определения сторон горизон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Направление, постоянно указывающее на севе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Угол между направлением на север и на какой либо предмет ме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В летний полдень тень отбрасываемая человеком будет указыва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85680" y="3357360"/>
            <a:ext cx="5900760" cy="29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а юг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На севе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На запа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На вост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По каким из местных примет нельзя определить стороны горизон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99840" y="2928600"/>
            <a:ext cx="6186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Деревьям и пня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Муравейник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Лишайникам и мх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ухой тра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 Могут ли церкви и кладбища указать нам стороны горизон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13920" y="2356920"/>
            <a:ext cx="747252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ет, не могу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Да,  но только крещенным людя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Да, но только в период церковных праздник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Да, могут, в любо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3:21:22Z</dcterms:created>
  <dc:creator>Admin</dc:creator>
  <dc:description/>
  <dc:language>en-US</dc:language>
  <cp:lastModifiedBy>Admin</cp:lastModifiedBy>
  <dcterms:modified xsi:type="dcterms:W3CDTF">2002-01-01T03:53:30Z</dcterms:modified>
  <cp:revision>4</cp:revision>
  <dc:subject/>
  <dc:title>ОРИЕНТИРОВАНИЕ.</dc:title>
</cp:coreProperties>
</file>