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6BE4-8BFB-4BDB-A939-8B15BFD40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78D5-E1FC-4B5E-B0F5-B382404F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DB32-EABE-4CB1-B90F-DFA1C8333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7CB0-D587-41D2-8C24-92537DB8C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71EE-D253-439F-B585-B3710489A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CD30-20D2-4C96-8A13-BBC64B98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7301-55AB-4165-90DC-33ABFB56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656F-7FDB-40D0-84C6-29F0AF4F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FF9B-E97A-41BC-8E88-18E69159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47320"/>
            <a:ext cx="594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F743-715E-4276-8185-2A204C76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9E4D-704C-478A-A1B9-28F0FDED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7D33-21A4-4F80-8C62-AC9BD8C1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A435-2973-4822-956B-86B4A806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42217-AE55-4BC8-ADCE-FC483D1B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CCF0-6920-4D61-A0B9-98C8253E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3461-D62A-4360-B2B2-E6443A05C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AEFD4-4A25-4D1C-BDB2-4FE5EB6AA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D3B3A-5E9E-4FF2-A029-6F484D0B8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9CF0C-CB07-42BE-AB06-EAF7EDDB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1168C-B668-4F73-873E-D7D10D97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2ADD3-EE30-4DED-9B38-AC331F13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9C59F-2E89-44EB-ADC5-77C07F07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3F17-697E-4075-98D8-18D877BD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47320"/>
            <a:ext cx="594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CA543-4EBD-43A3-BAFF-FD2C773E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9EA9C-A785-4A8A-A43C-3B7810A4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E7900-3848-4803-A34D-5B245FEF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6E56D-29A1-4EE0-B788-54CB46B4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FD946-7442-469B-8CE8-3CBDA186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741E1-AB70-41BE-AE5B-6860446C3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31A44-DA4A-48CA-B6F4-87A9AA06A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4B60-F389-4C56-B7C1-AD380F6C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C3D3-3511-495E-A6AD-73EC7CC3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47320"/>
            <a:ext cx="594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3163-FD3E-4E46-953E-BFA4F639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5073-2A04-4542-8387-18588AC5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F248-94F5-4686-BA58-1F6C3EF5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3E22-1877-4502-8100-CD99349A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0" y="487440"/>
            <a:ext cx="9144000" cy="726840"/>
          </a:xfrm>
          <a:prstGeom prst="rect">
            <a:avLst/>
          </a:prstGeom>
          <a:gradFill rotWithShape="0">
            <a:gsLst>
              <a:gs pos="0">
                <a:srgbClr val="bababa">
                  <a:alpha val="68235"/>
                </a:srgbClr>
              </a:gs>
              <a:gs pos="100000">
                <a:srgbClr val="ffffff">
                  <a:alpha val="2705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Oval 19"/>
          <p:cNvSpPr/>
          <p:nvPr/>
        </p:nvSpPr>
        <p:spPr>
          <a:xfrm>
            <a:off x="6458040" y="210960"/>
            <a:ext cx="1133280" cy="11574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1185" dir="307803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Oval 20"/>
          <p:cNvSpPr/>
          <p:nvPr/>
        </p:nvSpPr>
        <p:spPr>
          <a:xfrm>
            <a:off x="7848720" y="210960"/>
            <a:ext cx="1133280" cy="11574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1185" dir="307803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FA44-73BC-4424-893D-3C980270F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22" descr="5"/>
          <p:cNvPicPr/>
          <p:nvPr/>
        </p:nvPicPr>
        <p:blipFill>
          <a:blip r:embed="rId4"/>
          <a:stretch/>
        </p:blipFill>
        <p:spPr>
          <a:xfrm>
            <a:off x="-2198520" y="5727600"/>
            <a:ext cx="11341080" cy="97956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3" descr="6"/>
          <p:cNvPicPr/>
          <p:nvPr/>
        </p:nvPicPr>
        <p:blipFill>
          <a:blip r:embed="rId5"/>
          <a:stretch/>
        </p:blipFill>
        <p:spPr>
          <a:xfrm>
            <a:off x="-1909800" y="5587920"/>
            <a:ext cx="12458880" cy="142236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24" descr="6"/>
          <p:cNvPicPr/>
          <p:nvPr/>
        </p:nvPicPr>
        <p:blipFill>
          <a:blip r:embed="rId6"/>
          <a:stretch/>
        </p:blipFill>
        <p:spPr>
          <a:xfrm>
            <a:off x="-1981080" y="5418000"/>
            <a:ext cx="13104720" cy="142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Rectangle 29"/>
          <p:cNvGrpSpPr/>
          <p:nvPr/>
        </p:nvGrpSpPr>
        <p:grpSpPr>
          <a:xfrm>
            <a:off x="0" y="4827600"/>
            <a:ext cx="9167760" cy="1810800"/>
            <a:chOff x="0" y="4827600"/>
            <a:chExt cx="9167760" cy="1810800"/>
          </a:xfrm>
        </p:grpSpPr>
        <p:pic>
          <p:nvPicPr>
            <p:cNvPr id="48" name="Rectangle 29" descr=""/>
            <p:cNvPicPr/>
            <p:nvPr/>
          </p:nvPicPr>
          <p:blipFill>
            <a:blip r:embed="rId2"/>
            <a:stretch/>
          </p:blipFill>
          <p:spPr>
            <a:xfrm>
              <a:off x="0" y="4827600"/>
              <a:ext cx="9164520" cy="180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4830480"/>
              <a:ext cx="9167760" cy="18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Rectangle 30"/>
          <p:cNvSpPr/>
          <p:nvPr/>
        </p:nvSpPr>
        <p:spPr>
          <a:xfrm>
            <a:off x="0" y="5291280"/>
            <a:ext cx="9144000" cy="876240"/>
          </a:xfrm>
          <a:prstGeom prst="rect">
            <a:avLst/>
          </a:prstGeom>
          <a:gradFill rotWithShape="0">
            <a:gsLst>
              <a:gs pos="0">
                <a:srgbClr val="ffffff">
                  <a:alpha val="27058"/>
                </a:srgbClr>
              </a:gs>
              <a:gs pos="100000">
                <a:srgbClr val="bababa">
                  <a:alpha val="9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Oval 32"/>
          <p:cNvSpPr/>
          <p:nvPr/>
        </p:nvSpPr>
        <p:spPr>
          <a:xfrm>
            <a:off x="201600" y="4481640"/>
            <a:ext cx="1133640" cy="11570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Oval 33"/>
          <p:cNvSpPr/>
          <p:nvPr/>
        </p:nvSpPr>
        <p:spPr>
          <a:xfrm>
            <a:off x="1562040" y="4481640"/>
            <a:ext cx="1133640" cy="11570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34" descr="5"/>
          <p:cNvPicPr/>
          <p:nvPr/>
        </p:nvPicPr>
        <p:blipFill>
          <a:blip r:embed="rId5"/>
          <a:stretch/>
        </p:blipFill>
        <p:spPr>
          <a:xfrm>
            <a:off x="-2184480" y="2367000"/>
            <a:ext cx="11312640" cy="1189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5" descr="6"/>
          <p:cNvPicPr/>
          <p:nvPr/>
        </p:nvPicPr>
        <p:blipFill>
          <a:blip r:embed="rId6"/>
          <a:stretch/>
        </p:blipFill>
        <p:spPr>
          <a:xfrm>
            <a:off x="-1909800" y="2227320"/>
            <a:ext cx="12458880" cy="1727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6" descr="6"/>
          <p:cNvPicPr/>
          <p:nvPr/>
        </p:nvPicPr>
        <p:blipFill>
          <a:blip r:embed="rId7"/>
          <a:stretch/>
        </p:blipFill>
        <p:spPr>
          <a:xfrm>
            <a:off x="-1981080" y="2257560"/>
            <a:ext cx="13104720" cy="172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8" descr="1"/>
          <p:cNvPicPr/>
          <p:nvPr/>
        </p:nvPicPr>
        <p:blipFill>
          <a:blip r:embed="rId8"/>
          <a:stretch/>
        </p:blipFill>
        <p:spPr>
          <a:xfrm>
            <a:off x="1371600" y="380880"/>
            <a:ext cx="6019920" cy="45658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1"/>
          <p:cNvSpPr/>
          <p:nvPr/>
        </p:nvSpPr>
        <p:spPr>
          <a:xfrm>
            <a:off x="89640" y="95400"/>
            <a:ext cx="12765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389640"/>
            <a:ext cx="16002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2262240" y="6389640"/>
            <a:ext cx="18288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4343400" y="6389640"/>
            <a:ext cx="14479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50EA-C70E-4F6D-80FF-A5EEB1C3E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7"/>
          <p:cNvSpPr/>
          <p:nvPr/>
        </p:nvSpPr>
        <p:spPr>
          <a:xfrm>
            <a:off x="0" y="487440"/>
            <a:ext cx="9144000" cy="726840"/>
          </a:xfrm>
          <a:prstGeom prst="rect">
            <a:avLst/>
          </a:prstGeom>
          <a:gradFill rotWithShape="0">
            <a:gsLst>
              <a:gs pos="0">
                <a:srgbClr val="bababa">
                  <a:alpha val="68235"/>
                </a:srgbClr>
              </a:gs>
              <a:gs pos="100000">
                <a:srgbClr val="ffffff">
                  <a:alpha val="2705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19"/>
          <p:cNvSpPr/>
          <p:nvPr/>
        </p:nvSpPr>
        <p:spPr>
          <a:xfrm>
            <a:off x="6458040" y="210960"/>
            <a:ext cx="1133280" cy="11574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1185" dir="307803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20"/>
          <p:cNvSpPr/>
          <p:nvPr/>
        </p:nvSpPr>
        <p:spPr>
          <a:xfrm>
            <a:off x="7848720" y="210960"/>
            <a:ext cx="1133280" cy="11574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1185" dir="307803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22" descr="5"/>
          <p:cNvPicPr/>
          <p:nvPr/>
        </p:nvPicPr>
        <p:blipFill>
          <a:blip r:embed="rId4"/>
          <a:stretch/>
        </p:blipFill>
        <p:spPr>
          <a:xfrm>
            <a:off x="-2198520" y="5727600"/>
            <a:ext cx="11341080" cy="979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3" descr="6"/>
          <p:cNvPicPr/>
          <p:nvPr/>
        </p:nvPicPr>
        <p:blipFill>
          <a:blip r:embed="rId5"/>
          <a:stretch/>
        </p:blipFill>
        <p:spPr>
          <a:xfrm>
            <a:off x="-1909800" y="5587920"/>
            <a:ext cx="12458880" cy="1422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4" descr="6"/>
          <p:cNvPicPr/>
          <p:nvPr/>
        </p:nvPicPr>
        <p:blipFill>
          <a:blip r:embed="rId6"/>
          <a:stretch/>
        </p:blipFill>
        <p:spPr>
          <a:xfrm>
            <a:off x="-1981080" y="5418000"/>
            <a:ext cx="13104720" cy="14223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D533-8825-4166-AA80-0D63AA7300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Прямоугольник 1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6" descr="1"/>
          <p:cNvPicPr/>
          <p:nvPr/>
        </p:nvPicPr>
        <p:blipFill>
          <a:blip r:embed="rId1"/>
          <a:stretch/>
        </p:blipFill>
        <p:spPr>
          <a:xfrm>
            <a:off x="7391520" y="5529240"/>
            <a:ext cx="1752480" cy="13287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684360" y="2060640"/>
            <a:ext cx="763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284364"/>
                </a:solidFill>
                <a:uFillTx/>
                <a:latin typeface="Arial"/>
              </a:rPr>
              <a:t>Растяжение</a:t>
            </a:r>
            <a:r>
              <a:rPr b="1" lang="ru-RU" sz="4400" spc="-1" strike="noStrike">
                <a:solidFill>
                  <a:srgbClr val="284364"/>
                </a:solidFill>
                <a:latin typeface="Arial"/>
              </a:rPr>
              <a:t>-повреждение связок сустава, связанное с их перерастяжением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47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имптомы растяжений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78920" y="1557000"/>
            <a:ext cx="376092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e7b"/>
                </a:solidFill>
                <a:latin typeface="Times New Roman"/>
              </a:rPr>
              <a:t>Симптомы при растяжении связ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зкая боль, на следующий день появляется припухлость и кровоподтеки в области сустава, хромает или не в состоянии ход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43280" y="1484280"/>
            <a:ext cx="432144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e7b"/>
                </a:solidFill>
                <a:latin typeface="Times New Roman"/>
              </a:rPr>
              <a:t>Симптомы при разрыве связ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зкая боль, сразу не может наступить на ногу , сустав распухает, появляются обширные кровоподтеки, вызвать вр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19240" y="475920"/>
            <a:ext cx="6224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e9c"/>
                </a:solidFill>
                <a:latin typeface="Times New Roman"/>
              </a:rPr>
              <a:t>Первая помощь при  растяжениях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 rot="20198400">
            <a:off x="345960" y="1851120"/>
            <a:ext cx="1933560" cy="2143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3000240" y="1714680"/>
            <a:ext cx="3214800" cy="1571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3"/>
          <a:stretch/>
        </p:blipFill>
        <p:spPr>
          <a:xfrm rot="1441800">
            <a:off x="6948000" y="1773360"/>
            <a:ext cx="1857600" cy="207144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11"/>
          <p:cNvSpPr/>
          <p:nvPr/>
        </p:nvSpPr>
        <p:spPr>
          <a:xfrm>
            <a:off x="2643120" y="3357720"/>
            <a:ext cx="30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e7b"/>
                </a:solidFill>
                <a:latin typeface="Times New Roman"/>
                <a:ea typeface="Times New Roman"/>
              </a:rPr>
              <a:t>Наложить холод на повреждённое мес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Прямоугольник 12"/>
          <p:cNvSpPr/>
          <p:nvPr/>
        </p:nvSpPr>
        <p:spPr>
          <a:xfrm>
            <a:off x="571680" y="4500720"/>
            <a:ext cx="40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4864"/>
                </a:solidFill>
                <a:latin typeface="Times New Roman"/>
                <a:ea typeface="Times New Roman"/>
              </a:rPr>
              <a:t>Наложить тугую повязку на повреждённое мес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Прямоугольник 13"/>
          <p:cNvSpPr/>
          <p:nvPr/>
        </p:nvSpPr>
        <p:spPr>
          <a:xfrm>
            <a:off x="5500800" y="4221000"/>
            <a:ext cx="36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еспечить покой повреждённой конеч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Прямоугольник 14"/>
          <p:cNvSpPr/>
          <p:nvPr/>
        </p:nvSpPr>
        <p:spPr>
          <a:xfrm>
            <a:off x="5148360" y="5445000"/>
            <a:ext cx="36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дать повреждённой конечности возвышенное поло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Прямоугольник 15"/>
          <p:cNvSpPr/>
          <p:nvPr/>
        </p:nvSpPr>
        <p:spPr>
          <a:xfrm>
            <a:off x="285840" y="5500800"/>
            <a:ext cx="39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82030"/>
                </a:solidFill>
                <a:latin typeface="Times New Roman"/>
                <a:ea typeface="Times New Roman"/>
              </a:rPr>
              <a:t>Доставить пострадавшего в медицинское учрежд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Стрелка вниз 16"/>
          <p:cNvSpPr/>
          <p:nvPr/>
        </p:nvSpPr>
        <p:spPr>
          <a:xfrm>
            <a:off x="2857680" y="4214880"/>
            <a:ext cx="214200" cy="35712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5a87be"/>
          </a:solidFill>
          <a:ln w="25560">
            <a:solidFill>
              <a:srgbClr val="4062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Стрелка вправо 17"/>
          <p:cNvSpPr/>
          <p:nvPr/>
        </p:nvSpPr>
        <p:spPr>
          <a:xfrm flipV="1">
            <a:off x="4500720" y="4714200"/>
            <a:ext cx="571320" cy="2142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5a87be"/>
          </a:solidFill>
          <a:ln w="25560">
            <a:solidFill>
              <a:srgbClr val="4062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Стрелка влево 18"/>
          <p:cNvSpPr/>
          <p:nvPr/>
        </p:nvSpPr>
        <p:spPr>
          <a:xfrm>
            <a:off x="4429080" y="5857920"/>
            <a:ext cx="642960" cy="214200"/>
          </a:xfrm>
          <a:prstGeom prst="leftArrow">
            <a:avLst>
              <a:gd name="adj1" fmla="val 50000"/>
              <a:gd name="adj2" fmla="val 50028"/>
            </a:avLst>
          </a:prstGeom>
          <a:solidFill>
            <a:srgbClr val="5a87be"/>
          </a:solidFill>
          <a:ln w="25560">
            <a:solidFill>
              <a:srgbClr val="4062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7T16:47:08Z</dcterms:created>
  <dc:creator>User</dc:creator>
  <dc:description/>
  <dc:language>en-US</dc:language>
  <cp:lastModifiedBy>User</cp:lastModifiedBy>
  <dcterms:modified xsi:type="dcterms:W3CDTF">2013-01-17T16:48:54Z</dcterms:modified>
  <cp:revision>1</cp:revision>
  <dc:subject/>
  <dc:title>Презентация PowerPoint</dc:title>
</cp:coreProperties>
</file>