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3EA-9A15-4600-8E81-D121663E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B7E-A403-4443-9E39-E8652912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B2A-113F-4CFF-ACC4-A176E366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7F6-F993-4809-B20D-0ECED783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18E0-BE94-4B2D-A0D6-EFDED91F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543-B902-4636-8FDE-EC5B4728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FED-2CCE-4C59-94EF-A1E5A83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FE1-39F6-4481-8DE9-D84EC70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F146-CF6E-47D8-97C5-1F558846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66DE-D42F-44DA-BCE9-D3B54AAD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930F-95C1-4E90-894B-9043D46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D6C-62EF-46DD-926E-6B96220B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8A1-5DD9-4ECD-9584-9F7D0AB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4DA8-D66E-432F-9A98-D013487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3312-ABAE-445D-B177-289EA16F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BF3-CD3E-4B4A-9783-8D663AF3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C21-287D-498C-B4E9-68A68F89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FD8E-874E-47B0-B896-715831B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3202-ABFB-44EC-9DFB-EC9F6D8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3D3A-0643-4673-82DF-AB59C8B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DB62-6655-4048-B028-82713AB3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D295-8781-46BB-811B-A2BEFFE1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448-6745-47F4-95A7-3B2402B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A5AA-9BAF-46C5-9682-CBA3659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03F7-E53D-4E0C-B694-F49F5B1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74C8-4123-4169-807C-DAD1650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1616-3477-4208-BA66-D2DB1D8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286E-2598-439F-BCB1-5E984F1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F511-4670-4191-A029-DA009E42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5BE4-3C21-4C14-884F-5F89DCC3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0C3-64D5-46D0-B610-44A315D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EA2-769A-4353-9E09-560A8A0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328-6B68-433E-8C48-F7DC8B2E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711-31E1-486A-885C-EC85A4C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57E-1A16-4231-A7C5-A891765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1C6-D19F-4479-8A00-294B778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bababa">
                  <a:alpha val="68235"/>
                </a:srgbClr>
              </a:gs>
              <a:gs pos="100000">
                <a:srgbClr val="fffff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19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val 20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C69-5EBD-4C00-AC99-D5865A963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2" descr="5"/>
          <p:cNvPicPr/>
          <p:nvPr/>
        </p:nvPicPr>
        <p:blipFill>
          <a:blip r:embed="rId4"/>
          <a:stretch/>
        </p:blipFill>
        <p:spPr>
          <a:xfrm>
            <a:off x="-2198520" y="5727600"/>
            <a:ext cx="11341080" cy="979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6"/>
          <p:cNvPicPr/>
          <p:nvPr/>
        </p:nvPicPr>
        <p:blipFill>
          <a:blip r:embed="rId5"/>
          <a:stretch/>
        </p:blipFill>
        <p:spPr>
          <a:xfrm>
            <a:off x="-1909800" y="5587920"/>
            <a:ext cx="12458880" cy="14223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4" descr="6"/>
          <p:cNvPicPr/>
          <p:nvPr/>
        </p:nvPicPr>
        <p:blipFill>
          <a:blip r:embed="rId6"/>
          <a:stretch/>
        </p:blipFill>
        <p:spPr>
          <a:xfrm>
            <a:off x="-1981080" y="5418000"/>
            <a:ext cx="13104720" cy="14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29"/>
          <p:cNvGrpSpPr/>
          <p:nvPr/>
        </p:nvGrpSpPr>
        <p:grpSpPr>
          <a:xfrm>
            <a:off x="0" y="4827600"/>
            <a:ext cx="9167760" cy="1810800"/>
            <a:chOff x="0" y="4827600"/>
            <a:chExt cx="9167760" cy="1810800"/>
          </a:xfrm>
        </p:grpSpPr>
        <p:pic>
          <p:nvPicPr>
            <p:cNvPr id="48" name="Rectangle 29" descr=""/>
            <p:cNvPicPr/>
            <p:nvPr/>
          </p:nvPicPr>
          <p:blipFill>
            <a:blip r:embed="rId2"/>
            <a:stretch/>
          </p:blipFill>
          <p:spPr>
            <a:xfrm>
              <a:off x="0" y="4827600"/>
              <a:ext cx="9164520" cy="18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4830480"/>
              <a:ext cx="9167760" cy="18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Rectangle 30"/>
          <p:cNvSpPr/>
          <p:nvPr/>
        </p:nvSpPr>
        <p:spPr>
          <a:xfrm>
            <a:off x="0" y="5291280"/>
            <a:ext cx="9144000" cy="876240"/>
          </a:xfrm>
          <a:prstGeom prst="rect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bababa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32"/>
          <p:cNvSpPr/>
          <p:nvPr/>
        </p:nvSpPr>
        <p:spPr>
          <a:xfrm>
            <a:off x="201600" y="4481640"/>
            <a:ext cx="1133640" cy="1157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33"/>
          <p:cNvSpPr/>
          <p:nvPr/>
        </p:nvSpPr>
        <p:spPr>
          <a:xfrm>
            <a:off x="1562040" y="4481640"/>
            <a:ext cx="1133640" cy="1157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4" descr="5"/>
          <p:cNvPicPr/>
          <p:nvPr/>
        </p:nvPicPr>
        <p:blipFill>
          <a:blip r:embed="rId5"/>
          <a:stretch/>
        </p:blipFill>
        <p:spPr>
          <a:xfrm>
            <a:off x="-2184480" y="2367000"/>
            <a:ext cx="113126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6"/>
          <p:cNvPicPr/>
          <p:nvPr/>
        </p:nvPicPr>
        <p:blipFill>
          <a:blip r:embed="rId6"/>
          <a:stretch/>
        </p:blipFill>
        <p:spPr>
          <a:xfrm>
            <a:off x="-1909800" y="2227320"/>
            <a:ext cx="1245888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6"/>
          <p:cNvPicPr/>
          <p:nvPr/>
        </p:nvPicPr>
        <p:blipFill>
          <a:blip r:embed="rId7"/>
          <a:stretch/>
        </p:blipFill>
        <p:spPr>
          <a:xfrm>
            <a:off x="-1981080" y="2257560"/>
            <a:ext cx="13104720" cy="17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1"/>
          <p:cNvPicPr/>
          <p:nvPr/>
        </p:nvPicPr>
        <p:blipFill>
          <a:blip r:embed="rId8"/>
          <a:stretch/>
        </p:blipFill>
        <p:spPr>
          <a:xfrm>
            <a:off x="1371600" y="380880"/>
            <a:ext cx="6019920" cy="4565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1"/>
          <p:cNvSpPr/>
          <p:nvPr/>
        </p:nvSpPr>
        <p:spPr>
          <a:xfrm>
            <a:off x="89640" y="95400"/>
            <a:ext cx="12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89640"/>
            <a:ext cx="1600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262240" y="6389640"/>
            <a:ext cx="1828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4343400" y="6389640"/>
            <a:ext cx="14479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0EF1-0CFA-4B78-8B37-47CF541E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7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bababa">
                  <a:alpha val="68235"/>
                </a:srgbClr>
              </a:gs>
              <a:gs pos="100000">
                <a:srgbClr val="fffff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2" descr="5"/>
          <p:cNvPicPr/>
          <p:nvPr/>
        </p:nvPicPr>
        <p:blipFill>
          <a:blip r:embed="rId4"/>
          <a:stretch/>
        </p:blipFill>
        <p:spPr>
          <a:xfrm>
            <a:off x="-2198520" y="5727600"/>
            <a:ext cx="11341080" cy="97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6"/>
          <p:cNvPicPr/>
          <p:nvPr/>
        </p:nvPicPr>
        <p:blipFill>
          <a:blip r:embed="rId5"/>
          <a:stretch/>
        </p:blipFill>
        <p:spPr>
          <a:xfrm>
            <a:off x="-1909800" y="5587920"/>
            <a:ext cx="12458880" cy="142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6"/>
          <p:cNvPicPr/>
          <p:nvPr/>
        </p:nvPicPr>
        <p:blipFill>
          <a:blip r:embed="rId6"/>
          <a:stretch/>
        </p:blipFill>
        <p:spPr>
          <a:xfrm>
            <a:off x="-1981080" y="5418000"/>
            <a:ext cx="13104720" cy="1422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04B-58D8-4F84-BE18-07DAB8DBD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684360" y="206064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84364"/>
                </a:solidFill>
                <a:uFillTx/>
                <a:latin typeface="Arial"/>
              </a:rPr>
              <a:t>Растяжение</a:t>
            </a:r>
            <a:r>
              <a:rPr b="1" lang="ru-RU" sz="4400" spc="-1" strike="noStrike">
                <a:solidFill>
                  <a:srgbClr val="284364"/>
                </a:solidFill>
                <a:latin typeface="Arial"/>
              </a:rPr>
              <a:t>-повреждение связок сустава, связанное с их перерастяжени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имптомы растяже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1557000"/>
            <a:ext cx="37609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7b"/>
                </a:solidFill>
                <a:latin typeface="Times New Roman"/>
              </a:rPr>
              <a:t>Симптомы при растяжении свя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кая боль, на следующий день появляется припухлость и кровоподтеки в области сустава, хромает или не в состоянии хо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3280" y="1484280"/>
            <a:ext cx="4321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7b"/>
                </a:solidFill>
                <a:latin typeface="Times New Roman"/>
              </a:rPr>
              <a:t>Симптомы при разрыве свя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кая боль, сразу не может наступить на ногу , сустав распухает, появляются обширные кровоподтеки, вызвать в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9240" y="475920"/>
            <a:ext cx="6224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9c"/>
                </a:solidFill>
                <a:latin typeface="Times New Roman"/>
              </a:rPr>
              <a:t>Первая помощь при  растяжениях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 rot="20198400">
            <a:off x="345960" y="1851120"/>
            <a:ext cx="193356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000240" y="1714680"/>
            <a:ext cx="321480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 rot="1441800">
            <a:off x="6948000" y="1773360"/>
            <a:ext cx="1857600" cy="20714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1"/>
          <p:cNvSpPr/>
          <p:nvPr/>
        </p:nvSpPr>
        <p:spPr>
          <a:xfrm>
            <a:off x="2643120" y="335772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7b"/>
                </a:solidFill>
                <a:latin typeface="Times New Roman"/>
                <a:ea typeface="Times New Roman"/>
              </a:rPr>
              <a:t>Наложить холод на повреждённое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571680" y="450072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64"/>
                </a:solidFill>
                <a:latin typeface="Times New Roman"/>
                <a:ea typeface="Times New Roman"/>
              </a:rPr>
              <a:t>Наложить тугую повязку на повреждённо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5500800" y="422100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ть покой повреждённой конеч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5148360" y="544500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дать повреждённой конечности возвышенное 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5"/>
          <p:cNvSpPr/>
          <p:nvPr/>
        </p:nvSpPr>
        <p:spPr>
          <a:xfrm>
            <a:off x="285840" y="5500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2030"/>
                </a:solidFill>
                <a:latin typeface="Times New Roman"/>
                <a:ea typeface="Times New Roman"/>
              </a:rPr>
              <a:t>Доставить пострадавшего в медицинское учре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трелка вниз 16"/>
          <p:cNvSpPr/>
          <p:nvPr/>
        </p:nvSpPr>
        <p:spPr>
          <a:xfrm>
            <a:off x="2857680" y="4214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трелка вправо 17"/>
          <p:cNvSpPr/>
          <p:nvPr/>
        </p:nvSpPr>
        <p:spPr>
          <a:xfrm flipV="1">
            <a:off x="4500720" y="471420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трелка влево 18"/>
          <p:cNvSpPr/>
          <p:nvPr/>
        </p:nvSpPr>
        <p:spPr>
          <a:xfrm>
            <a:off x="4429080" y="5857920"/>
            <a:ext cx="642960" cy="21420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6:47:08Z</dcterms:created>
  <dc:creator>User</dc:creator>
  <dc:description/>
  <dc:language>en-US</dc:language>
  <cp:lastModifiedBy>User</cp:lastModifiedBy>
  <dcterms:modified xsi:type="dcterms:W3CDTF">2013-01-17T16:48:54Z</dcterms:modified>
  <cp:revision>1</cp:revision>
  <dc:subject/>
  <dc:title>Презентация PowerPoint</dc:title>
</cp:coreProperties>
</file>