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928-9CFD-45BA-9F24-9CCF170D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E81-BEEE-4061-81FD-9CA52378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28B-EF09-4E3E-AE70-9128F397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9AC-6B22-4071-8FE0-BC6DEF1E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6C3-1B06-49E9-B4DD-53A7907C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CA9-B54B-4F86-A808-5DB38C97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ADA-A39B-406E-AF51-08AD3153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5E4-8821-47AF-8963-2A4CC81E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C58-4FCB-46E5-BE3B-D7CDAFAC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622-32A1-4DB6-A4A2-8009F21F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DAF-43B2-43DB-95E1-55FCF662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70E-5B75-4506-8BC0-E4D16452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7C9-E07F-4BA4-A88F-68431793F3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ОЩЬ ПРИ ОТРАВЛЕНИЯ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. По какому признаку мы определим, что в воздухе увеличивается содержание угарного газ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680" y="1999800"/>
            <a:ext cx="81151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По резкому, специфическому запах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По изменению прозрачности окружающего воздух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По изменению цвета пламени свечи, лампы или светильника установленного в укрыт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По специфическому металлическому привкусу во рту, указывающему на присутствии в окружающем воздухе угарного газ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. Что в первую очередь необходимо сделать для оказания помощи человеку отравившемуся угарным газ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400" y="2356920"/>
            <a:ext cx="82580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Вызвать рвоту т. е. промыть желудо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Вывести из укрытия на свежий воздух, дать выпить горячего чая или просто горячей вод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Дать теплое подсоленое питьё, обеспечить пок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Уложить пострадавшего на твердую,  ровную поверхность с приподнятыми выше головы ног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Боль в животе, слабость, головокружение, тошнота, иногда рвота, понос – это призна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1680" y="2857320"/>
            <a:ext cx="811512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Общего переутомления организ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строго респираторного заболе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ердечно – сосудистых заболев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Желудочно  -  кишечных заболев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Причинами желудочно – кишечных заболеваний в походных условиях являю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99680" y="2214720"/>
            <a:ext cx="8186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есоблюдение правил личной гигие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есоблюдение режима труда и отдыха, переутом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итье загрязненной во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Употребление в пищу недоброкачественных продук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азовите неверный вариант от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Для остановки поноса, в походных условиях мы можем примени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85520" y="2642760"/>
            <a:ext cx="790092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астой листьев брусни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астой сосновой или еловой хво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астой или отвар черники или черемух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Березовый гриб – ча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Мы нашли  в лесу дерево усыпанное сочными ягодами. Какой признак говорит о том, что ягоды данного дерева являются съедоб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9680" y="2786040"/>
            <a:ext cx="81867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Ягоды сочные, крупные, красивые на ви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На дереве и рядом с ним  имеются следы пребывания птиц (поклеванные ягоды, помет, перья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Ягоды дерева имеют приятный запах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Данное дерево растет только рядом с родником, или по берегам речек и ручье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Какое вещество полезно добавлять в раствор при промывании желудка в случае отравл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85600" y="2571480"/>
            <a:ext cx="690084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Зеленк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аха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Активированный угол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Перекись водо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Каким образом мы можем помочь вызвать рвоту при промывании желудка в случае отравл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71680" y="2214360"/>
            <a:ext cx="81151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адавливая на верхнюю часть жив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Надавливая на нижнюю часть жив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Двумя пальцами вытягивая язык из ротовой пол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адавливая двумя пальцами на корень язы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Что нужно сделать с человеком после промывания желудка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Дать ему крепкий, сладкий чай, тепло, пок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Дать ему теплой подсоленой воды, уложить в прохладном  мест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Прополоскать рот и горло раствором перекиси водорода (гидропирито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Дать человеку небольшую физическую нагрузку ( ходьба в среднем темпе или легкий бег, несколько приседаний или отжимани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Почему угарный газ выделяющийся при обогреве костром или другим открытым огнем временного укрытия, представляет серьезную опасность для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2499840"/>
            <a:ext cx="82580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) Потому, что он не имеет цвета, запаха, и его трудно обнаружит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) Потому, что он может вызвать временную потерю зрения у человек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) Потому, что  его воздействие на организм человека проявляется через несколько часов после отравл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) Потому, что этот газ может проникать в организм человека не только при его вдыхании, но и через кожные покровы чело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6:48:17Z</dcterms:created>
  <dc:creator>Admin</dc:creator>
  <dc:description/>
  <dc:language>en-US</dc:language>
  <cp:lastModifiedBy>Admin</cp:lastModifiedBy>
  <dcterms:modified xsi:type="dcterms:W3CDTF">2012-04-03T18:03:49Z</dcterms:modified>
  <cp:revision>8</cp:revision>
  <dc:subject/>
  <dc:title>ПОМОЩЬ ПРИ ОТРАВЛЕНИЯХ.</dc:title>
</cp:coreProperties>
</file>