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7216-4884-4972-AD39-073FA989B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0B42-3555-461D-A465-C623BBA02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A27B-B1A0-4EE1-8D88-EF4F9C5F0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A1BD-0D4B-491B-98BB-56E7C41BF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926B-BA66-4DDB-A1AE-A9462DCF8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3853-4F1D-4D94-8C5F-797C549E2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3C7E-15D0-47B2-99B1-FE3BA17CB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C562-83C8-4B09-92DF-CECA6BB23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B1BC-DB3E-45A5-B11C-53A4CE380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1D50-8B7B-4503-8366-A6F33437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5210-C17F-4932-8D86-1F33E882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E97D-BD69-4BBC-A2F4-8467E30A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5B1F0-0C52-4C08-9E28-6B5D0C683D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МОЩЬ ПРИ ОТРАВЛЕНИЯХ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9. По какому признаку мы определим, что в воздухе увеличивается содержание угарного газ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71680" y="1999800"/>
            <a:ext cx="811512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) По резкому, специфическому запаху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) По изменению прозрачности окружающего воздуха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) По изменению цвета пламени свечи, лампы или светильника установленного в укрыти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Г) По специфическому металлическому привкусу во рту, указывающему на присутствии в окружающем воздухе угарного газ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0. Что в первую очередь необходимо сделать для оказания помощи человеку отравившемуся угарным газом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28400" y="2356920"/>
            <a:ext cx="825804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) Вызвать рвоту т. е. промыть желудок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) Вывести из укрытия на свежий воздух, дать выпить горячего чая или просто горячей воды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) Дать теплое подсоленое питьё, обеспечить покой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Г) Уложить пострадавшего на твердую,  ровную поверхность с приподнятыми выше головы нога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. Боль в животе, слабость, головокружение, тошнота, иногда рвота, понос – это признак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71680" y="2857320"/>
            <a:ext cx="811512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Общего переутомления организм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Острого респираторного заболеван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Сердечно – сосудистых заболевани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Желудочно  -  кишечных заболеван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. Причинами желудочно – кишечных заболеваний в походных условиях являютс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99680" y="2214720"/>
            <a:ext cx="81867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Несоблюдение правил личной гигиен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Несоблюдение режима труда и отдыха, переутомле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Питье загрязненной вод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Употребление в пищу недоброкачественных продукт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      </a:t>
            </a: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Назовите неверный вариант отве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3. Для остановки поноса, в походных условиях мы можем применить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785520" y="2642760"/>
            <a:ext cx="790092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Настой листьев брусник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Настой сосновой или еловой хво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Настой или отвар черники или черемух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Березовый гриб – чаг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4. Мы нашли  в лесу дерево усыпанное сочными ягодами. Какой признак говорит о том, что ягоды данного дерева являются съедобным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99680" y="2786040"/>
            <a:ext cx="818676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) Ягоды сочные, крупные, красивые на вид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) На дереве и рядом с ним  имеются следы пребывания птиц (поклеванные ягоды, помет, перья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) Ягоды дерева имеют приятный запах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Г) Данное дерево растет только рядом с родником, или по берегам речек и ручье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5. Какое вещество полезно добавлять в раствор при промывании желудка в случае отравления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785600" y="2571480"/>
            <a:ext cx="690084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Зеленку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Сахар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Активированный уголь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Перекись водоро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6. Каким образом мы можем помочь вызвать рвоту при промывании желудка в случае отравления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71680" y="2214360"/>
            <a:ext cx="811512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Надавливая на верхнюю часть живот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 Надавливая на нижнюю часть живот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Двумя пальцами вытягивая язык из ротовой полост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Надавливая двумя пальцами на корень язы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7.Что нужно сделать с человеком после промывания желудка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) Дать ему крепкий, сладкий чай, тепло, покой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) Дать ему теплой подсоленой воды, уложить в прохладном  месте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) Прополоскать рот и горло раствором перекиси водорода (гидропиритом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Г) Дать человеку небольшую физическую нагрузку ( ходьба в среднем темпе или легкий бег, несколько приседаний или отжиманий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8. Почему угарный газ выделяющийся при обогреве костром или другим открытым огнем временного укрытия, представляет серьезную опасность для человек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28400" y="2499840"/>
            <a:ext cx="825804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) Потому, что он не имеет цвета, запаха, и его трудно обнаружить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Б) Потому, что он может вызвать временную потерю зрения у человека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) Потому, что  его воздействие на организм человека проявляется через несколько часов после отравления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Г) Потому, что этот газ может проникать в организм человека не только при его вдыхании, но и через кожные покровы человек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6:48:17Z</dcterms:created>
  <dc:creator>Admin</dc:creator>
  <dc:description/>
  <dc:language>en-US</dc:language>
  <cp:lastModifiedBy>Admin</cp:lastModifiedBy>
  <dcterms:modified xsi:type="dcterms:W3CDTF">2012-04-03T18:03:49Z</dcterms:modified>
  <cp:revision>8</cp:revision>
  <dc:subject/>
  <dc:title>ПОМОЩЬ ПРИ ОТРАВЛЕНИЯХ.</dc:title>
</cp:coreProperties>
</file>