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29A5-3554-4E1C-A88F-4A34340AA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E657-271B-4B14-8A20-C9272145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31C2-E079-48F7-8357-69BCD831B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0179-FCEB-4E5B-B5D8-F90052F36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F41A-B1E9-4C2E-86FC-C4A28E25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18D3-ACE6-4BF3-B42F-29B4ADAF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57A0-7014-4D22-A759-4DFA0BD3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D8C6-2735-4642-84BB-654EAA76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DADA-4709-4D5B-9B11-7ED4CDC5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43BE-1779-43C4-ACCC-378153E2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C845-1FF3-4D5B-B4D7-FF8EBB6D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CECB-C5D2-436F-8811-C194C4ED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AF9C-AF59-4C37-9EAD-7AB81D2A93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мощь при укусах животны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9. Что поражается у человека укушенного бешеным животны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856880" y="2356920"/>
            <a:ext cx="68295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Сердечно – сосудистая систе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Печен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Поч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Головной моз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25804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0. Можно ли считать безопасным укус, если это укус домашнего животного, у которого нет никаких заболеваний, и сделаны все прививки которые необходимо сделать домашним животны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99680" y="3000240"/>
            <a:ext cx="818676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) Да, укус такого животного будет безопасны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) Да он безопасен, если не прошел срок действия прививок у животног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) Если сделаны прививки у животного, то степень опасности будет зависеть от состояния здоровья укушенного человек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) Любой укус животного будет являться опасным для человек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. Как можно устранить зуд возникающий от укусов комаров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85520" y="2071800"/>
            <a:ext cx="790092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Смазать место укуса вазелином или каким либо  масл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Промыть теплой водой с мыл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Смазать место укуса зеленкой или йод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Смочить место укуса нашатырным спиртом или раствором питьевой с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В чем заключается первая помощь при укусах осы или пчелы в язык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428480" y="2285640"/>
            <a:ext cx="72579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Прополоскать рот раствором  перекиси  водор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Подержать во рту кусочки ль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Обработать место укуса йод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Смазать место укуса вазелин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. Что в первую очередь нужно сделать, если на теле обнаружили впившегося клещ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28400" y="2143080"/>
            <a:ext cx="825804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Зацепить клеща петелькой из нитки и тихонько раскачивая удалить 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Место укуса смазать зелен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Зацепить клеща ногтями и аккуратно, слегка раскачивая удалить его из ра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Капнуть на место укуса капельку масла, или смазать его вазелин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. Можно ли при укусе человека змеёй давать ему обильное питьё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) Да можно, т.к. с мочой и потом из организма будет выводится яд зме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) Нет нельзя, т.к. это будет способствовать распространению яда змеи по всему организм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) Сколько воды пить человеку при укусе змеи будет зависеть от самочувствия пострадавшег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) Сколько воды пить человеку при укусе змеи будет зависеть от температуры окружающего воздух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. Что нужно сделать в первую очередь при укусе человека змеёй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13920" y="1999800"/>
            <a:ext cx="747252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Наложить жгут выше места уку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Приложить на место укуса хол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Попытаться выдавить из раны несколько капель кров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Наложить на место укуса стерильную повяз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6.Как мы будем доставлять пострадавшего от укуса змеи в медицинское учреждение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71680" y="1999800"/>
            <a:ext cx="811512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) Если укушена рука, то пострадавший может дойти до медучреждения самостоятельно, но обязательно в сопровождении другого человек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) Пострадавшего должны сопровождать не менее двух человек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) Доставлять пострадавшего необходимо обязательно леж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Г) Если пострадавший в сознании и не испытывает мышечной слабости, то он может добраться до медучреждения самостоятельно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7. Какое опасное заболевание может передаваться человеку при укусах животных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428560" y="2786040"/>
            <a:ext cx="625788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Туберкуле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Столбня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Чу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Осп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8. Что рекомендуется сделать с раной при оказании помощи сразу же после укуса животног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99680" y="2143080"/>
            <a:ext cx="818676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Подождать пока из раны вытечет немного кров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Немедленно наложить на рану стерильную повяз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Приложить на место укуса хол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Обработать края раны йодом или зелен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7:29:01Z</dcterms:created>
  <dc:creator>Admin</dc:creator>
  <dc:description/>
  <dc:language>en-US</dc:language>
  <cp:lastModifiedBy>Admin</cp:lastModifiedBy>
  <dcterms:modified xsi:type="dcterms:W3CDTF">2012-03-21T16:22:49Z</dcterms:modified>
  <cp:revision>8</cp:revision>
  <dc:subject/>
  <dc:title>Помощь при укусах животных.</dc:title>
</cp:coreProperties>
</file>