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D4D-3603-4451-8C09-AC73FE65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C38-3B97-4EE2-A08F-673865BB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804-012A-442B-834F-1163E67D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57A3-91F5-49B0-9F0E-5DC3C7D3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295-9F2A-4A6C-8033-631FF22B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285-17EE-4AE2-84B4-FC48E4FB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7F8-5F77-43E4-8664-69C7A3BF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BE3-A76D-4BC9-A7D9-D0FE160D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C7A-5287-4D95-92BF-BCE298F3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140-A5C2-432A-AE85-729EEDA5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2B47-AAB7-4294-83A7-2D903C23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B32F-02DB-40DB-A4FE-725FB743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6DEB-5A33-48E0-B1C5-609A359904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мощь при укусах животны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. Что поражается у человека укушенного бешеным животн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856880" y="2356920"/>
            <a:ext cx="68295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ердечно – сосудистая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еч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оч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Головной моз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25804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. Можно ли считать безопасным укус, если это укус домашнего животного, у которого нет никаких заболеваний, и сделаны все прививки которые необходимо сделать домашним животны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9680" y="3000240"/>
            <a:ext cx="81867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Да, укус такого животного будет безопасны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Да он безопасен, если не прошел срок действия прививок у животно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Если сделаны прививки у животного, то степень опасности будет зависеть от состояния здоровья укушенного челов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Любой укус животного будет являться опасным для челов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Как можно устранить зуд возникающий от укусов комар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85520" y="2071800"/>
            <a:ext cx="790092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мазать место укуса вазелином или каким либо  мас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ромыть теплой водой с мы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мазать место укуса зеленкой или йо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мочить место укуса нашатырным спиртом или раствором питьевой с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В чем заключается первая помощь при укусах осы или пчелы в язы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28480" y="2285640"/>
            <a:ext cx="7257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рополоскать рот раствором  перекиси  водо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одержать во рту кусочки ль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Обработать место укуса йо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мазать место укуса вазели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Что в первую очередь нужно сделать, если на теле обнаружили впившегося клещ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400" y="2143080"/>
            <a:ext cx="82580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Зацепить клеща петелькой из нитки и тихонько раскачивая удалить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Место укуса смазать зелен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Зацепить клеща ногтями и аккуратно, слегка раскачивая удалить его из 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Капнуть на место укуса капельку масла, или смазать его вазели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 Можно ли при укусе человека змеёй давать ему обильное питьё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Да можно, т.к. с мочой и потом из организма будет выводится яд зме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Нет нельзя, т.к. это будет способствовать распространению яда змеи по всему организм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Сколько воды пить человеку при укусе змеи будет зависеть от самочувствия пострадавше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Сколько воды пить человеку при укусе змеи будет зависеть от температуры окружающего воздух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. Что нужно сделать в первую очередь при укусе человека змеёй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3920" y="1999800"/>
            <a:ext cx="74725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Наложить жгут выше места уку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риложить на место укуса хол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опытаться выдавить из раны несколько капель кров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Наложить на место укуса стерильную повяз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.Как мы будем доставлять пострадавшего от укуса змеи в медицинское учреждение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71680" y="1999800"/>
            <a:ext cx="81151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) Если укушена рука, то пострадавший может дойти до медучреждения самостоятельно, но обязательно в сопровождении другого челове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) Пострадавшего должны сопровождать не менее двух челове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) Доставлять пострадавшего необходимо обязательно леж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) Если пострадавший в сознании и не испытывает мышечной слабости, то он может добраться до медучреждения самостоятельн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. Какое опасное заболевание может передаваться человеку при укусах животных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28560" y="2786040"/>
            <a:ext cx="62578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Туберкуле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Столбня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Чу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Ос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. Что рекомендуется сделать с раной при оказании помощи сразу же после укуса животног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9680" y="2143080"/>
            <a:ext cx="81867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одождать пока из раны вытечет немного кров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Немедленно наложить на рану стерильную повяз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риложить на место укуса хол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Обработать края раны йодом или зелен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29:01Z</dcterms:created>
  <dc:creator>Admin</dc:creator>
  <dc:description/>
  <dc:language>en-US</dc:language>
  <cp:lastModifiedBy>Admin</cp:lastModifiedBy>
  <dcterms:modified xsi:type="dcterms:W3CDTF">2012-03-21T16:22:49Z</dcterms:modified>
  <cp:revision>8</cp:revision>
  <dc:subject/>
  <dc:title>Помощь при укусах животных.</dc:title>
</cp:coreProperties>
</file>