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A55DF-0071-49A9-8A5E-902BB8E84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306C8-8134-44A1-9028-8510CA06C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EB000-764F-4326-922E-E92159FD7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E2A25-D9A2-47D9-B800-8ED3BB231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E4811-BC70-4F87-A346-036E2B59F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D1DC6-D8FE-4CE9-86A4-1A33DC3DF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E0511-52FA-4A62-9A58-37A1869C1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163FC-3718-4573-8FEB-E2C72D5A9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8C53F-D244-447D-899A-C49258F45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70F05-E89C-46E1-A537-6B99E34B9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5D26A-0D92-4278-8DB7-CCF5A9805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656D8-C190-420B-AE60-120586E91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4869-BC01-45FD-89BF-846F8E7DCB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litmostki.ru/popo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91440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ru-RU" sz="4400" spc="-1" strike="noStrike">
                <a:solidFill>
                  <a:srgbClr val="000000"/>
                </a:solidFill>
                <a:latin typeface="Calibri"/>
              </a:rPr>
              <a:t>Попов Александр Степанович</a:t>
            </a:r>
            <a:br>
              <a:rPr sz="4400"/>
            </a:br>
            <a:r>
              <a:rPr b="0" lang="ru-RU" sz="4400" spc="-1" strike="noStrike">
                <a:solidFill>
                  <a:srgbClr val="000000"/>
                </a:solidFill>
                <a:latin typeface="Calibri"/>
              </a:rPr>
              <a:t>(1</a:t>
            </a:r>
            <a:r>
              <a:rPr b="0" lang="ru-RU" sz="4000" spc="-1" strike="noStrike">
                <a:solidFill>
                  <a:srgbClr val="000000"/>
                </a:solidFill>
                <a:latin typeface="Calibri"/>
              </a:rPr>
              <a:t>859-1905)</a:t>
            </a:r>
            <a:endParaRPr b="0" lang="en-US" sz="4000" spc="-1" strike="noStrike">
              <a:solidFill>
                <a:srgbClr val="000000"/>
              </a:solidFill>
              <a:latin typeface="Calibri"/>
            </a:endParaRPr>
          </a:p>
        </p:txBody>
      </p:sp>
      <p:sp>
        <p:nvSpPr>
          <p:cNvPr id="42" name="PlaceHolder 2"/>
          <p:cNvSpPr>
            <a:spLocks noGrp="1"/>
          </p:cNvSpPr>
          <p:nvPr>
            <p:ph type="subTitle"/>
          </p:nvPr>
        </p:nvSpPr>
        <p:spPr>
          <a:xfrm>
            <a:off x="5333760" y="5029200"/>
            <a:ext cx="3352680" cy="1295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Выполнила: Куркина Александра</a:t>
            </a:r>
            <a:endParaRPr b="0" lang="en-US" sz="2400" spc="-1" strike="noStrike">
              <a:solidFill>
                <a:srgbClr val="000000"/>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Подзаголовок 2"/>
          <p:cNvSpPr/>
          <p:nvPr/>
        </p:nvSpPr>
        <p:spPr>
          <a:xfrm>
            <a:off x="838080" y="609480"/>
            <a:ext cx="7543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2280" y="685440"/>
            <a:ext cx="8305920" cy="5715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Летом 1899 г. Попов был командирован Морским ведомством в </a:t>
            </a:r>
            <a:r>
              <a:rPr b="0" lang="ru-RU" sz="2000" spc="-1" strike="noStrike">
                <a:solidFill>
                  <a:srgbClr val="000000"/>
                </a:solidFill>
                <a:latin typeface="Calibri"/>
              </a:rPr>
              <a:t>	</a:t>
            </a:r>
            <a:r>
              <a:rPr b="0" lang="ru-RU" sz="2000" spc="-1" strike="noStrike">
                <a:solidFill>
                  <a:srgbClr val="000000"/>
                </a:solidFill>
                <a:latin typeface="Calibri"/>
              </a:rPr>
              <a:t>Англию, Францию, Германию и Швейцарию для ознакомления с </a:t>
            </a:r>
            <a:r>
              <a:rPr b="0" lang="ru-RU" sz="2000" spc="-1" strike="noStrike">
                <a:solidFill>
                  <a:srgbClr val="000000"/>
                </a:solidFill>
                <a:latin typeface="Calibri"/>
              </a:rPr>
              <a:t>	</a:t>
            </a:r>
            <a:r>
              <a:rPr b="0" lang="ru-RU" sz="2000" spc="-1" strike="noStrike">
                <a:solidFill>
                  <a:srgbClr val="000000"/>
                </a:solidFill>
                <a:latin typeface="Calibri"/>
              </a:rPr>
              <a:t>постановкой электротехнического образования и производством аппаратуры беспроволочного телеграфирования. Испытания комплекта аппаратуры, изготовленного в мастерской Е.В. Колбасьева, в соответствии с методическими указаниями Попова проводили П. Н. Рыбкин и начальник Кронштадтского телеграфа капитан Д. С. Троицкий (1857 - 192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Они обнаружили высокую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чувствительность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аппаратуры при прием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сигналов на головны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телефоны. Из Цюрих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телеграммой был вызван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А. С. Попов, который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исследовал обнаруженный «детекторный эффект» когерер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 name="Picture 5" descr="foto-32-rybkin_troickij-epcru"/>
          <p:cNvPicPr/>
          <p:nvPr/>
        </p:nvPicPr>
        <p:blipFill>
          <a:blip r:embed="rId1"/>
          <a:stretch/>
        </p:blipFill>
        <p:spPr>
          <a:xfrm>
            <a:off x="4191120" y="2895480"/>
            <a:ext cx="3795480" cy="292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33520" y="762120"/>
            <a:ext cx="8229600" cy="1938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атенты на «телефонный приемник депеш» Попов получил в России (№ 6066 от 14 июля 1899 г.), а при активном участии Э. Дюкрете - во Франции (№ 296354 от 22 января 1900 г.). В Англии ему выдали патент на конструкцию усовершенствованного когерера (№ 2797 от 12 февраля 1900 г.). Этот приемник открыл новую эпоху в радиосвязи - прием на слух.</a:t>
            </a:r>
            <a:endParaRPr b="0" lang="en-US" sz="2000" spc="-1" strike="noStrike">
              <a:solidFill>
                <a:srgbClr val="000000"/>
              </a:solidFill>
              <a:latin typeface="Calibri"/>
            </a:endParaRPr>
          </a:p>
        </p:txBody>
      </p:sp>
      <p:pic>
        <p:nvPicPr>
          <p:cNvPr id="69" name="Picture 4" descr="foto-33a-tel-rx-otl-epcru"/>
          <p:cNvPicPr/>
          <p:nvPr/>
        </p:nvPicPr>
        <p:blipFill>
          <a:blip r:embed="rId1"/>
          <a:stretch/>
        </p:blipFill>
        <p:spPr>
          <a:xfrm>
            <a:off x="2209680" y="2819520"/>
            <a:ext cx="4427640" cy="322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 </a:t>
            </a:r>
            <a:r>
              <a:rPr b="0" lang="ru-RU" sz="1400" spc="-1" strike="noStrike">
                <a:solidFill>
                  <a:srgbClr val="000000"/>
                </a:solidFill>
                <a:latin typeface="Calibri"/>
              </a:rPr>
              <a:t>В Минном офицерском классе Попов проработал 18 лет, сочетая педагогическую деятельность с научными исследованиями. Здесь он начал изучение электромагнитных волн, завершившееся изобретением радио. Попов не пропускал ни одного открытия или изобретения в области энергетики. После опубликования в 1888 работ Г. Герца, открывшего «лучи электрической силы», Попов стал изучать электрические явления. С 1890 по 1900 Попов преподавал также в Морском инженерном училище в Кронштадте.</a:t>
            </a:r>
            <a:endParaRPr b="0" lang="en-US" sz="1400" spc="-1" strike="noStrike">
              <a:solidFill>
                <a:srgbClr val="000000"/>
              </a:solidFill>
              <a:latin typeface="Calibri"/>
            </a:endParaRPr>
          </a:p>
        </p:txBody>
      </p:sp>
      <p:sp>
        <p:nvSpPr>
          <p:cNvPr id="71" name=""/>
          <p:cNvSpPr txBox="1"/>
          <p:nvPr/>
        </p:nvSpPr>
        <p:spPr>
          <a:xfrm>
            <a:off x="457200" y="2514600"/>
            <a:ext cx="8229600" cy="368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оздание новых приборов Поповым</a:t>
            </a:r>
            <a:endParaRPr b="0" lang="en-US" sz="3600" spc="-1" strike="noStrike">
              <a:solidFill>
                <a:srgbClr val="000000"/>
              </a:solidFill>
              <a:latin typeface="Calibri"/>
            </a:endParaRPr>
          </a:p>
        </p:txBody>
      </p:sp>
      <p:sp>
        <p:nvSpPr>
          <p:cNvPr id="73" name=""/>
          <p:cNvSpPr txBox="1"/>
          <p:nvPr/>
        </p:nvSpPr>
        <p:spPr>
          <a:xfrm>
            <a:off x="533520" y="1371600"/>
            <a:ext cx="8229600" cy="452592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С 1889 воспроизводя на лекциях и докладах опыты Герца, Попов видоизменил их, стремясь найти наиболее чувствительный индикатор «электрических волн». В 1894 занялся изучением влияния электрических разрядов на проводимость металлических порошков и </a:t>
            </a:r>
            <a:r>
              <a:rPr b="1" lang="ru-RU" sz="2000" spc="-1" strike="noStrike">
                <a:solidFill>
                  <a:srgbClr val="000000"/>
                </a:solidFill>
                <a:latin typeface="Calibri"/>
              </a:rPr>
              <a:t>сконструировал первый свой (изобретенный Кальцекки-Онести и Э. Бернулли) достаточно чувствительный когерер для обнаружения электромагнитных волн – в виде стеклянной трубки с металлическими опилками</a:t>
            </a:r>
            <a:r>
              <a:rPr b="0" lang="ru-RU" sz="2000" spc="-1" strike="noStrike">
                <a:solidFill>
                  <a:srgbClr val="000000"/>
                </a:solidFill>
                <a:latin typeface="Calibri"/>
              </a:rPr>
              <a:t>. Под действием электромагнитных волн проводимость опилок резко увеличивается.</a:t>
            </a: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К началу 1895 Попов </a:t>
            </a:r>
            <a:r>
              <a:rPr b="1" lang="ru-RU" sz="2000" spc="-1" strike="noStrike">
                <a:solidFill>
                  <a:srgbClr val="000000"/>
                </a:solidFill>
                <a:latin typeface="Calibri"/>
              </a:rPr>
              <a:t>создал «грозоотметчик», который позволял надежно регистрировать приближение грозы на расстоянии до 30 км</a:t>
            </a:r>
            <a:r>
              <a:rPr b="0" lang="ru-RU" sz="2000" spc="-1" strike="noStrike">
                <a:solidFill>
                  <a:srgbClr val="000000"/>
                </a:solidFill>
                <a:latin typeface="Calibri"/>
              </a:rPr>
              <a:t>. В это устройство входили </a:t>
            </a:r>
            <a:r>
              <a:rPr b="1" lang="ru-RU" sz="2000" spc="-1" strike="noStrike">
                <a:solidFill>
                  <a:srgbClr val="000000"/>
                </a:solidFill>
                <a:latin typeface="Calibri"/>
              </a:rPr>
              <a:t>когерер</a:t>
            </a:r>
            <a:r>
              <a:rPr b="0" lang="ru-RU" sz="2000" spc="-1" strike="noStrike">
                <a:solidFill>
                  <a:srgbClr val="000000"/>
                </a:solidFill>
                <a:latin typeface="Calibri"/>
              </a:rPr>
              <a:t> — приспособление со звонком для автоматического восстановления чувствительности когерера встряхиванием, </a:t>
            </a:r>
            <a:r>
              <a:rPr b="1" lang="ru-RU" sz="2000" spc="-1" strike="noStrike">
                <a:solidFill>
                  <a:srgbClr val="000000"/>
                </a:solidFill>
                <a:latin typeface="Calibri"/>
              </a:rPr>
              <a:t>реле,</a:t>
            </a:r>
            <a:r>
              <a:rPr b="0" lang="ru-RU" sz="2000" spc="-1" strike="noStrike">
                <a:solidFill>
                  <a:srgbClr val="000000"/>
                </a:solidFill>
                <a:latin typeface="Calibri"/>
              </a:rPr>
              <a:t> приводившее в действие звонок, и даже </a:t>
            </a:r>
            <a:r>
              <a:rPr b="1" lang="ru-RU" sz="2000" spc="-1" strike="noStrike">
                <a:solidFill>
                  <a:srgbClr val="000000"/>
                </a:solidFill>
                <a:latin typeface="Calibri"/>
              </a:rPr>
              <a:t>приемная антенна </a:t>
            </a:r>
            <a:r>
              <a:rPr b="0" lang="ru-RU" sz="2000" spc="-1" strike="noStrike">
                <a:solidFill>
                  <a:srgbClr val="000000"/>
                </a:solidFill>
                <a:latin typeface="Calibri"/>
              </a:rPr>
              <a:t>в виде длинного вертикального провод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533520" y="533520"/>
            <a:ext cx="8229600" cy="594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Таким образом, </a:t>
            </a:r>
            <a:r>
              <a:rPr b="1" lang="ru-RU" sz="2000" spc="-1" strike="noStrike">
                <a:solidFill>
                  <a:srgbClr val="000000"/>
                </a:solidFill>
                <a:latin typeface="Calibri"/>
              </a:rPr>
              <a:t>Попов создал прототип первой приемной радиостанции. </a:t>
            </a:r>
            <a:r>
              <a:rPr b="0" lang="ru-RU" sz="2000" spc="-1" strike="noStrike">
                <a:solidFill>
                  <a:srgbClr val="000000"/>
                </a:solidFill>
                <a:latin typeface="Calibri"/>
              </a:rPr>
              <a:t>Он продемонстрировал его 25 апреля (7 мая) 1895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 заседании физического отделения Российского физико-химического общества и прочитал доклад «Об отношении металлических порошков к электрическим колебаниям», причем высказал мысль о возможности применения грозоотметчика для передачи сигналов на расстояние. 12 (24) марта 1896 на заседании физического отделения Российского физико-химического общества Попов </a:t>
            </a:r>
            <a:r>
              <a:rPr b="1" lang="ru-RU" sz="2000" spc="-1" strike="noStrike">
                <a:solidFill>
                  <a:srgbClr val="000000"/>
                </a:solidFill>
                <a:latin typeface="Calibri"/>
              </a:rPr>
              <a:t>при помощи своих приборов наглядно продемонстрировал передачу сигналов на расстояние 250 м, передав первую в мире радиограмму из двух слов «Генрих Герц».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Несколько позднее </a:t>
            </a:r>
            <a:r>
              <a:rPr b="1" lang="ru-RU" sz="2000" spc="-1" strike="noStrike">
                <a:solidFill>
                  <a:srgbClr val="000000"/>
                </a:solidFill>
                <a:latin typeface="Calibri"/>
              </a:rPr>
              <a:t>создал подобные же приборы и провел с ними эксперименты итальянский физик и инженер Г. Маркони</a:t>
            </a:r>
            <a:r>
              <a:rPr b="0" lang="ru-RU" sz="2000" spc="-1" strike="noStrike">
                <a:solidFill>
                  <a:srgbClr val="000000"/>
                </a:solidFill>
                <a:latin typeface="Calibri"/>
              </a:rPr>
              <a:t>. В 1897 он получил патент на применение электромагнитных волн для беспроволочной связи. Благодаря большим материальным ресурсам и энергии Маркони, не имевший специального образования,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обился широкого применения нового способа связи. </a:t>
            </a:r>
            <a:r>
              <a:rPr b="1" lang="ru-RU" sz="2000" spc="-1" strike="noStrike">
                <a:solidFill>
                  <a:srgbClr val="000000"/>
                </a:solidFill>
                <a:latin typeface="Calibri"/>
              </a:rPr>
              <a:t>Попов ж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свое открытие не запатентовал.</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09480"/>
            <a:ext cx="8229600" cy="5516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Хотя современные радиоприемники очень мало напоминают приемник А.С. Попова, основные принципы их действия те же, что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и в его приборе. Современный приемник также имеет антенну, в которой приходящая волна вызывает очень слабые электромагнитные колебания. Как и в приемнике А. С. Попова, энергия этих колебаний не используется непосредственно для приема. Слабые сигналы лишь управляют источниками энергии, питающими последующие цепи. Сейчас такое управлени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существляется с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мощью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лупроводниковых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риборов.</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6" name="Picture 2" descr="Картинка 3 из 126867"/>
          <p:cNvPicPr/>
          <p:nvPr/>
        </p:nvPicPr>
        <p:blipFill>
          <a:blip r:embed="rId1"/>
          <a:stretch/>
        </p:blipFill>
        <p:spPr>
          <a:xfrm>
            <a:off x="5867280" y="2971800"/>
            <a:ext cx="3124440" cy="2933640"/>
          </a:xfrm>
          <a:prstGeom prst="rect">
            <a:avLst/>
          </a:prstGeom>
          <a:ln w="0">
            <a:noFill/>
          </a:ln>
        </p:spPr>
      </p:pic>
      <p:pic>
        <p:nvPicPr>
          <p:cNvPr id="77" name="Picture 5" descr="radio"/>
          <p:cNvPicPr/>
          <p:nvPr/>
        </p:nvPicPr>
        <p:blipFill>
          <a:blip r:embed="rId2"/>
          <a:stretch/>
        </p:blipFill>
        <p:spPr>
          <a:xfrm>
            <a:off x="3200400" y="3733920"/>
            <a:ext cx="312408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456840"/>
            <a:ext cx="8229600" cy="624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 начале 1897 Попов </a:t>
            </a:r>
            <a:r>
              <a:rPr b="1" lang="ru-RU" sz="2000" spc="-1" strike="noStrike">
                <a:solidFill>
                  <a:srgbClr val="000000"/>
                </a:solidFill>
                <a:latin typeface="Calibri"/>
              </a:rPr>
              <a:t>осуществил радиосвязь между берегом и кораблем,</a:t>
            </a:r>
            <a:r>
              <a:rPr b="0" lang="ru-RU" sz="2000" spc="-1" strike="noStrike">
                <a:solidFill>
                  <a:srgbClr val="000000"/>
                </a:solidFill>
                <a:latin typeface="Calibri"/>
              </a:rPr>
              <a:t> а в 1898 дальность радиосвязи между кораблями была </a:t>
            </a:r>
            <a:r>
              <a:rPr b="1" lang="ru-RU" sz="2000" spc="-1" strike="noStrike">
                <a:solidFill>
                  <a:srgbClr val="000000"/>
                </a:solidFill>
                <a:latin typeface="Calibri"/>
              </a:rPr>
              <a:t>доведена до 11 км</a:t>
            </a:r>
            <a:r>
              <a:rPr b="0" lang="ru-RU" sz="2000" spc="-1" strike="noStrike">
                <a:solidFill>
                  <a:srgbClr val="000000"/>
                </a:solidFill>
                <a:latin typeface="Calibri"/>
              </a:rPr>
              <a:t>. Большой победой Попова и едва зародившейся радиосвязи было </a:t>
            </a:r>
            <a:r>
              <a:rPr b="1" lang="ru-RU" sz="2000" spc="-1" strike="noStrike">
                <a:solidFill>
                  <a:srgbClr val="000000"/>
                </a:solidFill>
                <a:latin typeface="Calibri"/>
              </a:rPr>
              <a:t>спасение 27 рыбаков с оторванной льдины, унесенной в море</a:t>
            </a:r>
            <a:r>
              <a:rPr b="0" lang="ru-RU" sz="2000" spc="-1" strike="noStrike">
                <a:solidFill>
                  <a:srgbClr val="000000"/>
                </a:solidFill>
                <a:latin typeface="Calibri"/>
              </a:rPr>
              <a:t>. Радиограмма, переданная на расстояние 44 км, позволила ледоколу своевременно выйти в море. </a:t>
            </a:r>
            <a:r>
              <a:rPr b="1" lang="ru-RU" sz="2000" spc="-1" strike="noStrike">
                <a:solidFill>
                  <a:srgbClr val="000000"/>
                </a:solidFill>
                <a:latin typeface="Calibri"/>
              </a:rPr>
              <a:t>Работы Попова были отмечены золотой медалью на Всемирной выставке 1900 в Париже.</a:t>
            </a:r>
            <a:r>
              <a:rPr b="0" lang="ru-RU" sz="2000" spc="-1" strike="noStrike">
                <a:solidFill>
                  <a:srgbClr val="000000"/>
                </a:solidFill>
                <a:latin typeface="Calibri"/>
              </a:rPr>
              <a:t> В 1901 на Черном мор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пов в своих опытах достигал дальност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 148 км. К этому времени в Европе уж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уществовала радиопромышленность.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аботы Попова в России не получил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азвития. Отставание России в этой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бласти угрожающе нарастало. И когда в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905 в связи с начавшейся русско-</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японской войной потребовалось большое количество радиостанций, ничего не оставалось, как заказать их иностранным фирма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9" name="Picture 5" descr="popov1"/>
          <p:cNvPicPr/>
          <p:nvPr/>
        </p:nvPicPr>
        <p:blipFill>
          <a:blip r:embed="rId1"/>
          <a:stretch/>
        </p:blipFill>
        <p:spPr>
          <a:xfrm>
            <a:off x="5486400" y="2819520"/>
            <a:ext cx="2641680" cy="281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Электротехническом институте</a:t>
            </a:r>
            <a:endParaRPr b="0" lang="en-US" sz="3200" spc="-1" strike="noStrike">
              <a:solidFill>
                <a:srgbClr val="000000"/>
              </a:solidFill>
              <a:latin typeface="Calibri"/>
            </a:endParaRPr>
          </a:p>
        </p:txBody>
      </p:sp>
      <p:sp>
        <p:nvSpPr>
          <p:cNvPr id="81" name=""/>
          <p:cNvSpPr txBox="1"/>
          <p:nvPr/>
        </p:nvSpPr>
        <p:spPr>
          <a:xfrm>
            <a:off x="380520" y="914040"/>
            <a:ext cx="8534520" cy="5791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Отношения Попова с руководством морского ведомства обострились, и в 1901 он переехал в Петербург, где был профессором, а затем первым выборным директором Электротехнического института. Заботы, связанные с выполнением ответственных обязанностей директора, совсем расшатали здоровье Попова, и он скоропостижно скончался от кровоизлияния в моз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Даже получив большую известность, Попов сохранил все основные черты своего характера: скромность, внимание к чужим мнениям, готовность идти навстречу каждому и посильно помогать нуждающимся в помощ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Когда работы по применению радиосвязи на кораблях привлекли к себе внимание заграничных деловых кругов, Попов получил ряд предложений переехать для работы за границу. Он решительно отверг их. Вот его слова: «Я горд тем, что родился русским. И если не современники, то, может быть, потомки наши поймут, сколь велика моя преданность нашей родине и как счастлив я, что не за </a:t>
            </a:r>
            <a:r>
              <a:rPr b="0" lang="ru-RU" sz="2000" spc="-1" strike="noStrike">
                <a:solidFill>
                  <a:srgbClr val="000000"/>
                </a:solidFill>
                <a:latin typeface="Calibri"/>
              </a:rPr>
              <a:t>	</a:t>
            </a:r>
            <a:r>
              <a:rPr b="0" lang="ru-RU" sz="2000" spc="-1" strike="noStrike">
                <a:solidFill>
                  <a:srgbClr val="000000"/>
                </a:solidFill>
                <a:latin typeface="Calibri"/>
              </a:rPr>
              <a:t>рубежом, а в </a:t>
            </a:r>
            <a:r>
              <a:rPr b="0" lang="ru-RU" sz="2000" spc="-1" strike="noStrike">
                <a:solidFill>
                  <a:srgbClr val="000000"/>
                </a:solidFill>
                <a:latin typeface="Calibri"/>
              </a:rPr>
              <a:t>	</a:t>
            </a:r>
            <a:r>
              <a:rPr b="0" lang="ru-RU" sz="2000" spc="-1" strike="noStrike">
                <a:solidFill>
                  <a:srgbClr val="000000"/>
                </a:solidFill>
                <a:latin typeface="Calibri"/>
              </a:rPr>
              <a:t>России открыто новое средство связ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685800"/>
            <a:ext cx="8229600" cy="5440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риёмный и передающий аппараты были расположены в разных помещениях на расстоянии 250 метров. А. С. Попов передал первую в мире радиограмму, состоявшую из двух слов - "Генрих Герц". Текст этой радиограммы очень показателен; он характеризует самого изобретателя радио. А. С. Попов ясно понимал, что его исследования вызовут переворот в области связи без проводов. Однако поразительно скромный 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реданный науке, он готов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был прежде всего воздать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олжное своим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редшественникам. Интересы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уки и бескорыстно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лужение ей были для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А. С. Попова превыше всего.</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3" name="Picture 5" descr="popov"/>
          <p:cNvPicPr/>
          <p:nvPr/>
        </p:nvPicPr>
        <p:blipFill>
          <a:blip r:embed="rId1"/>
          <a:stretch/>
        </p:blipFill>
        <p:spPr>
          <a:xfrm>
            <a:off x="4267080" y="2743200"/>
            <a:ext cx="3819600" cy="324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0880" y="837720"/>
            <a:ext cx="8229600" cy="4343400"/>
          </a:xfrm>
          <a:prstGeom prst="rect">
            <a:avLst/>
          </a:prstGeom>
          <a:noFill/>
          <a:ln w="0">
            <a:noFill/>
          </a:ln>
        </p:spPr>
        <p:txBody>
          <a:bodyPr anchor="t">
            <a:normAutofit fontScale="83000"/>
          </a:bodyPr>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1200" spc="-1" strike="noStrike">
                <a:solidFill>
                  <a:srgbClr val="000000"/>
                </a:solidFill>
                <a:latin typeface="Calibri"/>
              </a:rPr>
              <a:t>После смерти А. С. Попова малые научные и производственные возможности фирмы Дюкрете скоро свели со сцены радиостанции системы "Попова-Дюкрете". С другой стороны, успехи беспроволочного телеграфа на Западе, широкая реклама новых радиотехнических фирм, происки иностранных дельцов, стремившихся заработать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применении радио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иллионы, мало-помалу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делали то, что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мя А. С. Попова стало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сё реже упоминаться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к имя изобретателя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елеграфа без проводов.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через несколько лет, по инициативе Русского физико-химического общества, был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нят вопрос о роли А. С. Попова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еле изобретения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еспроволочного телеграфа.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миссия Русского физико-</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имического общества под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седательством профессора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вольсона, созданная с этой целью,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делала большую работу. После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щательного изучения вопроса и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еписки с рядом иностранных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ёных она установила, что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С. Попов по справедливости должен быть признан изобретателем телеграфа без проводов при помощи электрических волн".</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85" name="Picture 5" descr="5"/>
          <p:cNvPicPr/>
          <p:nvPr/>
        </p:nvPicPr>
        <p:blipFill>
          <a:blip r:embed="rId1"/>
          <a:stretch/>
        </p:blipFill>
        <p:spPr>
          <a:xfrm>
            <a:off x="3657600" y="3352680"/>
            <a:ext cx="4572000" cy="242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ru-RU" sz="4400" spc="-1" strike="noStrike">
                <a:solidFill>
                  <a:srgbClr val="000000"/>
                </a:solidFill>
                <a:latin typeface="Calibri"/>
              </a:rPr>
              <a:t>Попов Александр Степанович</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45" name=""/>
          <p:cNvSpPr txBox="1"/>
          <p:nvPr/>
        </p:nvSpPr>
        <p:spPr>
          <a:xfrm>
            <a:off x="762120" y="1600200"/>
            <a:ext cx="4038480" cy="4462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Родился 4 (16) марта 1859 в пос. Турьинские Рудники Верхотурского уезда Пермской губернии, ныне Краснотурьинск Екатеринбургской области. Умер 31 декабря 1905 (13 января 1906) в Санкт-Петербург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Российский </a:t>
            </a:r>
            <a:r>
              <a:rPr b="1" lang="ru-RU" sz="2000" spc="-1" strike="noStrike">
                <a:solidFill>
                  <a:srgbClr val="000000"/>
                </a:solidFill>
                <a:latin typeface="Calibri"/>
              </a:rPr>
              <a:t>физик и электротехник</a:t>
            </a:r>
            <a:r>
              <a:rPr b="0" lang="ru-RU" sz="2000" spc="-1" strike="noStrike">
                <a:solidFill>
                  <a:srgbClr val="000000"/>
                </a:solidFill>
                <a:latin typeface="Calibri"/>
              </a:rPr>
              <a:t>, один из пионеров применения электромагнитных волн в практических целях, в том числе для радиосвязи.</a:t>
            </a:r>
            <a:endParaRPr b="0" lang="en-US" sz="2000" spc="-1" strike="noStrike">
              <a:solidFill>
                <a:srgbClr val="000000"/>
              </a:solidFill>
              <a:latin typeface="Calibri"/>
            </a:endParaRPr>
          </a:p>
        </p:txBody>
      </p:sp>
      <p:pic>
        <p:nvPicPr>
          <p:cNvPr id="46" name="Picture 5" descr="y_5da6daa3"/>
          <p:cNvPicPr/>
          <p:nvPr/>
        </p:nvPicPr>
        <p:blipFill>
          <a:blip r:embed="rId1"/>
          <a:stretch/>
        </p:blipFill>
        <p:spPr>
          <a:xfrm>
            <a:off x="4800600" y="1676520"/>
            <a:ext cx="3352680" cy="4313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609120"/>
            <a:ext cx="8229600" cy="57913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3600" spc="-1" strike="noStrike">
                <a:solidFill>
                  <a:srgbClr val="000000"/>
                </a:solidFill>
                <a:latin typeface="Calibri"/>
              </a:rPr>
              <a:t>	</a:t>
            </a:r>
            <a:r>
              <a:rPr b="0" lang="ru-RU" sz="1600" spc="-1" strike="noStrike">
                <a:solidFill>
                  <a:srgbClr val="000000"/>
                </a:solidFill>
                <a:latin typeface="Calibri"/>
              </a:rPr>
              <a:t>А. С. Попов был горячим патриотом своей родины. Ближайший помощник А. С. Попова П. Н. Рыбкин вспоминает, что когда работы Попова по применению радиосвязи на кораблях обратили на себя внимание заграничных деловых кругов, Попову было сделано несколько "соблазнительных" предложений переехать для работы за границу. Однако А. С. Попов решительно их отверг. Он заявил: "Я - русский человек, и все свои знания,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весь свой труд, все свои достижения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я имею право отдавать только моей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родине. Я горд тем, что родился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русским. И если не современники,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о, может быть, потомки наши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оймут, сколь велика моя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еданность нашей родине и как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частлив я, что не за рубежом, а в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России открыто новое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	</a:t>
            </a:r>
            <a:r>
              <a:rPr b="0" lang="ru-RU" sz="1600" spc="-1" strike="noStrike">
                <a:solidFill>
                  <a:srgbClr val="000000"/>
                </a:solidFill>
                <a:latin typeface="Calibri"/>
              </a:rPr>
              <a:t>	</a:t>
            </a:r>
            <a:r>
              <a:rPr b="0" lang="ru-RU" sz="1600" spc="-1" strike="noStrike">
                <a:solidFill>
                  <a:srgbClr val="000000"/>
                </a:solidFill>
                <a:latin typeface="Calibri"/>
              </a:rPr>
              <a:t>средство связи".</a:t>
            </a:r>
            <a:endParaRPr b="0" lang="en-US" sz="16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7" name="Picture 5" descr="medal_popova-1945-500x"/>
          <p:cNvPicPr/>
          <p:nvPr/>
        </p:nvPicPr>
        <p:blipFill>
          <a:blip r:embed="rId1"/>
          <a:stretch/>
        </p:blipFill>
        <p:spPr>
          <a:xfrm>
            <a:off x="4498920" y="2286000"/>
            <a:ext cx="3876840" cy="406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4400" spc="-1" strike="noStrike">
                <a:solidFill>
                  <a:srgbClr val="000000"/>
                </a:solidFill>
                <a:latin typeface="Calibri"/>
              </a:rPr>
              <a:t>Источники иллюстраций</a:t>
            </a:r>
            <a:endParaRPr b="0" lang="en-US" sz="4400" spc="-1" strike="noStrike">
              <a:solidFill>
                <a:srgbClr val="000000"/>
              </a:solidFill>
              <a:latin typeface="Calibri"/>
            </a:endParaRPr>
          </a:p>
        </p:txBody>
      </p:sp>
      <p:sp>
        <p:nvSpPr>
          <p:cNvPr id="89" name=""/>
          <p:cNvSpPr txBox="1"/>
          <p:nvPr/>
        </p:nvSpPr>
        <p:spPr>
          <a:xfrm>
            <a:off x="533520" y="1143000"/>
            <a:ext cx="8229600" cy="452592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000000"/>
                </a:solidFill>
                <a:latin typeface="Calibri"/>
              </a:rPr>
              <a:t>Ссылки:</a:t>
            </a:r>
            <a:endParaRPr b="0" lang="en-US" sz="32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ff"/>
                </a:solidFill>
                <a:uFillTx/>
                <a:latin typeface="Calibri"/>
                <a:hlinkClick r:id="rId1"/>
              </a:rPr>
              <a:t>Могила А. С. Попов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мориальный музей-кабинет А. С. Попова в Кронштадте</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 Н. Никольский. Кто «изобрел» радио?</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Что такое радио и кто его изобрел?</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фициальный сайт музея им. А. С. Попов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 Поляков. Ко Дню радио.</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зей Эжена Дюкретэ  (англ.).</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 150-летию со дня рождения А. С. Попов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фициальный сайт правнучки А. С. Попов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одушков Д. Л.</a:t>
            </a:r>
            <a:r>
              <a:rPr b="0" lang="ru-RU" sz="2000" spc="-1" strike="noStrike">
                <a:solidFill>
                  <a:srgbClr val="000000"/>
                </a:solidFill>
                <a:latin typeface="Calibri"/>
              </a:rPr>
              <a:t> (составитель), Воробьев В. М. (научный редактор). Знаменитые россияне в истории Удомельского края. — Тверь: СФК-офис 2009. — 416 с.</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чники информации:</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Радовский М. И.</a:t>
            </a:r>
            <a:r>
              <a:rPr b="0" lang="ru-RU" sz="2400" spc="-1" strike="noStrike">
                <a:solidFill>
                  <a:srgbClr val="000000"/>
                </a:solidFill>
                <a:latin typeface="Calibri"/>
              </a:rPr>
              <a:t> Александр Попов. — М.:Молодая гвардия, 201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П. Н. Рыбкин.</a:t>
            </a:r>
            <a:r>
              <a:rPr b="0" lang="ru-RU" sz="2400" spc="-1" strike="noStrike">
                <a:solidFill>
                  <a:srgbClr val="000000"/>
                </a:solidFill>
                <a:latin typeface="Calibri"/>
              </a:rPr>
              <a:t> Изобретение радиотелеграфа в Росси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удрявцев С. (Скайф). Рождение радио. – Л.:Молодая гвардия, 193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120" y="533160"/>
            <a:ext cx="7543800" cy="5715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Александр родился на Северном Урале, в горняцком селении Турьинские Рудники, в семье священника, настоятеля Максимовской церкви Степана Петровича Попова (1827-1897) и его жены Анны Степановны (1830-1903), средним из семи детей. Семья была очень дружная. Старшие - брат Рафаил и сестры Екатерина  и Мария всегда помогали младшим. Александр, в свою очередь, заботился о младших сестрах - Анне ,Августе и Капитолине .Кроме основной службы С. П. Попов практически всю жизнь безвозмездно занимался «обучением детей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рамоте и закону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Божию» в горной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школе и в домашней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школе для девочек,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оторую содержал з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вой счет. </a:t>
            </a:r>
            <a:endParaRPr b="0" lang="en-US" sz="2000" spc="-1" strike="noStrike">
              <a:solidFill>
                <a:srgbClr val="000000"/>
              </a:solidFill>
              <a:latin typeface="Calibri"/>
            </a:endParaRPr>
          </a:p>
        </p:txBody>
      </p:sp>
      <p:pic>
        <p:nvPicPr>
          <p:cNvPr id="48" name="Picture 7" descr="foto-02-turien-rud-epcru"/>
          <p:cNvPicPr/>
          <p:nvPr/>
        </p:nvPicPr>
        <p:blipFill>
          <a:blip r:embed="rId1"/>
          <a:stretch/>
        </p:blipFill>
        <p:spPr>
          <a:xfrm>
            <a:off x="3544920" y="3657600"/>
            <a:ext cx="464652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80520" y="837720"/>
            <a:ext cx="5334120" cy="3429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За свою за усердную и полезную службу он был награжден многими благодарностями , а также бронзовым (1857), золотым наперсными крестами (1877) и орденом св. Владимира 4-й степени (1986). Его жена также бесплатно обучала девочек-школьниц рукоделию, за что получила благодарность духовной консистор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 name="Picture 8" descr="foto-03-roditeli-epcru"/>
          <p:cNvPicPr/>
          <p:nvPr/>
        </p:nvPicPr>
        <p:blipFill>
          <a:blip r:embed="rId1"/>
          <a:stretch/>
        </p:blipFill>
        <p:spPr>
          <a:xfrm>
            <a:off x="5486400" y="838080"/>
            <a:ext cx="2593800" cy="2853000"/>
          </a:xfrm>
          <a:prstGeom prst="rect">
            <a:avLst/>
          </a:prstGeom>
          <a:ln w="0">
            <a:noFill/>
          </a:ln>
        </p:spPr>
      </p:pic>
      <p:sp>
        <p:nvSpPr>
          <p:cNvPr id="51" name="Прямоугольник 5"/>
          <p:cNvSpPr/>
          <p:nvPr/>
        </p:nvSpPr>
        <p:spPr>
          <a:xfrm>
            <a:off x="762120" y="3581280"/>
            <a:ext cx="7543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роявлению интереса Александра к технике способствовало то обстоятельство, что в кругу знакомых семьи Поповых было много инженеров, выпускников Петербургского горного института. С интересом посещал он рудники и мастерские, сам пытался мастерить разнообразные механизмы. Всю жизнь Попов был благодарен мужу сестры Екатерины В. П. Словцов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844 - 1934), священнику, как и его отец, научившему его столярному, слесарному и токарному дел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33160" y="609120"/>
            <a:ext cx="4800600" cy="3505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1" lang="ru-RU" sz="2000" spc="-1" strike="noStrike">
                <a:solidFill>
                  <a:srgbClr val="000000"/>
                </a:solidFill>
                <a:latin typeface="Calibri"/>
              </a:rPr>
              <a:t>Начальное образование </a:t>
            </a:r>
            <a:r>
              <a:rPr b="0" lang="ru-RU" sz="2000" spc="-1" strike="noStrike">
                <a:solidFill>
                  <a:srgbClr val="000000"/>
                </a:solidFill>
                <a:latin typeface="Calibri"/>
              </a:rPr>
              <a:t>Александр получил в Далматовском (1869-1871) и Екатеринбургском (1871-1873) духовных училищах. В 1873 г. Попов поступил в Пермскую духовную семинарию. В этих учебных заведениях обучение для детей духовного сословия было бесплатным, что для большой семьи Поповых имело существенное значени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3" name="Picture 8" descr="foto-04-popov-1868-epcru"/>
          <p:cNvPicPr/>
          <p:nvPr/>
        </p:nvPicPr>
        <p:blipFill>
          <a:blip r:embed="rId1"/>
          <a:stretch/>
        </p:blipFill>
        <p:spPr>
          <a:xfrm>
            <a:off x="5334120" y="990720"/>
            <a:ext cx="2838240" cy="4800600"/>
          </a:xfrm>
          <a:prstGeom prst="rect">
            <a:avLst/>
          </a:prstGeom>
          <a:ln w="0">
            <a:noFill/>
          </a:ln>
        </p:spPr>
      </p:pic>
      <p:sp>
        <p:nvSpPr>
          <p:cNvPr id="54" name="Rectangle 5"/>
          <p:cNvSpPr/>
          <p:nvPr/>
        </p:nvSpPr>
        <p:spPr>
          <a:xfrm>
            <a:off x="838080" y="3657600"/>
            <a:ext cx="7391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Религиозное воспитан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вило Александру Попову высок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оральные качества, неоднократн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меченные знавшими его людьм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щеобразовательные класс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минарии, дававшие знания в объем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лассической гимназии с прав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ступления в университет, Попов окончил с отличием в 1877 г.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09480" y="914400"/>
            <a:ext cx="8229600" cy="3540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 сентябре 1877 г. Александр Попов </a:t>
            </a:r>
            <a:r>
              <a:rPr b="1" lang="ru-RU" sz="2000" spc="-1" strike="noStrike">
                <a:solidFill>
                  <a:srgbClr val="000000"/>
                </a:solidFill>
                <a:latin typeface="Calibri"/>
              </a:rPr>
              <a:t>поступил на физико-математический факультет </a:t>
            </a:r>
            <a:r>
              <a:rPr b="0" lang="ru-RU" sz="2000" spc="-1" strike="noStrike">
                <a:solidFill>
                  <a:srgbClr val="000000"/>
                </a:solidFill>
                <a:latin typeface="Calibri"/>
              </a:rPr>
              <a:t>Петербургского университет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 Петербург, где в это время жил Рафаил, закончивший историко-филологический факультет Петербургского университета, он приехал с сестрами Анной и Августой. Стипендию Александр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пов получал только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 первом и третьем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урсах, и сво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финансовые проблемы</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ешал репетиторством.</a:t>
            </a:r>
            <a:endParaRPr b="0" lang="en-US" sz="2000" spc="-1" strike="noStrike">
              <a:solidFill>
                <a:srgbClr val="000000"/>
              </a:solidFill>
              <a:latin typeface="Calibri"/>
            </a:endParaRPr>
          </a:p>
        </p:txBody>
      </p:sp>
      <p:pic>
        <p:nvPicPr>
          <p:cNvPr id="56" name="Picture 4" descr="foto-07b-studenty-1881-epcru"/>
          <p:cNvPicPr/>
          <p:nvPr/>
        </p:nvPicPr>
        <p:blipFill>
          <a:blip r:embed="rId1"/>
          <a:stretch/>
        </p:blipFill>
        <p:spPr>
          <a:xfrm>
            <a:off x="3809880" y="2743200"/>
            <a:ext cx="4356360" cy="32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80880" y="685800"/>
            <a:ext cx="8229600" cy="33235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2000" spc="-1" strike="noStrike">
                <a:solidFill>
                  <a:srgbClr val="000000"/>
                </a:solidFill>
                <a:latin typeface="Calibri"/>
              </a:rPr>
              <a:t>Попов изобрел </a:t>
            </a:r>
            <a:r>
              <a:rPr b="1" lang="ru-RU" sz="2000" spc="-1" strike="noStrike">
                <a:solidFill>
                  <a:srgbClr val="000000"/>
                </a:solidFill>
                <a:latin typeface="Calibri"/>
              </a:rPr>
              <a:t>новую схему автоматического восстановления чувствительности когерера</a:t>
            </a:r>
            <a:r>
              <a:rPr b="0" lang="ru-RU" sz="2000" spc="-1" strike="noStrike">
                <a:solidFill>
                  <a:srgbClr val="000000"/>
                </a:solidFill>
                <a:latin typeface="Calibri"/>
              </a:rPr>
              <a:t>. В цепь с когерером было включено реле, обеспечивавшее подключение исполнительного устройства - электрического звонка, молоточек которого бил по трубочке, встряхивая опилки и восстанавливая сопротивление когерера после приема каждой посылки затухающих электромагнитных колебаний. В зависимости от замыкания телеграфного ключа прерывателя посылка могла быть короткой или продолжительной. Задача обеспечения беспроводной связи была принципиально решена.</a:t>
            </a:r>
            <a:endParaRPr b="0" lang="en-US" sz="2000" spc="-1" strike="noStrike">
              <a:solidFill>
                <a:srgbClr val="000000"/>
              </a:solidFill>
              <a:latin typeface="Calibri"/>
            </a:endParaRPr>
          </a:p>
        </p:txBody>
      </p:sp>
      <p:pic>
        <p:nvPicPr>
          <p:cNvPr id="58" name="Picture 4" descr="foto-14a-spiral1895-1-epcru"/>
          <p:cNvPicPr/>
          <p:nvPr/>
        </p:nvPicPr>
        <p:blipFill>
          <a:blip r:embed="rId1"/>
          <a:stretch/>
        </p:blipFill>
        <p:spPr>
          <a:xfrm>
            <a:off x="3886200" y="3657600"/>
            <a:ext cx="1617840" cy="2514600"/>
          </a:xfrm>
          <a:prstGeom prst="rect">
            <a:avLst/>
          </a:prstGeom>
          <a:ln w="0">
            <a:noFill/>
          </a:ln>
        </p:spPr>
      </p:pic>
      <p:pic>
        <p:nvPicPr>
          <p:cNvPr id="59" name="Picture 5" descr="foto-14b-preryvatel1-epcru"/>
          <p:cNvPicPr/>
          <p:nvPr/>
        </p:nvPicPr>
        <p:blipFill>
          <a:blip r:embed="rId2"/>
          <a:srcRect l="0" t="6027" r="0" b="0"/>
          <a:stretch/>
        </p:blipFill>
        <p:spPr>
          <a:xfrm>
            <a:off x="5791320" y="3657600"/>
            <a:ext cx="2133360" cy="2374920"/>
          </a:xfrm>
          <a:prstGeom prst="rect">
            <a:avLst/>
          </a:prstGeom>
          <a:ln w="0">
            <a:noFill/>
          </a:ln>
        </p:spPr>
      </p:pic>
      <p:pic>
        <p:nvPicPr>
          <p:cNvPr id="60" name="Picture 6" descr="foto-21-first-rx-1-epcru"/>
          <p:cNvPicPr/>
          <p:nvPr/>
        </p:nvPicPr>
        <p:blipFill>
          <a:blip r:embed="rId3"/>
          <a:stretch/>
        </p:blipFill>
        <p:spPr>
          <a:xfrm>
            <a:off x="1066680" y="388620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560" y="533160"/>
            <a:ext cx="8381880" cy="6002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Зимой 1895-1896 гг. Попов занимался совершенствованием    радиоаппаратуры. В январе он </a:t>
            </a:r>
            <a:r>
              <a:rPr b="1" lang="ru-RU" sz="2000" spc="-1" strike="noStrike">
                <a:solidFill>
                  <a:srgbClr val="000000"/>
                </a:solidFill>
                <a:latin typeface="Calibri"/>
              </a:rPr>
              <a:t>выступил на заседании Кронштадтского отделения ИРТО</a:t>
            </a:r>
            <a:r>
              <a:rPr b="0" lang="ru-RU" sz="2000" spc="-1" strike="noStrike">
                <a:solidFill>
                  <a:srgbClr val="000000"/>
                </a:solidFill>
                <a:latin typeface="Calibri"/>
              </a:rPr>
              <a:t>, </a:t>
            </a:r>
            <a:r>
              <a:rPr b="1" lang="ru-RU" sz="2000" spc="-1" strike="noStrike">
                <a:solidFill>
                  <a:srgbClr val="000000"/>
                </a:solidFill>
                <a:latin typeface="Calibri"/>
              </a:rPr>
              <a:t>демонстрируя работу переносного приемника с симметричной антенной, аналогичной антенне передатчика (по его словам «для достижения резонанса»)</a:t>
            </a:r>
            <a:r>
              <a:rPr b="0" lang="ru-RU" sz="2000" spc="-1" strike="noStrike">
                <a:solidFill>
                  <a:srgbClr val="000000"/>
                </a:solidFill>
                <a:latin typeface="Calibri"/>
              </a:rPr>
              <a:t>. Представителям Морского ведомства, выслушавшим доклад, стало понятно, что </a:t>
            </a:r>
            <a:r>
              <a:rPr b="1" lang="ru-RU" sz="2000" spc="-1" strike="noStrike">
                <a:solidFill>
                  <a:srgbClr val="000000"/>
                </a:solidFill>
                <a:latin typeface="Calibri"/>
              </a:rPr>
              <a:t>изобретено принципиально новое средство связи</a:t>
            </a:r>
            <a:r>
              <a:rPr b="0" lang="ru-RU" sz="2000" spc="-1" strike="noStrike">
                <a:solidFill>
                  <a:srgbClr val="000000"/>
                </a:solidFill>
                <a:latin typeface="Calibri"/>
              </a:rPr>
              <a:t>. Распространение информации об этом было нежелательным. Аппаратуру с рефлекторными антеннами направленного действия Попов использовал во время доклада 24 марта 1896 г. на очередном заседании РФХО. В тот раз между зданиями Петербургского университета на расстоянии 250 метров были переданы азбукой Морзе и слова «Heinrich Hertz». Однако в протокол заседания была записана только одна фраза о демонстрации Поповым «приборов описанных ранее». 14 апреля преподавателем физики ЭТИ В. В. Скобельцыным аппаратура Попова была показана в действии уже в стенах ЭТИ. Ныне эта аппаратура экспонируется в Мемориальном музее А. С. Попова Санкт-Петербургского государственного электротехнического университета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ЛЭТИ» им. В.И. Ульянова (Ленина) (СПбГЭ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3"/>
          <p:cNvSpPr/>
          <p:nvPr/>
        </p:nvSpPr>
        <p:spPr>
          <a:xfrm>
            <a:off x="838080" y="533520"/>
            <a:ext cx="72392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Calibri"/>
              </a:rPr>
              <a:t>Полное описание первой в мире системы радиосвязи было опубликовано в январском номер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Журнала РФХО» под названием «Прибо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обнаружения и регистрирован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лектрических колебани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96, т.28, Вып.1.с.1-14). </a:t>
            </a:r>
            <a:endParaRPr b="0" lang="en-US" sz="2000" spc="-1" strike="noStrike">
              <a:solidFill>
                <a:srgbClr val="000000"/>
              </a:solidFill>
              <a:latin typeface="Arial"/>
            </a:endParaRPr>
          </a:p>
        </p:txBody>
      </p:sp>
      <p:pic>
        <p:nvPicPr>
          <p:cNvPr id="63" name="Picture 5" descr="foto-20a-statiya-shema-epcru"/>
          <p:cNvPicPr/>
          <p:nvPr/>
        </p:nvPicPr>
        <p:blipFill>
          <a:blip r:embed="rId1"/>
          <a:srcRect l="16882" t="29939" r="18409" b="30153"/>
          <a:stretch/>
        </p:blipFill>
        <p:spPr>
          <a:xfrm>
            <a:off x="5486400" y="914400"/>
            <a:ext cx="2438280" cy="2544840"/>
          </a:xfrm>
          <a:prstGeom prst="rect">
            <a:avLst/>
          </a:prstGeom>
          <a:ln w="0">
            <a:noFill/>
          </a:ln>
        </p:spPr>
      </p:pic>
      <p:sp>
        <p:nvSpPr>
          <p:cNvPr id="64" name="Rectangle 4"/>
          <p:cNvSpPr/>
          <p:nvPr/>
        </p:nvSpPr>
        <p:spPr>
          <a:xfrm>
            <a:off x="685800" y="2514600"/>
            <a:ext cx="7416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Calibri"/>
              </a:rPr>
              <a:t>Между Поповым и Дюкрет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становилось деловое сотрудничеств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зволившее в 1898 г. приступить 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серийному производству радиостанций.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 1898-1905 гг. Дюкрете постоянно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ользовался письменными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консультациями А.С. Попова. В мае 1899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г. во время зарубежной командировки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опов посетил фирму Дюкрете. Морское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едомство России дало заказ на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оставку 50 корабельных радиостанций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 течение пяти лет.</a:t>
            </a:r>
            <a:endParaRPr b="0" lang="en-US" sz="2000" spc="-1" strike="noStrike">
              <a:solidFill>
                <a:srgbClr val="000000"/>
              </a:solidFill>
              <a:latin typeface="Arial"/>
            </a:endParaRPr>
          </a:p>
        </p:txBody>
      </p:sp>
      <p:pic>
        <p:nvPicPr>
          <p:cNvPr id="65" name="Picture 5" descr="foto-31a-rx-dyukrete-otl-1-epcru"/>
          <p:cNvPicPr/>
          <p:nvPr/>
        </p:nvPicPr>
        <p:blipFill>
          <a:blip r:embed="rId2"/>
          <a:stretch/>
        </p:blipFill>
        <p:spPr>
          <a:xfrm>
            <a:off x="914400" y="3429000"/>
            <a:ext cx="2316240" cy="276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5:47:16Z</dcterms:created>
  <dc:creator>Катя</dc:creator>
  <dc:description/>
  <dc:language>en-US</dc:language>
  <cp:lastModifiedBy>uzver</cp:lastModifiedBy>
  <dcterms:modified xsi:type="dcterms:W3CDTF">2013-01-17T07:41:55Z</dcterms:modified>
  <cp:revision>20</cp:revision>
  <dc:subject/>
  <dc:title>Название презентации</dc:title>
</cp:coreProperties>
</file>