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218C-2069-4DDA-8F85-61816FD3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FDD-B720-4402-B188-1B83D8BE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6E2AD-ECB6-4406-BA7D-395CC6A8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44239-E109-4FAA-9946-8DF40DB3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2DC83-EB2B-4C54-80F0-F0ACD599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59AB0-BF6D-4855-A00E-40A057E7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43AA2-0663-45E7-9B57-50B73D3D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FC571-DCF6-45ED-9262-DD7A08ED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CB9F1-E2D9-4B4B-AA12-0C9C36E3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D5596-E748-4D08-AD88-93301EEF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1D287-7007-43DF-96F2-3DCB3A6A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512BA-4736-4C23-8751-FF6857FE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777-0025-49D2-961B-61186008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71D93-443B-4438-858F-C39126C0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1B855-E326-4C02-8EE4-B1C1014C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BB0B7-83AC-4D47-B440-F52F96AF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7A632-45EF-476E-BACF-72EA955A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7927A-1F9C-46FE-90A5-3F330F26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BCFA1-33BC-40A0-BFFD-9FB0716C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73198-220B-4E0D-9984-A5C83B99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5A16A-9161-457F-B343-8CF47A7D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B676E-DD32-4554-8327-F9F66954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EAE08-B5B3-4540-AFBB-A0C830A3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88C2-E8B7-407C-B3A7-4237712E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E7207-D423-45DF-A336-E756056D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B86BC-A13B-45BB-AFDC-4B61A926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371D6-4D2C-4EE4-8B44-3708F913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CFEFF-5249-4B23-B6AE-714D5982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88CFF-EB84-48E8-8ED2-4BE5AC38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1960B-A616-4127-9B74-59327F4F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52F8A-F9A5-489B-9DB6-4BCBE115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B8C52-56E0-4829-B99C-53652B75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F8B62-1ACD-4235-8DC5-2548C4C9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548AC-554C-4DD3-8457-5DFD5449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1980-60B4-497B-A485-7D9A1E05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3C117-2316-4E16-9011-D013E2E9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0F456-2E3A-43FE-A829-B6766C35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CD728-B1CE-4BED-B758-4789A134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F3318-C713-4F11-A5E5-DD38BE7E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84172-E7E8-4E67-A7C4-E106B11A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F6DF5-BCEB-4FE7-BCEB-103581CC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C3FD2-AEE4-4126-9FEE-6223612D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0DE0E-A47A-4FA7-BFDA-DB08E1E8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A9143-6ADD-4284-A1C8-5A3310F8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A2C9E-5488-4FE0-BD03-856144A8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9103-E39B-4F96-BC83-35C244DB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4678B-FBFF-4F0B-9054-6C240B19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6ABB4-9003-449A-B09A-E12A219E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75FA1-BC4A-4802-BEEE-D4DDC1D2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C6620-9AAD-459B-B030-08DC16971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0AEB6-32F4-4B95-BA25-B07272D2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AD28-AAF3-4E79-BD06-A747D3E9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835F-2CF4-4589-9D3D-916D6898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42BF-A151-4EB8-8570-E2DCFF75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76AE-1F43-49B2-89E5-D79EEF33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4D8F-7E78-4386-8B67-892BF8B0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2860-EC4B-4571-A3F8-2C93CEC8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C8D1-F983-47F0-AA31-0E73775B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E51B-DE7D-491F-86C4-3F815AA0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0211-B309-4194-986F-48A1BE58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6C13-A971-4650-A8D0-DF95E287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E96D-7561-4A7F-8871-32F2B8E3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C2D53-E91D-42DB-957F-D4170CD0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B1A30-CED5-41E3-A777-25E3A0C1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791EC-7CE4-4757-80B1-9E9B7168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C023F-5F63-42C5-95E7-D4AAC8DC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608D1-A4EB-4AC6-BBDD-F476794B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6C64-9743-4B7E-843B-31A2D8F7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B3C5E-2E0C-432C-B8AE-56664C03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D7DE0-8C7D-488C-99D7-9FFFF13F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40681-732A-4250-8C9C-CD0485B8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AE472-BD88-4BD1-BFFF-A44311F7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C97C5-A750-470F-9D16-B1B00AD7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36099-989A-45D0-83C8-C16F1BAC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E520C-A155-494A-9050-FC86637D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2431E-79B1-4964-B57C-8F15EBAA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42592-3D77-4633-B5CC-DD13BA98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E2B0B-49C2-473B-8A36-5B01B41D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9FE9-DFBD-4779-BEBB-4422FF6A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39864-DAD2-4C0D-87A3-37B6C414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FFC20-0A67-4644-94A7-D5918DCB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CAB6B-A73E-4547-AC6F-78B95113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24CE6-6E1B-4794-935F-1F867688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F5EA3-11C0-4597-9A3E-9E309DE3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1038C-0657-4505-9530-1BABCDAB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B9988-C2AD-42D7-A0C2-3D443937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07B93-C34D-4FF9-8BB6-7383E340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4588E-EF79-4B1F-A6DC-2D44254E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E3E82-6457-4949-99C5-10C67F99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9FA5-D6AC-418F-8FE9-B8762F60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503BF-7BD0-44FF-BF26-C4808F87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E400A-3A5A-4B69-AE7E-EEB7AE67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660C9-1418-4229-A7C8-621C39C1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2D88C-BFE0-422F-AFFF-C4451C0A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1978B-8828-49E4-8D9B-E1A392A9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C4AAA-BE12-4413-8CE2-CAFCAD7F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F53AA-BECB-4751-AFB0-106C8269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5044E-BF68-4870-8C9A-AFF86B86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3E7BC-CCBD-4175-83D6-73818594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9EC1B-07B3-4721-A3A7-1B74E18F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FD12-99D4-4DB6-8E53-0BD97127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01CF3-8333-4E2D-BE1C-C766B2F6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36165-47A5-41AD-A17C-EE8F7114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B93D8-1606-498E-A0BD-3CD6E34D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8CA7D-3E29-4F22-BAF1-8CD13AD6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468BB-B6E3-4B6C-B1F7-1378988D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3BB89-DEAE-40D0-8362-3CECC310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1A20F-6BA6-47E7-9C4C-D37DC50F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BEDFE-4798-491D-AE08-36980F93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C51BE-A060-40F8-8CF3-A120CBB5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D228C-DDE3-454D-9151-9F37A6AB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B2FE-E92D-49BF-A95E-69724734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EF9ED-A9B8-44F0-8CBD-4EA5CBD3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CE1A4-D10C-45D1-BE38-73CF344E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E5710-E20C-47F3-B55D-F07ECB82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76552-81D2-4CB5-86EB-B0114507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FB1E4-3DA1-4B01-9B57-6A7B2E7E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59E08-C44C-4832-96DF-82747EA7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14611-B314-4276-BF3B-D2DEDF6C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0D3B0-1722-4186-BD4C-E5872D24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CB4D1-0BFA-4EC8-AA1D-EFD2C8A8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3646B-CFAD-4D53-B968-62491244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BA81-BD06-409C-B1E2-DD04E902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758A6-916C-4910-8A36-25C91235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31661-C949-45A0-8FAD-682056D9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1D282-4C73-485E-AD9C-AB417A0B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73462-7FA8-4CCD-A096-6D6A2FB4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FD391-40E1-4D15-BF42-1041ADA4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21498-3952-471C-818A-69FB67B4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F3B28-A2B6-4E45-B3C5-8337E06A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DE21A-5A8B-404D-83FB-5973DBC0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2F35C-6544-48A5-BF6F-90C8F4BA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54ADC-2B49-479F-9DA9-3617DC3C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D5B-5CED-4FC5-9C3C-20D90BDA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2B139-025E-4B34-9F2D-AF2C2AFF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6E898-5D41-475C-A0B0-92ECCC58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B7FF4-005E-4CF4-AD6A-54FBF549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BA18C-9529-43E7-AC41-0F452EC9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4663A-EC61-4D89-B05C-365C573C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D80D3-B729-46AD-8807-629C7E09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0BDB7-1214-41B2-9E49-EFAC8BB0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4D634-D88A-465E-868E-6CC78173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B4B39-14B8-4DF7-B97F-4A62F58A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241AB-0F3F-4902-8F35-34006064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0B02-1B76-4199-BAA5-DF394C51B5C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D8FE-E487-4952-B2B1-1963EACDE9C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5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EF23-D0C4-418B-9A77-F5D757CBD82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87E6-7242-4188-95DA-CDE8CA02E30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5803-DD8A-4D49-8252-5DFD22FDFC3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F831-6CA1-4930-ACA0-121AF098DC6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457A-F8E2-459B-8FB6-614FFC8FFF9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7279-3C27-449C-9089-ECB3117AFC2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A18E-02E3-4D0B-B5DE-7E9C3E81E04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07E2-C8B8-4045-BFDC-C27DC222DE0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E8F1-622C-4969-8A5F-61A086B36ED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4554-1E46-4BBC-AEAE-7E3B63693FC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Rectangle 2" descr=""/>
          <p:cNvPicPr/>
          <p:nvPr/>
        </p:nvPicPr>
        <p:blipFill>
          <a:blip r:embed="rId1"/>
          <a:stretch/>
        </p:blipFill>
        <p:spPr>
          <a:xfrm>
            <a:off x="1341360" y="847800"/>
            <a:ext cx="7162920" cy="29430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 txBox="1"/>
          <p:nvPr/>
        </p:nvSpPr>
        <p:spPr>
          <a:xfrm>
            <a:off x="714240" y="4643280"/>
            <a:ext cx="79632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Franklin Gothic Book"/>
              </a:rPr>
              <a:t>26.09.2011г.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5 КЛАСС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Franklin Gothic Book"/>
              </a:rPr>
              <a:t>История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7645320" cy="377964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 txBox="1"/>
          <p:nvPr/>
        </p:nvSpPr>
        <p:spPr>
          <a:xfrm>
            <a:off x="457200" y="4076640"/>
            <a:ext cx="8507520" cy="20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207a"/>
                </a:solidFill>
                <a:latin typeface="Franklin Gothic Book"/>
              </a:rPr>
              <a:t>                            </a:t>
            </a:r>
            <a:r>
              <a:rPr b="1" lang="ru-RU" sz="2800" spc="-1" strike="noStrike">
                <a:solidFill>
                  <a:srgbClr val="33207a"/>
                </a:solidFill>
                <a:latin typeface="Franklin Gothic Book"/>
              </a:rPr>
              <a:t>Мастера научились работа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207a"/>
                </a:solidFill>
                <a:latin typeface="Franklin Gothic Book"/>
              </a:rPr>
              <a:t>                        </a:t>
            </a:r>
            <a:r>
              <a:rPr b="1" lang="ru-RU" sz="2800" spc="-1" strike="noStrike">
                <a:solidFill>
                  <a:srgbClr val="33207a"/>
                </a:solidFill>
                <a:latin typeface="Franklin Gothic Book"/>
              </a:rPr>
              <a:t>и с драгоценными металлами –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207a"/>
                </a:solidFill>
                <a:latin typeface="Franklin Gothic Book"/>
              </a:rPr>
              <a:t>                        </a:t>
            </a:r>
            <a:r>
              <a:rPr b="1" lang="ru-RU" sz="2800" spc="-1" strike="noStrike">
                <a:solidFill>
                  <a:srgbClr val="33207a"/>
                </a:solidFill>
                <a:latin typeface="Franklin Gothic Book"/>
              </a:rPr>
              <a:t>ЗОЛОТОМ, СЕРЕБРОМ. Из них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207a"/>
                </a:solidFill>
                <a:latin typeface="Franklin Gothic Book"/>
              </a:rPr>
              <a:t>                        </a:t>
            </a:r>
            <a:r>
              <a:rPr b="1" lang="ru-RU" sz="2800" spc="-1" strike="noStrike">
                <a:solidFill>
                  <a:srgbClr val="33207a"/>
                </a:solidFill>
                <a:latin typeface="Franklin Gothic Book"/>
              </a:rPr>
              <a:t>изготавливали украш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Rectangle 2" descr=""/>
          <p:cNvPicPr/>
          <p:nvPr/>
        </p:nvPicPr>
        <p:blipFill>
          <a:blip r:embed="rId1"/>
          <a:stretch/>
        </p:blipFill>
        <p:spPr>
          <a:xfrm>
            <a:off x="463680" y="725400"/>
            <a:ext cx="8216640" cy="187812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 txBox="1"/>
          <p:nvPr/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Franklin Gothic Book"/>
              </a:rPr>
              <a:t>деление общества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185760" indent="-1857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Franklin Gothic Book"/>
              </a:rPr>
              <a:t>на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185760" indent="-1857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Franklin Gothic Book"/>
              </a:rPr>
              <a:t>богатых и бедных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Rectangle 2" descr=""/>
          <p:cNvPicPr/>
          <p:nvPr/>
        </p:nvPicPr>
        <p:blipFill>
          <a:blip r:embed="rId1"/>
          <a:stretch/>
        </p:blipFill>
        <p:spPr>
          <a:xfrm>
            <a:off x="463680" y="560520"/>
            <a:ext cx="8242200" cy="171288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468360" y="1773360"/>
            <a:ext cx="822960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49480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3300" spc="-1" strike="noStrike">
                <a:solidFill>
                  <a:srgbClr val="000066"/>
                </a:solidFill>
                <a:latin typeface="Franklin Gothic Book"/>
              </a:rPr>
              <a:t>ЭТО БОЛЬШИЕ ГРУППЫ ЛЮДЕЙ, КОТОРЫЕ ВЫДЕЛЯЮТСЯ В ОБЩЕСТВЕ ПО ИМУЩЕСТВЕННОМУ ПРИЗНАКУ, ТО ЕСТЬ ПО ТОМУ,</a:t>
            </a:r>
            <a:r>
              <a:rPr b="1" lang="ru-RU" sz="3300" spc="-1" strike="noStrike">
                <a:solidFill>
                  <a:srgbClr val="4e3b30"/>
                </a:solidFill>
                <a:latin typeface="Franklin Gothic Book"/>
              </a:rPr>
              <a:t> ЧТО </a:t>
            </a:r>
            <a:r>
              <a:rPr b="1" lang="ru-RU" sz="3300" spc="-1" strike="noStrike">
                <a:solidFill>
                  <a:srgbClr val="000066"/>
                </a:solidFill>
                <a:latin typeface="Franklin Gothic Book"/>
              </a:rPr>
              <a:t>ОНИ ИМЕЮТ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Rectangle 2" descr=""/>
          <p:cNvPicPr/>
          <p:nvPr/>
        </p:nvPicPr>
        <p:blipFill>
          <a:blip r:embed="rId1"/>
          <a:stretch/>
        </p:blipFill>
        <p:spPr>
          <a:xfrm>
            <a:off x="463680" y="665280"/>
            <a:ext cx="8242200" cy="113976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 txBox="1"/>
          <p:nvPr/>
        </p:nvSpPr>
        <p:spPr>
          <a:xfrm>
            <a:off x="1258920" y="2205000"/>
            <a:ext cx="21002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Franklin Gothic Book"/>
              </a:rPr>
              <a:t>Родовая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Franklin Gothic Book"/>
              </a:rPr>
              <a:t>община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5796000" y="2276280"/>
            <a:ext cx="2232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Franklin Gothic Book"/>
              </a:rPr>
              <a:t>Соседская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Franklin Gothic Book"/>
              </a:rPr>
              <a:t>община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0" name="AutoShape 10"/>
          <p:cNvSpPr/>
          <p:nvPr/>
        </p:nvSpPr>
        <p:spPr>
          <a:xfrm flipH="1" flipV="1" rot="5400000">
            <a:off x="4425120" y="2278080"/>
            <a:ext cx="360360" cy="1076400"/>
          </a:xfrm>
          <a:prstGeom prst="downArrow">
            <a:avLst>
              <a:gd name="adj1" fmla="val 57352"/>
              <a:gd name="adj2" fmla="val 67152"/>
            </a:avLst>
          </a:prstGeom>
          <a:solidFill>
            <a:srgbClr val="ad1f1f">
              <a:alpha val="70000"/>
            </a:srgbClr>
          </a:solidFill>
          <a:ln w="648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971640" y="4005360"/>
            <a:ext cx="720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Arial"/>
              </a:rPr>
              <a:t>ВОЖДЬ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– глава племени. Руководил военным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действиями племен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Rectangle 2" descr=""/>
          <p:cNvPicPr/>
          <p:nvPr/>
        </p:nvPicPr>
        <p:blipFill>
          <a:blip r:embed="rId1"/>
          <a:stretch/>
        </p:blipFill>
        <p:spPr>
          <a:xfrm>
            <a:off x="324000" y="1066680"/>
            <a:ext cx="8356320" cy="151776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 txBox="1"/>
          <p:nvPr/>
        </p:nvSpPr>
        <p:spPr>
          <a:xfrm>
            <a:off x="1258920" y="2923920"/>
            <a:ext cx="75103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lang="ru-RU" sz="4400" spc="-1" strike="noStrike">
                <a:solidFill>
                  <a:srgbClr val="000066"/>
                </a:solidFill>
                <a:latin typeface="Garamond"/>
              </a:rPr>
              <a:t>БОГАТЫЕ И ВЛИЯТЕЛЬНЫЕ ЛЮДИ ГОСУДАРСТВА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Rectangle 2" descr=""/>
          <p:cNvPicPr/>
          <p:nvPr/>
        </p:nvPicPr>
        <p:blipFill>
          <a:blip r:embed="rId1"/>
          <a:stretch/>
        </p:blipFill>
        <p:spPr>
          <a:xfrm>
            <a:off x="536400" y="255600"/>
            <a:ext cx="8169480" cy="10065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2484000" y="1161000"/>
            <a:ext cx="41864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Franklin Gothic Book"/>
              </a:rPr>
              <a:t>ПОЯВЛЕНИЕ  РЕМЕСЛ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10920" y="2997000"/>
            <a:ext cx="7993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Franklin Gothic Book"/>
              </a:rPr>
              <a:t>ИЗЛИШКИ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68000" y="5660640"/>
            <a:ext cx="828036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5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Garamond"/>
              </a:rPr>
              <a:t>Г О С У Д А Р С Т В 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39640" y="3860280"/>
            <a:ext cx="8136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87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Franklin Gothic Book"/>
              </a:rPr>
              <a:t>НЕРАВЕНСТВО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9" name="Rectangle 18"/>
          <p:cNvSpPr/>
          <p:nvPr/>
        </p:nvSpPr>
        <p:spPr>
          <a:xfrm>
            <a:off x="539640" y="2133720"/>
            <a:ext cx="813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ОВЫЕ ОРУДИЯ ТРУД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9"/>
          <p:cNvSpPr/>
          <p:nvPr/>
        </p:nvSpPr>
        <p:spPr>
          <a:xfrm>
            <a:off x="539640" y="479736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ЕРЕХОД ОТ РОДОВОЙ ОБЩИНЫ К СОСЕДСК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20"/>
          <p:cNvSpPr/>
          <p:nvPr/>
        </p:nvSpPr>
        <p:spPr>
          <a:xfrm flipV="1" rot="10800000">
            <a:off x="4500360" y="1557360"/>
            <a:ext cx="215640" cy="574560"/>
          </a:xfrm>
          <a:prstGeom prst="downArrow">
            <a:avLst>
              <a:gd name="adj1" fmla="val 57352"/>
              <a:gd name="adj2" fmla="val 59901"/>
            </a:avLst>
          </a:prstGeom>
          <a:solidFill>
            <a:srgbClr val="ad1f1f">
              <a:alpha val="70000"/>
            </a:srgbClr>
          </a:solidFill>
          <a:ln w="648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21"/>
          <p:cNvSpPr/>
          <p:nvPr/>
        </p:nvSpPr>
        <p:spPr>
          <a:xfrm flipV="1" rot="10773000">
            <a:off x="4493880" y="2489760"/>
            <a:ext cx="220680" cy="536400"/>
          </a:xfrm>
          <a:prstGeom prst="downArrow">
            <a:avLst>
              <a:gd name="adj1" fmla="val 57352"/>
              <a:gd name="adj2" fmla="val 54645"/>
            </a:avLst>
          </a:prstGeom>
          <a:solidFill>
            <a:srgbClr val="ad1f1f">
              <a:alpha val="70000"/>
            </a:srgbClr>
          </a:solidFill>
          <a:ln w="648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22"/>
          <p:cNvSpPr/>
          <p:nvPr/>
        </p:nvSpPr>
        <p:spPr>
          <a:xfrm flipV="1" rot="10800000">
            <a:off x="4500360" y="3356640"/>
            <a:ext cx="215640" cy="539640"/>
          </a:xfrm>
          <a:prstGeom prst="downArrow">
            <a:avLst>
              <a:gd name="adj1" fmla="val 57352"/>
              <a:gd name="adj2" fmla="val 56260"/>
            </a:avLst>
          </a:prstGeom>
          <a:solidFill>
            <a:srgbClr val="ad1f1f">
              <a:alpha val="70000"/>
            </a:srgbClr>
          </a:solidFill>
          <a:ln w="648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23"/>
          <p:cNvSpPr/>
          <p:nvPr/>
        </p:nvSpPr>
        <p:spPr>
          <a:xfrm flipH="1" flipV="1" rot="10800000">
            <a:off x="4499640" y="4219920"/>
            <a:ext cx="215640" cy="574920"/>
          </a:xfrm>
          <a:prstGeom prst="downArrow">
            <a:avLst>
              <a:gd name="adj1" fmla="val 57352"/>
              <a:gd name="adj2" fmla="val 59938"/>
            </a:avLst>
          </a:prstGeom>
          <a:solidFill>
            <a:srgbClr val="ad1f1f">
              <a:alpha val="70000"/>
            </a:srgbClr>
          </a:solidFill>
          <a:ln w="648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24"/>
          <p:cNvSpPr/>
          <p:nvPr/>
        </p:nvSpPr>
        <p:spPr>
          <a:xfrm flipV="1" rot="10725000">
            <a:off x="4500360" y="5156640"/>
            <a:ext cx="215640" cy="503280"/>
          </a:xfrm>
          <a:prstGeom prst="downArrow">
            <a:avLst>
              <a:gd name="adj1" fmla="val 57352"/>
              <a:gd name="adj2" fmla="val 52469"/>
            </a:avLst>
          </a:prstGeom>
          <a:solidFill>
            <a:srgbClr val="ad1f1f">
              <a:alpha val="70000"/>
            </a:srgbClr>
          </a:solidFill>
          <a:ln w="648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Rectangle 2" descr=""/>
          <p:cNvPicPr/>
          <p:nvPr/>
        </p:nvPicPr>
        <p:blipFill>
          <a:blip r:embed="rId1"/>
          <a:stretch/>
        </p:blipFill>
        <p:spPr>
          <a:xfrm>
            <a:off x="536400" y="49320"/>
            <a:ext cx="8071200" cy="126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7" name=""/>
          <p:cNvGraphicFramePr/>
          <p:nvPr/>
        </p:nvGraphicFramePr>
        <p:xfrm>
          <a:off x="395280" y="1268280"/>
          <a:ext cx="8497800" cy="4530960"/>
        </p:xfrm>
        <a:graphic>
          <a:graphicData uri="http://schemas.openxmlformats.org/drawingml/2006/table">
            <a:tbl>
              <a:tblPr/>
              <a:tblGrid>
                <a:gridCol w="563400"/>
                <a:gridCol w="570240"/>
                <a:gridCol w="566640"/>
                <a:gridCol w="563400"/>
                <a:gridCol w="568440"/>
                <a:gridCol w="568440"/>
                <a:gridCol w="563400"/>
                <a:gridCol w="569880"/>
                <a:gridCol w="563760"/>
                <a:gridCol w="568080"/>
                <a:gridCol w="565200"/>
                <a:gridCol w="563760"/>
                <a:gridCol w="569880"/>
                <a:gridCol w="569880"/>
                <a:gridCol w="563400"/>
              </a:tblGrid>
              <a:tr h="41112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 gridSpan="6"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</a:tr>
              <a:tr h="411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</a:tr>
              <a:tr h="411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5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</a:tr>
              <a:tr h="411120">
                <a:tc gridSpan="11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8" name="Rectangle 1323"/>
          <p:cNvSpPr/>
          <p:nvPr/>
        </p:nvSpPr>
        <p:spPr>
          <a:xfrm>
            <a:off x="395280" y="765000"/>
            <a:ext cx="4176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ГОРИЗОНТАЛИ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й металл, освоенный человеко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ие группы людей, которые выделяются в обществе по имущественному признак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 занятия человек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гатые, влиятельные люд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я общества, в которой существуют границы, власть, законы и сбор налого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ОЕ СЛОВО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явление в обществе богатых и бедных люде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Rectangle 2" descr=""/>
          <p:cNvPicPr/>
          <p:nvPr/>
        </p:nvPicPr>
        <p:blipFill>
          <a:blip r:embed="rId1"/>
          <a:stretch/>
        </p:blipFill>
        <p:spPr>
          <a:xfrm>
            <a:off x="463680" y="85680"/>
            <a:ext cx="8242200" cy="126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0" name=""/>
          <p:cNvGraphicFramePr/>
          <p:nvPr/>
        </p:nvGraphicFramePr>
        <p:xfrm>
          <a:off x="755640" y="1197000"/>
          <a:ext cx="8137440" cy="4564080"/>
        </p:xfrm>
        <a:graphic>
          <a:graphicData uri="http://schemas.openxmlformats.org/drawingml/2006/table">
            <a:tbl>
              <a:tblPr/>
              <a:tblGrid>
                <a:gridCol w="539640"/>
                <a:gridCol w="544680"/>
                <a:gridCol w="544320"/>
                <a:gridCol w="540000"/>
                <a:gridCol w="544320"/>
                <a:gridCol w="542880"/>
                <a:gridCol w="540000"/>
                <a:gridCol w="546120"/>
                <a:gridCol w="539640"/>
                <a:gridCol w="542880"/>
                <a:gridCol w="541440"/>
                <a:gridCol w="539640"/>
                <a:gridCol w="547560"/>
                <a:gridCol w="544680"/>
                <a:gridCol w="539640"/>
              </a:tblGrid>
              <a:tr h="41436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gridSpan="6"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</a:tr>
              <a:tr h="414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</a:tr>
              <a:tr h="415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</a:tr>
              <a:tr h="416160"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33">
                        <a:alpha val="59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8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Rectangle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3604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2556000" y="1773360"/>
            <a:ext cx="40384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СОВЕТ СТАРЕЙШИН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539640" y="4292280"/>
            <a:ext cx="8136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e3b30"/>
                </a:solidFill>
                <a:latin typeface="Franklin Gothic Book"/>
              </a:rPr>
              <a:t>СТАРЕЙШИНА              СТАРЕЙШИНА                СТАРЕЙШИНА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4" name="Oval 4"/>
          <p:cNvSpPr/>
          <p:nvPr/>
        </p:nvSpPr>
        <p:spPr>
          <a:xfrm>
            <a:off x="468360" y="5300640"/>
            <a:ext cx="2232000" cy="649440"/>
          </a:xfrm>
          <a:prstGeom prst="ellipse">
            <a:avLst/>
          </a:prstGeom>
          <a:solidFill>
            <a:srgbClr val="f0a22e">
              <a:alpha val="70000"/>
            </a:srgbClr>
          </a:solidFill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ОВАЯ ОБЩИ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5"/>
          <p:cNvSpPr/>
          <p:nvPr/>
        </p:nvSpPr>
        <p:spPr>
          <a:xfrm>
            <a:off x="3492360" y="5300640"/>
            <a:ext cx="2232000" cy="649440"/>
          </a:xfrm>
          <a:prstGeom prst="ellipse">
            <a:avLst/>
          </a:prstGeom>
          <a:solidFill>
            <a:srgbClr val="f0a22e">
              <a:alpha val="70000"/>
            </a:srgbClr>
          </a:solidFill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ОВАЯ ОБЩИ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6"/>
          <p:cNvSpPr/>
          <p:nvPr/>
        </p:nvSpPr>
        <p:spPr>
          <a:xfrm>
            <a:off x="6372360" y="5300640"/>
            <a:ext cx="2232000" cy="647640"/>
          </a:xfrm>
          <a:prstGeom prst="ellipse">
            <a:avLst/>
          </a:prstGeom>
          <a:solidFill>
            <a:srgbClr val="f0a22e">
              <a:alpha val="70000"/>
            </a:srgbClr>
          </a:solidFill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ОВАЯ ОБЩИ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7"/>
          <p:cNvSpPr/>
          <p:nvPr/>
        </p:nvSpPr>
        <p:spPr>
          <a:xfrm>
            <a:off x="2843280" y="2997360"/>
            <a:ext cx="3456000" cy="649080"/>
          </a:xfrm>
          <a:prstGeom prst="ellipse">
            <a:avLst/>
          </a:prstGeom>
          <a:solidFill>
            <a:srgbClr val="f0a22e">
              <a:alpha val="70000"/>
            </a:srgbClr>
          </a:solidFill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ЕМ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8"/>
          <p:cNvSpPr/>
          <p:nvPr/>
        </p:nvSpPr>
        <p:spPr>
          <a:xfrm flipV="1">
            <a:off x="1763640" y="3499920"/>
            <a:ext cx="115272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9"/>
          <p:cNvSpPr/>
          <p:nvPr/>
        </p:nvSpPr>
        <p:spPr>
          <a:xfrm flipV="1">
            <a:off x="4572000" y="3715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0"/>
          <p:cNvSpPr/>
          <p:nvPr/>
        </p:nvSpPr>
        <p:spPr>
          <a:xfrm flipH="1" flipV="1">
            <a:off x="6227640" y="3499920"/>
            <a:ext cx="115272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1"/>
          <p:cNvSpPr/>
          <p:nvPr/>
        </p:nvSpPr>
        <p:spPr>
          <a:xfrm flipV="1">
            <a:off x="1547640" y="4723920"/>
            <a:ext cx="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2"/>
          <p:cNvSpPr/>
          <p:nvPr/>
        </p:nvSpPr>
        <p:spPr>
          <a:xfrm flipV="1">
            <a:off x="4572000" y="4723920"/>
            <a:ext cx="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3"/>
          <p:cNvSpPr/>
          <p:nvPr/>
        </p:nvSpPr>
        <p:spPr>
          <a:xfrm flipV="1">
            <a:off x="7524720" y="4723920"/>
            <a:ext cx="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0"/>
          <p:cNvSpPr/>
          <p:nvPr/>
        </p:nvSpPr>
        <p:spPr>
          <a:xfrm flipV="1">
            <a:off x="4572000" y="2276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Rectangle 2" descr=""/>
          <p:cNvPicPr/>
          <p:nvPr/>
        </p:nvPicPr>
        <p:blipFill>
          <a:blip r:embed="rId1"/>
          <a:stretch/>
        </p:blipFill>
        <p:spPr>
          <a:xfrm>
            <a:off x="390600" y="291960"/>
            <a:ext cx="8362800" cy="159732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1476000" y="2565000"/>
            <a:ext cx="6481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 algn="ctr">
              <a:spcBef>
                <a:spcPts val="799"/>
              </a:spcBef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Franklin Gothic Book"/>
              </a:rPr>
              <a:t>собирательство и охо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49280" indent="-449280">
              <a:spcBef>
                <a:spcPts val="799"/>
              </a:spcBef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49280" indent="-449280">
              <a:spcBef>
                <a:spcPts val="799"/>
              </a:spcBef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49280" indent="-449280" algn="ctr">
              <a:spcBef>
                <a:spcPts val="799"/>
              </a:spcBef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Franklin Gothic Book"/>
              </a:rPr>
              <a:t>земледелие и скотоводств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AutoShape 4"/>
          <p:cNvSpPr/>
          <p:nvPr/>
        </p:nvSpPr>
        <p:spPr>
          <a:xfrm>
            <a:off x="4427640" y="3213000"/>
            <a:ext cx="360360" cy="936720"/>
          </a:xfrm>
          <a:prstGeom prst="downArrow">
            <a:avLst>
              <a:gd name="adj1" fmla="val 57352"/>
              <a:gd name="adj2" fmla="val 58438"/>
            </a:avLst>
          </a:prstGeom>
          <a:solidFill>
            <a:srgbClr val="ad1f1f">
              <a:alpha val="70000"/>
            </a:srgbClr>
          </a:solidFill>
          <a:ln w="648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Rectangle 4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1955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250920" y="1341360"/>
            <a:ext cx="6013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207a"/>
                </a:solidFill>
                <a:latin typeface="Franklin Gothic Book"/>
              </a:rPr>
              <a:t>Земледелие и скотоводство возникли в Западной …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207a"/>
                </a:solidFill>
                <a:latin typeface="Franklin Gothic Book"/>
              </a:rPr>
              <a:t>    </a:t>
            </a:r>
            <a:r>
              <a:rPr b="1" lang="ru-RU" sz="2200" spc="-1" strike="noStrike">
                <a:solidFill>
                  <a:srgbClr val="33207a"/>
                </a:solidFill>
                <a:latin typeface="Franklin Gothic Book"/>
              </a:rPr>
              <a:t>более …  лет назад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207a"/>
                </a:solidFill>
                <a:latin typeface="Franklin Gothic Book"/>
              </a:rPr>
              <a:t>Первые земледельцы вспахивали землю деревянной …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207a"/>
                </a:solidFill>
                <a:latin typeface="Franklin Gothic Book"/>
              </a:rPr>
              <a:t>Колосья срезали …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207a"/>
                </a:solidFill>
                <a:latin typeface="Franklin Gothic Book"/>
              </a:rPr>
              <a:t>Растирали зёрна на …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207a"/>
                </a:solidFill>
                <a:latin typeface="Franklin Gothic Book"/>
              </a:rPr>
              <a:t>Деревья рубили …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207a"/>
                </a:solidFill>
                <a:latin typeface="Franklin Gothic Book"/>
              </a:rPr>
              <a:t>Из глины научились делать …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207a"/>
                </a:solidFill>
                <a:latin typeface="Franklin Gothic Book"/>
              </a:rPr>
              <a:t>Женщины научились …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300360" y="1341360"/>
            <a:ext cx="2592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f0d45"/>
                </a:solidFill>
                <a:latin typeface="Franklin Gothic Book"/>
              </a:rPr>
              <a:t>Азии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f0d45"/>
                </a:solidFill>
                <a:latin typeface="Franklin Gothic Book"/>
              </a:rPr>
              <a:t>10тыс. лет назад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f0d45"/>
                </a:solidFill>
                <a:latin typeface="Franklin Gothic Book"/>
              </a:rPr>
              <a:t>мотыгой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f0d45"/>
                </a:solidFill>
                <a:latin typeface="Franklin Gothic Book"/>
              </a:rPr>
              <a:t>серпом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f0d45"/>
                </a:solidFill>
                <a:latin typeface="Franklin Gothic Book"/>
              </a:rPr>
              <a:t>зернотёрках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f0d45"/>
                </a:solidFill>
                <a:latin typeface="Franklin Gothic Book"/>
              </a:rPr>
              <a:t>деревянным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f0d45"/>
                </a:solidFill>
                <a:latin typeface="Franklin Gothic Book"/>
              </a:rPr>
              <a:t>топором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f0d45"/>
                </a:solidFill>
                <a:latin typeface="Franklin Gothic Book"/>
              </a:rPr>
              <a:t>посуду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f0d45"/>
                </a:solidFill>
                <a:latin typeface="Franklin Gothic Book"/>
              </a:rPr>
              <a:t>ткать и прясть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Rectangle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19556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 txBox="1"/>
          <p:nvPr/>
        </p:nvSpPr>
        <p:spPr>
          <a:xfrm>
            <a:off x="395280" y="141264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</a:rPr>
              <a:t>Во время археологических раскопок были найдены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</a:rPr>
              <a:t>два захоронения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</a:rPr>
              <a:t>В одном из них на груди покойного сохранились бусы из драгоценных камней, на лбу его – остатки золотой короны. Рядом с телом лежали медные топоры и кинжал. У стены могилы стояли золотые и серебряные сосуды с изображением барса, льва, коня, антилопы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</a:rPr>
              <a:t>В другом захоронении  обнаружили только медный топор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</a:rPr>
              <a:t>Какие выводы о жизни людей можно сделать н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</a:rPr>
              <a:t>основе этих данных?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4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1397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468360" y="23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66"/>
                </a:solidFill>
                <a:latin typeface="Garamond"/>
              </a:rPr>
              <a:t>Что такое </a:t>
            </a:r>
            <a:r>
              <a:rPr b="1" lang="ru-RU" sz="3400" spc="-1" strike="noStrike">
                <a:solidFill>
                  <a:srgbClr val="4e3b30"/>
                </a:solidFill>
                <a:latin typeface="Garamond"/>
              </a:rPr>
              <a:t>неравенство</a:t>
            </a:r>
            <a:r>
              <a:rPr b="1" lang="ru-RU" sz="3400" spc="-1" strike="noStrike">
                <a:solidFill>
                  <a:srgbClr val="000066"/>
                </a:solidFill>
                <a:latin typeface="Garamond"/>
              </a:rPr>
              <a:t>?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100000"/>
              </a:lnSpc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66"/>
                </a:solidFill>
                <a:latin typeface="Garamond"/>
              </a:rPr>
              <a:t>Как и почему оно появилось?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100000"/>
              </a:lnSpc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66"/>
                </a:solidFill>
                <a:latin typeface="Garamond"/>
              </a:rPr>
              <a:t>Что произошло в обществе в результате появления неравенства?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Rectangle 2" descr=""/>
          <p:cNvPicPr/>
          <p:nvPr/>
        </p:nvPicPr>
        <p:blipFill>
          <a:blip r:embed="rId1"/>
          <a:stretch/>
        </p:blipFill>
        <p:spPr>
          <a:xfrm>
            <a:off x="1616040" y="2127240"/>
            <a:ext cx="6059520" cy="412740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5"/>
          <p:cNvSpPr/>
          <p:nvPr/>
        </p:nvSpPr>
        <p:spPr>
          <a:xfrm>
            <a:off x="1835280" y="476280"/>
            <a:ext cx="561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Garamond"/>
              </a:rPr>
              <a:t>26.09.2011г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Rectangle 2" descr=""/>
          <p:cNvPicPr/>
          <p:nvPr/>
        </p:nvPicPr>
        <p:blipFill>
          <a:blip r:embed="rId1"/>
          <a:stretch/>
        </p:blipFill>
        <p:spPr>
          <a:xfrm>
            <a:off x="676440" y="426960"/>
            <a:ext cx="7881840" cy="151776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 txBox="1"/>
          <p:nvPr/>
        </p:nvSpPr>
        <p:spPr>
          <a:xfrm>
            <a:off x="468000" y="2204640"/>
            <a:ext cx="83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08680" indent="-5086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aramond"/>
              </a:rPr>
              <a:t>Обработка металлов и совершенствование орудий труда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08680" indent="-5086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aramond"/>
              </a:rPr>
              <a:t>Переход от родовой общины к соседской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08680" indent="-5086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aramond"/>
              </a:rPr>
              <a:t>Появление неравенства и знати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15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65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15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Rectangle 2" descr=""/>
          <p:cNvPicPr/>
          <p:nvPr/>
        </p:nvPicPr>
        <p:blipFill>
          <a:blip r:embed="rId1"/>
          <a:stretch/>
        </p:blipFill>
        <p:spPr>
          <a:xfrm>
            <a:off x="268200" y="615960"/>
            <a:ext cx="8217000" cy="142560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539640" y="2565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Franklin Gothic Book"/>
              </a:rPr>
              <a:t>   </a:t>
            </a:r>
            <a:r>
              <a:rPr b="1" i="1" lang="ru-RU" sz="2400" spc="-1" strike="noStrike">
                <a:solidFill>
                  <a:srgbClr val="000066"/>
                </a:solidFill>
                <a:latin typeface="Franklin Gothic Book"/>
              </a:rPr>
              <a:t>ЧЕЛОВЕК, КОТОРЫЙ ПРОФЕССИОНАЛЬНО ЗАНИМАЕТСЯ ИЗГОТОВЛЕНИЕМ СОСУДОВ, ОРУДИЙ ТРУДА, ТКАНЕЙ ИЛИ ДРУГИХ ИЗДЕЛИЙ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7:25:22Z</dcterms:created>
  <dc:creator>XXX</dc:creator>
  <dc:description/>
  <dc:language>en-US</dc:language>
  <cp:lastModifiedBy>MSI</cp:lastModifiedBy>
  <dcterms:modified xsi:type="dcterms:W3CDTF">2011-09-25T13:10:48Z</dcterms:modified>
  <cp:revision>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