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E1A-846A-4613-9AA0-8BC2A552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F9F-A3FF-4176-ABD2-696DDC86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26225-D0C0-4050-8B81-3664E557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95F7E-3163-4233-BDD6-CE3F77F0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B6CE6-7CB8-4040-8D6E-4A9E6F94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09EF8-E79D-49BD-BCB4-F42EA000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EF230-F9D5-48E4-A449-91BE1149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735FF-CAA7-4DF5-93B9-AE79E89B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B7BA9-A4A5-4E46-856C-B496CF0D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4A93A-BA65-4936-8CFD-70621B5F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D5DD6-4424-42A9-B863-9E7AEC96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55754-956F-43B8-89B0-6B9EA845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BDF-5163-490B-AF64-75522819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713E0-7692-4C14-AB79-F66F943E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E7B2C-FA4D-4558-A6F0-F7528CE2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F7189-5382-4381-8656-5C5BBFF1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35D83-79B8-402D-B586-47C1BAC7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10B83-1258-48AE-BD14-BD9B5CD6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B111D-DD6C-4449-862D-2D9EF9B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81C0C-F45F-4C83-BFB0-3CE0DA37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58966-29FF-4B7F-8A14-9B472F50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1AF93-09DC-44E8-B3C1-85D6F4E8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FCF24-30EC-49EF-8550-D0F250A0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848-DDA9-4028-A750-566838E9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6A856-A04E-4740-BD53-FCCB5E05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A7601-5DCA-4147-8EFD-54B7FE4E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6BD79-14DA-48B3-81DE-B65E1665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2B0D0-7696-47F5-BBC8-C37D9E71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60DA4-5B87-4DC0-A92C-1C15B5C8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C23DE-518A-472D-8B88-888A9024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BCF68-54A0-4CE6-93F7-B8324D49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03707-0584-4E1D-9C43-CBF6525F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89B20-8570-4448-8F42-63921124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46AB2-50A4-48B1-A8A7-0E6A48FA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80A8-9AAD-4F39-AA75-D9EA3306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0B4D7-A8E2-4DB9-B7B7-32217A67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CC106-235D-4DAC-ADF1-E4DBC805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80B73-24A3-4CCA-8B24-C35A0228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DF5B5-9A1E-47C5-A6ED-0301F880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262FC-F07D-468B-9F7E-9361BC1C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8F002-8C0D-433B-ABF2-B3C6A6E5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C1F7E-4E5F-446B-9F40-DE48CA06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3D33F-1D7C-4394-86AD-D0619943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9072D-D879-4437-9DC8-644C6DEF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60AD2-5060-40CF-8C73-2D95EF67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EA9F-F6EA-4A47-AE94-A61C06EF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30990-92DD-4072-B988-22BD4A27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2BED5-63C0-42FF-A49A-1EFDCAA9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588C1-6735-4016-ABC2-01DF69DA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3BD13-DD69-457C-8D5B-E71192D9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A27E7-D152-4584-8822-4E4623E3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AC23-34EB-4A29-921B-86583A7E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A89F-A8BC-41C8-805E-488163BD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860B-15C9-4D39-873C-5826579C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AADE-B9A2-4738-B2A4-D0CB241E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CCBF-2A42-406C-8AD7-82423D97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FC4-269E-4E00-A30A-8FD6E42A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A8C1-39F7-4EF0-908D-563BDBC6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0047-BDEF-47FB-A16F-49723BE9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02B7-E464-4FEC-8AAF-F697ABDD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0A05-FB75-4515-816A-C7B6883C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01A1-D112-4824-A264-AD047E46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F0BD-C7B2-4928-A3AC-A9CC55EE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E427C-7CD1-4418-976A-78DB390C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AA78-C772-436B-882F-06B9F91E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D6E0-7408-4C3E-99CB-A85480F1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F93F-A1A3-404E-998B-66889C37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11A-6F74-494B-B618-4B5E84EB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0BE5-88B1-412A-B672-718ADA1B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4562E-7198-4654-B827-D0056513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3F6C-C5E0-4799-A154-2C48C3EC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BF02-82F5-4BAE-B4BD-39572025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3AF0A-E666-4304-94D7-FBAC928F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1CF5-BACE-4815-A612-826715BD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D2954-A6F7-4763-8672-41F2A987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F7E7B-5537-420B-BDDE-D9437784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92E3-9C47-4D28-A3E6-E7F3AD2B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C7E3-A914-4900-9FDA-E69CCAEF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79D-26FC-4ACF-B7CF-8BC631B5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58A62-5D9A-49B6-8F4A-1065482E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AAECD-7455-4253-8249-49EACACF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EEEDE-70A2-4A7E-B900-AF1EFEF0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F0940-6BEB-4CFD-B2F4-D2F04D90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4D250-E506-4DDD-96C0-6DC28166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BA6E-E683-4CDA-8BC5-84216288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03892-F820-4AB8-9366-BAD2BB56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83D7-8CB5-4B6F-BE49-2DEB46A6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A13D-8FFA-4168-BE70-1E066CE0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D8546-FC21-4486-A992-A3B3546F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E70-0F33-4CDF-8EE9-FA3AE74C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437EF-2772-4AA2-BB08-9ACAF982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B7B3C-3D62-4023-BEEB-A0B98075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96EEA-AD6C-4A93-B28B-912567CE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65996-A029-4084-B83D-75DF87C2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785C5-F246-4EEF-B3DA-8F66371E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4E699-8EFC-4614-B644-40C2B7F7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5DBEE-EA3C-4056-9948-7DD1C79E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EFC36-84CC-4041-B09A-8410F92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1F609-FFCB-4BD4-B5D0-E95F6D39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791FA-6FED-438D-BD69-292C65D0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90E-A148-4BB1-A4AB-10263B2C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C95CC-04EA-45D4-98C7-A4C1B9D0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9950D-DDF9-4DDD-B303-D6524969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494BF-16EC-4118-B3D8-1D2ABA62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EF499-CCB3-4C75-B7C4-C18ADAA5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6CD39-DAA3-47A8-8FFE-FFAE4D80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10C68-4FC2-4964-B52E-D9C5F887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2E3D2-025C-4519-89CA-D1AC5A89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37AD9-43CF-421F-981D-507C686F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11E8C-5231-45AE-8620-5AEEC7F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8D330-1B25-429B-9EF3-BECDDD1C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6E0-0065-4658-9796-425AFEE8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68A73-375D-4763-BFC9-A2ADEEF0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23AB4-7A97-435D-BD9D-F7530484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20CD6-78B6-4319-8CED-4EA52BF0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72881-B75E-4D74-8975-97D813E8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6569C-7F39-48E3-A842-8DA4431C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20E32-3C4F-4488-94D7-DC6B58A8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E8666-E9BD-455D-8C3C-1154D700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42ED5-BA6D-480F-8CB1-91BAC6AE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92008-9CF1-4486-9CF0-26A4A927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620DC-B15D-419A-AFB9-6A39EE07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58D-3402-4E46-A391-2AF623E7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5BC74-A97F-481C-B9A7-E70E48DE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A541D-0606-47C7-A619-C81F600C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CA219-6D86-4E59-BA64-5AB30CBC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E6500-00CD-4CFF-8133-7A7648EE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19163-D334-400D-9DED-3664D075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BE2C6-60BE-4011-99DA-99868359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F8936-490B-46CF-ABDA-06D2C22B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D6249-B273-4251-9F21-D73463F1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EF55E-B424-4670-8FB7-64E1872D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09D4F-2D90-4B8A-BAB2-C5558BF4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2C6-DE06-49F9-99B9-5960FBE3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75329-A34C-439F-A243-235C0A72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850A7-0942-4837-9936-A89C3031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A2B9A-7AC6-43CF-9CA9-D9D73F4A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95742-0BD7-435D-A338-FB0891E4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D18EB-B4BC-4775-8F62-988F448B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290C7-4270-4785-A4E2-CDE871C5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EF635-27A8-4145-A2CF-769197D7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F811D-712F-4E46-93C7-D560C1DF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9A818-9A6F-4C43-8B44-94B48CA4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7E99C-62F5-453E-9E31-BDEFA0E7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0E61-3629-4F07-9CAB-291F489FAC2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1233-7330-4C03-8387-C723A36BE18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F1E0-1F26-44C8-B982-075D0DF8FBD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BF28-31AD-45BC-9FD3-D0EB26C082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0386-E0EA-4EAD-ADE6-BF9A372C5B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8765-9ACD-4726-8163-DEE891495D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9A5F-CCD7-4591-B334-72BB4776E9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13B2-475C-4C64-AEC0-28AFB0F47C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FDE6-970B-4E76-864C-1C8A15BB74B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28D2-E2E1-47BD-A0F5-0F213613FB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4644-9C22-4EF3-BB67-619AE2BD7CC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F17F-524B-47D6-891A-9EE38913B7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Rectangle 2" descr=""/>
          <p:cNvPicPr/>
          <p:nvPr/>
        </p:nvPicPr>
        <p:blipFill>
          <a:blip r:embed="rId1"/>
          <a:stretch/>
        </p:blipFill>
        <p:spPr>
          <a:xfrm>
            <a:off x="1341360" y="847800"/>
            <a:ext cx="7162920" cy="29430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714240" y="4643280"/>
            <a:ext cx="7963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Book"/>
              </a:rPr>
              <a:t>26.09.2011г.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5 КЛАСС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Book"/>
              </a:rPr>
              <a:t>История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7645320" cy="37796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457200" y="4076640"/>
            <a:ext cx="850752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07a"/>
                </a:solidFill>
                <a:latin typeface="Franklin Gothic Book"/>
              </a:rPr>
              <a:t>                            </a:t>
            </a: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Мастера научились работа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                        </a:t>
            </a: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и с драгоценными металлами –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                        </a:t>
            </a: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ЗОЛОТОМ, СЕРЕБРОМ. Из ни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                        </a:t>
            </a: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изготавливали украш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1"/>
          <a:stretch/>
        </p:blipFill>
        <p:spPr>
          <a:xfrm>
            <a:off x="463680" y="725400"/>
            <a:ext cx="8216640" cy="18781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Franklin Gothic Book"/>
              </a:rPr>
              <a:t>деление общества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185760" indent="-1857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Franklin Gothic Book"/>
              </a:rPr>
              <a:t>на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185760" indent="-1857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Franklin Gothic Book"/>
              </a:rPr>
              <a:t>богатых и бедных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Rectangle 2" descr=""/>
          <p:cNvPicPr/>
          <p:nvPr/>
        </p:nvPicPr>
        <p:blipFill>
          <a:blip r:embed="rId1"/>
          <a:stretch/>
        </p:blipFill>
        <p:spPr>
          <a:xfrm>
            <a:off x="463680" y="560520"/>
            <a:ext cx="8242200" cy="171288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468360" y="1773360"/>
            <a:ext cx="82296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9480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300" spc="-1" strike="noStrike">
                <a:solidFill>
                  <a:srgbClr val="000066"/>
                </a:solidFill>
                <a:latin typeface="Franklin Gothic Book"/>
              </a:rPr>
              <a:t>ЭТО БОЛЬШИЕ ГРУППЫ ЛЮДЕЙ, КОТОРЫЕ ВЫДЕЛЯЮТСЯ В ОБЩЕСТВЕ ПО ИМУЩЕСТВЕННОМУ ПРИЗНАКУ, ТО ЕСТЬ ПО ТОМУ,</a:t>
            </a:r>
            <a:r>
              <a:rPr b="1" lang="ru-RU" sz="3300" spc="-1" strike="noStrike">
                <a:solidFill>
                  <a:srgbClr val="4e3b30"/>
                </a:solidFill>
                <a:latin typeface="Franklin Gothic Book"/>
              </a:rPr>
              <a:t> ЧТО </a:t>
            </a:r>
            <a:r>
              <a:rPr b="1" lang="ru-RU" sz="3300" spc="-1" strike="noStrike">
                <a:solidFill>
                  <a:srgbClr val="000066"/>
                </a:solidFill>
                <a:latin typeface="Franklin Gothic Book"/>
              </a:rPr>
              <a:t>ОНИ ИМЕЮТ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Rectangle 2" descr=""/>
          <p:cNvPicPr/>
          <p:nvPr/>
        </p:nvPicPr>
        <p:blipFill>
          <a:blip r:embed="rId1"/>
          <a:stretch/>
        </p:blipFill>
        <p:spPr>
          <a:xfrm>
            <a:off x="463680" y="665280"/>
            <a:ext cx="8242200" cy="11397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 txBox="1"/>
          <p:nvPr/>
        </p:nvSpPr>
        <p:spPr>
          <a:xfrm>
            <a:off x="1258920" y="2205000"/>
            <a:ext cx="2100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Franklin Gothic Book"/>
              </a:rPr>
              <a:t>Родовая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Franklin Gothic Book"/>
              </a:rPr>
              <a:t>община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796000" y="2276280"/>
            <a:ext cx="2232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Franklin Gothic Book"/>
              </a:rPr>
              <a:t>Соседская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Franklin Gothic Book"/>
              </a:rPr>
              <a:t>община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AutoShape 10"/>
          <p:cNvSpPr/>
          <p:nvPr/>
        </p:nvSpPr>
        <p:spPr>
          <a:xfrm flipH="1" flipV="1" rot="5400000">
            <a:off x="4425120" y="2278080"/>
            <a:ext cx="360360" cy="1076400"/>
          </a:xfrm>
          <a:prstGeom prst="downArrow">
            <a:avLst>
              <a:gd name="adj1" fmla="val 57352"/>
              <a:gd name="adj2" fmla="val 67152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971640" y="4005360"/>
            <a:ext cx="720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</a:rPr>
              <a:t>ВОЖДЬ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 глава племени. Руководил военным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ействиями племен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Rectangle 2" descr=""/>
          <p:cNvPicPr/>
          <p:nvPr/>
        </p:nvPicPr>
        <p:blipFill>
          <a:blip r:embed="rId1"/>
          <a:stretch/>
        </p:blipFill>
        <p:spPr>
          <a:xfrm>
            <a:off x="324000" y="1066680"/>
            <a:ext cx="8356320" cy="151776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 txBox="1"/>
          <p:nvPr/>
        </p:nvSpPr>
        <p:spPr>
          <a:xfrm>
            <a:off x="1258920" y="2923920"/>
            <a:ext cx="75103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ru-RU" sz="4400" spc="-1" strike="noStrike">
                <a:solidFill>
                  <a:srgbClr val="000066"/>
                </a:solidFill>
                <a:latin typeface="Garamond"/>
              </a:rPr>
              <a:t>БОГАТЫЕ И ВЛИЯТЕЛЬНЫЕ ЛЮДИ ГОСУДАРСТВА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Rectangle 2" descr=""/>
          <p:cNvPicPr/>
          <p:nvPr/>
        </p:nvPicPr>
        <p:blipFill>
          <a:blip r:embed="rId1"/>
          <a:stretch/>
        </p:blipFill>
        <p:spPr>
          <a:xfrm>
            <a:off x="536400" y="255600"/>
            <a:ext cx="8169480" cy="10065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2484000" y="1161000"/>
            <a:ext cx="41864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Franklin Gothic Book"/>
              </a:rPr>
              <a:t>ПОЯВЛЕНИЕ  РЕМЕС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10920" y="2997000"/>
            <a:ext cx="7993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Franklin Gothic Book"/>
              </a:rPr>
              <a:t>ИЗЛИШКИ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68000" y="5660640"/>
            <a:ext cx="828036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5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Garamond"/>
              </a:rPr>
              <a:t>Г О С У Д А Р С Т В 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39640" y="3860280"/>
            <a:ext cx="813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87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Franklin Gothic Book"/>
              </a:rPr>
              <a:t>НЕРАВЕНСТВ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9" name="Rectangle 18"/>
          <p:cNvSpPr/>
          <p:nvPr/>
        </p:nvSpPr>
        <p:spPr>
          <a:xfrm>
            <a:off x="539640" y="213372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ВЫЕ ОРУДИЯ ТРУ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9"/>
          <p:cNvSpPr/>
          <p:nvPr/>
        </p:nvSpPr>
        <p:spPr>
          <a:xfrm>
            <a:off x="539640" y="479736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ЕРЕХОД ОТ РОДОВОЙ ОБЩИНЫ К СОСЕДСК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20"/>
          <p:cNvSpPr/>
          <p:nvPr/>
        </p:nvSpPr>
        <p:spPr>
          <a:xfrm flipV="1" rot="10800000">
            <a:off x="4500360" y="1557360"/>
            <a:ext cx="215640" cy="574560"/>
          </a:xfrm>
          <a:prstGeom prst="downArrow">
            <a:avLst>
              <a:gd name="adj1" fmla="val 57352"/>
              <a:gd name="adj2" fmla="val 59901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1"/>
          <p:cNvSpPr/>
          <p:nvPr/>
        </p:nvSpPr>
        <p:spPr>
          <a:xfrm flipV="1" rot="10773000">
            <a:off x="4493880" y="2489760"/>
            <a:ext cx="220680" cy="536400"/>
          </a:xfrm>
          <a:prstGeom prst="downArrow">
            <a:avLst>
              <a:gd name="adj1" fmla="val 57352"/>
              <a:gd name="adj2" fmla="val 54645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2"/>
          <p:cNvSpPr/>
          <p:nvPr/>
        </p:nvSpPr>
        <p:spPr>
          <a:xfrm flipV="1" rot="10800000">
            <a:off x="4500360" y="3356640"/>
            <a:ext cx="215640" cy="539640"/>
          </a:xfrm>
          <a:prstGeom prst="downArrow">
            <a:avLst>
              <a:gd name="adj1" fmla="val 57352"/>
              <a:gd name="adj2" fmla="val 56260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23"/>
          <p:cNvSpPr/>
          <p:nvPr/>
        </p:nvSpPr>
        <p:spPr>
          <a:xfrm flipH="1" flipV="1" rot="10800000">
            <a:off x="4499640" y="4219920"/>
            <a:ext cx="215640" cy="574920"/>
          </a:xfrm>
          <a:prstGeom prst="downArrow">
            <a:avLst>
              <a:gd name="adj1" fmla="val 57352"/>
              <a:gd name="adj2" fmla="val 59938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4"/>
          <p:cNvSpPr/>
          <p:nvPr/>
        </p:nvSpPr>
        <p:spPr>
          <a:xfrm flipV="1" rot="10725000">
            <a:off x="4500360" y="5156640"/>
            <a:ext cx="215640" cy="503280"/>
          </a:xfrm>
          <a:prstGeom prst="downArrow">
            <a:avLst>
              <a:gd name="adj1" fmla="val 57352"/>
              <a:gd name="adj2" fmla="val 52469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Rectangle 2" descr=""/>
          <p:cNvPicPr/>
          <p:nvPr/>
        </p:nvPicPr>
        <p:blipFill>
          <a:blip r:embed="rId1"/>
          <a:stretch/>
        </p:blipFill>
        <p:spPr>
          <a:xfrm>
            <a:off x="536400" y="49320"/>
            <a:ext cx="807120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7" name=""/>
          <p:cNvGraphicFramePr/>
          <p:nvPr/>
        </p:nvGraphicFramePr>
        <p:xfrm>
          <a:off x="395280" y="1268280"/>
          <a:ext cx="8497800" cy="4530960"/>
        </p:xfrm>
        <a:graphic>
          <a:graphicData uri="http://schemas.openxmlformats.org/drawingml/2006/table">
            <a:tbl>
              <a:tblPr/>
              <a:tblGrid>
                <a:gridCol w="563400"/>
                <a:gridCol w="570240"/>
                <a:gridCol w="566640"/>
                <a:gridCol w="563400"/>
                <a:gridCol w="568440"/>
                <a:gridCol w="568440"/>
                <a:gridCol w="563400"/>
                <a:gridCol w="569880"/>
                <a:gridCol w="563760"/>
                <a:gridCol w="568080"/>
                <a:gridCol w="565200"/>
                <a:gridCol w="563760"/>
                <a:gridCol w="569880"/>
                <a:gridCol w="569880"/>
                <a:gridCol w="563400"/>
              </a:tblGrid>
              <a:tr h="41112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 gridSpan="6"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</a:tr>
              <a:tr h="411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</a:tr>
              <a:tr h="411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</a:tr>
              <a:tr h="411120">
                <a:tc gridSpan="11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8" name="Rectangle 1323"/>
          <p:cNvSpPr/>
          <p:nvPr/>
        </p:nvSpPr>
        <p:spPr>
          <a:xfrm>
            <a:off x="395280" y="765000"/>
            <a:ext cx="4176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металл, освоенный человеко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ие группы людей, которые выделяются в обществе по имущественному признак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 занятия челове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гатые, влиятельные люд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общества, в которой существуют границы, власть, законы и сбор налог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ОЕ СЛОВО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вление в обществе богатых и бедных люд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Rectangle 2" descr=""/>
          <p:cNvPicPr/>
          <p:nvPr/>
        </p:nvPicPr>
        <p:blipFill>
          <a:blip r:embed="rId1"/>
          <a:stretch/>
        </p:blipFill>
        <p:spPr>
          <a:xfrm>
            <a:off x="463680" y="85680"/>
            <a:ext cx="824220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0" name=""/>
          <p:cNvGraphicFramePr/>
          <p:nvPr/>
        </p:nvGraphicFramePr>
        <p:xfrm>
          <a:off x="755640" y="1197000"/>
          <a:ext cx="8137440" cy="4564080"/>
        </p:xfrm>
        <a:graphic>
          <a:graphicData uri="http://schemas.openxmlformats.org/drawingml/2006/table">
            <a:tbl>
              <a:tblPr/>
              <a:tblGrid>
                <a:gridCol w="539640"/>
                <a:gridCol w="544680"/>
                <a:gridCol w="544320"/>
                <a:gridCol w="540000"/>
                <a:gridCol w="544320"/>
                <a:gridCol w="542880"/>
                <a:gridCol w="540000"/>
                <a:gridCol w="546120"/>
                <a:gridCol w="539640"/>
                <a:gridCol w="542880"/>
                <a:gridCol w="541440"/>
                <a:gridCol w="539640"/>
                <a:gridCol w="547560"/>
                <a:gridCol w="544680"/>
                <a:gridCol w="539640"/>
              </a:tblGrid>
              <a:tr h="41436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6"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</a:tr>
              <a:tr h="414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</a:tr>
              <a:tr h="41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</a:tr>
              <a:tr h="416160"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3604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2556000" y="1773360"/>
            <a:ext cx="4038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СОВЕТ СТАРЕЙШ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39640" y="4292280"/>
            <a:ext cx="813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СТАРЕЙШИНА              СТАРЕЙШИНА                СТАРЕЙШИНА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4" name="Oval 4"/>
          <p:cNvSpPr/>
          <p:nvPr/>
        </p:nvSpPr>
        <p:spPr>
          <a:xfrm>
            <a:off x="468360" y="5300640"/>
            <a:ext cx="2232000" cy="649440"/>
          </a:xfrm>
          <a:prstGeom prst="ellipse">
            <a:avLst/>
          </a:prstGeom>
          <a:solidFill>
            <a:srgbClr val="f0a22e">
              <a:alpha val="70000"/>
            </a:srgbClr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ОВАЯ ОБЩИ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5"/>
          <p:cNvSpPr/>
          <p:nvPr/>
        </p:nvSpPr>
        <p:spPr>
          <a:xfrm>
            <a:off x="3492360" y="5300640"/>
            <a:ext cx="2232000" cy="649440"/>
          </a:xfrm>
          <a:prstGeom prst="ellipse">
            <a:avLst/>
          </a:prstGeom>
          <a:solidFill>
            <a:srgbClr val="f0a22e">
              <a:alpha val="70000"/>
            </a:srgbClr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ОВАЯ ОБЩИ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6"/>
          <p:cNvSpPr/>
          <p:nvPr/>
        </p:nvSpPr>
        <p:spPr>
          <a:xfrm>
            <a:off x="6372360" y="5300640"/>
            <a:ext cx="2232000" cy="647640"/>
          </a:xfrm>
          <a:prstGeom prst="ellipse">
            <a:avLst/>
          </a:prstGeom>
          <a:solidFill>
            <a:srgbClr val="f0a22e">
              <a:alpha val="70000"/>
            </a:srgbClr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ОВАЯ ОБЩИ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7"/>
          <p:cNvSpPr/>
          <p:nvPr/>
        </p:nvSpPr>
        <p:spPr>
          <a:xfrm>
            <a:off x="2843280" y="2997360"/>
            <a:ext cx="3456000" cy="649080"/>
          </a:xfrm>
          <a:prstGeom prst="ellipse">
            <a:avLst/>
          </a:prstGeom>
          <a:solidFill>
            <a:srgbClr val="f0a22e">
              <a:alpha val="70000"/>
            </a:srgbClr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ЕМ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 flipV="1">
            <a:off x="1763640" y="3499920"/>
            <a:ext cx="115272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 flipV="1">
            <a:off x="4572000" y="3715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 flipH="1" flipV="1">
            <a:off x="6227640" y="3499920"/>
            <a:ext cx="115272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1547640" y="472392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 flipV="1">
            <a:off x="4572000" y="472392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 flipV="1">
            <a:off x="7524720" y="472392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0"/>
          <p:cNvSpPr/>
          <p:nvPr/>
        </p:nvSpPr>
        <p:spPr>
          <a:xfrm flipV="1">
            <a:off x="4572000" y="2276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Rectangle 2" descr=""/>
          <p:cNvPicPr/>
          <p:nvPr/>
        </p:nvPicPr>
        <p:blipFill>
          <a:blip r:embed="rId1"/>
          <a:stretch/>
        </p:blipFill>
        <p:spPr>
          <a:xfrm>
            <a:off x="390600" y="291960"/>
            <a:ext cx="8362800" cy="159732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1476000" y="2565000"/>
            <a:ext cx="6481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 algn="ctr">
              <a:spcBef>
                <a:spcPts val="799"/>
              </a:spcBef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Franklin Gothic Book"/>
              </a:rPr>
              <a:t>собирательство и охо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49280" indent="-449280">
              <a:spcBef>
                <a:spcPts val="799"/>
              </a:spcBef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49280" indent="-449280">
              <a:spcBef>
                <a:spcPts val="799"/>
              </a:spcBef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49280" indent="-449280" algn="ctr">
              <a:spcBef>
                <a:spcPts val="799"/>
              </a:spcBef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Franklin Gothic Book"/>
              </a:rPr>
              <a:t>земледелие и скотоводств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AutoShape 4"/>
          <p:cNvSpPr/>
          <p:nvPr/>
        </p:nvSpPr>
        <p:spPr>
          <a:xfrm>
            <a:off x="4427640" y="3213000"/>
            <a:ext cx="360360" cy="936720"/>
          </a:xfrm>
          <a:prstGeom prst="downArrow">
            <a:avLst>
              <a:gd name="adj1" fmla="val 57352"/>
              <a:gd name="adj2" fmla="val 58438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Rectangle 4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250920" y="1341360"/>
            <a:ext cx="6013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Земледелие и скотоводство возникли в Западной …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    </a:t>
            </a: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более …  лет назад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Первые земледельцы вспахивали землю деревянной 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Колосья срезали 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Растирали зёрна на 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Деревья рубили 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Из глины научились делать 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Женщины научились 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300360" y="1341360"/>
            <a:ext cx="2592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Ази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10тыс. лет назад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мотыгой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серпом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зернотёрках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деревянным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топором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посуду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ткать и прясть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395280" y="1412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</a:rPr>
              <a:t>Во время археологических раскопок были найден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</a:rPr>
              <a:t>два захоронения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</a:rPr>
              <a:t>В одном из них на груди покойного сохранились бусы из драгоценных камней, на лбу его – остатки золотой короны. Рядом с телом лежали медные топоры и кинжал. У стены могилы стояли золотые и серебряные сосуды с изображением барса, льва, коня, антилопы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</a:rPr>
              <a:t>В другом захоронении  обнаружили только медный топор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</a:rPr>
              <a:t>Какие выводы о жизни людей можно сделать 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</a:rPr>
              <a:t>основе этих данных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4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1397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468360" y="23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Garamond"/>
              </a:rPr>
              <a:t>Что такое </a:t>
            </a:r>
            <a:r>
              <a:rPr b="1" lang="ru-RU" sz="3400" spc="-1" strike="noStrike">
                <a:solidFill>
                  <a:srgbClr val="4e3b30"/>
                </a:solidFill>
                <a:latin typeface="Garamond"/>
              </a:rPr>
              <a:t>неравенство</a:t>
            </a:r>
            <a:r>
              <a:rPr b="1" lang="ru-RU" sz="3400" spc="-1" strike="noStrike">
                <a:solidFill>
                  <a:srgbClr val="000066"/>
                </a:solidFill>
                <a:latin typeface="Garamond"/>
              </a:rPr>
              <a:t>?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Garamond"/>
              </a:rPr>
              <a:t>Как и почему оно появилось?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Garamond"/>
              </a:rPr>
              <a:t>Что произошло в обществе в результате появления неравенства?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Rectangle 2" descr=""/>
          <p:cNvPicPr/>
          <p:nvPr/>
        </p:nvPicPr>
        <p:blipFill>
          <a:blip r:embed="rId1"/>
          <a:stretch/>
        </p:blipFill>
        <p:spPr>
          <a:xfrm>
            <a:off x="1616040" y="2127240"/>
            <a:ext cx="6059520" cy="41274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5"/>
          <p:cNvSpPr/>
          <p:nvPr/>
        </p:nvSpPr>
        <p:spPr>
          <a:xfrm>
            <a:off x="1835280" y="476280"/>
            <a:ext cx="56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Garamond"/>
              </a:rPr>
              <a:t>26.09.2011г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676440" y="426960"/>
            <a:ext cx="7881840" cy="15177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 txBox="1"/>
          <p:nvPr/>
        </p:nvSpPr>
        <p:spPr>
          <a:xfrm>
            <a:off x="468000" y="2204640"/>
            <a:ext cx="83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8680" indent="-5086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Обработка металлов и совершенствование орудий труда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08680" indent="-5086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Переход от родовой общины к соседской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08680" indent="-5086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Появление неравенства и знати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5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15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Rectangle 2" descr=""/>
          <p:cNvPicPr/>
          <p:nvPr/>
        </p:nvPicPr>
        <p:blipFill>
          <a:blip r:embed="rId1"/>
          <a:stretch/>
        </p:blipFill>
        <p:spPr>
          <a:xfrm>
            <a:off x="268200" y="615960"/>
            <a:ext cx="8217000" cy="142560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539640" y="256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1" i="1" lang="ru-RU" sz="2400" spc="-1" strike="noStrike">
                <a:solidFill>
                  <a:srgbClr val="000066"/>
                </a:solidFill>
                <a:latin typeface="Franklin Gothic Book"/>
              </a:rPr>
              <a:t>ЧЕЛОВЕК, КОТОРЫЙ ПРОФЕССИОНАЛЬНО ЗАНИМАЕТСЯ ИЗГОТОВЛЕНИЕМ СОСУДОВ, ОРУДИЙ ТРУДА, ТКАНЕЙ ИЛИ ДРУГИХ ИЗДЕЛИ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7:25:22Z</dcterms:created>
  <dc:creator>XXX</dc:creator>
  <dc:description/>
  <dc:language>en-US</dc:language>
  <cp:lastModifiedBy>MSI</cp:lastModifiedBy>
  <dcterms:modified xsi:type="dcterms:W3CDTF">2011-09-25T13:10:48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