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054D-2050-467D-A4E3-94291615D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EB8A-ED35-460A-B35F-2A739EBC8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EF66-FAC0-4CF9-8FA8-EA4E2119B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26D4-34BA-430D-87A4-8F7CC4AB8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26946-EFBD-44E2-9E99-04931D405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6E476-7DAB-4C7F-8D98-ADCF3F4BC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77A01-8A0A-4438-96A6-C156DDA89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69046-9CB2-46EF-BD23-DAEFAAC50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5474A-D9E6-4390-986B-BB41015C5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93934-A3DE-4988-95D1-28D4E50C3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1C285-2E73-48F4-860C-125F5238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86FE-0796-44B5-BFBF-87510DD16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34A1B-1ADB-492C-ACF4-24B1574ED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78EF2-F68C-4F6C-BB4C-A40A36CB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4E7E7-EB75-4682-8A7F-44F23E25C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D4550-81CB-41F1-A6ED-4B80DC6ED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48811-64BE-4179-84D1-A5ED8BCC0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DC3144-A1D9-4471-ADFC-31810C3E4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C58BCA-6AD0-4CD7-B13F-1BF56A054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990892-3585-424F-A564-77EDE6759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D3759F-2D38-4E9C-8A93-0BEAF957A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140499-994C-4FA4-8977-EEE98C6BC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16F4-BD94-453E-9651-4DA752447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8C6EB3-E5EC-40B2-8D9F-859F69665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034974-2A7F-4DAD-8A99-0667B7D5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527DA7-9AF4-4058-BABC-9291E326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38776A-ACE6-42C8-82C0-87359680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0E7C5A-A436-4F09-B56C-3E4DCCC76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93570E-8863-4E0B-ABF3-2516225A8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01D38E-E7C6-46C6-B64F-2B72A5242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D4BB5-59D9-4D16-911D-68B7FF3C9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D0960-315F-409E-9EB8-D35958B23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9902F-6323-475B-9230-01E9F65B9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350B-F6A7-4D1E-A90C-75BCEFCD2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D16A0-B5AB-4462-BF4D-FB5E83D75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AE1A9-226F-4E8E-BA89-C95279A66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432E8-E83A-4596-9766-3098B3D22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D0F38-B847-4F49-B750-E87A5E9B4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8719A-F447-471E-AB5C-7CE666A0C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42C39-7315-4826-9916-FE1F2DAB2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943BE-CA06-4AE4-A2D0-09D195950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DEF9A-AF57-4F50-B015-F1604BCB3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2C532-7912-438E-B291-B44580F03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43BD4B-91C3-4B60-9B2D-E403CE6C9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8B04-D442-40AD-966F-A2449DF02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F0EF48-29B9-4E81-B172-3A693D67D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5980D9-79E0-4D9D-95BB-E245451F7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E0E0D6-59BD-4D7F-B726-30EA462B8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FC447F-B7A7-40D0-BCDB-7079B5EB9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BD293D-DE24-4C36-A968-2F398E171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D96797-E538-42C6-AA29-0E853FE3A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17F9DF-3421-4B22-A223-BD2F8336A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19C43E-BF45-4AD3-BBF4-17D34FE6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73D22A-67E1-434D-A49C-A7AE6D9C2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4903F2-C8D7-46FB-B155-1082473C5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FBEF-8610-4C96-AF7F-2883ADE1C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A180F6-C79D-4AA2-9C4A-D4AED8CBD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C2A242-12E2-454E-8B86-11D447B73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9AE9F6-6FD7-47C8-8B58-6FFDC0FEA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54E7F4-A3D9-4622-889A-72ACB494A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38B16A-EBC2-44EF-AF67-3F348C08C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219647-E0C3-4B90-989A-36590839B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4170B7-8BF8-40E7-BFD4-11438134C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260D65-C2A8-4BED-8A16-CA5E5772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88AE73-E36F-4576-882D-7A17DCD2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081BCB-2507-448D-8202-D40830C3C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7418-2807-404D-B8F9-050F92F8D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24EA2D-401C-432B-8D0E-570153229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140B49-1F59-4557-BFAE-CB8DDFF86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9FC5BD-0A1A-4C44-A782-D39F20E30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DE06EA-38A5-4247-899C-BD1470A09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59F66D-B795-43FD-850C-E10896A49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1E1788-2CEF-4749-A0D1-1C29DFA27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64D5AE-06EE-48C0-AAE2-67E5896A4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DA4E8F-7876-4659-A5FF-7C22A9640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3761AD-593E-4B9C-999B-CCD66763E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4223A6-4C67-471E-AE56-9E9F8442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0570-4590-410C-A017-700AA320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DED4A3-F612-4FC3-AB1D-4EB6E718A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E1FB80-192B-45A4-ADB3-2CE49828F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2A215D-6992-4F65-BA2F-4D6790DE6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B749F9-5AF4-413B-BDE1-C610A9074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05C3C1-9FDD-4FC1-B705-598D443AE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71EE-7A9D-43E6-8E0E-57AE75495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18999-41A5-4750-9E78-BC944FAE89F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D14E1-6EF5-4081-9694-4A770E62AAD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F063E-3E9E-45E7-B63E-9DA244911D0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4AB50-B7A4-4B21-A903-3A268EC6377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73E8E-4ECC-4231-8862-F485B1C8A2D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DABD9-E13E-4B9D-9BF6-51157601219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26AB4-2D96-46EA-A03B-628D154715B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14720" y="285480"/>
            <a:ext cx="464328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e75c01"/>
                </a:solidFill>
                <a:latin typeface="Century Schoolbook"/>
              </a:rPr>
              <a:t>3 «В»  ВАМ ПРЕДСТАВЛЯЕМ,</a:t>
            </a:r>
            <a:br>
              <a:rPr sz="2400"/>
            </a:br>
            <a:r>
              <a:rPr b="0" lang="ru-RU" sz="2400" spc="-1" strike="noStrike">
                <a:solidFill>
                  <a:srgbClr val="e75c01"/>
                </a:solidFill>
                <a:latin typeface="Century Schoolbook"/>
              </a:rPr>
              <a:t>НАШ БОЛЬШОЙ ВЕСЁЛЫЙ КЛАСС!</a:t>
            </a:r>
            <a:br>
              <a:rPr sz="2400"/>
            </a:br>
            <a:r>
              <a:rPr b="0" lang="ru-RU" sz="2400" spc="-1" strike="noStrike">
                <a:solidFill>
                  <a:srgbClr val="e75c01"/>
                </a:solidFill>
                <a:latin typeface="Century Schoolbook"/>
              </a:rPr>
              <a:t>«В» – ВЕСЕЛЬЕ ОЗНАЧАЕТ, </a:t>
            </a:r>
            <a:br>
              <a:rPr sz="2400"/>
            </a:br>
            <a:r>
              <a:rPr b="0" lang="ru-RU" sz="2400" spc="-1" strike="noStrike">
                <a:solidFill>
                  <a:srgbClr val="e75c01"/>
                </a:solidFill>
                <a:latin typeface="Century Schoolbook"/>
              </a:rPr>
              <a:t>И ЛЮБОЙ, КТО ЭТО ЗНАЕТ,</a:t>
            </a:r>
            <a:br>
              <a:rPr sz="2400"/>
            </a:br>
            <a:r>
              <a:rPr b="0" lang="ru-RU" sz="2400" spc="-1" strike="noStrike">
                <a:solidFill>
                  <a:srgbClr val="e75c01"/>
                </a:solidFill>
                <a:latin typeface="Century Schoolbook"/>
              </a:rPr>
              <a:t>СКАЖЕТ – ЭТО ВСЁ ПРО НАС.</a:t>
            </a:r>
            <a:br>
              <a:rPr sz="2400"/>
            </a:b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Пятно 2 2"/>
          <p:cNvSpPr/>
          <p:nvPr/>
        </p:nvSpPr>
        <p:spPr>
          <a:xfrm>
            <a:off x="714240" y="1357200"/>
            <a:ext cx="914400" cy="914400"/>
          </a:xfrm>
          <a:prstGeom prst="irregularSeal2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ятно 2 4"/>
          <p:cNvSpPr/>
          <p:nvPr/>
        </p:nvSpPr>
        <p:spPr>
          <a:xfrm>
            <a:off x="7072200" y="1428840"/>
            <a:ext cx="914400" cy="914400"/>
          </a:xfrm>
          <a:prstGeom prst="irregularSeal2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ятно 2 5"/>
          <p:cNvSpPr/>
          <p:nvPr/>
        </p:nvSpPr>
        <p:spPr>
          <a:xfrm>
            <a:off x="3143160" y="5572080"/>
            <a:ext cx="914400" cy="914400"/>
          </a:xfrm>
          <a:prstGeom prst="irregularSeal2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DSCN3078.JPG" descr="C:\Users\Пользователь\Desktop\DSCN3078.JPG"/>
          <p:cNvPicPr/>
          <p:nvPr/>
        </p:nvPicPr>
        <p:blipFill>
          <a:blip r:embed="rId1"/>
          <a:stretch/>
        </p:blipFill>
        <p:spPr>
          <a:xfrm>
            <a:off x="1719360" y="1481040"/>
            <a:ext cx="3290760" cy="365760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6214680" y="357120"/>
            <a:ext cx="2500200" cy="486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75c01"/>
                </a:solidFill>
                <a:latin typeface="Century Schoolbook"/>
              </a:rPr>
              <a:t>Мы с весёлыми друзьями вдаль на школьном корабл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75c01"/>
                </a:solidFill>
                <a:latin typeface="Century Schoolbook"/>
              </a:rPr>
              <a:t>Поплывём по морю Знани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75c01"/>
                </a:solidFill>
                <a:latin typeface="Century Schoolbook"/>
              </a:rPr>
              <a:t>К неизведанной земле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2" name="4-конечная звезда 11"/>
          <p:cNvSpPr/>
          <p:nvPr/>
        </p:nvSpPr>
        <p:spPr>
          <a:xfrm>
            <a:off x="3357720" y="271476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4-конечная звезда 13"/>
          <p:cNvSpPr/>
          <p:nvPr/>
        </p:nvSpPr>
        <p:spPr>
          <a:xfrm>
            <a:off x="2071800" y="221472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4-конечная звезда 14"/>
          <p:cNvSpPr/>
          <p:nvPr/>
        </p:nvSpPr>
        <p:spPr>
          <a:xfrm>
            <a:off x="3429000" y="250020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4-конечная звезда 15"/>
          <p:cNvSpPr/>
          <p:nvPr/>
        </p:nvSpPr>
        <p:spPr>
          <a:xfrm>
            <a:off x="1071720" y="578628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4-конечная звезда 16"/>
          <p:cNvSpPr/>
          <p:nvPr/>
        </p:nvSpPr>
        <p:spPr>
          <a:xfrm>
            <a:off x="500040" y="35712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4-конечная звезда 17"/>
          <p:cNvSpPr/>
          <p:nvPr/>
        </p:nvSpPr>
        <p:spPr>
          <a:xfrm>
            <a:off x="4286160" y="550080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4-конечная звезда 18"/>
          <p:cNvSpPr/>
          <p:nvPr/>
        </p:nvSpPr>
        <p:spPr>
          <a:xfrm>
            <a:off x="3214800" y="250020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4-конечная звезда 19"/>
          <p:cNvSpPr/>
          <p:nvPr/>
        </p:nvSpPr>
        <p:spPr>
          <a:xfrm>
            <a:off x="5072040" y="314316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DSCN3078.JPG" descr="C:\Users\Пользователь\Desktop\школьные фото\DSCN3078.JPG"/>
          <p:cNvPicPr/>
          <p:nvPr/>
        </p:nvPicPr>
        <p:blipFill>
          <a:blip r:embed=""/>
          <a:stretch/>
        </p:blipFill>
        <p:spPr>
          <a:xfrm>
            <a:off x="642960" y="1143000"/>
            <a:ext cx="5334120" cy="4000680"/>
          </a:xfrm>
          <a:prstGeom prst="rect">
            <a:avLst/>
          </a:prstGeom>
          <a:ln w="0">
            <a:noFill/>
          </a:ln>
        </p:spPr>
      </p:pic>
      <p:sp>
        <p:nvSpPr>
          <p:cNvPr id="411" name="4-конечная звезда 20"/>
          <p:cNvSpPr/>
          <p:nvPr/>
        </p:nvSpPr>
        <p:spPr>
          <a:xfrm>
            <a:off x="3357720" y="250020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4-конечная звезда 21"/>
          <p:cNvSpPr/>
          <p:nvPr/>
        </p:nvSpPr>
        <p:spPr>
          <a:xfrm>
            <a:off x="4071960" y="50004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4-конечная звезда 22"/>
          <p:cNvSpPr/>
          <p:nvPr/>
        </p:nvSpPr>
        <p:spPr>
          <a:xfrm>
            <a:off x="1928880" y="192888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42960" y="499680"/>
            <a:ext cx="7353360" cy="55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НАС СФОТОГРАФИРОВАЛИ КЛАССОМ.</a:t>
            </a:r>
            <a:br>
              <a:rPr sz="2400"/>
            </a:b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Я НА ФОТОГРАФИЮ ГЛЯЖУ.</a:t>
            </a:r>
            <a:br>
              <a:rPr sz="2400"/>
            </a:b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НАСТЯ С БАНТОМ, ПОЛЯ С ЛЕРОЙ</a:t>
            </a:r>
            <a:br>
              <a:rPr sz="2400"/>
            </a:b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И СЕБЯ, КОНЕЧНО, НАХОЖУ.</a:t>
            </a:r>
            <a:br>
              <a:rPr sz="2400"/>
            </a:b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ЭТО ГЕРА – МАТЕМАТИК ПЕРВЫЙ.</a:t>
            </a:r>
            <a:br>
              <a:rPr sz="2400"/>
            </a:b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ЭТО МИША – ПЕРВЫЙ ОЗОРНИК,</a:t>
            </a:r>
            <a:br>
              <a:rPr sz="2400"/>
            </a:b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СЛЕВА ЮРА – ТИХИЙ И ПРИМЕРНЫЙ, </a:t>
            </a:r>
            <a:br>
              <a:rPr sz="2400"/>
            </a:b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СПРАВА ДЮХА – ЛУЧШИЙ УЧЕНИК.</a:t>
            </a:r>
            <a:br>
              <a:rPr sz="2400"/>
            </a:b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ВОТ КАРИНА – ГЛАВНАЯ КРАСАВИЦА,</a:t>
            </a:r>
            <a:br>
              <a:rPr sz="2400"/>
            </a:b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РЯДОМ ВИКА, ТА, ЧТО ЛУЧШЕ ВСЕХ.</a:t>
            </a:r>
            <a:br>
              <a:rPr sz="2400"/>
            </a:b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ВОТ ЕГОР. ОН МНЕ НРАВИТСЯ:</a:t>
            </a:r>
            <a:br>
              <a:rPr sz="2400"/>
            </a:b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У НЕГО ТАКОЙ ВЕСЁЛЫЙ СМЕХ.</a:t>
            </a:r>
            <a:br>
              <a:rPr sz="2400"/>
            </a:b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НУ А ЭТО – ДРУГ МОЙ ВЕРНЫЙ КОЛЯ.</a:t>
            </a:r>
            <a:br>
              <a:rPr sz="2400"/>
            </a:b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САША В ЦЕНТРЕ, СРЕДИ НАС.</a:t>
            </a:r>
            <a:br>
              <a:rPr sz="2400"/>
            </a:b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ДА И МЫ – ОБЫЧНЫЙ ШКОЛЬНЫЙ КЛАСС.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4-конечная звезда 2"/>
          <p:cNvSpPr/>
          <p:nvPr/>
        </p:nvSpPr>
        <p:spPr>
          <a:xfrm>
            <a:off x="7143840" y="92880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4-конечная звезда 3"/>
          <p:cNvSpPr/>
          <p:nvPr/>
        </p:nvSpPr>
        <p:spPr>
          <a:xfrm>
            <a:off x="5715000" y="321480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DSCN3079.JPG" descr="C:\Users\Пользователь\Desktop\школьные фото\DSCN3079.JPG"/>
          <p:cNvPicPr/>
          <p:nvPr/>
        </p:nvPicPr>
        <p:blipFill>
          <a:blip r:embed=""/>
          <a:stretch/>
        </p:blipFill>
        <p:spPr>
          <a:xfrm>
            <a:off x="571680" y="142920"/>
            <a:ext cx="5529240" cy="614376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6286320" y="264960"/>
            <a:ext cx="2003400" cy="559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Скажем вам сегодня честно –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Очень в школе интересно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Но ещё нам путь неведом,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Как проснуться Архимедом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4-конечная звезда 3"/>
          <p:cNvSpPr/>
          <p:nvPr/>
        </p:nvSpPr>
        <p:spPr>
          <a:xfrm>
            <a:off x="6215040" y="285768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4-конечная звезда 4"/>
          <p:cNvSpPr/>
          <p:nvPr/>
        </p:nvSpPr>
        <p:spPr>
          <a:xfrm>
            <a:off x="7429680" y="378612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75f6d"/>
                </a:solidFill>
                <a:latin typeface="Century Schoolbook"/>
              </a:rPr>
              <a:t>ВСЕ В СТОЛОВУЮ БЕГУТ,</a:t>
            </a:r>
            <a:br>
              <a:rPr sz="1600"/>
            </a:br>
            <a:r>
              <a:rPr b="0" lang="ru-RU" sz="1600" spc="-1" strike="noStrike">
                <a:solidFill>
                  <a:srgbClr val="575f6d"/>
                </a:solidFill>
                <a:latin typeface="Century Schoolbook"/>
              </a:rPr>
              <a:t>НОРМУ ВЫПОЛНЯЮТ.</a:t>
            </a:r>
            <a:br>
              <a:rPr sz="1600"/>
            </a:br>
            <a:r>
              <a:rPr b="0" lang="ru-RU" sz="1600" spc="-1" strike="noStrike">
                <a:solidFill>
                  <a:srgbClr val="575f6d"/>
                </a:solidFill>
                <a:latin typeface="Century Schoolbook"/>
              </a:rPr>
              <a:t>НА УРОКИ ВСЕ ИДУТ,</a:t>
            </a:r>
            <a:br>
              <a:rPr sz="1600"/>
            </a:br>
            <a:r>
              <a:rPr b="0" lang="ru-RU" sz="1600" spc="-1" strike="noStrike">
                <a:solidFill>
                  <a:srgbClr val="575f6d"/>
                </a:solidFill>
                <a:latin typeface="Century Schoolbook"/>
              </a:rPr>
              <a:t>ТИХО КОВЫЛЯЮТ.</a:t>
            </a:r>
            <a:endParaRPr b="0" lang="en-US" sz="1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3" name="DSCN3080.JPG" descr="C:\Users\Пользователь\Desktop\DSCN3080.JPG"/>
          <p:cNvPicPr/>
          <p:nvPr/>
        </p:nvPicPr>
        <p:blipFill>
          <a:blip r:embed=""/>
          <a:stretch/>
        </p:blipFill>
        <p:spPr>
          <a:xfrm>
            <a:off x="1587600" y="3187800"/>
            <a:ext cx="1396800" cy="1396800"/>
          </a:xfrm>
          <a:prstGeom prst="rect">
            <a:avLst/>
          </a:prstGeom>
          <a:ln w="0">
            <a:noFill/>
          </a:ln>
        </p:spPr>
      </p:pic>
      <p:pic>
        <p:nvPicPr>
          <p:cNvPr id="364" name="DSCN3081.JPG" descr="C:\Users\Пользователь\Desktop\DSCN3081.JPG"/>
          <p:cNvPicPr/>
          <p:nvPr/>
        </p:nvPicPr>
        <p:blipFill>
          <a:blip r:embed=""/>
          <a:stretch/>
        </p:blipFill>
        <p:spPr>
          <a:xfrm>
            <a:off x="5400720" y="3187800"/>
            <a:ext cx="1396800" cy="1396800"/>
          </a:xfrm>
          <a:prstGeom prst="rect">
            <a:avLst/>
          </a:prstGeom>
          <a:ln w="0">
            <a:noFill/>
          </a:ln>
        </p:spPr>
      </p:pic>
      <p:sp>
        <p:nvSpPr>
          <p:cNvPr id="365" name="4-конечная звезда 5"/>
          <p:cNvSpPr/>
          <p:nvPr/>
        </p:nvSpPr>
        <p:spPr>
          <a:xfrm>
            <a:off x="5500800" y="50004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4-конечная звезда 6"/>
          <p:cNvSpPr/>
          <p:nvPr/>
        </p:nvSpPr>
        <p:spPr>
          <a:xfrm>
            <a:off x="1857240" y="557208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DSCN3080.JPG" descr="C:\Users\Пользователь\Desktop\школьные фото\DSCN3080.JPG"/>
          <p:cNvPicPr/>
          <p:nvPr/>
        </p:nvPicPr>
        <p:blipFill>
          <a:blip r:embed=""/>
          <a:stretch/>
        </p:blipFill>
        <p:spPr>
          <a:xfrm>
            <a:off x="214200" y="1643040"/>
            <a:ext cx="3857760" cy="2894040"/>
          </a:xfrm>
          <a:prstGeom prst="rect">
            <a:avLst/>
          </a:prstGeom>
          <a:ln w="0">
            <a:noFill/>
          </a:ln>
        </p:spPr>
      </p:pic>
      <p:pic>
        <p:nvPicPr>
          <p:cNvPr id="368" name="DSCN3081.JPG" descr="C:\Users\Пользователь\Desktop\школьные фото\DSCN3081.JPG"/>
          <p:cNvPicPr/>
          <p:nvPr/>
        </p:nvPicPr>
        <p:blipFill>
          <a:blip r:embed=""/>
          <a:stretch/>
        </p:blipFill>
        <p:spPr>
          <a:xfrm>
            <a:off x="4500720" y="1643040"/>
            <a:ext cx="390492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75f6d"/>
                </a:solidFill>
                <a:latin typeface="Century Schoolbook"/>
              </a:rPr>
              <a:t>НА УРОКЕ ФИЗКУЛЬТУРЫ</a:t>
            </a:r>
            <a:br>
              <a:rPr sz="1600"/>
            </a:br>
            <a:r>
              <a:rPr b="0" lang="ru-RU" sz="1600" spc="-1" strike="noStrike">
                <a:solidFill>
                  <a:srgbClr val="575f6d"/>
                </a:solidFill>
                <a:latin typeface="Century Schoolbook"/>
              </a:rPr>
              <a:t>ПРОБЕЖАЛИ ПЯТЬ КРУГОВ.</a:t>
            </a:r>
            <a:br>
              <a:rPr sz="1600"/>
            </a:br>
            <a:r>
              <a:rPr b="0" lang="ru-RU" sz="1600" spc="-1" strike="noStrike">
                <a:solidFill>
                  <a:srgbClr val="575f6d"/>
                </a:solidFill>
                <a:latin typeface="Century Schoolbook"/>
              </a:rPr>
              <a:t>МЫ БЕЖАЛИ, МЫ БЕЖАЛИ,</a:t>
            </a:r>
            <a:br>
              <a:rPr sz="1600"/>
            </a:br>
            <a:r>
              <a:rPr b="0" lang="ru-RU" sz="1600" spc="-1" strike="noStrike">
                <a:solidFill>
                  <a:srgbClr val="575f6d"/>
                </a:solidFill>
                <a:latin typeface="Century Schoolbook"/>
              </a:rPr>
              <a:t>ОХ, КАК МЫ УЖЕ УСТАЛИ.</a:t>
            </a:r>
            <a:endParaRPr b="0" lang="en-US" sz="1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0" name="DSCN3098.JPG" descr="C:\Users\Пользователь\Desktop\DSCN3098.JPG"/>
          <p:cNvPicPr/>
          <p:nvPr/>
        </p:nvPicPr>
        <p:blipFill>
          <a:blip r:embed="rId1"/>
          <a:stretch/>
        </p:blipFill>
        <p:spPr>
          <a:xfrm>
            <a:off x="1579680" y="3181320"/>
            <a:ext cx="1412640" cy="1409760"/>
          </a:xfrm>
          <a:prstGeom prst="rect">
            <a:avLst/>
          </a:prstGeom>
          <a:ln w="0">
            <a:noFill/>
          </a:ln>
        </p:spPr>
      </p:pic>
      <p:pic>
        <p:nvPicPr>
          <p:cNvPr id="371" name="DSCN3092.JPG" descr="C:\Users\Пользователь\Desktop\школьные фото\DSCN3092.JPG"/>
          <p:cNvPicPr/>
          <p:nvPr/>
        </p:nvPicPr>
        <p:blipFill>
          <a:blip r:embed=""/>
          <a:stretch/>
        </p:blipFill>
        <p:spPr>
          <a:xfrm>
            <a:off x="4270320" y="251460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372" name="DSCN3092.JPG" descr="C:\Users\Пользователь\Desktop\DSCN3092.JPG"/>
          <p:cNvPicPr/>
          <p:nvPr/>
        </p:nvPicPr>
        <p:blipFill>
          <a:blip r:embed="rId2"/>
          <a:stretch/>
        </p:blipFill>
        <p:spPr>
          <a:xfrm>
            <a:off x="281160" y="1566720"/>
            <a:ext cx="4035240" cy="3029040"/>
          </a:xfrm>
          <a:prstGeom prst="rect">
            <a:avLst/>
          </a:prstGeom>
          <a:ln w="0">
            <a:noFill/>
          </a:ln>
        </p:spPr>
      </p:pic>
      <p:sp>
        <p:nvSpPr>
          <p:cNvPr id="373" name="4-конечная звезда 4"/>
          <p:cNvSpPr/>
          <p:nvPr/>
        </p:nvSpPr>
        <p:spPr>
          <a:xfrm>
            <a:off x="6215040" y="78588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4-конечная звезда 7"/>
          <p:cNvSpPr/>
          <p:nvPr/>
        </p:nvSpPr>
        <p:spPr>
          <a:xfrm>
            <a:off x="857160" y="5072040"/>
            <a:ext cx="1143000" cy="1214640"/>
          </a:xfrm>
          <a:custGeom>
            <a:avLst/>
            <a:gdLst>
              <a:gd name="textAreaLeft" fmla="*/ 470880 w 1143000"/>
              <a:gd name="textAreaRight" fmla="*/ 672120 w 1143000"/>
              <a:gd name="textAreaTop" fmla="*/ 500400 h 1214640"/>
              <a:gd name="textAreaBottom" fmla="*/ 71424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DSCN3098.JPG" descr="C:\Users\Пользователь\Desktop\школьные фото\DSCN3098.JPG"/>
          <p:cNvPicPr/>
          <p:nvPr/>
        </p:nvPicPr>
        <p:blipFill>
          <a:blip r:embed=""/>
          <a:stretch/>
        </p:blipFill>
        <p:spPr>
          <a:xfrm>
            <a:off x="214200" y="2000160"/>
            <a:ext cx="364356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DSCN3085.JPG" descr="C:\Users\Пользователь\Desktop\школьные фото\DSCN3085.JPG"/>
          <p:cNvPicPr/>
          <p:nvPr/>
        </p:nvPicPr>
        <p:blipFill>
          <a:blip r:embed=""/>
          <a:stretch/>
        </p:blipFill>
        <p:spPr>
          <a:xfrm>
            <a:off x="214200" y="285840"/>
            <a:ext cx="5143680" cy="571500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6286320" y="499680"/>
            <a:ext cx="250020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Математика трудна –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Всем известная она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Будем думать и гадать,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Как задачи нам решать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4-конечная звезда 6"/>
          <p:cNvSpPr/>
          <p:nvPr/>
        </p:nvSpPr>
        <p:spPr>
          <a:xfrm>
            <a:off x="6643800" y="2286000"/>
            <a:ext cx="699840" cy="857160"/>
          </a:xfrm>
          <a:custGeom>
            <a:avLst/>
            <a:gdLst>
              <a:gd name="textAreaLeft" fmla="*/ 288360 w 699840"/>
              <a:gd name="textAreaRight" fmla="*/ 411480 w 699840"/>
              <a:gd name="textAreaTop" fmla="*/ 353160 h 857160"/>
              <a:gd name="textAreaBottom" fmla="*/ 504000 h 857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4-конечная звезда 7"/>
          <p:cNvSpPr/>
          <p:nvPr/>
        </p:nvSpPr>
        <p:spPr>
          <a:xfrm>
            <a:off x="4643280" y="578628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 rot="16200000">
            <a:off x="-2463840" y="2178000"/>
            <a:ext cx="5715000" cy="3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ПОБЕДИТЕЛИ ОЛИМПИАДЫ ПО МАТЕМАТИКЕ</a:t>
            </a:r>
            <a:endParaRPr b="0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357960" y="357120"/>
            <a:ext cx="235728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Учите, дети математику!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Она поможет в жизни вам: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Достичь высот, познать галактику,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Лететь к загадочным мирам!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2" name="DSCN3102.JPG" descr="C:\Users\Пользователь\Desktop\школьные фото\DSCN3102.JPG"/>
          <p:cNvPicPr/>
          <p:nvPr/>
        </p:nvPicPr>
        <p:blipFill>
          <a:blip r:embed=""/>
          <a:stretch/>
        </p:blipFill>
        <p:spPr>
          <a:xfrm>
            <a:off x="571680" y="928800"/>
            <a:ext cx="5638680" cy="4228920"/>
          </a:xfrm>
          <a:prstGeom prst="rect">
            <a:avLst/>
          </a:prstGeom>
          <a:ln w="0">
            <a:noFill/>
          </a:ln>
        </p:spPr>
      </p:pic>
      <p:sp>
        <p:nvSpPr>
          <p:cNvPr id="383" name="4-конечная звезда 6"/>
          <p:cNvSpPr/>
          <p:nvPr/>
        </p:nvSpPr>
        <p:spPr>
          <a:xfrm>
            <a:off x="7358040" y="300024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4-конечная звезда 7"/>
          <p:cNvSpPr/>
          <p:nvPr/>
        </p:nvSpPr>
        <p:spPr>
          <a:xfrm>
            <a:off x="5072040" y="478620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75f6d"/>
                </a:solidFill>
                <a:latin typeface="Century Schoolbook"/>
              </a:rPr>
              <a:t>ЕЁ КАРИНОЮ  ЗОВУТ,</a:t>
            </a:r>
            <a:br>
              <a:rPr sz="1600"/>
            </a:br>
            <a:r>
              <a:rPr b="0" lang="ru-RU" sz="1600" spc="-1" strike="noStrike">
                <a:solidFill>
                  <a:srgbClr val="575f6d"/>
                </a:solidFill>
                <a:latin typeface="Century Schoolbook"/>
              </a:rPr>
              <a:t>ОНА СНЕГУРОЧКА У НАС,</a:t>
            </a:r>
            <a:br>
              <a:rPr sz="1600"/>
            </a:br>
            <a:r>
              <a:rPr b="0" lang="ru-RU" sz="1600" spc="-1" strike="noStrike">
                <a:solidFill>
                  <a:srgbClr val="575f6d"/>
                </a:solidFill>
                <a:latin typeface="Century Schoolbook"/>
              </a:rPr>
              <a:t> А ДЕВЧОНКА – ПРОСТО КЛАСС!</a:t>
            </a:r>
            <a:br>
              <a:rPr sz="1600"/>
            </a:br>
            <a:endParaRPr b="0" lang="en-US" sz="1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6" name="DSCN2973.JPG" descr="C:\Users\Пользователь\Desktop\DSCN2973.JPG"/>
          <p:cNvPicPr/>
          <p:nvPr/>
        </p:nvPicPr>
        <p:blipFill>
          <a:blip r:embed="rId1"/>
          <a:stretch/>
        </p:blipFill>
        <p:spPr>
          <a:xfrm>
            <a:off x="798480" y="1884240"/>
            <a:ext cx="2773440" cy="3687840"/>
          </a:xfrm>
          <a:prstGeom prst="rect">
            <a:avLst/>
          </a:prstGeom>
          <a:ln w="0">
            <a:noFill/>
          </a:ln>
        </p:spPr>
      </p:pic>
      <p:pic>
        <p:nvPicPr>
          <p:cNvPr id="387" name="DSCN2996.JPG" descr="C:\Users\Пользователь\Desktop\DSCN2996.JPG"/>
          <p:cNvPicPr/>
          <p:nvPr/>
        </p:nvPicPr>
        <p:blipFill>
          <a:blip r:embed="rId2"/>
          <a:stretch/>
        </p:blipFill>
        <p:spPr>
          <a:xfrm>
            <a:off x="4711680" y="2036880"/>
            <a:ext cx="2774880" cy="3693960"/>
          </a:xfrm>
          <a:prstGeom prst="rect">
            <a:avLst/>
          </a:prstGeom>
          <a:ln w="0">
            <a:noFill/>
          </a:ln>
        </p:spPr>
      </p:pic>
      <p:sp>
        <p:nvSpPr>
          <p:cNvPr id="388" name="4-конечная звезда 9"/>
          <p:cNvSpPr/>
          <p:nvPr/>
        </p:nvSpPr>
        <p:spPr>
          <a:xfrm>
            <a:off x="6572160" y="14292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4-конечная звезда 10"/>
          <p:cNvSpPr/>
          <p:nvPr/>
        </p:nvSpPr>
        <p:spPr>
          <a:xfrm>
            <a:off x="3857760" y="85716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DSCN2996.JPG" descr="C:\Users\Пользователь\Desktop\школьные фото\DSCN2996.JPG"/>
          <p:cNvPicPr/>
          <p:nvPr/>
        </p:nvPicPr>
        <p:blipFill>
          <a:blip r:embed="rId3"/>
          <a:stretch/>
        </p:blipFill>
        <p:spPr>
          <a:xfrm>
            <a:off x="4438800" y="1384200"/>
            <a:ext cx="3619440" cy="4815000"/>
          </a:xfrm>
          <a:prstGeom prst="rect">
            <a:avLst/>
          </a:prstGeom>
          <a:ln w="0">
            <a:noFill/>
          </a:ln>
        </p:spPr>
      </p:pic>
      <p:pic>
        <p:nvPicPr>
          <p:cNvPr id="391" name="DSCN2976.JPG" descr="C:\Users\Пользователь\Desktop\школьные фото\DSCN2976.JPG"/>
          <p:cNvPicPr/>
          <p:nvPr/>
        </p:nvPicPr>
        <p:blipFill>
          <a:blip r:embed="rId4"/>
          <a:stretch/>
        </p:blipFill>
        <p:spPr>
          <a:xfrm>
            <a:off x="566640" y="1395360"/>
            <a:ext cx="3548160" cy="4719600"/>
          </a:xfrm>
          <a:prstGeom prst="rect">
            <a:avLst/>
          </a:prstGeom>
          <a:ln w="0">
            <a:noFill/>
          </a:ln>
        </p:spPr>
      </p:pic>
      <p:sp>
        <p:nvSpPr>
          <p:cNvPr id="392" name="4-конечная звезда 12"/>
          <p:cNvSpPr/>
          <p:nvPr/>
        </p:nvSpPr>
        <p:spPr>
          <a:xfrm>
            <a:off x="2143080" y="542916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75f6d"/>
                </a:solidFill>
                <a:latin typeface="Century Schoolbook"/>
              </a:rPr>
              <a:t>РУКОДЕЛЬЮ НАС ЗДЕСЬ УЧАТ:</a:t>
            </a:r>
            <a:br>
              <a:rPr sz="1600"/>
            </a:br>
            <a:r>
              <a:rPr b="0" lang="ru-RU" sz="1600" spc="-1" strike="noStrike">
                <a:solidFill>
                  <a:srgbClr val="575f6d"/>
                </a:solidFill>
                <a:latin typeface="Century Schoolbook"/>
              </a:rPr>
              <a:t>ВСЕХ ПОДЕЛОК НЕ ПЕРЕЧЕСТЬ.</a:t>
            </a:r>
            <a:br>
              <a:rPr sz="1600"/>
            </a:br>
            <a:r>
              <a:rPr b="0" lang="ru-RU" sz="1600" spc="-1" strike="noStrike">
                <a:solidFill>
                  <a:srgbClr val="575f6d"/>
                </a:solidFill>
                <a:latin typeface="Century Schoolbook"/>
              </a:rPr>
              <a:t>ИЗ БУМАГИ ВСЁ МЫ СКЛЕИМ,</a:t>
            </a:r>
            <a:br>
              <a:rPr sz="1600"/>
            </a:br>
            <a:r>
              <a:rPr b="0" lang="ru-RU" sz="1600" spc="-1" strike="noStrike">
                <a:solidFill>
                  <a:srgbClr val="575f6d"/>
                </a:solidFill>
                <a:latin typeface="Century Schoolbook"/>
              </a:rPr>
              <a:t>И У ВСЕХ ТАЛАНТЫ ЕСТЬ.</a:t>
            </a:r>
            <a:endParaRPr b="0" lang="en-US" sz="1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4" name="DSCN3099.JPG" descr="C:\Users\Пользователь\Desktop\DSCN3099.JPG"/>
          <p:cNvPicPr/>
          <p:nvPr/>
        </p:nvPicPr>
        <p:blipFill>
          <a:blip r:embed=""/>
          <a:stretch/>
        </p:blipFill>
        <p:spPr>
          <a:xfrm>
            <a:off x="1587600" y="3187800"/>
            <a:ext cx="1396800" cy="1396800"/>
          </a:xfrm>
          <a:prstGeom prst="rect">
            <a:avLst/>
          </a:prstGeom>
          <a:ln w="0">
            <a:noFill/>
          </a:ln>
        </p:spPr>
      </p:pic>
      <p:pic>
        <p:nvPicPr>
          <p:cNvPr id="395" name="DSCN3100.JPG" descr="C:\Users\Пользователь\Desktop\DSCN3100.JPG"/>
          <p:cNvPicPr/>
          <p:nvPr/>
        </p:nvPicPr>
        <p:blipFill>
          <a:blip r:embed=""/>
          <a:stretch/>
        </p:blipFill>
        <p:spPr>
          <a:xfrm>
            <a:off x="5400720" y="3187800"/>
            <a:ext cx="1396800" cy="1396800"/>
          </a:xfrm>
          <a:prstGeom prst="rect">
            <a:avLst/>
          </a:prstGeom>
          <a:ln w="0">
            <a:noFill/>
          </a:ln>
        </p:spPr>
      </p:pic>
      <p:sp>
        <p:nvSpPr>
          <p:cNvPr id="396" name="4-конечная звезда 5"/>
          <p:cNvSpPr/>
          <p:nvPr/>
        </p:nvSpPr>
        <p:spPr>
          <a:xfrm>
            <a:off x="2786040" y="142884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4-конечная звезда 6"/>
          <p:cNvSpPr/>
          <p:nvPr/>
        </p:nvSpPr>
        <p:spPr>
          <a:xfrm>
            <a:off x="5857920" y="14292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DSCN3099.JPG" descr="C:\Users\Пользователь\Desktop\школьные фото\DSCN3099.JPG"/>
          <p:cNvPicPr/>
          <p:nvPr/>
        </p:nvPicPr>
        <p:blipFill>
          <a:blip r:embed=""/>
          <a:stretch/>
        </p:blipFill>
        <p:spPr>
          <a:xfrm>
            <a:off x="500040" y="2714760"/>
            <a:ext cx="4095720" cy="3071520"/>
          </a:xfrm>
          <a:prstGeom prst="rect">
            <a:avLst/>
          </a:prstGeom>
          <a:ln w="0">
            <a:noFill/>
          </a:ln>
        </p:spPr>
      </p:pic>
      <p:pic>
        <p:nvPicPr>
          <p:cNvPr id="399" name="DSCN3100.JPG" descr="C:\Users\Пользователь\Desktop\школьные фото\DSCN3100.JPG"/>
          <p:cNvPicPr/>
          <p:nvPr/>
        </p:nvPicPr>
        <p:blipFill>
          <a:blip r:embed=""/>
          <a:stretch/>
        </p:blipFill>
        <p:spPr>
          <a:xfrm>
            <a:off x="4714920" y="2000160"/>
            <a:ext cx="385776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5T12:10:49Z</dcterms:created>
  <dc:creator>Пользователь</dc:creator>
  <dc:description/>
  <dc:language>en-US</dc:language>
  <cp:lastModifiedBy>Пользователь</cp:lastModifiedBy>
  <dcterms:modified xsi:type="dcterms:W3CDTF">2013-01-16T14:15:07Z</dcterms:modified>
  <cp:revision>28</cp:revision>
  <dc:subject/>
  <dc:title>Слайд 1</dc:title>
</cp:coreProperties>
</file>