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6FC-DAEC-4A93-A1DE-46A4E395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616E-4C52-441A-AF63-950B733B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D0A3-FC1C-4E63-950B-1D9027CB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8B6-1A2A-4364-89E3-F458B87B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0589-56B4-4056-A301-89920533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BBAD-683D-43FE-9CCE-6D65C2C0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1E14-F6D9-446D-92F8-D90BFE09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2AAD-D4AA-4F9C-9466-D2360235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218C-1E75-405C-9C76-9AA46896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C76E-56F8-4DDB-9DEE-F22FD033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EE6B-7CB8-42CC-BF94-5F369C6F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3187-349E-4D75-ADCB-0670161A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7C44-02CB-4EE5-9DFB-19544D19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38D2-2158-4EDB-AEBD-7FEFB4EE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0ADA-69B0-4F95-94DE-7857A6C8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6E68-CB7F-4D58-8877-168D2FB0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FB6A-FF70-4732-80DA-CBC306B6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5C5C2-E954-4603-9D06-81CF1D4F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A7C8A-A602-45B7-AFF6-748CB239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A40CA-7BCA-477F-A950-2EE5F1D2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EDAA60-C892-436A-9FE0-49BD12E2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95780-5294-4CAA-947A-FED2BF39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C1A-6966-4841-906B-C0BBB946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88349-86F9-433A-89EB-125D8602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D9709-736D-4A47-985A-D3A0AB24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CCE5D-8E85-4C3F-B1BA-A5129D33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3C6B6-CAA3-4F35-B26E-1A3D4740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E8778-170F-4E75-9F2F-AF4A0F19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0700C-79A6-4F1D-8045-0B6AE2FF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193C5-25B1-4DE0-AC9A-3B90EFB2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4D6AF-CBE5-49F6-AB4F-A69DAAC1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0932F-FAFC-4D01-9093-4B8CE140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2EEB7-08F2-4D8A-AA07-7652D5A9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3F4-7429-4806-8FB9-251A94B6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A6A74-2279-411D-B17E-3DC46995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80693-1E77-4BF4-A43E-EE883C47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6048A-5F66-4E8E-BF71-651A4846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EDD9F-961E-4E25-943A-4FAFCE3E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1CC36-7776-49EF-B41D-61D8534D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C0491-B610-4B8C-9E03-3AEE4812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6084E-AD9A-47DB-B8D0-36804B4A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3757E-148D-451B-91B1-8A208816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1FB66-49A6-4D04-ADDB-069E5409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49C5F1-6785-43CC-8E28-DD0309FF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F584-E975-4D16-8BF4-8ED318F6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D81EAE-3C98-47B9-8F47-B288C53E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6BADD7-8C98-4282-879C-38253FFC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2EDAAC-3EC9-4D14-83A4-B17BB923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130E40-20A5-4556-859B-6EF5B46E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4C9CBC-C86F-4594-8D6D-494F1A9E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FFA99A-3CCB-4D5D-8F34-EB74E035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5F5D78-D53D-4EC4-ACC5-C63FABBE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B3A57D-84B3-4170-A580-9461230F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A19AB0-9AB4-4AC2-A45C-CB434E49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450D02-83B3-42B1-9CD6-8B2BB90F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3FE-9BAC-4A2F-8574-AE452411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458E9-5CDB-4BE4-8BB6-F7DE46DA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CC48B5-22FE-4359-912B-D202BE04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C63FA1-C61D-442C-99B4-BB6A93BD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A98B91-FEBB-4B87-A455-2B6F9BC9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054842-D53F-42AC-985C-1EB6EB15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C8AD6B-80D4-4C9A-8CA1-87E826AA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FA55A5-EB26-4C99-A2AD-02D75B6E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EEA68E-3CE1-4DC5-9000-7C5E6348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FDC200-5723-4314-B0E2-2F6E0056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5A3324-9D81-474C-A5B2-741CE4E7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A0F-F05D-462F-8FE3-8018C2FA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86CFAF-F2E7-43F9-8FF1-7C0BAC59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631E92-1014-4C76-A183-9331BCF2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AA686D-72C6-4331-B9EF-3C2A1E74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6E3E55-6A42-4BAF-B7AE-0E928EC7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1C4302-6251-413F-A7BD-3EAE9EB3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98FA73-501F-4896-A8F5-B76432E3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A9E0D1-4092-4DEF-B493-E9F56AF0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7F3C32-CCE3-43A7-8AD0-3E1337D4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7C0D60-455F-4295-8E8C-3167AACB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2E20ED-0A08-439F-9EAB-03E8F6ED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8525-60E3-46EC-A781-188D478D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C11B96-D2FB-4147-BF34-B87E616F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BB6990-AAF0-43D1-9759-BA98D5BD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EE6A07-BFB5-4ABD-93FA-BD2DC711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CE0BB8-1035-4321-A78B-06454962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4D3FCE-52A3-47CA-A5AC-80F522DE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13C6-F3CF-426C-BBBA-408A9BD5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DBA1-AB11-4029-A269-72118FD892B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DDA8-3EE3-4D0F-88D3-207D759AFB3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B9F3-38C1-495F-A80E-E15628A0D86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8187-A728-438E-BACC-009FED0263A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46F2-1485-41E8-9ED2-213AC600698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F9E4-BA90-460E-9140-DBDD1B12A0E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6D48-FDEC-47E4-9DA1-9BC494ECE8B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285480"/>
            <a:ext cx="46432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3 «В»  ВАМ ПРЕДСТАВЛЯЕМ,</a:t>
            </a:r>
            <a:br>
              <a:rPr sz="2400"/>
            </a:b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НАШ БОЛЬШОЙ ВЕСЁЛЫЙ КЛАСС!</a:t>
            </a:r>
            <a:br>
              <a:rPr sz="2400"/>
            </a:b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«В» – ВЕСЕЛЬЕ ОЗНАЧАЕТ, </a:t>
            </a:r>
            <a:br>
              <a:rPr sz="2400"/>
            </a:b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И ЛЮБОЙ, КТО ЭТО ЗНАЕТ,</a:t>
            </a:r>
            <a:br>
              <a:rPr sz="2400"/>
            </a:b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СКАЖЕТ – ЭТО ВСЁ ПРО НАС.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Пятно 2 2"/>
          <p:cNvSpPr/>
          <p:nvPr/>
        </p:nvSpPr>
        <p:spPr>
          <a:xfrm>
            <a:off x="714240" y="1357200"/>
            <a:ext cx="914400" cy="914400"/>
          </a:xfrm>
          <a:prstGeom prst="irregularSeal2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ятно 2 4"/>
          <p:cNvSpPr/>
          <p:nvPr/>
        </p:nvSpPr>
        <p:spPr>
          <a:xfrm>
            <a:off x="7072200" y="1428840"/>
            <a:ext cx="914400" cy="914400"/>
          </a:xfrm>
          <a:prstGeom prst="irregularSeal2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ятно 2 5"/>
          <p:cNvSpPr/>
          <p:nvPr/>
        </p:nvSpPr>
        <p:spPr>
          <a:xfrm>
            <a:off x="3143160" y="5572080"/>
            <a:ext cx="914400" cy="914400"/>
          </a:xfrm>
          <a:prstGeom prst="irregularSeal2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DSCN3078.JPG" descr="C:\Users\Пользователь\Desktop\DSCN3078.JPG"/>
          <p:cNvPicPr/>
          <p:nvPr/>
        </p:nvPicPr>
        <p:blipFill>
          <a:blip r:embed="rId1"/>
          <a:stretch/>
        </p:blipFill>
        <p:spPr>
          <a:xfrm>
            <a:off x="1719360" y="1481040"/>
            <a:ext cx="3290760" cy="36576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6214680" y="357120"/>
            <a:ext cx="25002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Мы с весёлыми друзьями вдаль на школьном кораб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оплывём по морю Знан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К неизведанной земле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4-конечная звезда 11"/>
          <p:cNvSpPr/>
          <p:nvPr/>
        </p:nvSpPr>
        <p:spPr>
          <a:xfrm>
            <a:off x="3357720" y="27147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4-конечная звезда 13"/>
          <p:cNvSpPr/>
          <p:nvPr/>
        </p:nvSpPr>
        <p:spPr>
          <a:xfrm>
            <a:off x="2071800" y="2214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4-конечная звезда 14"/>
          <p:cNvSpPr/>
          <p:nvPr/>
        </p:nvSpPr>
        <p:spPr>
          <a:xfrm>
            <a:off x="3429000" y="25002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4-конечная звезда 15"/>
          <p:cNvSpPr/>
          <p:nvPr/>
        </p:nvSpPr>
        <p:spPr>
          <a:xfrm>
            <a:off x="1071720" y="5786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4-конечная звезда 16"/>
          <p:cNvSpPr/>
          <p:nvPr/>
        </p:nvSpPr>
        <p:spPr>
          <a:xfrm>
            <a:off x="500040" y="3571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4-конечная звезда 17"/>
          <p:cNvSpPr/>
          <p:nvPr/>
        </p:nvSpPr>
        <p:spPr>
          <a:xfrm>
            <a:off x="4286160" y="55008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4-конечная звезда 18"/>
          <p:cNvSpPr/>
          <p:nvPr/>
        </p:nvSpPr>
        <p:spPr>
          <a:xfrm>
            <a:off x="3214800" y="25002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4-конечная звезда 19"/>
          <p:cNvSpPr/>
          <p:nvPr/>
        </p:nvSpPr>
        <p:spPr>
          <a:xfrm>
            <a:off x="5072040" y="31431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DSCN3078.JPG" descr="C:\Users\Пользователь\Desktop\школьные фото\DSCN3078.JPG"/>
          <p:cNvPicPr/>
          <p:nvPr/>
        </p:nvPicPr>
        <p:blipFill>
          <a:blip r:embed=""/>
          <a:stretch/>
        </p:blipFill>
        <p:spPr>
          <a:xfrm>
            <a:off x="642960" y="11430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411" name="4-конечная звезда 20"/>
          <p:cNvSpPr/>
          <p:nvPr/>
        </p:nvSpPr>
        <p:spPr>
          <a:xfrm>
            <a:off x="3357720" y="25002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4-конечная звезда 21"/>
          <p:cNvSpPr/>
          <p:nvPr/>
        </p:nvSpPr>
        <p:spPr>
          <a:xfrm>
            <a:off x="4071960" y="5000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4-конечная звезда 22"/>
          <p:cNvSpPr/>
          <p:nvPr/>
        </p:nvSpPr>
        <p:spPr>
          <a:xfrm>
            <a:off x="1928880" y="19288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35336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АС СФОТОГРАФИРОВАЛИ КЛАССОМ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Я НА ФОТОГРАФИЮ ГЛЯЖУ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АСТЯ С БАНТОМ, ПОЛЯ С ЛЕРОЙ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И СЕБЯ, КОНЕЧНО, НАХОЖУ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ЭТО ГЕРА – МАТЕМАТИК ПЕРВЫЙ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ЭТО МИША – ПЕРВЫЙ ОЗОРНИК,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СЛЕВА ЮРА – ТИХИЙ И ПРИМЕРНЫЙ, 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СПРАВА ДЮХА – ЛУЧШИЙ УЧЕНИК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ВОТ КАРИНА – ГЛАВНАЯ КРАСАВИЦА,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РЯДОМ ВИКА, ТА, ЧТО ЛУЧШЕ ВСЕХ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ВОТ ЕГОР. ОН МНЕ НРАВИТСЯ: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У НЕГО ТАКОЙ ВЕСЁЛЫЙ СМЕХ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У А ЭТО – ДРУГ МОЙ ВЕРНЫЙ КОЛЯ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САША В ЦЕНТРЕ, СРЕДИ НАС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ДА И МЫ – ОБЫЧНЫЙ ШКОЛЬНЫЙ КЛАСС.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4-конечная звезда 2"/>
          <p:cNvSpPr/>
          <p:nvPr/>
        </p:nvSpPr>
        <p:spPr>
          <a:xfrm>
            <a:off x="7143840" y="9288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4-конечная звезда 3"/>
          <p:cNvSpPr/>
          <p:nvPr/>
        </p:nvSpPr>
        <p:spPr>
          <a:xfrm>
            <a:off x="5715000" y="32148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DSCN3079.JPG" descr="C:\Users\Пользователь\Desktop\школьные фото\DSCN3079.JPG"/>
          <p:cNvPicPr/>
          <p:nvPr/>
        </p:nvPicPr>
        <p:blipFill>
          <a:blip r:embed=""/>
          <a:stretch/>
        </p:blipFill>
        <p:spPr>
          <a:xfrm>
            <a:off x="571680" y="142920"/>
            <a:ext cx="5529240" cy="61437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286320" y="264960"/>
            <a:ext cx="200340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кажем вам сегодня честно –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чень в школе интересно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Но ещё нам путь неведом,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Как проснуться Архимедом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4-конечная звезда 3"/>
          <p:cNvSpPr/>
          <p:nvPr/>
        </p:nvSpPr>
        <p:spPr>
          <a:xfrm>
            <a:off x="6215040" y="28576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4-конечная звезда 4"/>
          <p:cNvSpPr/>
          <p:nvPr/>
        </p:nvSpPr>
        <p:spPr>
          <a:xfrm>
            <a:off x="7429680" y="37861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ВСЕ В СТОЛОВУЮ БЕГУТ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НОРМУ ВЫПОЛНЯЮТ.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НА УРОКИ ВСЕ ИДУТ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ТИХО КОВЫЛЯЮТ.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DSCN3080.JPG" descr="C:\Users\Пользователь\Desktop\DSCN3080.JPG"/>
          <p:cNvPicPr/>
          <p:nvPr/>
        </p:nvPicPr>
        <p:blipFill>
          <a:blip r:embed=""/>
          <a:stretch/>
        </p:blipFill>
        <p:spPr>
          <a:xfrm>
            <a:off x="1587600" y="3187800"/>
            <a:ext cx="1396800" cy="1396800"/>
          </a:xfrm>
          <a:prstGeom prst="rect">
            <a:avLst/>
          </a:prstGeom>
          <a:ln w="0">
            <a:noFill/>
          </a:ln>
        </p:spPr>
      </p:pic>
      <p:pic>
        <p:nvPicPr>
          <p:cNvPr id="364" name="DSCN3081.JPG" descr="C:\Users\Пользователь\Desktop\DSCN3081.JPG"/>
          <p:cNvPicPr/>
          <p:nvPr/>
        </p:nvPicPr>
        <p:blipFill>
          <a:blip r:embed=""/>
          <a:stretch/>
        </p:blipFill>
        <p:spPr>
          <a:xfrm>
            <a:off x="5400720" y="3187800"/>
            <a:ext cx="1396800" cy="1396800"/>
          </a:xfrm>
          <a:prstGeom prst="rect">
            <a:avLst/>
          </a:prstGeom>
          <a:ln w="0">
            <a:noFill/>
          </a:ln>
        </p:spPr>
      </p:pic>
      <p:sp>
        <p:nvSpPr>
          <p:cNvPr id="365" name="4-конечная звезда 5"/>
          <p:cNvSpPr/>
          <p:nvPr/>
        </p:nvSpPr>
        <p:spPr>
          <a:xfrm>
            <a:off x="5500800" y="5000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4-конечная звезда 6"/>
          <p:cNvSpPr/>
          <p:nvPr/>
        </p:nvSpPr>
        <p:spPr>
          <a:xfrm>
            <a:off x="1857240" y="5572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DSCN3080.JPG" descr="C:\Users\Пользователь\Desktop\школьные фото\DSCN3080.JPG"/>
          <p:cNvPicPr/>
          <p:nvPr/>
        </p:nvPicPr>
        <p:blipFill>
          <a:blip r:embed=""/>
          <a:stretch/>
        </p:blipFill>
        <p:spPr>
          <a:xfrm>
            <a:off x="214200" y="164304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368" name="DSCN3081.JPG" descr="C:\Users\Пользователь\Desktop\школьные фото\DSCN3081.JPG"/>
          <p:cNvPicPr/>
          <p:nvPr/>
        </p:nvPicPr>
        <p:blipFill>
          <a:blip r:embed=""/>
          <a:stretch/>
        </p:blipFill>
        <p:spPr>
          <a:xfrm>
            <a:off x="4500720" y="1643040"/>
            <a:ext cx="39049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НА УРОКЕ ФИЗКУЛЬТУРЫ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ПРОБЕЖАЛИ ПЯТЬ КРУГОВ.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МЫ БЕЖАЛИ, МЫ БЕЖАЛИ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ОХ, КАК МЫ УЖЕ УСТАЛИ.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DSCN3098.JPG" descr="C:\Users\Пользователь\Desktop\DSCN3098.JPG"/>
          <p:cNvPicPr/>
          <p:nvPr/>
        </p:nvPicPr>
        <p:blipFill>
          <a:blip r:embed="rId1"/>
          <a:stretch/>
        </p:blipFill>
        <p:spPr>
          <a:xfrm>
            <a:off x="1579680" y="3181320"/>
            <a:ext cx="1412640" cy="1409760"/>
          </a:xfrm>
          <a:prstGeom prst="rect">
            <a:avLst/>
          </a:prstGeom>
          <a:ln w="0">
            <a:noFill/>
          </a:ln>
        </p:spPr>
      </p:pic>
      <p:pic>
        <p:nvPicPr>
          <p:cNvPr id="371" name="DSCN3092.JPG" descr="C:\Users\Пользователь\Desktop\школьные фото\DSCN3092.JPG"/>
          <p:cNvPicPr/>
          <p:nvPr/>
        </p:nvPicPr>
        <p:blipFill>
          <a:blip r:embed=""/>
          <a:stretch/>
        </p:blipFill>
        <p:spPr>
          <a:xfrm>
            <a:off x="4270320" y="2514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72" name="DSCN3092.JPG" descr="C:\Users\Пользователь\Desktop\DSCN3092.JPG"/>
          <p:cNvPicPr/>
          <p:nvPr/>
        </p:nvPicPr>
        <p:blipFill>
          <a:blip r:embed="rId2"/>
          <a:stretch/>
        </p:blipFill>
        <p:spPr>
          <a:xfrm>
            <a:off x="281160" y="1566720"/>
            <a:ext cx="4035240" cy="3029040"/>
          </a:xfrm>
          <a:prstGeom prst="rect">
            <a:avLst/>
          </a:prstGeom>
          <a:ln w="0">
            <a:noFill/>
          </a:ln>
        </p:spPr>
      </p:pic>
      <p:sp>
        <p:nvSpPr>
          <p:cNvPr id="373" name="4-конечная звезда 4"/>
          <p:cNvSpPr/>
          <p:nvPr/>
        </p:nvSpPr>
        <p:spPr>
          <a:xfrm>
            <a:off x="6215040" y="7858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4-конечная звезда 7"/>
          <p:cNvSpPr/>
          <p:nvPr/>
        </p:nvSpPr>
        <p:spPr>
          <a:xfrm>
            <a:off x="857160" y="5072040"/>
            <a:ext cx="1143000" cy="1214640"/>
          </a:xfrm>
          <a:custGeom>
            <a:avLst/>
            <a:gdLst>
              <a:gd name="textAreaLeft" fmla="*/ 470880 w 1143000"/>
              <a:gd name="textAreaRight" fmla="*/ 672120 w 1143000"/>
              <a:gd name="textAreaTop" fmla="*/ 500400 h 1214640"/>
              <a:gd name="textAreaBottom" fmla="*/ 71424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DSCN3098.JPG" descr="C:\Users\Пользователь\Desktop\школьные фото\DSCN3098.JPG"/>
          <p:cNvPicPr/>
          <p:nvPr/>
        </p:nvPicPr>
        <p:blipFill>
          <a:blip r:embed=""/>
          <a:stretch/>
        </p:blipFill>
        <p:spPr>
          <a:xfrm>
            <a:off x="214200" y="2000160"/>
            <a:ext cx="36435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DSCN3085.JPG" descr="C:\Users\Пользователь\Desktop\школьные фото\DSCN3085.JPG"/>
          <p:cNvPicPr/>
          <p:nvPr/>
        </p:nvPicPr>
        <p:blipFill>
          <a:blip r:embed=""/>
          <a:stretch/>
        </p:blipFill>
        <p:spPr>
          <a:xfrm>
            <a:off x="214200" y="285840"/>
            <a:ext cx="5143680" cy="5715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286320" y="499680"/>
            <a:ext cx="25002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Математика трудна –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Всем известная она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Будем думать и гадать,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Как задачи нам решать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4-конечная звезда 6"/>
          <p:cNvSpPr/>
          <p:nvPr/>
        </p:nvSpPr>
        <p:spPr>
          <a:xfrm>
            <a:off x="6643800" y="2286000"/>
            <a:ext cx="699840" cy="857160"/>
          </a:xfrm>
          <a:custGeom>
            <a:avLst/>
            <a:gdLst>
              <a:gd name="textAreaLeft" fmla="*/ 288360 w 699840"/>
              <a:gd name="textAreaRight" fmla="*/ 411480 w 699840"/>
              <a:gd name="textAreaTop" fmla="*/ 353160 h 857160"/>
              <a:gd name="textAreaBottom" fmla="*/ 504000 h 85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4-конечная звезда 7"/>
          <p:cNvSpPr/>
          <p:nvPr/>
        </p:nvSpPr>
        <p:spPr>
          <a:xfrm>
            <a:off x="4643280" y="5786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 rot="16200000">
            <a:off x="-2463840" y="2178000"/>
            <a:ext cx="571500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ОБЕДИТЕЛИ ОЛИМПИАДЫ ПО МАТЕМАТИКЕ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357960" y="357120"/>
            <a:ext cx="23572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чите, дети математику!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на поможет в жизни вам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Достичь высот, познать галактику,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Лететь к загадочным мирам!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DSCN3102.JPG" descr="C:\Users\Пользователь\Desktop\школьные фото\DSCN3102.JPG"/>
          <p:cNvPicPr/>
          <p:nvPr/>
        </p:nvPicPr>
        <p:blipFill>
          <a:blip r:embed=""/>
          <a:stretch/>
        </p:blipFill>
        <p:spPr>
          <a:xfrm>
            <a:off x="571680" y="92880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383" name="4-конечная звезда 6"/>
          <p:cNvSpPr/>
          <p:nvPr/>
        </p:nvSpPr>
        <p:spPr>
          <a:xfrm>
            <a:off x="7358040" y="30002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4-конечная звезда 7"/>
          <p:cNvSpPr/>
          <p:nvPr/>
        </p:nvSpPr>
        <p:spPr>
          <a:xfrm>
            <a:off x="5072040" y="47862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ЕЁ КАРИНОЮ  ЗОВУТ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ОНА СНЕГУРОЧКА У НАС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 А ДЕВЧОНКА – ПРОСТО КЛАСС!</a:t>
            </a:r>
            <a:br>
              <a:rPr sz="16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DSCN2973.JPG" descr="C:\Users\Пользователь\Desktop\DSCN2973.JPG"/>
          <p:cNvPicPr/>
          <p:nvPr/>
        </p:nvPicPr>
        <p:blipFill>
          <a:blip r:embed="rId1"/>
          <a:stretch/>
        </p:blipFill>
        <p:spPr>
          <a:xfrm>
            <a:off x="798480" y="1884240"/>
            <a:ext cx="2773440" cy="3687840"/>
          </a:xfrm>
          <a:prstGeom prst="rect">
            <a:avLst/>
          </a:prstGeom>
          <a:ln w="0">
            <a:noFill/>
          </a:ln>
        </p:spPr>
      </p:pic>
      <p:pic>
        <p:nvPicPr>
          <p:cNvPr id="387" name="DSCN2996.JPG" descr="C:\Users\Пользователь\Desktop\DSCN2996.JPG"/>
          <p:cNvPicPr/>
          <p:nvPr/>
        </p:nvPicPr>
        <p:blipFill>
          <a:blip r:embed="rId2"/>
          <a:stretch/>
        </p:blipFill>
        <p:spPr>
          <a:xfrm>
            <a:off x="4711680" y="2036880"/>
            <a:ext cx="2774880" cy="3693960"/>
          </a:xfrm>
          <a:prstGeom prst="rect">
            <a:avLst/>
          </a:prstGeom>
          <a:ln w="0">
            <a:noFill/>
          </a:ln>
        </p:spPr>
      </p:pic>
      <p:sp>
        <p:nvSpPr>
          <p:cNvPr id="388" name="4-конечная звезда 9"/>
          <p:cNvSpPr/>
          <p:nvPr/>
        </p:nvSpPr>
        <p:spPr>
          <a:xfrm>
            <a:off x="6572160" y="1429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4-конечная звезда 10"/>
          <p:cNvSpPr/>
          <p:nvPr/>
        </p:nvSpPr>
        <p:spPr>
          <a:xfrm>
            <a:off x="3857760" y="8571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DSCN2996.JPG" descr="C:\Users\Пользователь\Desktop\школьные фото\DSCN2996.JPG"/>
          <p:cNvPicPr/>
          <p:nvPr/>
        </p:nvPicPr>
        <p:blipFill>
          <a:blip r:embed="rId3"/>
          <a:stretch/>
        </p:blipFill>
        <p:spPr>
          <a:xfrm>
            <a:off x="4438800" y="1384200"/>
            <a:ext cx="3619440" cy="4815000"/>
          </a:xfrm>
          <a:prstGeom prst="rect">
            <a:avLst/>
          </a:prstGeom>
          <a:ln w="0">
            <a:noFill/>
          </a:ln>
        </p:spPr>
      </p:pic>
      <p:pic>
        <p:nvPicPr>
          <p:cNvPr id="391" name="DSCN2976.JPG" descr="C:\Users\Пользователь\Desktop\школьные фото\DSCN2976.JPG"/>
          <p:cNvPicPr/>
          <p:nvPr/>
        </p:nvPicPr>
        <p:blipFill>
          <a:blip r:embed="rId4"/>
          <a:stretch/>
        </p:blipFill>
        <p:spPr>
          <a:xfrm>
            <a:off x="566640" y="1395360"/>
            <a:ext cx="3548160" cy="4719600"/>
          </a:xfrm>
          <a:prstGeom prst="rect">
            <a:avLst/>
          </a:prstGeom>
          <a:ln w="0">
            <a:noFill/>
          </a:ln>
        </p:spPr>
      </p:pic>
      <p:sp>
        <p:nvSpPr>
          <p:cNvPr id="392" name="4-конечная звезда 12"/>
          <p:cNvSpPr/>
          <p:nvPr/>
        </p:nvSpPr>
        <p:spPr>
          <a:xfrm>
            <a:off x="2143080" y="54291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РУКОДЕЛЬЮ НАС ЗДЕСЬ УЧАТ: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ВСЕХ ПОДЕЛОК НЕ ПЕРЕЧЕСТЬ.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ИЗ БУМАГИ ВСЁ МЫ СКЛЕИМ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И У ВСЕХ ТАЛАНТЫ ЕСТЬ.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DSCN3099.JPG" descr="C:\Users\Пользователь\Desktop\DSCN3099.JPG"/>
          <p:cNvPicPr/>
          <p:nvPr/>
        </p:nvPicPr>
        <p:blipFill>
          <a:blip r:embed=""/>
          <a:stretch/>
        </p:blipFill>
        <p:spPr>
          <a:xfrm>
            <a:off x="1587600" y="3187800"/>
            <a:ext cx="1396800" cy="1396800"/>
          </a:xfrm>
          <a:prstGeom prst="rect">
            <a:avLst/>
          </a:prstGeom>
          <a:ln w="0">
            <a:noFill/>
          </a:ln>
        </p:spPr>
      </p:pic>
      <p:pic>
        <p:nvPicPr>
          <p:cNvPr id="395" name="DSCN3100.JPG" descr="C:\Users\Пользователь\Desktop\DSCN3100.JPG"/>
          <p:cNvPicPr/>
          <p:nvPr/>
        </p:nvPicPr>
        <p:blipFill>
          <a:blip r:embed=""/>
          <a:stretch/>
        </p:blipFill>
        <p:spPr>
          <a:xfrm>
            <a:off x="5400720" y="3187800"/>
            <a:ext cx="1396800" cy="1396800"/>
          </a:xfrm>
          <a:prstGeom prst="rect">
            <a:avLst/>
          </a:prstGeom>
          <a:ln w="0">
            <a:noFill/>
          </a:ln>
        </p:spPr>
      </p:pic>
      <p:sp>
        <p:nvSpPr>
          <p:cNvPr id="396" name="4-конечная звезда 5"/>
          <p:cNvSpPr/>
          <p:nvPr/>
        </p:nvSpPr>
        <p:spPr>
          <a:xfrm>
            <a:off x="2786040" y="14288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4-конечная звезда 6"/>
          <p:cNvSpPr/>
          <p:nvPr/>
        </p:nvSpPr>
        <p:spPr>
          <a:xfrm>
            <a:off x="5857920" y="1429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DSCN3099.JPG" descr="C:\Users\Пользователь\Desktop\школьные фото\DSCN3099.JPG"/>
          <p:cNvPicPr/>
          <p:nvPr/>
        </p:nvPicPr>
        <p:blipFill>
          <a:blip r:embed=""/>
          <a:stretch/>
        </p:blipFill>
        <p:spPr>
          <a:xfrm>
            <a:off x="500040" y="2714760"/>
            <a:ext cx="4095720" cy="3071520"/>
          </a:xfrm>
          <a:prstGeom prst="rect">
            <a:avLst/>
          </a:prstGeom>
          <a:ln w="0">
            <a:noFill/>
          </a:ln>
        </p:spPr>
      </p:pic>
      <p:pic>
        <p:nvPicPr>
          <p:cNvPr id="399" name="DSCN3100.JPG" descr="C:\Users\Пользователь\Desktop\школьные фото\DSCN3100.JPG"/>
          <p:cNvPicPr/>
          <p:nvPr/>
        </p:nvPicPr>
        <p:blipFill>
          <a:blip r:embed=""/>
          <a:stretch/>
        </p:blipFill>
        <p:spPr>
          <a:xfrm>
            <a:off x="4714920" y="2000160"/>
            <a:ext cx="38577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2:10:49Z</dcterms:created>
  <dc:creator>Пользователь</dc:creator>
  <dc:description/>
  <dc:language>en-US</dc:language>
  <cp:lastModifiedBy>Пользователь</cp:lastModifiedBy>
  <dcterms:modified xsi:type="dcterms:W3CDTF">2013-01-16T14:15:07Z</dcterms:modified>
  <cp:revision>28</cp:revision>
  <dc:subject/>
  <dc:title>Слайд 1</dc:title>
</cp:coreProperties>
</file>