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EE4-DCF0-40B6-B1BD-3F7FE17E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BB7-2C1F-4BBC-A0DB-F23845AD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759-DA8D-4EE9-AD90-5905E6AC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C74-DAFA-48BD-BD60-F2C1415F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0E77-FDC4-4C38-B809-313279C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9BD9-C705-4961-80CC-A941BB4F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A52-3DD0-4B53-A248-203C1D5E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34C7-6B86-4787-B751-CBC4018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829C-6FDF-4E66-936C-F80EFE1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8E32-BF9F-411D-B9AA-F8F13C9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754-E20D-4DEA-996C-21247C4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FC7-0018-422B-9D66-28B395E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03A-0F2D-4E1D-A76A-FA5554D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0F05-5690-4611-AF8B-3325A43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29F-7664-4028-AF5F-4F1879B9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C812-6042-4E25-89BD-3C1848A2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ED8E-765A-4023-875D-459CDDCF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1F38F-2FDD-4938-ADD1-33115CA3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ECC09-CE64-4F28-98C7-E0ECFF2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0EA24-B355-4F44-A77E-B23AD03B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9A39B-B506-460B-81BB-FBF4A952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0C375-C42E-4FDA-8D0A-2039810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0A9-7565-41EA-9C1E-6C20F9B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C090C-5329-4ABA-8F8F-22AB3A4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FC526-9331-4596-A792-2BD1CAF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E8072-CB90-4455-A4D8-8D2B22A4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A2CF8-1CD8-4C5D-9993-BA6D425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F3A38-86D2-4C24-9D59-8B9DE9F5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56291-1904-447F-8B96-B4694E25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4E629-898D-4BEC-945C-8A363F2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1B15-CE13-41BA-B8F2-7590ED89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D4AF-1DC3-4A27-AA6E-00E4D55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CC52-CDB4-4BB6-AE29-4078BE3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A4B-02AA-4ACA-A905-6FFFD554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C22E-3AD3-45A1-B68F-C9CCEE4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7E33-F193-4409-B2D0-8ABA9FF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1B7D-F28A-4F68-8C79-B53921BF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A0A4-9E12-4C10-AADD-C1B57D4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926B-1148-4120-8439-DAB4DAE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83C3-0AAE-4E40-AC56-415CA97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5DC3-48ED-40C1-976F-8D0B1312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F935-A130-40AE-AB63-423FB6E1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BE98-D24F-4C60-9543-A22B4184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99CE6-2EBE-4A05-9D6D-06AB08F8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7EB-782B-4B64-9B57-42F734D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434BA-6E84-45C7-B5EC-306DA98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4FA98-D26E-4859-AEA1-C5B1CAF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AE670-0F31-4676-9795-02B56D0B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48964-A12B-4FF8-BFEF-2987C74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BCE4B-3A23-4728-95F0-98FB522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A469D-6A45-4170-B18E-B036059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E1EA6-36ED-4CD6-9310-5D70ECD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69EB1-F8B1-4EE5-A1F0-863D5C8A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8ADB8-0622-4C7C-9ADB-C44C2F3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1CF8B-75F9-4CFD-BF68-31A1DD56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50F-570A-4A54-B10F-6DFD0EC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ED18C-04EC-4B36-8B90-168AB043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AC7CC-8A94-45DB-A514-C4E15510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8F601-32AF-4258-A848-06FDA9E5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01449-6C62-4C2D-B376-D8286200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0C0E9-05B9-4AC2-A796-F1819A3A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5350B-27AA-48B6-91BD-E4A478F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9836B-D96C-4456-9151-4B28A179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60A82-F03B-4B6A-BB29-7EF68CE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4B855-3C0B-4259-BF02-4D4F967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9C00C-24EE-4DBF-A7B2-5D46E15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90E-9B82-4A11-8CA2-A6BF4BA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0C360-F09F-43F4-BD1A-BEEEA05C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28C18-F5ED-4A8C-B56E-10B9BC6B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55A75-3BD6-41F1-837D-D92C5DA9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9054AF-8544-4661-90A7-04CFBF99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87BFC-84BD-43D3-BC47-CCC5508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8E89E-966D-4F57-A41D-55E06D2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A451E-0E39-4F90-A56F-FB911DC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09F07-31F3-484A-A736-0E336890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638AC-AA5B-4D21-B7C6-C2AB0E7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E5022-F1D1-4564-8FED-D86844E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8A3-2484-424A-AE56-9647FE4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C084A-67B3-43C7-B570-C054D4D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79AD2-CA90-4925-8FBF-85FE3F7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1DCAA-A40A-45F1-B620-A799DCD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0EE3A-98AE-4A86-AEFD-863146FD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C017A-5117-4CEF-9D3E-5B699590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7C3-8583-44CC-8790-E1EFCC4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2FE-6E46-4960-B4C2-51E9EF9D04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3CC-F830-42F9-9194-889BFFF46A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927E-2BF7-4255-A6FD-9C0F9DDCE4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8DCC-AF50-4089-9F28-3CFC2004C6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05B-92A9-46CC-A517-61E9E514D0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EB0-311D-402A-BD00-5C20A0BD02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B1EE-7AC3-4715-93CC-6C248765CC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4643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3 «В»  ВАМ ПРЕДСТАВЛЯЕМ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НАШ БОЛЬШОЙ ВЕСЁЛЫЙ КЛАСС!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«В» – ВЕСЕЛЬЕ ОЗНАЧАЕТ, 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И ЛЮБОЙ, КТО ЭТО ЗНАЕТ,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СКАЖЕТ – ЭТО ВСЁ ПРО НАС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Пятно 2 2"/>
          <p:cNvSpPr/>
          <p:nvPr/>
        </p:nvSpPr>
        <p:spPr>
          <a:xfrm>
            <a:off x="714240" y="135720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ятно 2 4"/>
          <p:cNvSpPr/>
          <p:nvPr/>
        </p:nvSpPr>
        <p:spPr>
          <a:xfrm>
            <a:off x="7072200" y="142884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ятно 2 5"/>
          <p:cNvSpPr/>
          <p:nvPr/>
        </p:nvSpPr>
        <p:spPr>
          <a:xfrm>
            <a:off x="3143160" y="5572080"/>
            <a:ext cx="914400" cy="914400"/>
          </a:xfrm>
          <a:prstGeom prst="irregularSeal2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DSCN3078.JPG" descr="C:\Users\Пользователь\Desktop\DSCN3078.JPG"/>
          <p:cNvPicPr/>
          <p:nvPr/>
        </p:nvPicPr>
        <p:blipFill>
          <a:blip r:embed="rId1"/>
          <a:stretch/>
        </p:blipFill>
        <p:spPr>
          <a:xfrm>
            <a:off x="1719360" y="1481040"/>
            <a:ext cx="32907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214680" y="357120"/>
            <a:ext cx="2500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Мы с весёлыми друзьями вдаль на школьном кораб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оплывём по морю Зна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К неизведанной земл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4-конечная звезда 11"/>
          <p:cNvSpPr/>
          <p:nvPr/>
        </p:nvSpPr>
        <p:spPr>
          <a:xfrm>
            <a:off x="335772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-конечная звезда 13"/>
          <p:cNvSpPr/>
          <p:nvPr/>
        </p:nvSpPr>
        <p:spPr>
          <a:xfrm>
            <a:off x="2071800" y="2214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-конечная звезда 14"/>
          <p:cNvSpPr/>
          <p:nvPr/>
        </p:nvSpPr>
        <p:spPr>
          <a:xfrm>
            <a:off x="34290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-конечная звезда 15"/>
          <p:cNvSpPr/>
          <p:nvPr/>
        </p:nvSpPr>
        <p:spPr>
          <a:xfrm>
            <a:off x="107172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4-конечная звезда 16"/>
          <p:cNvSpPr/>
          <p:nvPr/>
        </p:nvSpPr>
        <p:spPr>
          <a:xfrm>
            <a:off x="500040" y="357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4-конечная звезда 17"/>
          <p:cNvSpPr/>
          <p:nvPr/>
        </p:nvSpPr>
        <p:spPr>
          <a:xfrm>
            <a:off x="4286160" y="5500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-конечная звезда 18"/>
          <p:cNvSpPr/>
          <p:nvPr/>
        </p:nvSpPr>
        <p:spPr>
          <a:xfrm>
            <a:off x="321480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-конечная звезда 19"/>
          <p:cNvSpPr/>
          <p:nvPr/>
        </p:nvSpPr>
        <p:spPr>
          <a:xfrm>
            <a:off x="5072040" y="3143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DSCN3078.JPG" descr="C:\Users\Пользователь\Desktop\школьные фото\DSCN3078.JPG"/>
          <p:cNvPicPr/>
          <p:nvPr/>
        </p:nvPicPr>
        <p:blipFill>
          <a:blip r:embed=""/>
          <a:stretch/>
        </p:blipFill>
        <p:spPr>
          <a:xfrm>
            <a:off x="642960" y="1143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11" name="4-конечная звезда 20"/>
          <p:cNvSpPr/>
          <p:nvPr/>
        </p:nvSpPr>
        <p:spPr>
          <a:xfrm>
            <a:off x="3357720" y="2500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-конечная звезда 21"/>
          <p:cNvSpPr/>
          <p:nvPr/>
        </p:nvSpPr>
        <p:spPr>
          <a:xfrm>
            <a:off x="407196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-конечная звезда 22"/>
          <p:cNvSpPr/>
          <p:nvPr/>
        </p:nvSpPr>
        <p:spPr>
          <a:xfrm>
            <a:off x="1928880" y="1928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3533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 СФОТОГРАФИРОВАЛИ КЛАССОМ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Я НА ФОТОГРАФИЮ ГЛЯ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СТЯ С БАНТОМ, ПОЛЯ С ЛЕРОЙ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И СЕБЯ, КОНЕЧНО, НАХОЖУ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ГЕРА – МАТЕМАТИК ПЕРВЫЙ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МИША – ПЕРВЫЙ ОЗОРНИК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ЕВА ЮРА – ТИХИЙ И ПРИМЕРНЫЙ, 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ПРАВА ДЮХА – ЛУЧШИЙ УЧЕНИК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КАРИНА – ГЛАВНАЯ КРАСАВИЦА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ЯДОМ ВИКА, ТА, ЧТО ЛУЧШЕ ВС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ОТ ЕГОР. ОН МНЕ НРАВИ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У НЕГО ТАКОЙ ВЕСЁЛЫЙ СМЕХ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У А ЭТО – ДРУГ МОЙ ВЕРНЫЙ КОЛ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АША В ЦЕНТРЕ, СРЕДИ НАС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ДА И МЫ – ОБЫЧНЫЙ ШКОЛЬНЫЙ КЛАСС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4-конечная звезда 2"/>
          <p:cNvSpPr/>
          <p:nvPr/>
        </p:nvSpPr>
        <p:spPr>
          <a:xfrm>
            <a:off x="7143840" y="928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4-конечная звезда 3"/>
          <p:cNvSpPr/>
          <p:nvPr/>
        </p:nvSpPr>
        <p:spPr>
          <a:xfrm>
            <a:off x="5715000" y="3214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DSCN3079.JPG" descr="C:\Users\Пользователь\Desktop\школьные фото\DSCN3079.JPG"/>
          <p:cNvPicPr/>
          <p:nvPr/>
        </p:nvPicPr>
        <p:blipFill>
          <a:blip r:embed=""/>
          <a:stretch/>
        </p:blipFill>
        <p:spPr>
          <a:xfrm>
            <a:off x="571680" y="142920"/>
            <a:ext cx="5529240" cy="614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286320" y="264960"/>
            <a:ext cx="2003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кажем вам сегодня честно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чень в школе интересно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о ещё нам путь неведом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проснуться Архимед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-конечная звезда 3"/>
          <p:cNvSpPr/>
          <p:nvPr/>
        </p:nvSpPr>
        <p:spPr>
          <a:xfrm>
            <a:off x="6215040" y="2857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4-конечная звезда 4"/>
          <p:cNvSpPr/>
          <p:nvPr/>
        </p:nvSpPr>
        <p:spPr>
          <a:xfrm>
            <a:off x="7429680" y="3786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 В СТОЛОВУЮ БЕГ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ОРМУ ВЫПОЛНЯЮТ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И ВСЕ ИД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ТИХО КОВЫЛЯЮТ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DSCN3080.JPG" descr="C:\Users\Пользователь\Desktop\DSCN3080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64" name="DSCN3081.JPG" descr="C:\Users\Пользователь\Desktop\DSCN3081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65" name="4-конечная звезда 5"/>
          <p:cNvSpPr/>
          <p:nvPr/>
        </p:nvSpPr>
        <p:spPr>
          <a:xfrm>
            <a:off x="5500800" y="5000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-конечная звезда 6"/>
          <p:cNvSpPr/>
          <p:nvPr/>
        </p:nvSpPr>
        <p:spPr>
          <a:xfrm>
            <a:off x="185724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DSCN3080.JPG" descr="C:\Users\Пользователь\Desktop\школьные фото\DSCN3080.JPG"/>
          <p:cNvPicPr/>
          <p:nvPr/>
        </p:nvPicPr>
        <p:blipFill>
          <a:blip r:embed=""/>
          <a:stretch/>
        </p:blipFill>
        <p:spPr>
          <a:xfrm>
            <a:off x="214200" y="1643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368" name="DSCN3081.JPG" descr="C:\Users\Пользователь\Desktop\школьные фото\DSCN3081.JPG"/>
          <p:cNvPicPr/>
          <p:nvPr/>
        </p:nvPicPr>
        <p:blipFill>
          <a:blip r:embed=""/>
          <a:stretch/>
        </p:blipFill>
        <p:spPr>
          <a:xfrm>
            <a:off x="4500720" y="1643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 УРОКЕ ФИЗКУЛЬТУРЫ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РОБЕЖАЛИ ПЯТЬ КРУГОВ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МЫ БЕЖАЛИ, МЫ БЕЖАЛИ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Х, КАК МЫ УЖЕ УСТАЛИ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DSCN3098.JPG" descr="C:\Users\Пользователь\Desktop\DSCN3098.JPG"/>
          <p:cNvPicPr/>
          <p:nvPr/>
        </p:nvPicPr>
        <p:blipFill>
          <a:blip r:embed="rId1"/>
          <a:stretch/>
        </p:blipFill>
        <p:spPr>
          <a:xfrm>
            <a:off x="1579680" y="3181320"/>
            <a:ext cx="1412640" cy="1409760"/>
          </a:xfrm>
          <a:prstGeom prst="rect">
            <a:avLst/>
          </a:prstGeom>
          <a:ln w="0">
            <a:noFill/>
          </a:ln>
        </p:spPr>
      </p:pic>
      <p:pic>
        <p:nvPicPr>
          <p:cNvPr id="371" name="DSCN3092.JPG" descr="C:\Users\Пользователь\Desktop\школьные фото\DSCN3092.JPG"/>
          <p:cNvPicPr/>
          <p:nvPr/>
        </p:nvPicPr>
        <p:blipFill>
          <a:blip r:embed="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DSCN3092.JPG" descr="C:\Users\Пользователь\Desktop\DSCN3092.JPG"/>
          <p:cNvPicPr/>
          <p:nvPr/>
        </p:nvPicPr>
        <p:blipFill>
          <a:blip r:embed="rId2"/>
          <a:stretch/>
        </p:blipFill>
        <p:spPr>
          <a:xfrm>
            <a:off x="281160" y="156672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373" name="4-конечная звезда 4"/>
          <p:cNvSpPr/>
          <p:nvPr/>
        </p:nvSpPr>
        <p:spPr>
          <a:xfrm>
            <a:off x="6215040" y="785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4-конечная звезда 7"/>
          <p:cNvSpPr/>
          <p:nvPr/>
        </p:nvSpPr>
        <p:spPr>
          <a:xfrm>
            <a:off x="857160" y="5072040"/>
            <a:ext cx="1143000" cy="121464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500400 h 1214640"/>
              <a:gd name="textAreaBottom" fmla="*/ 71424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DSCN3098.JPG" descr="C:\Users\Пользователь\Desktop\школьные фото\DSCN3098.JPG"/>
          <p:cNvPicPr/>
          <p:nvPr/>
        </p:nvPicPr>
        <p:blipFill>
          <a:blip r:embed=""/>
          <a:stretch/>
        </p:blipFill>
        <p:spPr>
          <a:xfrm>
            <a:off x="214200" y="20001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SCN3085.JPG" descr="C:\Users\Пользователь\Desktop\школьные фото\DSCN3085.JPG"/>
          <p:cNvPicPr/>
          <p:nvPr/>
        </p:nvPicPr>
        <p:blipFill>
          <a:blip r:embed=""/>
          <a:stretch/>
        </p:blipFill>
        <p:spPr>
          <a:xfrm>
            <a:off x="214200" y="285840"/>
            <a:ext cx="514368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286320" y="499680"/>
            <a:ext cx="25002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тематика трудна –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ем известная о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удем думать и гадать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 задачи нам решать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4-конечная звезда 6"/>
          <p:cNvSpPr/>
          <p:nvPr/>
        </p:nvSpPr>
        <p:spPr>
          <a:xfrm>
            <a:off x="6643800" y="2286000"/>
            <a:ext cx="699840" cy="857160"/>
          </a:xfrm>
          <a:custGeom>
            <a:avLst/>
            <a:gdLst>
              <a:gd name="textAreaLeft" fmla="*/ 288360 w 699840"/>
              <a:gd name="textAreaRight" fmla="*/ 411480 w 69984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-конечная звезда 7"/>
          <p:cNvSpPr/>
          <p:nvPr/>
        </p:nvSpPr>
        <p:spPr>
          <a:xfrm>
            <a:off x="4643280" y="578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 rot="16200000">
            <a:off x="-2463840" y="2178000"/>
            <a:ext cx="57150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БЕДИТЕЛИ ОЛИМПИАДЫ ПО МАТЕМАТИКЕ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357960" y="357120"/>
            <a:ext cx="2357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, дети математику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на поможет в жизни вам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стичь высот, познать галактику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ететь к загадочным мирам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DSCN3102.JPG" descr="C:\Users\Пользователь\Desktop\школьные фото\DSCN3102.JPG"/>
          <p:cNvPicPr/>
          <p:nvPr/>
        </p:nvPicPr>
        <p:blipFill>
          <a:blip r:embed=""/>
          <a:stretch/>
        </p:blipFill>
        <p:spPr>
          <a:xfrm>
            <a:off x="571680" y="92880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383" name="4-конечная звезда 6"/>
          <p:cNvSpPr/>
          <p:nvPr/>
        </p:nvSpPr>
        <p:spPr>
          <a:xfrm>
            <a:off x="7358040" y="30002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-конечная звезда 7"/>
          <p:cNvSpPr/>
          <p:nvPr/>
        </p:nvSpPr>
        <p:spPr>
          <a:xfrm>
            <a:off x="5072040" y="4786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ЕЁ КАРИНОЮ  ЗОВУТ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ОНА СНЕГУРОЧКА У НАС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 А ДЕВЧОНКА – ПРОСТО КЛАСС!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DSCN2973.JPG" descr="C:\Users\Пользователь\Desktop\DSCN2973.JPG"/>
          <p:cNvPicPr/>
          <p:nvPr/>
        </p:nvPicPr>
        <p:blipFill>
          <a:blip r:embed="rId1"/>
          <a:stretch/>
        </p:blipFill>
        <p:spPr>
          <a:xfrm>
            <a:off x="798480" y="1884240"/>
            <a:ext cx="2773440" cy="3687840"/>
          </a:xfrm>
          <a:prstGeom prst="rect">
            <a:avLst/>
          </a:prstGeom>
          <a:ln w="0">
            <a:noFill/>
          </a:ln>
        </p:spPr>
      </p:pic>
      <p:pic>
        <p:nvPicPr>
          <p:cNvPr id="387" name="DSCN2996.JPG" descr="C:\Users\Пользователь\Desktop\DSCN2996.JPG"/>
          <p:cNvPicPr/>
          <p:nvPr/>
        </p:nvPicPr>
        <p:blipFill>
          <a:blip r:embed="rId2"/>
          <a:stretch/>
        </p:blipFill>
        <p:spPr>
          <a:xfrm>
            <a:off x="4711680" y="2036880"/>
            <a:ext cx="2774880" cy="3693960"/>
          </a:xfrm>
          <a:prstGeom prst="rect">
            <a:avLst/>
          </a:prstGeom>
          <a:ln w="0">
            <a:noFill/>
          </a:ln>
        </p:spPr>
      </p:pic>
      <p:sp>
        <p:nvSpPr>
          <p:cNvPr id="388" name="4-конечная звезда 9"/>
          <p:cNvSpPr/>
          <p:nvPr/>
        </p:nvSpPr>
        <p:spPr>
          <a:xfrm>
            <a:off x="657216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-конечная звезда 10"/>
          <p:cNvSpPr/>
          <p:nvPr/>
        </p:nvSpPr>
        <p:spPr>
          <a:xfrm>
            <a:off x="3857760" y="857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DSCN2996.JPG" descr="C:\Users\Пользователь\Desktop\школьные фото\DSCN2996.JPG"/>
          <p:cNvPicPr/>
          <p:nvPr/>
        </p:nvPicPr>
        <p:blipFill>
          <a:blip r:embed="rId3"/>
          <a:stretch/>
        </p:blipFill>
        <p:spPr>
          <a:xfrm>
            <a:off x="4438800" y="1384200"/>
            <a:ext cx="3619440" cy="4815000"/>
          </a:xfrm>
          <a:prstGeom prst="rect">
            <a:avLst/>
          </a:prstGeom>
          <a:ln w="0">
            <a:noFill/>
          </a:ln>
        </p:spPr>
      </p:pic>
      <p:pic>
        <p:nvPicPr>
          <p:cNvPr id="391" name="DSCN2976.JPG" descr="C:\Users\Пользователь\Desktop\школьные фото\DSCN2976.JPG"/>
          <p:cNvPicPr/>
          <p:nvPr/>
        </p:nvPicPr>
        <p:blipFill>
          <a:blip r:embed="rId4"/>
          <a:stretch/>
        </p:blipFill>
        <p:spPr>
          <a:xfrm>
            <a:off x="566640" y="1395360"/>
            <a:ext cx="3548160" cy="4719600"/>
          </a:xfrm>
          <a:prstGeom prst="rect">
            <a:avLst/>
          </a:prstGeom>
          <a:ln w="0">
            <a:noFill/>
          </a:ln>
        </p:spPr>
      </p:pic>
      <p:sp>
        <p:nvSpPr>
          <p:cNvPr id="392" name="4-конечная звезда 12"/>
          <p:cNvSpPr/>
          <p:nvPr/>
        </p:nvSpPr>
        <p:spPr>
          <a:xfrm>
            <a:off x="2143080" y="54291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РУКОДЕЛЬЮ НАС ЗДЕСЬ УЧАТ: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СЕХ ПОДЕЛОК НЕ ПЕРЕЧЕСТЬ.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З БУМАГИ ВСЁ МЫ СКЛЕИМ,</a:t>
            </a:r>
            <a:br>
              <a:rPr sz="1600"/>
            </a:b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И У ВСЕХ ТАЛАНТЫ ЕСТЬ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DSCN3099.JPG" descr="C:\Users\Пользователь\Desktop\DSCN3099.JPG"/>
          <p:cNvPicPr/>
          <p:nvPr/>
        </p:nvPicPr>
        <p:blipFill>
          <a:blip r:embed=""/>
          <a:stretch/>
        </p:blipFill>
        <p:spPr>
          <a:xfrm>
            <a:off x="1587600" y="3187800"/>
            <a:ext cx="1396800" cy="1396800"/>
          </a:xfrm>
          <a:prstGeom prst="rect">
            <a:avLst/>
          </a:prstGeom>
          <a:ln w="0">
            <a:noFill/>
          </a:ln>
        </p:spPr>
      </p:pic>
      <p:pic>
        <p:nvPicPr>
          <p:cNvPr id="395" name="DSCN3100.JPG" descr="C:\Users\Пользователь\Desktop\DSCN3100.JPG"/>
          <p:cNvPicPr/>
          <p:nvPr/>
        </p:nvPicPr>
        <p:blipFill>
          <a:blip r:embed=""/>
          <a:stretch/>
        </p:blipFill>
        <p:spPr>
          <a:xfrm>
            <a:off x="5400720" y="318780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396" name="4-конечная звезда 5"/>
          <p:cNvSpPr/>
          <p:nvPr/>
        </p:nvSpPr>
        <p:spPr>
          <a:xfrm>
            <a:off x="2786040" y="1428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-конечная звезда 6"/>
          <p:cNvSpPr/>
          <p:nvPr/>
        </p:nvSpPr>
        <p:spPr>
          <a:xfrm>
            <a:off x="5857920" y="142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SCN3099.JPG" descr="C:\Users\Пользователь\Desktop\школьные фото\DSCN3099.JPG"/>
          <p:cNvPicPr/>
          <p:nvPr/>
        </p:nvPicPr>
        <p:blipFill>
          <a:blip r:embed=""/>
          <a:stretch/>
        </p:blipFill>
        <p:spPr>
          <a:xfrm>
            <a:off x="500040" y="2714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399" name="DSCN3100.JPG" descr="C:\Users\Пользователь\Desktop\школьные фото\DSCN3100.JPG"/>
          <p:cNvPicPr/>
          <p:nvPr/>
        </p:nvPicPr>
        <p:blipFill>
          <a:blip r:embed=""/>
          <a:stretch/>
        </p:blipFill>
        <p:spPr>
          <a:xfrm>
            <a:off x="4714920" y="200016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2:10:49Z</dcterms:created>
  <dc:creator>Пользователь</dc:creator>
  <dc:description/>
  <dc:language>en-US</dc:language>
  <cp:lastModifiedBy>Пользователь</cp:lastModifiedBy>
  <dcterms:modified xsi:type="dcterms:W3CDTF">2013-01-16T14:15:07Z</dcterms:modified>
  <cp:revision>28</cp:revision>
  <dc:subject/>
  <dc:title>Слайд 1</dc:title>
</cp:coreProperties>
</file>