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39F4-39B1-46D5-A6DE-1D58C32A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B2DF-A31A-498F-80C4-95E186ED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FB0-87AB-467B-B074-9B340918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6FA-6C98-4398-8422-4F0F4032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6428-DA57-41D2-BA6E-03EA805F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DAF5-4E23-4AEF-BF0C-048D1F1C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B765-4D7A-4B56-8081-7B1D1898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41B5-FABE-4A18-951D-6460027A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BBA2-066B-4A88-BF9B-6601A195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DE34-F134-48C9-8C4D-BF4EA713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D270-215D-46E1-A4A3-65AE609A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E81-6D1C-46FB-9851-3277644C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EC4F-7E58-4588-8B9B-69096B3C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2304-28AD-4739-A986-BB76001B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D868-7F0B-4FF9-8751-926064F7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AF71-2606-4D37-9E63-547D0E83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1DD7-A368-449A-AADF-3DED0155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776B2-8139-4FB6-959D-1A88DE16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57AE1-FD71-46B9-989D-F5F88DA7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8DC7D-6525-41D3-AFED-7A3BB42A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C3FE2-C60B-4809-8819-FC5B5BED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BC822-B506-4F65-B7BC-9C960ED6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0CB-1D65-4AA1-91B3-6F902DBC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09749-4A24-47B4-B669-D2BAAF34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E6461-8EDD-4EAA-A639-2980DF2F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F742F-891C-446C-896B-A6787782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0E170-3102-4940-8EDF-17D927FC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ADB77-3575-4BBB-9D9C-AF874C25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088DD-3703-43B6-A5BF-717E16B1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31EC0A-3466-481A-996B-492EDE6E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7D986-95FF-4EE1-899C-9231FD74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F8A71-D9D0-4B4D-8BB0-FD2D92A1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E731B-B957-449F-8542-08E0253F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001-B72C-409C-8748-41F5F1D9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1AA6F-6451-40F2-BB73-BF10A475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E190F-3866-4CF3-A9CF-F4E8B11A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863B0-3623-4EF0-BABE-ABF313A7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06DF8-A1E1-4179-B5C8-F488EAFD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DA9B2-110D-4E43-A7B5-EF63D1B6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CA2BF-5F8A-47FA-A11C-D4A5CAB4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C8F8F-9C08-4DB5-9971-78CEFA1F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5DE65-6DC4-41DA-A97A-71459A67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00F6C-AD56-44BC-87AE-C1AF4794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9CB8EB-EEBC-4271-83C3-00CFF039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CD1-46B5-4EB8-AECD-B3098249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E0CB2-624A-4393-A458-96278AEF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3F5E02-5307-4100-AED4-F4D68BB0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722DD3-4341-4AF7-94E3-F4F8E0CF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B905AD-28EE-4E4F-89CA-ED70552F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66B78F-1D39-4DB7-BE28-A68FEE6E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6D64CB-3444-41E5-AD54-4B9D6902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02653-F2C6-4A73-9DA2-C8CB5953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D14D3-E472-45B2-A094-6D9D5755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420DE-44EA-41F1-814B-13AA23E1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BE17C5-7704-474A-8879-17B077F2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A27-C08B-4817-9E73-B6F1ED89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E3111F-100D-40EF-97B6-2CADC36F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4DE548-D59D-44AD-AECF-63B639F0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5CB0F0-BB4A-4900-A4B5-04A697B9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72108-7C85-421C-A621-7F14D82E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3A4016-8AF5-48EC-8E1B-AF73865B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013E27-36B5-4FFF-9247-D44B92CC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CD95B9-41D5-4C82-ACE2-929BC22E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3009EB-248E-49D4-9CE7-BD95ED8D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5E3D0C-3B16-4542-BCE1-CCDF7837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8C6050-ECFB-4B70-9056-444A2DFE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6D2-65CF-4713-AE02-E27D516D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0F1280-A9E2-4630-8DC6-9E65A513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7A5EA-914C-4844-A556-132E4723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F9BA1E-3CDE-4A9E-86DB-B19ECFA4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668532-2116-48BD-90E7-678A070F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72C826-F3D5-43B5-B301-6ADE78C3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7263CD-44B9-42DE-9AAF-7C55F1A5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C6DC87-2644-4645-86A3-27C53931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84D847-A10A-4B77-8EE3-E58E1B6C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396635-B242-4B40-BA80-31596687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EAEDA1-0A9C-434A-A6B9-B7DCA0F0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272-2A75-4C3F-A142-1FA07C3B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218E47-BFC2-4494-9165-4C365604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B97F2B-7923-4763-B4F6-A5C8F133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93DEE9-392E-4CD9-A4F4-A93BD333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9F1342-9BF9-4B47-AEA2-36FBFAE8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613682-09D0-4E24-AA44-FE8748C1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03C8-FAD7-445E-A110-5E480FA1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A32F-B2A3-4122-9C91-168EDA06959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8D13-485D-4FF4-A2CE-3C2E7561D85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B36C-6E54-4FC4-A854-B85A2F6065F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960E-3906-45D7-9DEB-6E6C0874D83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9090-60AC-42E0-9FA8-A4B3D090C84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5339-1FB2-413E-A3A1-ED4C9FE0575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B814-97A4-4464-9729-3AABD9671B1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285480"/>
            <a:ext cx="46432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3 «В»  ВАМ ПРЕДСТАВЛЯЕМ,</a:t>
            </a:r>
            <a:br>
              <a:rPr sz="2400"/>
            </a:b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НАШ БОЛЬШОЙ ВЕСЁЛЫЙ КЛАСС!</a:t>
            </a:r>
            <a:br>
              <a:rPr sz="2400"/>
            </a:b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«В» – ВЕСЕЛЬЕ ОЗНАЧАЕТ, </a:t>
            </a:r>
            <a:br>
              <a:rPr sz="2400"/>
            </a:b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И ЛЮБОЙ, КТО ЭТО ЗНАЕТ,</a:t>
            </a:r>
            <a:br>
              <a:rPr sz="2400"/>
            </a:b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СКАЖЕТ – ЭТО ВСЁ ПРО НАС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Пятно 2 2"/>
          <p:cNvSpPr/>
          <p:nvPr/>
        </p:nvSpPr>
        <p:spPr>
          <a:xfrm>
            <a:off x="714240" y="1357200"/>
            <a:ext cx="914400" cy="914400"/>
          </a:xfrm>
          <a:prstGeom prst="irregularSeal2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ятно 2 4"/>
          <p:cNvSpPr/>
          <p:nvPr/>
        </p:nvSpPr>
        <p:spPr>
          <a:xfrm>
            <a:off x="7072200" y="1428840"/>
            <a:ext cx="914400" cy="914400"/>
          </a:xfrm>
          <a:prstGeom prst="irregularSeal2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ятно 2 5"/>
          <p:cNvSpPr/>
          <p:nvPr/>
        </p:nvSpPr>
        <p:spPr>
          <a:xfrm>
            <a:off x="3143160" y="5572080"/>
            <a:ext cx="914400" cy="914400"/>
          </a:xfrm>
          <a:prstGeom prst="irregularSeal2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DSCN3078.JPG" descr="C:\Users\Пользователь\Desktop\DSCN3078.JPG"/>
          <p:cNvPicPr/>
          <p:nvPr/>
        </p:nvPicPr>
        <p:blipFill>
          <a:blip r:embed="rId1"/>
          <a:stretch/>
        </p:blipFill>
        <p:spPr>
          <a:xfrm>
            <a:off x="1719360" y="1481040"/>
            <a:ext cx="3290760" cy="36576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6214680" y="357120"/>
            <a:ext cx="25002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Мы с весёлыми друзьями вдаль на школьном кораб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оплывём по морю Знан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К неизведанной земле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4-конечная звезда 11"/>
          <p:cNvSpPr/>
          <p:nvPr/>
        </p:nvSpPr>
        <p:spPr>
          <a:xfrm>
            <a:off x="3357720" y="27147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4-конечная звезда 13"/>
          <p:cNvSpPr/>
          <p:nvPr/>
        </p:nvSpPr>
        <p:spPr>
          <a:xfrm>
            <a:off x="2071800" y="2214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4-конечная звезда 14"/>
          <p:cNvSpPr/>
          <p:nvPr/>
        </p:nvSpPr>
        <p:spPr>
          <a:xfrm>
            <a:off x="3429000" y="25002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4-конечная звезда 15"/>
          <p:cNvSpPr/>
          <p:nvPr/>
        </p:nvSpPr>
        <p:spPr>
          <a:xfrm>
            <a:off x="1071720" y="5786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4-конечная звезда 16"/>
          <p:cNvSpPr/>
          <p:nvPr/>
        </p:nvSpPr>
        <p:spPr>
          <a:xfrm>
            <a:off x="500040" y="3571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4-конечная звезда 17"/>
          <p:cNvSpPr/>
          <p:nvPr/>
        </p:nvSpPr>
        <p:spPr>
          <a:xfrm>
            <a:off x="4286160" y="55008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4-конечная звезда 18"/>
          <p:cNvSpPr/>
          <p:nvPr/>
        </p:nvSpPr>
        <p:spPr>
          <a:xfrm>
            <a:off x="3214800" y="25002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4-конечная звезда 19"/>
          <p:cNvSpPr/>
          <p:nvPr/>
        </p:nvSpPr>
        <p:spPr>
          <a:xfrm>
            <a:off x="5072040" y="31431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DSCN3078.JPG" descr="C:\Users\Пользователь\Desktop\школьные фото\DSCN3078.JPG"/>
          <p:cNvPicPr/>
          <p:nvPr/>
        </p:nvPicPr>
        <p:blipFill>
          <a:blip r:embed=""/>
          <a:stretch/>
        </p:blipFill>
        <p:spPr>
          <a:xfrm>
            <a:off x="642960" y="11430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411" name="4-конечная звезда 20"/>
          <p:cNvSpPr/>
          <p:nvPr/>
        </p:nvSpPr>
        <p:spPr>
          <a:xfrm>
            <a:off x="3357720" y="25002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4-конечная звезда 21"/>
          <p:cNvSpPr/>
          <p:nvPr/>
        </p:nvSpPr>
        <p:spPr>
          <a:xfrm>
            <a:off x="4071960" y="5000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4-конечная звезда 22"/>
          <p:cNvSpPr/>
          <p:nvPr/>
        </p:nvSpPr>
        <p:spPr>
          <a:xfrm>
            <a:off x="1928880" y="19288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35336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АС СФОТОГРАФИРОВАЛИ КЛАССОМ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Я НА ФОТОГРАФИЮ ГЛЯЖУ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АСТЯ С БАНТОМ, ПОЛЯ С ЛЕРОЙ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И СЕБЯ, КОНЕЧНО, НАХОЖУ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ЭТО ГЕРА – МАТЕМАТИК ПЕРВЫЙ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ЭТО МИША – ПЕРВЫЙ ОЗОРНИК,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СЛЕВА ЮРА – ТИХИЙ И ПРИМЕРНЫЙ, 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СПРАВА ДЮХА – ЛУЧШИЙ УЧЕНИК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ВОТ КАРИНА – ГЛАВНАЯ КРАСАВИЦА,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РЯДОМ ВИКА, ТА, ЧТО ЛУЧШЕ ВСЕХ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ВОТ ЕГОР. ОН МНЕ НРАВИТСЯ: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У НЕГО ТАКОЙ ВЕСЁЛЫЙ СМЕХ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У А ЭТО – ДРУГ МОЙ ВЕРНЫЙ КОЛЯ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САША В ЦЕНТРЕ, СРЕДИ НАС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ДА И МЫ – ОБЫЧНЫЙ ШКОЛЬНЫЙ КЛАСС.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4-конечная звезда 2"/>
          <p:cNvSpPr/>
          <p:nvPr/>
        </p:nvSpPr>
        <p:spPr>
          <a:xfrm>
            <a:off x="7143840" y="9288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4-конечная звезда 3"/>
          <p:cNvSpPr/>
          <p:nvPr/>
        </p:nvSpPr>
        <p:spPr>
          <a:xfrm>
            <a:off x="5715000" y="32148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DSCN3079.JPG" descr="C:\Users\Пользователь\Desktop\школьные фото\DSCN3079.JPG"/>
          <p:cNvPicPr/>
          <p:nvPr/>
        </p:nvPicPr>
        <p:blipFill>
          <a:blip r:embed=""/>
          <a:stretch/>
        </p:blipFill>
        <p:spPr>
          <a:xfrm>
            <a:off x="571680" y="142920"/>
            <a:ext cx="5529240" cy="61437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286320" y="264960"/>
            <a:ext cx="200340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кажем вам сегодня честно –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чень в школе интересно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Но ещё нам путь неведом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Как проснуться Архимедом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4-конечная звезда 3"/>
          <p:cNvSpPr/>
          <p:nvPr/>
        </p:nvSpPr>
        <p:spPr>
          <a:xfrm>
            <a:off x="6215040" y="28576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4-конечная звезда 4"/>
          <p:cNvSpPr/>
          <p:nvPr/>
        </p:nvSpPr>
        <p:spPr>
          <a:xfrm>
            <a:off x="7429680" y="37861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ВСЕ В СТОЛОВУЮ БЕГУТ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НОРМУ ВЫПОЛНЯЮТ.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НА УРОКИ ВСЕ ИДУТ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ТИХО КОВЫЛЯЮТ.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DSCN3080.JPG" descr="C:\Users\Пользователь\Desktop\DSCN3080.JPG"/>
          <p:cNvPicPr/>
          <p:nvPr/>
        </p:nvPicPr>
        <p:blipFill>
          <a:blip r:embed=""/>
          <a:stretch/>
        </p:blipFill>
        <p:spPr>
          <a:xfrm>
            <a:off x="1587600" y="3187800"/>
            <a:ext cx="1396800" cy="1396800"/>
          </a:xfrm>
          <a:prstGeom prst="rect">
            <a:avLst/>
          </a:prstGeom>
          <a:ln w="0">
            <a:noFill/>
          </a:ln>
        </p:spPr>
      </p:pic>
      <p:pic>
        <p:nvPicPr>
          <p:cNvPr id="364" name="DSCN3081.JPG" descr="C:\Users\Пользователь\Desktop\DSCN3081.JPG"/>
          <p:cNvPicPr/>
          <p:nvPr/>
        </p:nvPicPr>
        <p:blipFill>
          <a:blip r:embed=""/>
          <a:stretch/>
        </p:blipFill>
        <p:spPr>
          <a:xfrm>
            <a:off x="5400720" y="3187800"/>
            <a:ext cx="1396800" cy="1396800"/>
          </a:xfrm>
          <a:prstGeom prst="rect">
            <a:avLst/>
          </a:prstGeom>
          <a:ln w="0">
            <a:noFill/>
          </a:ln>
        </p:spPr>
      </p:pic>
      <p:sp>
        <p:nvSpPr>
          <p:cNvPr id="365" name="4-конечная звезда 5"/>
          <p:cNvSpPr/>
          <p:nvPr/>
        </p:nvSpPr>
        <p:spPr>
          <a:xfrm>
            <a:off x="5500800" y="5000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4-конечная звезда 6"/>
          <p:cNvSpPr/>
          <p:nvPr/>
        </p:nvSpPr>
        <p:spPr>
          <a:xfrm>
            <a:off x="1857240" y="5572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DSCN3080.JPG" descr="C:\Users\Пользователь\Desktop\школьные фото\DSCN3080.JPG"/>
          <p:cNvPicPr/>
          <p:nvPr/>
        </p:nvPicPr>
        <p:blipFill>
          <a:blip r:embed=""/>
          <a:stretch/>
        </p:blipFill>
        <p:spPr>
          <a:xfrm>
            <a:off x="214200" y="164304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368" name="DSCN3081.JPG" descr="C:\Users\Пользователь\Desktop\школьные фото\DSCN3081.JPG"/>
          <p:cNvPicPr/>
          <p:nvPr/>
        </p:nvPicPr>
        <p:blipFill>
          <a:blip r:embed=""/>
          <a:stretch/>
        </p:blipFill>
        <p:spPr>
          <a:xfrm>
            <a:off x="4500720" y="1643040"/>
            <a:ext cx="3904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НА УРОКЕ ФИЗКУЛЬТУРЫ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ПРОБЕЖАЛИ ПЯТЬ КРУГОВ.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МЫ БЕЖАЛИ, МЫ БЕЖАЛИ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ОХ, КАК МЫ УЖЕ УСТАЛИ.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DSCN3098.JPG" descr="C:\Users\Пользователь\Desktop\DSCN3098.JPG"/>
          <p:cNvPicPr/>
          <p:nvPr/>
        </p:nvPicPr>
        <p:blipFill>
          <a:blip r:embed="rId1"/>
          <a:stretch/>
        </p:blipFill>
        <p:spPr>
          <a:xfrm>
            <a:off x="1579680" y="3181320"/>
            <a:ext cx="1412640" cy="1409760"/>
          </a:xfrm>
          <a:prstGeom prst="rect">
            <a:avLst/>
          </a:prstGeom>
          <a:ln w="0">
            <a:noFill/>
          </a:ln>
        </p:spPr>
      </p:pic>
      <p:pic>
        <p:nvPicPr>
          <p:cNvPr id="371" name="DSCN3092.JPG" descr="C:\Users\Пользователь\Desktop\школьные фото\DSCN3092.JPG"/>
          <p:cNvPicPr/>
          <p:nvPr/>
        </p:nvPicPr>
        <p:blipFill>
          <a:blip r:embed=""/>
          <a:stretch/>
        </p:blipFill>
        <p:spPr>
          <a:xfrm>
            <a:off x="4270320" y="2514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72" name="DSCN3092.JPG" descr="C:\Users\Пользователь\Desktop\DSCN3092.JPG"/>
          <p:cNvPicPr/>
          <p:nvPr/>
        </p:nvPicPr>
        <p:blipFill>
          <a:blip r:embed="rId2"/>
          <a:stretch/>
        </p:blipFill>
        <p:spPr>
          <a:xfrm>
            <a:off x="281160" y="1566720"/>
            <a:ext cx="4035240" cy="3029040"/>
          </a:xfrm>
          <a:prstGeom prst="rect">
            <a:avLst/>
          </a:prstGeom>
          <a:ln w="0">
            <a:noFill/>
          </a:ln>
        </p:spPr>
      </p:pic>
      <p:sp>
        <p:nvSpPr>
          <p:cNvPr id="373" name="4-конечная звезда 4"/>
          <p:cNvSpPr/>
          <p:nvPr/>
        </p:nvSpPr>
        <p:spPr>
          <a:xfrm>
            <a:off x="6215040" y="7858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4-конечная звезда 7"/>
          <p:cNvSpPr/>
          <p:nvPr/>
        </p:nvSpPr>
        <p:spPr>
          <a:xfrm>
            <a:off x="857160" y="5072040"/>
            <a:ext cx="1143000" cy="1214640"/>
          </a:xfrm>
          <a:custGeom>
            <a:avLst/>
            <a:gdLst>
              <a:gd name="textAreaLeft" fmla="*/ 470880 w 1143000"/>
              <a:gd name="textAreaRight" fmla="*/ 672120 w 1143000"/>
              <a:gd name="textAreaTop" fmla="*/ 500400 h 1214640"/>
              <a:gd name="textAreaBottom" fmla="*/ 71424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DSCN3098.JPG" descr="C:\Users\Пользователь\Desktop\школьные фото\DSCN3098.JPG"/>
          <p:cNvPicPr/>
          <p:nvPr/>
        </p:nvPicPr>
        <p:blipFill>
          <a:blip r:embed=""/>
          <a:stretch/>
        </p:blipFill>
        <p:spPr>
          <a:xfrm>
            <a:off x="214200" y="2000160"/>
            <a:ext cx="36435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DSCN3085.JPG" descr="C:\Users\Пользователь\Desktop\школьные фото\DSCN3085.JPG"/>
          <p:cNvPicPr/>
          <p:nvPr/>
        </p:nvPicPr>
        <p:blipFill>
          <a:blip r:embed=""/>
          <a:stretch/>
        </p:blipFill>
        <p:spPr>
          <a:xfrm>
            <a:off x="214200" y="285840"/>
            <a:ext cx="5143680" cy="5715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286320" y="499680"/>
            <a:ext cx="25002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Математика трудна –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Всем известная он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Будем думать и гадать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Как задачи нам решать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4-конечная звезда 6"/>
          <p:cNvSpPr/>
          <p:nvPr/>
        </p:nvSpPr>
        <p:spPr>
          <a:xfrm>
            <a:off x="6643800" y="2286000"/>
            <a:ext cx="699840" cy="857160"/>
          </a:xfrm>
          <a:custGeom>
            <a:avLst/>
            <a:gdLst>
              <a:gd name="textAreaLeft" fmla="*/ 288360 w 699840"/>
              <a:gd name="textAreaRight" fmla="*/ 411480 w 699840"/>
              <a:gd name="textAreaTop" fmla="*/ 353160 h 857160"/>
              <a:gd name="textAreaBottom" fmla="*/ 504000 h 85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4-конечная звезда 7"/>
          <p:cNvSpPr/>
          <p:nvPr/>
        </p:nvSpPr>
        <p:spPr>
          <a:xfrm>
            <a:off x="4643280" y="5786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 rot="16200000">
            <a:off x="-2463840" y="2178000"/>
            <a:ext cx="571500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ОБЕДИТЕЛИ ОЛИМПИАДЫ ПО МАТЕМАТИКЕ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357960" y="357120"/>
            <a:ext cx="23572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чите, дети математику!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на поможет в жизни вам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Достичь высот, познать галактику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Лететь к загадочным мирам!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DSCN3102.JPG" descr="C:\Users\Пользователь\Desktop\школьные фото\DSCN3102.JPG"/>
          <p:cNvPicPr/>
          <p:nvPr/>
        </p:nvPicPr>
        <p:blipFill>
          <a:blip r:embed=""/>
          <a:stretch/>
        </p:blipFill>
        <p:spPr>
          <a:xfrm>
            <a:off x="571680" y="92880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383" name="4-конечная звезда 6"/>
          <p:cNvSpPr/>
          <p:nvPr/>
        </p:nvSpPr>
        <p:spPr>
          <a:xfrm>
            <a:off x="7358040" y="30002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4-конечная звезда 7"/>
          <p:cNvSpPr/>
          <p:nvPr/>
        </p:nvSpPr>
        <p:spPr>
          <a:xfrm>
            <a:off x="5072040" y="47862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ЕЁ КАРИНОЮ  ЗОВУТ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ОНА СНЕГУРОЧКА У НАС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 А ДЕВЧОНКА – ПРОСТО КЛАСС!</a:t>
            </a:r>
            <a:br>
              <a:rPr sz="16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DSCN2973.JPG" descr="C:\Users\Пользователь\Desktop\DSCN2973.JPG"/>
          <p:cNvPicPr/>
          <p:nvPr/>
        </p:nvPicPr>
        <p:blipFill>
          <a:blip r:embed="rId1"/>
          <a:stretch/>
        </p:blipFill>
        <p:spPr>
          <a:xfrm>
            <a:off x="798480" y="1884240"/>
            <a:ext cx="2773440" cy="3687840"/>
          </a:xfrm>
          <a:prstGeom prst="rect">
            <a:avLst/>
          </a:prstGeom>
          <a:ln w="0">
            <a:noFill/>
          </a:ln>
        </p:spPr>
      </p:pic>
      <p:pic>
        <p:nvPicPr>
          <p:cNvPr id="387" name="DSCN2996.JPG" descr="C:\Users\Пользователь\Desktop\DSCN2996.JPG"/>
          <p:cNvPicPr/>
          <p:nvPr/>
        </p:nvPicPr>
        <p:blipFill>
          <a:blip r:embed="rId2"/>
          <a:stretch/>
        </p:blipFill>
        <p:spPr>
          <a:xfrm>
            <a:off x="4711680" y="2036880"/>
            <a:ext cx="2774880" cy="3693960"/>
          </a:xfrm>
          <a:prstGeom prst="rect">
            <a:avLst/>
          </a:prstGeom>
          <a:ln w="0">
            <a:noFill/>
          </a:ln>
        </p:spPr>
      </p:pic>
      <p:sp>
        <p:nvSpPr>
          <p:cNvPr id="388" name="4-конечная звезда 9"/>
          <p:cNvSpPr/>
          <p:nvPr/>
        </p:nvSpPr>
        <p:spPr>
          <a:xfrm>
            <a:off x="6572160" y="1429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4-конечная звезда 10"/>
          <p:cNvSpPr/>
          <p:nvPr/>
        </p:nvSpPr>
        <p:spPr>
          <a:xfrm>
            <a:off x="3857760" y="8571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DSCN2996.JPG" descr="C:\Users\Пользователь\Desktop\школьные фото\DSCN2996.JPG"/>
          <p:cNvPicPr/>
          <p:nvPr/>
        </p:nvPicPr>
        <p:blipFill>
          <a:blip r:embed="rId3"/>
          <a:stretch/>
        </p:blipFill>
        <p:spPr>
          <a:xfrm>
            <a:off x="4438800" y="1384200"/>
            <a:ext cx="3619440" cy="4815000"/>
          </a:xfrm>
          <a:prstGeom prst="rect">
            <a:avLst/>
          </a:prstGeom>
          <a:ln w="0">
            <a:noFill/>
          </a:ln>
        </p:spPr>
      </p:pic>
      <p:pic>
        <p:nvPicPr>
          <p:cNvPr id="391" name="DSCN2976.JPG" descr="C:\Users\Пользователь\Desktop\школьные фото\DSCN2976.JPG"/>
          <p:cNvPicPr/>
          <p:nvPr/>
        </p:nvPicPr>
        <p:blipFill>
          <a:blip r:embed="rId4"/>
          <a:stretch/>
        </p:blipFill>
        <p:spPr>
          <a:xfrm>
            <a:off x="566640" y="1395360"/>
            <a:ext cx="3548160" cy="4719600"/>
          </a:xfrm>
          <a:prstGeom prst="rect">
            <a:avLst/>
          </a:prstGeom>
          <a:ln w="0">
            <a:noFill/>
          </a:ln>
        </p:spPr>
      </p:pic>
      <p:sp>
        <p:nvSpPr>
          <p:cNvPr id="392" name="4-конечная звезда 12"/>
          <p:cNvSpPr/>
          <p:nvPr/>
        </p:nvSpPr>
        <p:spPr>
          <a:xfrm>
            <a:off x="2143080" y="54291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РУКОДЕЛЬЮ НАС ЗДЕСЬ УЧАТ: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ВСЕХ ПОДЕЛОК НЕ ПЕРЕЧЕСТЬ.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ИЗ БУМАГИ ВСЁ МЫ СКЛЕИМ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И У ВСЕХ ТАЛАНТЫ ЕСТЬ.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DSCN3099.JPG" descr="C:\Users\Пользователь\Desktop\DSCN3099.JPG"/>
          <p:cNvPicPr/>
          <p:nvPr/>
        </p:nvPicPr>
        <p:blipFill>
          <a:blip r:embed=""/>
          <a:stretch/>
        </p:blipFill>
        <p:spPr>
          <a:xfrm>
            <a:off x="1587600" y="3187800"/>
            <a:ext cx="1396800" cy="1396800"/>
          </a:xfrm>
          <a:prstGeom prst="rect">
            <a:avLst/>
          </a:prstGeom>
          <a:ln w="0">
            <a:noFill/>
          </a:ln>
        </p:spPr>
      </p:pic>
      <p:pic>
        <p:nvPicPr>
          <p:cNvPr id="395" name="DSCN3100.JPG" descr="C:\Users\Пользователь\Desktop\DSCN3100.JPG"/>
          <p:cNvPicPr/>
          <p:nvPr/>
        </p:nvPicPr>
        <p:blipFill>
          <a:blip r:embed=""/>
          <a:stretch/>
        </p:blipFill>
        <p:spPr>
          <a:xfrm>
            <a:off x="5400720" y="3187800"/>
            <a:ext cx="1396800" cy="1396800"/>
          </a:xfrm>
          <a:prstGeom prst="rect">
            <a:avLst/>
          </a:prstGeom>
          <a:ln w="0">
            <a:noFill/>
          </a:ln>
        </p:spPr>
      </p:pic>
      <p:sp>
        <p:nvSpPr>
          <p:cNvPr id="396" name="4-конечная звезда 5"/>
          <p:cNvSpPr/>
          <p:nvPr/>
        </p:nvSpPr>
        <p:spPr>
          <a:xfrm>
            <a:off x="2786040" y="14288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4-конечная звезда 6"/>
          <p:cNvSpPr/>
          <p:nvPr/>
        </p:nvSpPr>
        <p:spPr>
          <a:xfrm>
            <a:off x="5857920" y="1429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DSCN3099.JPG" descr="C:\Users\Пользователь\Desktop\школьные фото\DSCN3099.JPG"/>
          <p:cNvPicPr/>
          <p:nvPr/>
        </p:nvPicPr>
        <p:blipFill>
          <a:blip r:embed=""/>
          <a:stretch/>
        </p:blipFill>
        <p:spPr>
          <a:xfrm>
            <a:off x="500040" y="2714760"/>
            <a:ext cx="4095720" cy="3071520"/>
          </a:xfrm>
          <a:prstGeom prst="rect">
            <a:avLst/>
          </a:prstGeom>
          <a:ln w="0">
            <a:noFill/>
          </a:ln>
        </p:spPr>
      </p:pic>
      <p:pic>
        <p:nvPicPr>
          <p:cNvPr id="399" name="DSCN3100.JPG" descr="C:\Users\Пользователь\Desktop\школьные фото\DSCN3100.JPG"/>
          <p:cNvPicPr/>
          <p:nvPr/>
        </p:nvPicPr>
        <p:blipFill>
          <a:blip r:embed=""/>
          <a:stretch/>
        </p:blipFill>
        <p:spPr>
          <a:xfrm>
            <a:off x="4714920" y="2000160"/>
            <a:ext cx="38577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2:10:49Z</dcterms:created>
  <dc:creator>Пользователь</dc:creator>
  <dc:description/>
  <dc:language>en-US</dc:language>
  <cp:lastModifiedBy>Пользователь</cp:lastModifiedBy>
  <dcterms:modified xsi:type="dcterms:W3CDTF">2013-01-16T14:15:07Z</dcterms:modified>
  <cp:revision>28</cp:revision>
  <dc:subject/>
  <dc:title>Слайд 1</dc:title>
</cp:coreProperties>
</file>