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731-3A40-40F6-93AE-0293489C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DE6-A53E-4378-8957-089036D4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465-B426-4366-A607-E423BFC0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890-A664-4F83-99D3-C4CCE23C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2E9C-E8ED-448F-BCB4-B826C446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372E-3472-4C58-AAC1-E6768369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A883-3178-4D66-8FED-4E241DF7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F62F-D5DC-4DBF-B6D0-C45C45E3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5B04-6EFC-4D26-B8E6-D082EEC7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A13A-F945-4629-8E17-7E703E8E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4F4D-BE42-4610-890D-C20F7ABA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9486-9D2B-4953-97F4-49E7D65E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0696-788C-4583-BA69-6605B0AA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D70F-A9FB-40A5-AFA7-F9A1282F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62B6-A19E-47DC-8F58-C1FD5503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0357-0E93-4E67-93BB-1CB24337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C887-F251-4E20-BBBA-B1537E33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04E-DFA4-4777-A064-6F920460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EBB-0F0D-4E55-BD82-EF091BE2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736-5B1E-42C3-9594-8834239B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A6B-1682-4FB3-AF0E-DDD6851C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E97-D7E2-4686-B2A3-CDB6957F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077-0059-49C0-88C0-3B96B562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461-3DD7-4039-B1C2-508CE21B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0433-356E-4758-AD71-81BD72F02C1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B120-1F59-4DB7-B68A-46F7027E703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" Target="slide22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5.xml"/><Relationship Id="rId21" Type="http://schemas.openxmlformats.org/officeDocument/2006/relationships/slide" Target="slide26.xml"/><Relationship Id="rId22" Type="http://schemas.openxmlformats.org/officeDocument/2006/relationships/slide" Target="slide27.xml"/><Relationship Id="rId23" Type="http://schemas.openxmlformats.org/officeDocument/2006/relationships/slide" Target="slide28.xml"/><Relationship Id="rId24" Type="http://schemas.openxmlformats.org/officeDocument/2006/relationships/slide" Target="slide29.xml"/><Relationship Id="rId25" Type="http://schemas.openxmlformats.org/officeDocument/2006/relationships/slide" Target="slide30.xml"/><Relationship Id="rId26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Безопасность в Интерне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47242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Автор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елкова Анна Владимировна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читель информатики 1 квалификационной категор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униципального бюджетного образовательного учреждени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«Средняя общеобразовательная школа № 5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г.Северодвинс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Архангельской област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609480"/>
            <a:ext cx="57913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рок-иг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 информат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А2.Как выглядит значок авторских прав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9520" y="6247800"/>
            <a:ext cx="35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Правово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428920" y="172260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8381880" y="152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8394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Б2.Какие правила  Интернет-безопасности и интернет этике для детей и подростков существуют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228600" y="1599840"/>
            <a:ext cx="9220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икогда не давайте частной информации о себе (фамилию, номер телефона, адрес, номер школы) без разрешения родителе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Если кто-либо говорит вам, присылает вам, или вы сами обнаружили в сети что-либо смущающее вас, не старайтесь разобраться в этом самостоятельно. Обратитесь к родителям или учителям - они знают, что надо делать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стреча в реальной жизни со знакомыми по Интернет-общению не является очень хорошей идеей, поскольку люди могут быть разными в электронном общении и при реальной встрече. Если вы все же хотите встретиться с ними, сообщите об этом родителям, и пусть они пойдут на первую встречу вместе с вам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е открывайте письма электронной почты, файлы или Web-страницы, полученные от людей, которых вы реально не знаете или не доверяете им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икому не давайте свой пароль, за исключением взрослых вашей семь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сегда придерживайтесь семейных правил Интернет-безопасности: они разработаны для того, чтобы вы чувствовали себя комфортно и безопасно в сет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икогда не делайте того, что может стоить денег вашей семье, кроме случаев, когда рядом с вами родител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сегда будьте вежливыми в электронной переписке, и ваши корреспонденты будут вежливыми с вам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электронных письмах не применяйте текст, набранный в ВЕРХНЕМ РЕГИСТРЕ - это воспринимается в сети как крик, и может расстроить вашего собеседник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е присылайте в письме информацию большого объема (картинки, фотографии и т.п.) без предварительной договоренности с вашим собеседником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е рассылайте писем с какой-либо информацией незнакомым людям без их просьбы - это воспринимается как "спам", и обычно досаждает пользователям сет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сегда ведите себя в сети так, как бы вы хотели, чтобы вели себя с вами!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79520" y="6247800"/>
            <a:ext cx="35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Правово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2.Что такое антивирус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нтивирусы - это специальные программы для защиты компьютера от различных вредоносных программ, к которым относятся вирусы, трояны, шпионские утилиты, и другие. Очень часто, компьютер может быть заражен просто при просмотре сайтов, поэтому, выходить в сеть без надежного антивируса уже довольно опасно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479520" y="6247800"/>
            <a:ext cx="35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Правово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Г2.С помощью чего производится оплата услуг в Интернете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лата по квитанции в банк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лата через интернет-банкинг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лата банковской карто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лата наличными с помощью кода платеж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лата Яндекс.Деньгам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лата с помощью WebMon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лата с помощью других электронных платежных систе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пособы оплаты для иностранных компаний — нерезидентов Р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пособы оплаты для физических лиц – нерезидентов РФ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479520" y="6247800"/>
            <a:ext cx="35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Правово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2.Как совершить безопасную покупку в Интернете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знайте о своей покупке как можно больше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Если предложение выглядит подозрительно заманчивым, то к нему стоит отнестись со всей осторожностью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оверяйте незнакомые магази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еред покупкой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спользуйте способ оплаты, предусматривающий защиту покупателя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Читайте написанное мелким шрифтом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Остерегайтесь мошеннических счетов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Конфиденциальность и безопасность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ыбирайте надежные пароли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Отправляйте информацию только по безопасному соединению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Не проводите финансовые транзакции на общедоступных компьютерах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олучение товара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охраняйте все квитанции и чеки!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бедитесь, что вы получили нужный, качественный товар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479520" y="6247800"/>
            <a:ext cx="35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Правово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Е2.Назовите первые признаки заражения вирусом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едленная работа компьюте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ависания и сбои в работе компьюте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зменение размеров файл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меньшение размера свободной оперативной памя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начительное увеличение количества файлов на диск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счезновение файлов и каталогов или искажение их содержимог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зменение даты и времени модификации файл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479520" y="6247800"/>
            <a:ext cx="35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Правово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Ж2.Какой пароль самый надежный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спользуйте разные пароли для всех важных аккаунтов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спользуйте разные пароли для своих аккаунтов Используйте длинный пароль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Чем длиннее пароль, тем труднее его угадать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ароль должен включать буквы, цифры и символы (желательно вперемешку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Гораздо сложнее взломать или подобрать пароль, состоящий из цифр, символов и букв в разных регистрах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спользуйте словосочетание, известное только вам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ледите за тем, чтобы параметры восстановления пароля всегда содержали самую актуальную информацию и не были известны третьим лицам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егулярно обновляйте дополнительный адрес электронной почты, чтобы в случае необходимости изменить пароль вы могли получить письмо с соответствующими инструкциям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Храните памятки со своими паролями там, где их трудно найти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е оставляйте памятки в доступных местах, на компьютере или на стол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79520" y="6247800"/>
            <a:ext cx="35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Правово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3.Что такое фишинг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и́шинг — вид интернет-мошенничества, целью которого является получение доступа к конфиденциальным данным пользователей — логинам и пароля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466200" y="62478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Ассор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1880" y="152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3.Что такое комьютерный вирус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омпьютерные программы, которые могут самостоятельно копировать свои файлы и заражать компьютер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466200" y="62478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Ассор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81880" y="152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3.Кто самый знаменитый хакер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вин Митник. Он взломал компьютерные системы нескольких важных организаций, включая такие крупные компании, как «Моторола», «Сан Майкросистемс» и компьютерный центр Пентагона. Был арестован 16 сентября 1996 год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466200" y="62478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Ассор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28600" y="1143000"/>
          <a:ext cx="8642520" cy="5249880"/>
        </p:xfrm>
        <a:graphic>
          <a:graphicData uri="http://schemas.openxmlformats.org/drawingml/2006/table">
            <a:tbl>
              <a:tblPr/>
              <a:tblGrid>
                <a:gridCol w="457200"/>
                <a:gridCol w="1981080"/>
                <a:gridCol w="914400"/>
                <a:gridCol w="914400"/>
                <a:gridCol w="917640"/>
                <a:gridCol w="865080"/>
                <a:gridCol w="863640"/>
                <a:gridCol w="865440"/>
                <a:gridCol w="86364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4" action="ppaction://hlinksldjump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авовой Интерн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7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8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9" action="ppaction://hlinksldjump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0" action="ppaction://hlinksldjump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ссор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2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3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6" action="ppaction://hlinksldjump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7" action="ppaction://hlinksldjump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8" action="ppaction://hlinksldjump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временный Интер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9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0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1" action="ppaction://hlinksldjump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2" action="ppaction://hlinksldjump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3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4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5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914400" y="22860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аблица для выбора вопрос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Г3.Почему Троянскую программу так назвали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роянский конь(троянская программа) - это программа, которая предоставляет посторонним доступ к компьютеру для совершения каких-либо действий на месте назначения без предупреждения самого владельца компьютера либо высылает по определенному адресу собранную информацию. При этом она, как правило, выдает себя за что-нибудь мирное и чрезвычайно полезное. Очень часто трояны попадают на компьютер вместе с полезными программами или популярными утилитами, маскируясь под них. (Название связано с историей о троянском коне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66200" y="62478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Ассор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3.Кто такой хакер и чем он отличается от кракера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ичем не отлича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Хакер – это высококлассный программист, который не только умеет создавать свои программы, но и вскрывать, взламывать и воровать чужи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466200" y="62478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Ассор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Е3.Что такое аккаунт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чётная запись — запись, содержащая сведения, которые пользователь сообщает о себе некоторой компьютерной системе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66200" y="62478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Ассор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Ж3.Назовите основные услуги Интернет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WWW (World Wide Web – всемирная паутина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 (Hyper Text Transfer Protocol – протокол передачи гипертекстов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FTP (File Transfer Protocol – протокол передачи файлов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Telnet – протокол, дающий пользователю возможность регистрироваться на удаленном компьютере и получать доступ к его файлам, запускать программы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WAIS (Wide Aria Information Server – "глобальный информационный сервер") – протокол и услуга поиска информации с помощью системы запросов в базах данных, размещенных в Интернет (WAIS-серверах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Gopher – услуга, интегрирующая в себе работу с файлами, запуск программ, поиск информации в базах данных и другие функции с помощью системы меню – предтеча WWW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E-mail (Electronic Mail – электронная почта) – услуга, позволяющая любому пользователю сети передавать и получать электронные сообщения. Данная услуга поддерживается группой протоколов (SMTP, POP3 и др.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Usenet (часто используется термин News – новости) – служба телеконференций, осуществляемая по протоколу NNTP (Network News Transfer Protocol – протокол передачи новостей по сети). IRC (Internet Relay Chat – беседа через Интернет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ICQ – служба интерактивного общени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466200" y="62478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Ассор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А4.Назовите несколько популярных программ для защиты от вирусов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нтивирус Касперского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Avast!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Dr. Web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и другие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480960" y="624780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Современны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Б4.Назовите первые правила для защиты от мошенничества в Интернет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когда не осуществляйте покупок  через  Интернет,  особенно  с использованием  кредитных  карточек  (это  излюбленное  лакомство  для многих хакеров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когда  и ни где не вводите каких-либо настоящих данных о себе (ФИО, адрес, E-Mail и т.д.) - все данные должны быть вымышленными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480960" y="624780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Современны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4.Что такое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TP-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ервис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le Transfer Protocol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протокол передачи файлов – предоставляет доступ к файловым системам и выполняет передачу файлов в сет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480960" y="624780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Современны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4.Что такое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WW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ld Wide Web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всемирная паутина – система гипетекстовых страниц, расположенная на серверах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480960" y="624780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Современны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4.Что называют в Интернете «Пауком»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Пауком» называют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b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робот (Информационно-поисковая система) – это программа, которая, получив запрос пользователя, систематически исследует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находя документы и оценивая их соответствие запросу, и возвращает пользователю список найденных документов, расположив их по степени близости к запрос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480960" y="624780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Современны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Е4.Каким образом действуют интернет-преступники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ходят детей через социальные сети, блоги, чат-комнаты, мгновенные сообщения, по электронной почте, через доски обсуждений и другие сайт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манивают потенциальные жертвы, оказывая знаки внимание, проявляя доброту, ласку и даже с помощью подарк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нают современную музыку и хобби, которые могут заинтересовать дет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слушиваются и симпатизируют проблемам детей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араются смягчить запретные барьеры для молодежи, постепенно вводя сексуальные темы в разговоры или показывая откровенные сексуальные материал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акже могут оценивать детей, которых они встречают в сети, для будущих личных контактов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480960" y="624780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Современны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А1. Для чего создавался Интернет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Министерство обороны США в разгар холодной войны пожелало иметь сеть, которая могла бы пережить даже ядерную войну. В то время все военные телекоммуникации базировались на общественной телефонной сети, которая была сочтена слишком уязвимо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62485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Истор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1880" y="152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Ж4.Как осуществляется  защита персональных  компьютеров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редства защиты вычислительных ресурсов, использующие парольную идентификацию    и    ограничивающие    доступ    несанкционированного пользовател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именение  различных  методов  шифрования,  не  зависящих   от контекста информаци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редства  защиты  от   копирования   коммерческих   программных продукто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ащита от компьютерных вирусов и создание архиво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480960" y="624780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Современный Интер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8188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Б1.Как появились первые компьютерные вирусы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о были ошибки в программах, приводивших к тому, что программы копировали сами себя, засоряя жесткий диск компьютеров, что снижало их продуктивность, однако считается, что в большинстве случаев вирусы сознательно создавались для разрушения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457920" y="624780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Истор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1880" y="152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1.Назовите, кто стоял у истоков Интернета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л Бэрен (Paul Baran) был первым, кто предложил создать распределенную сеть на основе коммутации паке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арри Робертс (Larry Roberts) — директор ARPA, ответственный за начало развития компьютерных с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ж. Ликлайдер (J.C.R. Licklider) -  первый документально описал социальное взаимодействие, которое станет возможным благодаря Се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ван Сазерленд (Ivan Sutherland), Боб Тейлор (Bob Taylor) - сотрудники DARPA, исследователи сетевой концеп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еонард Клейнрок - опубликовал первую статью по теории пакетной коммут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920" y="624780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Истор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1880" y="152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1.Что такое Интернет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нтерне́т— всемирная система объединённых компьютерных сетей, построенная на базе IP и маршрутизации IP-пакетов. Интернет образует глобальное информационное пространство, служит физической основой для Всемирной паутины (World Wide Web, WWW) и множества других систем (протоколов) передачи данных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457920" y="624780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Истор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1880" y="152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1.Назовите первую вирусную программ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рус назывался Pervading Animal и заразил только один компьютер - на котором и был создан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457920" y="624780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Истор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2960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6248520"/>
            <a:ext cx="281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Е1.Где располагались первые компьютеры, соединенные в сеть?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декабре 1969 года удалось запустить экспериментальную сеть, состоящую из четырех узлов, расположенных в Калифорнийском университете в Лос-Анджелесе (UCLA), Калифорнийском университете в Санта-Барбаре (UCSB), Исследовательском институте Стэнфорда (SRI, Stanford Research Institute) и университете штата Юта. Были выбраны эти четыре университета, поскольку у них был большой опыт общения с агентством AR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920" y="624780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Истор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29600" y="152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Ж1.Назовите, кто придумал первые компьютерные вирусы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об Томас в 1971 году написал программу, которую назвал «Ползуном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 1980 году двое сотрудников компании xerox, решили создать программу, которую по аналогии с упоминавшимся в романе Браннера «Оседлавший Взрывную Волну» детищем программиста-бунтаря назвали «Червем». «Червь» Иона Хеппа и Джона Шока должен был нести положительную миссию: по замыслу разработчиков, перемещаясь между подключенными к сети компьютер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об Морриссон в 1970-х годах создал «боевую программу» («полиморф»), которая оказалась непобедимой: код состоял всего лишь из 30 строк, однако этот крошечный файл не просто атаковал соперников: он анализировал методы их защиты и, соответствующим образом видоизменяясь, уничтожал файл противника «изнутри», выбирая стратегию атаки исходя из его логической структур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оберт Морриссон (старший сын Боба Морриссона) в 1988 году заложил в код «Червя» алгоритмы, сдерживающие его распространение, никаких модулей, разрушающих файловую систему атакованных компьютеров, также задумано не было,благодаря закравшейся в исходный код ошибке «Червь» начал бесконтрольно размножаться, блокируя нормальную работу вычислительных систем, и вскоре вырвался на просторы Интернет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920" y="624780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дел «Истор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1880" y="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ернуться к табл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елкова А.В.</cp:lastModifiedBy>
  <dcterms:modified xsi:type="dcterms:W3CDTF">2013-01-17T12:48:2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