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949-13C5-440B-A947-423F16FC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641-1D1D-4597-90C2-DE0E3F0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4F6-D63E-4B36-83E1-43E38A2B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B44-EC21-4082-A22A-6C52070A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754-A29D-4417-8D14-0051C268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FA5-573F-4FD3-A4AC-13077F83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01AC-2A05-4EF1-8B12-B46DE410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9CEB-DA04-4B6D-B38D-D22A51F4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842-ADA1-43BA-B01D-2B43DE45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E81-2AD0-4522-B912-BF9B0AF5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4601-F56C-4587-A4FB-E433139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E92-A4DA-4251-86AB-D58AFF4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F34B-C82A-42D8-99A7-7C978E5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5F5-7BA6-4553-ABCD-F6CB769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CB8-9D44-4D56-AC91-E9F86C0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EFB-0551-4608-B140-A18AFDB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87C-F7CA-4F5C-96CD-3237A862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4AE-EBA1-4784-B466-30326671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76A-B625-4968-ADB1-1ED6F86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CEF-199D-4316-B8BF-2F35D0C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3BC-3C74-48E3-B2FB-1F861D4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C65-FB3B-4CFB-A5E5-3C2437C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83D-FABE-46F8-915B-41660BA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D21-C9A1-4115-A375-E0E74F8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2BB-3F9F-44AB-A102-8AD7E0C437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4B7A-A5B2-445D-8EBD-2BE8DDB948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езопасность в Интерне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втор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лкова Анна Владимировн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информатики 1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униципального бюджетного образовательного учрежд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Средняя общеобразовательная школа № 5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.Северодвин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рхангельской обла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609480"/>
            <a:ext cx="5791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рок-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инфор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2.Как выглядит значок авторских прав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28920" y="172260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Б2.Какие правила  Интернет-безопасности и интернет этике для детей и подростков существуют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228600" y="1599840"/>
            <a:ext cx="9220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гда не давайте частной информации о себе (фамилию, номер телефона, адрес, номер школы) без разрешения родителе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сли кто-либо говорит вам, присылает вам, или вы сами обнаружили в сети что-либо смущающее вас, не старайтесь разобраться в этом самостоятельно. Обратитесь к родителям или учителям - они знают, что надо дела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. Если вы все же хотите встретиться с ними, сообщите об этом родителям, и пусть они пойдут на первую встречу вместе с 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открывайте письма электронной почты, файлы или Web-страницы, полученные от людей, которых вы реально не знаете или не доверяете и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му не давайте свой пароль, за исключением взрослых вашей семь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придерживайтесь семейных правил Интернет-безопасности: они разработаны для того, чтобы вы чувствовали себя комфортно и безопасно в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гда не делайте того, что может стоить денег вашей семье, кроме случаев, когда рядом с вами родите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будьте вежливыми в электронной переписке, и ваши корреспонденты будут вежливыми с 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электронных письмах не применяйте текст, набранный в ВЕРХНЕМ РЕГИСТРЕ - это воспринимается в сети как крик, и может расстроить вашего собеседни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присылайте в письме информацию большого объема (картинки, фотографии и т.п.) без предварительной договоренности с вашим собеседник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рассылайте писем с какой-либо информацией незнакомым людям без их просьбы - это воспринимается как "спам", и обычно досаждает пользователям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ведите себя в сети так, как бы вы хотели, чтобы вели себя с вами!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2.Что такое антивирус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тивирусы - это специальные программы для защиты компьютера от различных вредоносных программ, к которым относятся вирусы, трояны, шпионские утилиты, и другие. Очень часто, компьютер может быть заражен просто при просмотре сайтов, поэтому, выходить в сеть без надежного антивируса уже довольно опасн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2.С помощью чего производится оплата услуг в Интернет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по квитанции в бан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через интернет-банкин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банковской кар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наличными с помощью кода платеж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Яндекс.Деньг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с помощью WebMon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с помощью других электронных платежных сист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ы оплаты для иностранных компаний — нерезидентов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ы оплаты для физических лиц – нерезидентов РФ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2.Как совершить безопасную покупку в Интернет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знайте о своей покупке как можно больш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предложение выглядит подозрительно заманчивым, то к нему стоит отнестись со всей осторожность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оверяйте незнакомые магази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ед покупкой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уйте способ оплаты, предусматривающий защиту покупателя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итайте написанное мелким шрифтом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стерегайтесь мошеннических счет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нфиденциальность и безопасность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бирайте надежные пароли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тправляйте информацию только по безопасному соединени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проводите финансовые транзакции на общедоступных компьютера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лучение товар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храняйте все квитанции и чеки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бедитесь, что вы получили нужный, качественный товар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Е2.Назовите первые признаки заражения вирусом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дленная работа компьют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висания и сбои в работе компьют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менение размеров фай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меньшение размера свободной оперативной памя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чительное увеличение количества файлов на диск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счезновение файлов и каталогов или искажение их содержимо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менение даты и времени модификации фай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2.Какой пароль самый надежный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разные пароли для всех важных аккаунтов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разные пароли для своих аккаунтов Используйте длинный паро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м длиннее пароль, тем труднее его угадать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оль должен включать буквы, цифры и символы (желательно вперемешку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ораздо сложнее взломать или подобрать пароль, состоящий из цифр, символов и букв в разных регистрах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словосочетание, известное только вам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едите за тем, чтобы параметры восстановления пароля всегда содержали самую актуальную информацию и не были известны третьим лицам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егулярно обновляйте дополнительный адрес электронной почты, чтобы в случае необходимости изменить пароль вы могли получить письмо с соответствующими инструкция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раните памятки со своими паролями там, где их трудно найт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 оставляйте памятки в доступных местах, на компьютере или на стол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3.Что такое фишинг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́шинг — вид интернет-мошенничества, целью которого является получение доступа к конфиденциальным данным пользователей — логинам и пароля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3.Что такое комьютерный вирус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пьютерные программы, которые могут самостоятельно копировать свои файлы и заражать компьютер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3.Кто самый знаменитый хакер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вин Митник. Он взломал компьютерные системы нескольких важных организаций, включая такие крупные компании, как «Моторола», «Сан Майкросистемс» и компьютерный центр Пентагона. Был арестован 16 сентября 1996 год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143000"/>
          <a:ext cx="8642520" cy="524988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914400"/>
                <a:gridCol w="914400"/>
                <a:gridCol w="917640"/>
                <a:gridCol w="865080"/>
                <a:gridCol w="863640"/>
                <a:gridCol w="865440"/>
                <a:gridCol w="8636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авовой Интер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ссор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ременный Интер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блица для выбора вопро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3.Почему Троянскую программу так назвали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оянский конь(троянская программа) - это программа, которая предоставляет посторонним доступ к компьютеру для совершения каких-либо действий на месте назначения без предупреждения самого владельца компьютера либо высылает по определенному адресу собранную информацию. При этом она, как правило, выдает себя за что-нибудь мирное и чрезвычайно полезное. Очень часто трояны попадают на компьютер вместе с полезными программами или популярными утилитами, маскируясь под них. (Название связано с историей о троянском кон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3.Кто такой хакер и чем он отличается от кракера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ичем не отлича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акер – это высококлассный программист, который не только умеет создавать свои программы, но и вскрывать, взламывать и воровать чуж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3.Что такое аккаунт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ётная запись — запись, содержащая сведения, которые пользователь сообщает о себе некоторой компьютерной систем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3.Назовите основные услуги Интернет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WWW (World Wide Web – всемирная паутина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 (Hyper Text Transfer Protocol – протокол передачи гипертекстов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FTP (File Transfer Protocol – протокол передачи файлов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Telnet – протокол, дающий пользователю возможность регистрироваться на удаленном компьютере и получать доступ к его файлам, запускать программ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WAIS (Wide Aria Information Server – "глобальный информационный сервер") – протокол и услуга поиска информации с помощью системы запросов в базах данных, размещенных в Интернет (WAIS-серверах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Gopher – услуга, интегрирующая в себе работу с файлами, запуск программ, поиск информации в базах данных и другие функции с помощью системы меню – предтеча WWW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E-mail (Electronic Mail – электронная почта) – услуга, позволяющая любому пользователю сети передавать и получать электронные сообщения. Данная услуга поддерживается группой протоколов (SMTP, POP3 и др.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Usenet (часто используется термин News – новости) – служба телеконференций, осуществляемая по протоколу NNTP (Network News Transfer Protocol – протокол передачи новостей по сети). IRC (Internet Relay Chat – беседа через Интернет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ICQ – служба интерактивного общ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А4.Назовите несколько популярных программ для защиты от вирусо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нтивирус Касперского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Avast!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Dr. Web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 други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4.Назовите первые правила для защиты от мошенничества в Интернет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да не осуществляйте покупок  через  Интернет,  особенно  с использованием  кредитных  карточек  (это  излюбленное  лакомство  для многих хакеров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да  и ни где не вводите каких-либо настоящих данных о себе (ФИО, адрес, E-Mail и т.д.) - все данные должны быть вымышленными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4.Что тако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TP-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ервис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le Transfer Protoco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протокол передачи файлов – предоставляет доступ к файловым системам и выполняет передачу файлов в се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4.Что тако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 Wide We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всемирная паутина – система гипетекстовых страниц, расположенная на сервера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4.Что называют в Интернете «Пауком»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Пауком» называю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робот (Информационно-поисковая система) – это программа, которая, получив запрос пользователя, систематически исследуе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находя документы и оценивая их соответствие запросу, и возвращает пользователю список найденных документов, расположив их по степени близости к запрос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4.Каким образом действуют интернет-преступники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ходят детей через социальные сети, блоги, чат-комнаты, мгновенные сообщения, по электронной почте, через доски обсуждений и другие сай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манивают потенциальные жертвы, оказывая знаки внимание, проявляя доброту, ласку и даже с помощью подар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ют современную музыку и хобби, которые могут заинтересовать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слушиваются и симпатизируют проблемам дет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араются смягчить запретные барьеры для молодежи, постепенно вводя сексуальные темы в разговоры или показывая откровенные сексуальные материал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же могут оценивать детей, которых они встречают в сети, для будущих личных контактов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1. Для чего создавался Интернет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инистерство обороны США в разгар холодной войны пожелало иметь сеть, которая могла бы пережить даже ядерную войну. В то время все военные телекоммуникации базировались на общественной телефонной сети, которая была сочтена слишком уязвим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4.Как осуществляется  защита персональных  компьютеров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редства защиты вычислительных ресурсов, использующие парольную идентификацию    и    ограничивающие    доступ    несанкционированного пользовате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менение  различных  методов  шифрования,  не  зависящих   от контекста информа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редства  защиты  от   копирования   коммерческих   программных продукт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щита от компьютерных вирусов и создание архив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1.Как появились первые компьютерные вирусы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были ошибки в программах, приводивших к тому, что программы копировали сами себя, засоряя жесткий диск компьютеров, что снижало их продуктивность, однако считается, что в большинстве случаев вирусы сознательно создавались для разруш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1.Назовите, кто стоял у истоков Интернет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л Бэрен (Paul Baran) был первым, кто предложил создать распределенную сеть на основе коммутации пак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арри Робертс (Larry Roberts) — директор ARPA, ответственный за начало развития компьютерных с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ж. Ликлайдер (J.C.R. Licklider) -  первый документально описал социальное взаимодействие, которое станет возможным благодаря 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ван Сазерленд (Ivan Sutherland), Боб Тейлор (Bob Taylor) - сотрудники DARPA, исследователи сетевой концеп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онард Клейнрок - опубликовал первую статью по теории пакетной комму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1.Что такое Интернет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рне́т— всемирная система объединённых компьютерных сетей, построенная на базе IP и маршрутизации IP-пакетов. Интернет образует глобальное информационное пространство, служит физической основой для Всемирной паутины (World Wide Web, WWW) и множества других систем (протоколов) передачи данны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1.Назовите первую вирусную програм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рус назывался Pervading Animal и заразил только один компьютер - на котором и был создан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Е1.Где располагались первые компьютеры, соединенные в сеть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екабре 1969 года удалось запустить экспериментальную сеть, состоящую из четырех узлов, расположенных в Калифорнийском университете в Лос-Анджелесе (UCLA), Калифорнийском университете в Санта-Барбаре (UCSB), Исследовательском институте Стэнфорда (SRI, Stanford Research Institute) и университете штата Юта. Были выбраны эти четыре университета, поскольку у них был большой опыт общения с агентством AR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1.Назовите, кто придумал первые компьютерные вирус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об Томас в 1971 году написал программу, которую назвал «Ползуном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1980 году двое сотрудников компании xerox, решили создать программу, которую по аналогии с упоминавшимся в романе Браннера «Оседлавший Взрывную Волну» детищем программиста-бунтаря назвали «Червем». «Червь» Иона Хеппа и Джона Шока должен был нести положительную миссию: по замыслу разработчиков, перемещаясь между подключенными к сети компьютер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об Морриссон в 1970-х годах создал «боевую программу» («полиморф»), которая оказалась непобедимой: код состоял всего лишь из 30 строк, однако этот крошечный файл не просто атаковал соперников: он анализировал методы их защиты и, соответствующим образом видоизменяясь, уничтожал файл противника «изнутри», выбирая стратегию атаки исходя из его логической структур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оберт Морриссон (старший сын Боба Морриссона) в 1988 году заложил в код «Червя» алгоритмы, сдерживающие его распространение, никаких модулей, разрушающих файловую систему атакованных компьютеров, также задумано не было,благодаря закравшейся в исходный код ошибке «Червь» начал бесконтрольно размножаться, блокируя нормальную работу вычислительных систем, и вскоре вырвался на просторы Интерне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лкова А.В.</cp:lastModifiedBy>
  <dcterms:modified xsi:type="dcterms:W3CDTF">2013-01-17T12:48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