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push.wav" ContentType="audio/x-wav"/>
  <Override PartName="/ppt/media/image13.png" ContentType="image/png"/>
  <Override PartName="/ppt/media/image6.png" ContentType="image/png"/>
  <Override PartName="/ppt/media/wind.wav" ContentType="audio/x-wav"/>
  <Override PartName="/ppt/media/chimes.wav" ContentType="audio/x-wav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2.jpeg" ContentType="image/jpeg"/>
  <Override PartName="/ppt/media/image4.png" ContentType="image/png"/>
  <Override PartName="/ppt/media/laser.wav" ContentType="audio/x-wav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5.png" ContentType="image/png"/>
  <Override PartName="/ppt/media/image14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46C-85BE-411A-9FDD-9DED160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5F7-4B5F-468A-B310-E0D1ACD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25A-E21E-4537-86C5-6D611103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6D8-DD8C-4A79-9084-B8C0DDA8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79C-DB72-4ECA-933F-41E102E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03F-1BE5-4628-84D3-7B28801D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684-661D-4062-953B-1303EC2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38B5-E218-4187-BDCF-8272F65E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7B1-0ACD-4F02-924E-9177534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1F72-7FF1-4DAF-96F9-3A4CEEA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D7F4-1881-4616-8FE3-F6CBFF7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2A7-F9BA-4F87-9712-B8FF8056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CC4-935F-4EB1-97BC-F2C1C5C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C36-1B61-4E96-A34F-07959AB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2FE-113F-4A16-8175-4427BD6D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452-6967-46EF-96D1-F9B13C83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8E47-CE31-42B7-B9C2-0930A717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4A1A-20C3-4392-AD4E-C19056F6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943E-9CDD-4466-8821-111B242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E076-82CE-45F0-A754-25391030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12D9-A23B-434A-80DA-6197BC7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72AB-DFAD-481B-9AEC-853F85FD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CBA-E6CC-4557-90E1-9C361C0B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FA04-556A-4CCB-AC30-162B26D8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6DC4-2AD8-4C67-89A8-36A2B12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E810-7608-4A43-8137-411E3EA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4A17-15BA-4C5B-A04E-8210CD4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B5AD-3F08-4D10-AE91-8B893EAB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55DD-8048-4495-A750-478147BA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9B2E-9659-4638-8869-26F97D95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0078-BF6D-4202-AB53-AB17A0BB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9AAC-93AE-4FF6-A0DB-41C8C38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3002-5213-4D8B-A448-8D00B8A4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8D4-76F3-4D48-B778-82058F9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DFF0-4039-4451-8931-2722CE8B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DB07-7417-40D7-8995-BEBA875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50BD-8633-4175-8B8D-BA38B48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C23C-F9E3-4A3C-9B10-829FCC2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957D-FF6F-45A5-AC49-51937A1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155D-58C2-48A4-AD59-67B4626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F3F1-A03D-4D61-86B9-DE58363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E421-EE8C-4EB6-B17E-441947F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613D-BA11-49EE-ACFC-C7A38F29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E8A-B02C-438A-BFB0-1EFCF95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93B-C0B5-4B6B-8AF8-AE817BC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B25-D46B-42E5-8422-82FFE6C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A5E-8D65-48E6-9010-D5AA126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72E-28E2-48B1-A1F5-5C9B4FA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41A-245E-4C5F-9BB1-3ACC73827E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646-7FBC-447B-AAC5-C2860671FF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140-342F-4393-959E-95C8A254B8F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9C6E-ADF3-40D5-9E56-F09F86FCAA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219640" y="5516280"/>
            <a:ext cx="316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12745"/>
                </a:solidFill>
                <a:latin typeface="Trebuchet MS"/>
              </a:rPr>
              <a:t>Выполнила учитель матемтики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12745"/>
                </a:solidFill>
                <a:latin typeface="Trebuchet MS"/>
              </a:rPr>
              <a:t>Быкова Н.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CD76-5688-4B03-915F-524F6B70BDB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646200" y="2835360"/>
            <a:ext cx="8424720" cy="2260440"/>
          </a:xfrm>
          <a:prstGeom prst="rect">
            <a:avLst/>
          </a:prstGeom>
          <a:ln w="0">
            <a:noFill/>
          </a:ln>
        </p:spPr>
      </p:pic>
      <p:sp>
        <p:nvSpPr>
          <p:cNvPr id="217" name="Line 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24000" y="414972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B42-39D5-48AC-A683-1923ABF794B9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Object 4"/>
          <p:cNvGraphicFramePr/>
          <p:nvPr/>
        </p:nvGraphicFramePr>
        <p:xfrm>
          <a:off x="250920" y="476280"/>
          <a:ext cx="864216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6421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6"/>
          <p:cNvSpPr/>
          <p:nvPr/>
        </p:nvSpPr>
        <p:spPr>
          <a:xfrm>
            <a:off x="5850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400560" y="23493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40200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5850000" y="438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A9A2-FC42-46D0-B4D9-C3E7EDABD58F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30200" y="404640"/>
          <a:ext cx="87138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04640"/>
                    <a:ext cx="8713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6"/>
          <p:cNvSpPr/>
          <p:nvPr/>
        </p:nvSpPr>
        <p:spPr>
          <a:xfrm>
            <a:off x="6138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690000" y="258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61764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097-B870-4DD0-A012-56530B828871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0" y="404640"/>
          <a:ext cx="9144000" cy="568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6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6"/>
          <p:cNvSpPr/>
          <p:nvPr/>
        </p:nvSpPr>
        <p:spPr>
          <a:xfrm>
            <a:off x="6014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32964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47F-39F2-468F-AD16-A30D29F4648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0" y="0"/>
          <a:ext cx="8964720" cy="61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1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6"/>
          <p:cNvSpPr/>
          <p:nvPr/>
        </p:nvSpPr>
        <p:spPr>
          <a:xfrm>
            <a:off x="5850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9E2-4221-4B4B-A702-718519A794C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95280" y="0"/>
          <a:ext cx="842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A370-3965-4425-9793-C64006E162E0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611280" y="981000"/>
          <a:ext cx="741672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416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4913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987640" y="3592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178000" y="164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5416560" y="1628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7218720" y="45291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5776920" y="251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2752560" y="409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55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31328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6352920" y="416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1025640" y="37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04200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914000" y="4529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40200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6353280" y="172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114000" y="4600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6066720" y="2873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3689640" y="416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689280" y="2513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3"/>
          <p:cNvSpPr/>
          <p:nvPr/>
        </p:nvSpPr>
        <p:spPr>
          <a:xfrm>
            <a:off x="4553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75E7-2E04-4918-9A74-3B5D5C3676EC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468360" y="189000"/>
          <a:ext cx="835344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35344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6"/>
          <p:cNvSpPr/>
          <p:nvPr/>
        </p:nvSpPr>
        <p:spPr>
          <a:xfrm>
            <a:off x="3995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378000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9"/>
          <p:cNvSpPr/>
          <p:nvPr/>
        </p:nvSpPr>
        <p:spPr>
          <a:xfrm flipH="1">
            <a:off x="3780000" y="4005360"/>
            <a:ext cx="287280" cy="136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3780000" y="5373720"/>
            <a:ext cx="21564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1"/>
          <p:cNvSpPr/>
          <p:nvPr/>
        </p:nvSpPr>
        <p:spPr>
          <a:xfrm flipV="1">
            <a:off x="399564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995640" y="4869000"/>
            <a:ext cx="2890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428472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4284720" y="5373720"/>
            <a:ext cx="57456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5"/>
          <p:cNvSpPr/>
          <p:nvPr/>
        </p:nvSpPr>
        <p:spPr>
          <a:xfrm flipV="1">
            <a:off x="485928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4859280" y="4869000"/>
            <a:ext cx="2890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5148360" y="4869000"/>
            <a:ext cx="0" cy="50472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5148360" y="5373720"/>
            <a:ext cx="287280" cy="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9"/>
          <p:cNvSpPr/>
          <p:nvPr/>
        </p:nvSpPr>
        <p:spPr>
          <a:xfrm flipH="1" flipV="1">
            <a:off x="5148360" y="3860280"/>
            <a:ext cx="287280" cy="151308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5148360" y="1916280"/>
            <a:ext cx="71280" cy="201744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1"/>
          <p:cNvSpPr/>
          <p:nvPr/>
        </p:nvSpPr>
        <p:spPr>
          <a:xfrm flipV="1">
            <a:off x="4067280" y="1915920"/>
            <a:ext cx="0" cy="208908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4067280" y="907560"/>
            <a:ext cx="576000" cy="100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4642920" y="907560"/>
            <a:ext cx="576360" cy="1008360"/>
          </a:xfrm>
          <a:prstGeom prst="line">
            <a:avLst/>
          </a:prstGeom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3A33-621D-489B-ACF7-10947E4DD58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468360" y="476280"/>
          <a:ext cx="8424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424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6"/>
          <p:cNvSpPr/>
          <p:nvPr/>
        </p:nvSpPr>
        <p:spPr>
          <a:xfrm flipV="1">
            <a:off x="4140360" y="3860280"/>
            <a:ext cx="0" cy="86364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7"/>
          <p:cNvSpPr/>
          <p:nvPr/>
        </p:nvSpPr>
        <p:spPr>
          <a:xfrm flipV="1">
            <a:off x="4067280" y="2133720"/>
            <a:ext cx="1296720" cy="1800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5219640" y="1916280"/>
            <a:ext cx="289080" cy="4330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5508720" y="2349360"/>
            <a:ext cx="28728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0"/>
          <p:cNvSpPr/>
          <p:nvPr/>
        </p:nvSpPr>
        <p:spPr>
          <a:xfrm flipV="1">
            <a:off x="5219640" y="1413000"/>
            <a:ext cx="0" cy="5032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5219640" y="981000"/>
            <a:ext cx="865080" cy="432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2"/>
          <p:cNvSpPr/>
          <p:nvPr/>
        </p:nvSpPr>
        <p:spPr>
          <a:xfrm flipV="1">
            <a:off x="5796000" y="1915920"/>
            <a:ext cx="863640" cy="4330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3"/>
          <p:cNvSpPr/>
          <p:nvPr/>
        </p:nvSpPr>
        <p:spPr>
          <a:xfrm flipH="1">
            <a:off x="5796000" y="981000"/>
            <a:ext cx="288720" cy="43200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5796000" y="1413000"/>
            <a:ext cx="64908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6084360" y="1413000"/>
            <a:ext cx="287640" cy="50328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6012000" y="1916280"/>
            <a:ext cx="576000" cy="0"/>
          </a:xfrm>
          <a:prstGeom prst="line">
            <a:avLst/>
          </a:prstGeom>
          <a:ln w="284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рямая соединительная линия 25"/>
          <p:cNvSpPr/>
          <p:nvPr/>
        </p:nvSpPr>
        <p:spPr>
          <a:xfrm>
            <a:off x="3786120" y="4714920"/>
            <a:ext cx="35712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рямая соединительная линия 30"/>
          <p:cNvSpPr/>
          <p:nvPr/>
        </p:nvSpPr>
        <p:spPr>
          <a:xfrm flipH="1">
            <a:off x="3571560" y="4714920"/>
            <a:ext cx="214200" cy="50004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696-12C7-4CC3-979E-E667D8E80EE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8" name="Object 4"/>
          <p:cNvGraphicFramePr/>
          <p:nvPr/>
        </p:nvGraphicFramePr>
        <p:xfrm>
          <a:off x="468360" y="476280"/>
          <a:ext cx="842472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4247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Line 6"/>
          <p:cNvSpPr/>
          <p:nvPr/>
        </p:nvSpPr>
        <p:spPr>
          <a:xfrm>
            <a:off x="4427640" y="1916280"/>
            <a:ext cx="504720" cy="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H="1" flipV="1">
            <a:off x="3564000" y="981000"/>
            <a:ext cx="792000" cy="144000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4427640" y="1916280"/>
            <a:ext cx="0" cy="187308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564000" y="981000"/>
            <a:ext cx="287280" cy="2303640"/>
          </a:xfrm>
          <a:prstGeom prst="line">
            <a:avLst/>
          </a:prstGeom>
          <a:ln w="2844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4932360" y="1916280"/>
            <a:ext cx="71280" cy="18730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4932360" y="981000"/>
            <a:ext cx="863640" cy="144000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3276720" y="3284640"/>
            <a:ext cx="574560" cy="24494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 flipH="1">
            <a:off x="5508720" y="981000"/>
            <a:ext cx="287280" cy="2303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5508720" y="3357720"/>
            <a:ext cx="576000" cy="23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3276720" y="3789360"/>
            <a:ext cx="1079280" cy="194472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6"/>
          <p:cNvSpPr/>
          <p:nvPr/>
        </p:nvSpPr>
        <p:spPr>
          <a:xfrm flipH="1" flipV="1">
            <a:off x="5003280" y="3789000"/>
            <a:ext cx="1081080" cy="1871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4356000" y="3789360"/>
            <a:ext cx="360360" cy="5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18"/>
          <p:cNvSpPr/>
          <p:nvPr/>
        </p:nvSpPr>
        <p:spPr>
          <a:xfrm flipV="1">
            <a:off x="4716360" y="3789000"/>
            <a:ext cx="287280" cy="43164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414360"/>
            <a:ext cx="8570880" cy="265284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174-AE32-4E00-9017-3C089E3BBBE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E92-6E54-403B-A191-96EBC3D0D46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0" y="404640"/>
          <a:ext cx="8964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964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Line 9"/>
          <p:cNvSpPr/>
          <p:nvPr/>
        </p:nvSpPr>
        <p:spPr>
          <a:xfrm>
            <a:off x="1476360" y="3429000"/>
            <a:ext cx="1800360" cy="1512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3276720" y="4941720"/>
            <a:ext cx="2374920" cy="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5651640" y="2421000"/>
            <a:ext cx="1512720" cy="2520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5724360" y="2421000"/>
            <a:ext cx="1440000" cy="158436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476360" y="3429000"/>
            <a:ext cx="1800360" cy="50472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276720" y="3933720"/>
            <a:ext cx="2374920" cy="71640"/>
          </a:xfrm>
          <a:prstGeom prst="line">
            <a:avLst/>
          </a:prstGeom>
          <a:ln w="57240">
            <a:solidFill>
              <a:srgbClr val="59a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4788000" y="907560"/>
            <a:ext cx="0" cy="302580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4788000" y="907920"/>
            <a:ext cx="1512720" cy="100836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6300720" y="1916280"/>
            <a:ext cx="0" cy="50472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8"/>
          <p:cNvSpPr/>
          <p:nvPr/>
        </p:nvSpPr>
        <p:spPr>
          <a:xfrm flipH="1">
            <a:off x="4788000" y="2421000"/>
            <a:ext cx="1512720" cy="503280"/>
          </a:xfrm>
          <a:prstGeom prst="line">
            <a:avLst/>
          </a:prstGeom>
          <a:ln w="38160">
            <a:solidFill>
              <a:srgbClr val="56c7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BFDD-19EB-491A-B8D7-11101292CC9C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Rectangle 2" descr=""/>
          <p:cNvPicPr/>
          <p:nvPr/>
        </p:nvPicPr>
        <p:blipFill>
          <a:blip r:embed="rId2"/>
          <a:stretch/>
        </p:blipFill>
        <p:spPr>
          <a:xfrm>
            <a:off x="1676520" y="4108320"/>
            <a:ext cx="6870600" cy="1408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 называются оси координат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 называются первая и вторая координатные точки, заданные в плоскости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акой необходимо соблюдать порядок при записи координат точек?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474-249E-4E68-9858-B6BAAF44BE63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6913440" cy="1931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Числа, которые задают точку в координатной плоскости, называю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Если ордината точки А равна нулю, то точка находи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Если абсцисса точки А равна нулю, то точка находится…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B030-397A-4D19-9C4A-EC76A9F9CF1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358920" y="0"/>
          <a:ext cx="878508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0"/>
                    <a:ext cx="8785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6"/>
          <p:cNvSpPr/>
          <p:nvPr/>
        </p:nvSpPr>
        <p:spPr>
          <a:xfrm>
            <a:off x="8153280" y="85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ccf3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529280" y="503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a8d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61836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06636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617640" y="5151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066000" y="4600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329280" y="85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418000" y="85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889640" y="14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79C-4BEC-408C-AE14-2674BD0BB7FF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250920" y="115920"/>
          <a:ext cx="86421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5922000" y="186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474000" y="236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402000" y="495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850000" y="445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113280" y="78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202360" y="71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386360" y="488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a8d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7937640" y="78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ccf3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0F93-3A6F-4D40-93B9-DC8621D7F3D5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79280" y="476280"/>
          <a:ext cx="84981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4981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6"/>
          <p:cNvSpPr/>
          <p:nvPr/>
        </p:nvSpPr>
        <p:spPr>
          <a:xfrm>
            <a:off x="5706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32964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328920" y="48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5705640" y="445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042000" y="100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057640" y="92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242000" y="488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a8d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1F8-B213-40DC-BB0D-FE6914FB0BB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324000" y="476280"/>
          <a:ext cx="85690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6"/>
          <p:cNvSpPr/>
          <p:nvPr/>
        </p:nvSpPr>
        <p:spPr>
          <a:xfrm>
            <a:off x="59220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47400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473280" y="4816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921640" y="431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186360" y="100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202360" y="92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A46-3F0B-4FD5-A14A-F7FEBB90E62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503280" y="333360"/>
          <a:ext cx="8640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333360"/>
                    <a:ext cx="8640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6"/>
          <p:cNvSpPr/>
          <p:nvPr/>
        </p:nvSpPr>
        <p:spPr>
          <a:xfrm>
            <a:off x="6138000" y="186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690000" y="24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689280" y="4816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137640" y="438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402360" y="92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2:10:05Z</dcterms:created>
  <dc:creator>Олеся</dc:creator>
  <dc:description/>
  <dc:language>en-US</dc:language>
  <cp:lastModifiedBy>user</cp:lastModifiedBy>
  <dcterms:modified xsi:type="dcterms:W3CDTF">2013-01-16T18:49:37Z</dcterms:modified>
  <cp:revision>13</cp:revision>
  <dc:subject/>
  <dc:title>Слайд 1</dc:title>
</cp:coreProperties>
</file>