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7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AF3-BCAD-483C-BFC7-2703B725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0DF-5A79-41EB-A7FE-132A92A1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784-1994-4D18-AA71-C49095AD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F8B-F4BF-4278-B26E-8D2EA2C8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0420-ACC0-4CE7-9E1A-A9099C03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9A9E-373D-452A-AE73-7D480EAD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30A0-4D55-42B7-98AE-02B5F895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6521-D8E5-4456-93C7-0FA70BCE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1CC4-C380-439E-A8F4-D9502E44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7735-B813-40BA-A6BF-341D0EBE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AB37-A646-487D-9DEE-5E689881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6B7-62D0-4BF2-8167-59BFAAC6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EC09-AFCD-402C-9FC3-D8C472A3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827D-E5D4-47BE-BE66-F998A1D3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1F80-143B-4655-9846-98E96A92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4447-EB6B-40AC-B03B-0C5893A6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C994-56CF-4618-A2D2-AB559C4D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973-488C-4644-BC8A-BE7A81B7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72A-8166-4E13-BB65-3CE0A3E7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726-E573-4083-986B-E5666304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40D3-E498-4867-9879-9D5FEAB9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D74-ECB5-4D91-9E6A-6679EE30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F6E-C217-4131-91F9-1A4CB71D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B3F-532D-4989-B4B9-968B2E7C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825B-6D64-4539-B9F0-5E0B3EB758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BE58-08B1-4F52-BCA6-4C847EBFB0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a00"/>
                </a:solidFill>
                <a:latin typeface="Arial"/>
              </a:rPr>
              <a:t>Малкина Ольга Вячеславовна </a:t>
            </a:r>
            <a:br>
              <a:rPr sz="2400"/>
            </a:br>
            <a:r>
              <a:rPr b="1" lang="ru-RU" sz="2400" spc="-1" strike="noStrike">
                <a:solidFill>
                  <a:srgbClr val="008a00"/>
                </a:solidFill>
                <a:latin typeface="Arial"/>
              </a:rPr>
              <a:t>МБОУ МО г.Нягань «СОШ №14»</a:t>
            </a:r>
            <a:br>
              <a:rPr sz="2400"/>
            </a:br>
            <a:r>
              <a:rPr b="1" lang="ru-RU" sz="2400" spc="-1" strike="noStrike">
                <a:solidFill>
                  <a:srgbClr val="008a00"/>
                </a:solidFill>
                <a:latin typeface="Arial"/>
              </a:rPr>
              <a:t> ХМАО-Югра </a:t>
            </a:r>
            <a:br>
              <a:rPr sz="2400"/>
            </a:br>
            <a:r>
              <a:rPr b="1" lang="ru-RU" sz="3600" spc="-1" strike="noStrike">
                <a:solidFill>
                  <a:srgbClr val="008a00"/>
                </a:solidFill>
                <a:latin typeface="Arial"/>
              </a:rPr>
              <a:t>Лабораторная работа по экологии «Анализ почвы» с использованием цифровой лаборатории «Архимед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C:\Documents and Settings\Admin\Рабочий стол\P1000460 1.JPG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2160" y="2971800"/>
            <a:ext cx="777240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ЕЦ ПОЧВЫ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: «Анализ почв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работ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ить характер среды (кислая, щелочная, нейтральная) различных видов почв и сделать вывод об их пригодности для  раст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орма работ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ронтальная (демонстрационный эксперимен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орудование и реактив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чва, воронка, фильтровальная бумага, стеклянная палочка,               4 химических стакана, датчик рН, цифровая лаборатория «Архимед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ы эксперимен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вод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ва №1 – умеренно кислая, почва №2 – сильнокислая. Подходят для растений: ель, лиственница, сосна, черника, брусника, плаун, пушица, сфагновые и зелёные м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1397160"/>
          <a:ext cx="7924680" cy="286524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поч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Н про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е значение р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 почвы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 почвы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 почвы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 почвы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 почвы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 почвы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G:\Материалы для Экологической тропы\Архимед\Архимед фото\P1000472.JPG"/>
          <p:cNvPicPr/>
          <p:nvPr/>
        </p:nvPicPr>
        <p:blipFill>
          <a:blip r:embed="rId1"/>
          <a:srcRect l="4073" t="0" r="5235" b="0"/>
          <a:stretch/>
        </p:blipFill>
        <p:spPr>
          <a:xfrm>
            <a:off x="4905360" y="0"/>
            <a:ext cx="4238640" cy="35053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лагодарю з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трудничеств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G:\Материалы для Экологической тропы\Архимед\Архимед фото\P1000462.JPG"/>
          <p:cNvPicPr/>
          <p:nvPr/>
        </p:nvPicPr>
        <p:blipFill>
          <a:blip r:embed="rId2"/>
          <a:stretch/>
        </p:blipFill>
        <p:spPr>
          <a:xfrm>
            <a:off x="0" y="337176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088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готовление почвенного раство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имический стакан поместите почву. Прилейте дистиллированную воду, объём которой должен быть в 3 раза больше объёма почвы. Хорошенько перемешайте стеклянной палочкой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C:\Documents and Settings\Admin\Рабочий стол\P1000447 1.JPG"/>
          <p:cNvPicPr/>
          <p:nvPr/>
        </p:nvPicPr>
        <p:blipFill>
          <a:blip r:embed="rId1"/>
          <a:stretch/>
        </p:blipFill>
        <p:spPr>
          <a:xfrm>
            <a:off x="4983120" y="3733920"/>
            <a:ext cx="4160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66320" y="53352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готовьте бумажный фильтр. Смочите фильтр водой, чтобы он плотнее прилегал к стенкам воронки и чтобы сухой фильтр не впитывал фильтруемую жидкость. При фильтровании жидкость наливайте на фильтр по палочке тонкой струёй, направляя её на стенку воронки, а не на непрочный центр фильтра, чтобы его не разорвать. Подставьте под воронку химический стакан и профильтруйте подготовленную смесь почвы и воды. Почва остан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фильтре, а собранны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ьтрат представ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ой почвенную вытяж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чвенный раствор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:\Documents and Settings\Admin\Рабочий стол\P1000449 1.JPG"/>
          <p:cNvPicPr/>
          <p:nvPr/>
        </p:nvPicPr>
        <p:blipFill>
          <a:blip r:embed="rId1"/>
          <a:stretch/>
        </p:blipFill>
        <p:spPr>
          <a:xfrm>
            <a:off x="0" y="4073400"/>
            <a:ext cx="37083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5120" y="685800"/>
            <a:ext cx="7238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а работы и регистрация данных с помощью цифровой лаборатории «Архимед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уск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ltiLab CE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запуска программы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ltiLab C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ерите команду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у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Lab C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Настройка датчиков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истрат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ерите коман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трой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 откройте вкладк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тч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флажок «Автоопределение» удалён, поэтому самостоятельно выбираем подключённый датчик в выпадающем меню полей: датчик р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ойте вкладк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выберите частоту опроса:1 замер в секун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 откройте вкладк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в выпадающем меню выберите количество замеров: 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 Запись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чвенную вытяжку поместите датчик рН и начинайте регистрацию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ачала записи данных в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истра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берите коман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к. Повторите опыт 3 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C:\Documents and Settings\Admin\Рабочий стол\P1000473 1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2160" y="2895480"/>
            <a:ext cx="7772400" cy="28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ЕЦ ПОЧВЫ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3-01-17T15:28:36Z</dcterms:modified>
  <cp:revision>26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