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7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A17-8BB6-4331-88D6-147194A4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D89-4A2C-49D6-A872-F4D38B76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585-BBBB-4D76-82EE-6E47199B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251-35FE-43B5-9F8C-C8C2387A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6038-1BE3-4D9E-8D33-ECDC3056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F923-BDB5-4521-9FC2-2D625867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4E3E-B2C6-48C5-B555-3DCC7B1B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9D4A-F764-4FD7-9DB4-AAC745FE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3E0D-9A4A-437A-840A-FA899975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5783-1664-42D6-8008-DAB6EAF1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7D14-5FB2-49D7-AFE1-F10D0A37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114-A7E1-49D9-84B4-C334D947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5689-C55D-44A9-9864-28D7FC77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6703-7A4B-464B-964E-7D79C995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CB40-F6F0-4A33-9B4B-D6585B15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BE39-0462-46DE-93FA-7D8D8E6F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7213-2D9D-4496-8D69-992E70AF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4D7-90E7-43B3-8707-01949DD9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FC8-FADA-4252-94EA-5F85CF60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EF8-3E38-4D3C-989B-9EC9D9E8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762-BB1F-4A79-A78E-7D524EA7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996-0843-4C38-91B4-26C2AF30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8BA-FF73-4A2C-A67D-74BB4326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B0C-6CB7-4592-A436-1F842037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F6C8-3EE0-4CAC-8064-019B791780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7C2F-F906-43A6-8B64-88020748A3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a00"/>
                </a:solidFill>
                <a:latin typeface="Arial"/>
              </a:rPr>
              <a:t>Малкина Ольга Вячеславовна </a:t>
            </a:r>
            <a:br>
              <a:rPr sz="2400"/>
            </a:br>
            <a:r>
              <a:rPr b="1" lang="ru-RU" sz="2400" spc="-1" strike="noStrike">
                <a:solidFill>
                  <a:srgbClr val="008a00"/>
                </a:solidFill>
                <a:latin typeface="Arial"/>
              </a:rPr>
              <a:t>МБОУ МО г.Нягань «СОШ №14»</a:t>
            </a:r>
            <a:br>
              <a:rPr sz="2400"/>
            </a:br>
            <a:r>
              <a:rPr b="1" lang="ru-RU" sz="2400" spc="-1" strike="noStrike">
                <a:solidFill>
                  <a:srgbClr val="008a00"/>
                </a:solidFill>
                <a:latin typeface="Arial"/>
              </a:rPr>
              <a:t> ХМАО-Югра </a:t>
            </a:r>
            <a:br>
              <a:rPr sz="2400"/>
            </a:br>
            <a:r>
              <a:rPr b="1" lang="ru-RU" sz="3600" spc="-1" strike="noStrike">
                <a:solidFill>
                  <a:srgbClr val="008a00"/>
                </a:solidFill>
                <a:latin typeface="Arial"/>
              </a:rPr>
              <a:t>Лабораторная работа по экологии «Анализ почвы» с использованием цифровой лаборатории «Архиме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C:\Documents and Settings\Admin\Рабочий стол\P1000460 1.JPG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2160" y="2971800"/>
            <a:ext cx="7772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ЕЦ ПОЧВЫ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: «Анализ почв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работ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ить характер среды (кислая, щелочная, нейтральная) различных видов почв и сделать вывод об их пригодности для  раст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орма работ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ронтальная (демонстрационный эксперимен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орудование и реактив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чва, воронка, фильтровальная бумага, стеклянная палочка,               4 химических стакана, датчик рН, цифровая лаборатория «Архиме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ы эксперимен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ва №1 – умеренно кислая, почва №2 – сильнокислая. Подходят для растений: ель, лиственница, сосна, черника, брусника, плаун, пушица, сфагновые и зелёные м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397160"/>
          <a:ext cx="7924680" cy="286524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поч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Н про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е значение р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 почвы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 почвы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 почвы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 почвы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 почвы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 почвы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G:\Материалы для Экологической тропы\Архимед\Архимед фото\P1000472.JPG"/>
          <p:cNvPicPr/>
          <p:nvPr/>
        </p:nvPicPr>
        <p:blipFill>
          <a:blip r:embed="rId1"/>
          <a:srcRect l="4073" t="0" r="5235" b="0"/>
          <a:stretch/>
        </p:blipFill>
        <p:spPr>
          <a:xfrm>
            <a:off x="4905360" y="0"/>
            <a:ext cx="4238640" cy="35053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лагодарю з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трудничеств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G:\Материалы для Экологической тропы\Архимед\Архимед фото\P1000462.JPG"/>
          <p:cNvPicPr/>
          <p:nvPr/>
        </p:nvPicPr>
        <p:blipFill>
          <a:blip r:embed="rId2"/>
          <a:stretch/>
        </p:blipFill>
        <p:spPr>
          <a:xfrm>
            <a:off x="0" y="337176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088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готовление почвенного раство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имический стакан поместите почву. Прилейте дистиллированную воду, объём которой должен быть в 3 раза больше объёма почвы. Хорошенько перемешайте стеклянной палочкой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C:\Documents and Settings\Admin\Рабочий стол\P1000447 1.JPG"/>
          <p:cNvPicPr/>
          <p:nvPr/>
        </p:nvPicPr>
        <p:blipFill>
          <a:blip r:embed="rId1"/>
          <a:stretch/>
        </p:blipFill>
        <p:spPr>
          <a:xfrm>
            <a:off x="4983120" y="3733920"/>
            <a:ext cx="4160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66320" y="53352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товьте бумажный фильтр. Смочите фильтр водой, чтобы он плотнее прилегал к стенкам воронки и чтобы сухой фильтр не впитывал фильтруемую жидкость. При фильтровании жидкость наливайте на фильтр по палочке тонкой струёй, направляя её на стенку воронки, а не на непрочный центр фильтра, чтобы его не разорвать. Подставьте под воронку химический стакан и профильтруйте подготовленную смесь почвы и воды. Почва остан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фильтре, а собран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ьтрат представ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й почвенную вытяж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чвенный раствор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:\Documents and Settings\Admin\Рабочий стол\P1000449 1.JPG"/>
          <p:cNvPicPr/>
          <p:nvPr/>
        </p:nvPicPr>
        <p:blipFill>
          <a:blip r:embed="rId1"/>
          <a:stretch/>
        </p:blipFill>
        <p:spPr>
          <a:xfrm>
            <a:off x="0" y="4073400"/>
            <a:ext cx="37083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5120" y="685800"/>
            <a:ext cx="7238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работы и регистрация данных с помощью цифровой лаборатории «Архимед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уск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ltiLab CE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пуска программы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ltiLab C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ерите команду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у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Lab C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Настройка датчиков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истрат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ерите коман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трой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откройте вкладк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тч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флажок «Автоопределение» удалён, поэтому самостоятельно выбираем подключённый датчик в выпадающем меню полей: датчик р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ойте вкладк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ыберите частоту опроса:1 замер в секун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откройте вкладк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 выпадающем меню выберите количество замеров: 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 Запись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чвенную вытяжку поместите датчик рН и начинайте регистрацию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ачала записи данных в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истра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берите коман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к. Повторите опыт 3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C:\Documents and Settings\Admin\Рабочий стол\P1000473 1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2895480"/>
            <a:ext cx="7772400" cy="28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ЕЦ ПОЧВЫ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3-01-17T15:28:36Z</dcterms:modified>
  <cp:revision>26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