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C884-8184-4C8C-BB35-F44052D95E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5334-67A7-444A-9A2C-408CCFB371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FFAC-C45A-478A-ACBC-DF944234A5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E621-13E3-4066-A2A0-F5262B874D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25ED-1037-4527-8E43-7F51D0B5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927C-52B6-4CD9-B488-4163D7B0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F5A-DEAE-4090-8F67-2C5AFBD6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350A-0D05-41A4-BACB-99363435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623F-4DEA-4C81-A25F-27B39F33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15EE-DD1B-4E6A-A161-9B6F8435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B6F-5008-4BCF-AEEF-8E3ACCAB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BB12-11AA-4F8A-A55A-821438FD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8F80-7C3A-49A0-A045-5D94B450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5EB-E964-411D-8071-5E28E09D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FAE6-F39E-423A-A3DD-7C6400A1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A1D-E088-4689-893D-F59051DC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2144-1EF9-4428-B6E8-4EEBEFECFA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" Target="slide8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" Target="slide8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" Target="slide8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" Target="slide8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5.png"/><Relationship Id="rId7" Type="http://schemas.openxmlformats.org/officeDocument/2006/relationships/image" Target="../media/image17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8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640" y="476280"/>
            <a:ext cx="8351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557360"/>
            <a:ext cx="835200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льтимедийная презентация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епосредственно образовательной деятельности по образовательной области «Коммуникация» с детьми старшего дошкольного возра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группы компенсирующей направл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68360" y="1052640"/>
            <a:ext cx="4535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рганизационный эта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чевое упражнение «Скажи как 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режде чем мы отправимся в путешествие по лесу, давайте вспомним, что и кого  мы видели  на экскурсии в осеннем лесу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ослушайте мое предложение: «В лесу я увидела осенние деревья»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 по образцу воспитател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ставим другое предложение: «В лесу растут деревья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 по образцу воспитател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авайте вспомним, а кто живет в лесу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http://images.all-free-download.com/images/graphicmedium/cartoon_tv_clip_art_10377.jpg"/>
          <p:cNvPicPr/>
          <p:nvPr/>
        </p:nvPicPr>
        <p:blipFill>
          <a:blip r:embed="rId1"/>
          <a:stretch/>
        </p:blipFill>
        <p:spPr>
          <a:xfrm>
            <a:off x="6588000" y="4941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:\Users\на\Desktop\фото к занятию\2.png"/>
          <p:cNvPicPr/>
          <p:nvPr/>
        </p:nvPicPr>
        <p:blipFill>
          <a:blip r:embed="rId2"/>
          <a:srcRect l="10885" t="0" r="21621" b="0"/>
          <a:stretch/>
        </p:blipFill>
        <p:spPr>
          <a:xfrm>
            <a:off x="5178600" y="1773360"/>
            <a:ext cx="2922480" cy="243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8" descr="http://www.frima.org/Door1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093000"/>
            <a:ext cx="4017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23640" y="1125000"/>
            <a:ext cx="4679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ой эта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чевое упражнение «Один - мног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Клубок катится и ведет нас по тропинке, идти нужно медленно, спокойно и очень аккуратно, чтобы не повредить муравейник и не потревожить животных.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убок остановился и говорит, что прежде чем мы сможем пойти дальше,  давайте посмотрим, и  скажем, чего много в лесу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ь: «В лесу не одно дерево </a:t>
            </a:r>
            <a:r>
              <a:rPr b="0" i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на экране появляется одно дерево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, а много чего? </a:t>
            </a:r>
            <a:r>
              <a:rPr b="0" i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на экране появляется много деревьев)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 ребенка.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ревьев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«В лесу не одна шишка, а  много чего?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 ребенка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«В лесу не один лист, а много чего?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 ребенка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«В лесу не один гриб, а много чего?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 ребенка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«В лесу не одна ягода, а много чего?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 ребенк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«В лесу не один зверь, а много кого?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 ребенка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http://images.all-free-download.com/images/graphicmedium/cartoon_tv_clip_art_10377.jpg"/>
          <p:cNvPicPr/>
          <p:nvPr/>
        </p:nvPicPr>
        <p:blipFill>
          <a:blip r:embed="rId1"/>
          <a:stretch/>
        </p:blipFill>
        <p:spPr>
          <a:xfrm>
            <a:off x="6588000" y="4941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Users\на\Desktop\фото к занятию\3.png"/>
          <p:cNvPicPr/>
          <p:nvPr/>
        </p:nvPicPr>
        <p:blipFill>
          <a:blip r:embed="rId2"/>
          <a:srcRect l="7760" t="0" r="6881" b="0"/>
          <a:stretch/>
        </p:blipFill>
        <p:spPr>
          <a:xfrm>
            <a:off x="5116680" y="2276640"/>
            <a:ext cx="3055680" cy="201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Picture 8" descr="http://www.frima.org/Door1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172200"/>
            <a:ext cx="360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6840" y="1197000"/>
            <a:ext cx="4259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ой эта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чевое упражн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С какого дерева лист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ш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убок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катился дальше и остановился на полянке, где разбросаны листья. Клубок предупреждает, что мы обязательно должны взять эти листья, они нам в пути пригодятся. Но, чтобы поднять лист с земли, вам нужно сказать с какого дерева лист и как он называется </a:t>
            </a:r>
            <a:r>
              <a:rPr b="0" i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каждый ребенок выбирает себе лист дерева,  и взяв его в руки отвечает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т лист с березы, он березовый и т.д</a:t>
            </a:r>
            <a:r>
              <a:rPr b="0" i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(по данному образцу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7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://images.all-free-download.com/images/graphicmedium/cartoon_tv_clip_art_10377.jpg"/>
          <p:cNvPicPr/>
          <p:nvPr/>
        </p:nvPicPr>
        <p:blipFill>
          <a:blip r:embed="rId1"/>
          <a:stretch/>
        </p:blipFill>
        <p:spPr>
          <a:xfrm>
            <a:off x="6588000" y="4941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:\Users\на\Desktop\фото к занятию\4.png"/>
          <p:cNvPicPr/>
          <p:nvPr/>
        </p:nvPicPr>
        <p:blipFill>
          <a:blip r:embed="rId2"/>
          <a:stretch/>
        </p:blipFill>
        <p:spPr>
          <a:xfrm>
            <a:off x="4859280" y="1989000"/>
            <a:ext cx="3326040" cy="187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7" name="Picture 8" descr="http://www.frima.org/Door1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172200"/>
            <a:ext cx="360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6840" y="1197000"/>
            <a:ext cx="3970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ой эта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инамическая пау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</a:t>
            </a:r>
            <a:r>
              <a:rPr b="1" i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r>
              <a:rPr b="0" i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Звучит аудиозапись «Шум ветра») Молодцы,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правились с заданием  и можно двигаться дальше, но клубок трясется, боится и предупреждает нас о том, что злая и вредная Баба Яга узнала, что мы идем в  гости к ежу и  задумала нас погубить, а угощенье себе забрать. Клубок подсказывает, что нам нужно срочно превратиться  в деревья и замереть (</a:t>
            </a:r>
            <a:r>
              <a:rPr b="0" i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ти изображают деревья с ветками, на которых висит по одному листу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Летит Баба Яга в ступе дует сильный ветер, деревья качаются, гнутся </a:t>
            </a:r>
            <a:r>
              <a:rPr b="0" i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дети качаются и гнутся, изображая деревья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 Не заметила она, что это не деревья, а дети, пролетела мимо (</a:t>
            </a:r>
            <a:r>
              <a:rPr b="0" i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ключается аудиозапись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http://images.all-free-download.com/images/graphicmedium/cartoon_tv_clip_art_10377.jpg"/>
          <p:cNvPicPr/>
          <p:nvPr/>
        </p:nvPicPr>
        <p:blipFill>
          <a:blip r:embed="rId1"/>
          <a:stretch/>
        </p:blipFill>
        <p:spPr>
          <a:xfrm>
            <a:off x="6588000" y="4941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Users\на\Desktop\фото к занятию\5.png"/>
          <p:cNvPicPr/>
          <p:nvPr/>
        </p:nvPicPr>
        <p:blipFill>
          <a:blip r:embed="rId2"/>
          <a:srcRect l="12395" t="12249" r="13354" b="10843"/>
          <a:stretch/>
        </p:blipFill>
        <p:spPr>
          <a:xfrm>
            <a:off x="4716360" y="2133720"/>
            <a:ext cx="3208320" cy="187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4" name="Picture 8" descr="http://www.frima.org/Door1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172200"/>
            <a:ext cx="360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196640"/>
            <a:ext cx="3960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ой эта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чевое упражн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Скажи правильн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Клубок говорит, что нужно обратно превращаться в детей, но для этого необходимо сказать, где висел лист  и куда упа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Послушайте: «Лист висел НА дереве и упал ПОД дерево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 </a:t>
            </a:r>
            <a:r>
              <a:rPr b="0" i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отвечает каждый ребенок  по образцу воспитателя, для закрепления сложных предлогов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http://images.all-free-download.com/images/graphicmedium/cartoon_tv_clip_art_10377.jpg"/>
          <p:cNvPicPr/>
          <p:nvPr/>
        </p:nvPicPr>
        <p:blipFill>
          <a:blip r:embed="rId1"/>
          <a:stretch/>
        </p:blipFill>
        <p:spPr>
          <a:xfrm>
            <a:off x="6588000" y="4941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Users\на\Desktop\фото к занятию\6.png"/>
          <p:cNvPicPr/>
          <p:nvPr/>
        </p:nvPicPr>
        <p:blipFill>
          <a:blip r:embed="rId2"/>
          <a:stretch/>
        </p:blipFill>
        <p:spPr>
          <a:xfrm>
            <a:off x="4572000" y="2060640"/>
            <a:ext cx="3498840" cy="196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1" name="Picture 8" descr="http://www.frima.org/Door1.gif"/>
          <p:cNvPicPr/>
          <p:nvPr/>
        </p:nvPicPr>
        <p:blipFill>
          <a:blip r:embed="rId3"/>
          <a:stretch/>
        </p:blipFill>
        <p:spPr>
          <a:xfrm>
            <a:off x="539640" y="6172200"/>
            <a:ext cx="360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907560"/>
            <a:ext cx="4619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ой эта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чевое упражнение «Вопрос-отве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Дети, мне кажется, что я слышу чей – то шепот, наверное,  это деревья. Они хотят с нами поговорить. </a:t>
            </a:r>
            <a:r>
              <a:rPr b="0" i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Дети и воспитатель  останавливаются перед деревьями, и  воспитатель задает им вопросы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Ребята, скажите, это какие деревья, лиственные или хвойны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А мы с вами хвойные или лиственные  деревья превращались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Как вы догадались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еревья осенью, каки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А вы знаете,  кто ухаживает за лесом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http://images.all-free-download.com/images/graphicmedium/cartoon_tv_clip_art_10377.jpg"/>
          <p:cNvPicPr/>
          <p:nvPr/>
        </p:nvPicPr>
        <p:blipFill>
          <a:blip r:embed="rId1"/>
          <a:stretch/>
        </p:blipFill>
        <p:spPr>
          <a:xfrm>
            <a:off x="6588000" y="4941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Users\на\Desktop\фото к занятию\7.png"/>
          <p:cNvPicPr/>
          <p:nvPr/>
        </p:nvPicPr>
        <p:blipFill>
          <a:blip r:embed="rId2"/>
          <a:srcRect l="18175" t="0" r="6999" b="0"/>
          <a:stretch/>
        </p:blipFill>
        <p:spPr>
          <a:xfrm>
            <a:off x="5219640" y="1844640"/>
            <a:ext cx="2881440" cy="216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" name="Picture 8" descr="http://www.frima.org/Door1.gif"/>
          <p:cNvPicPr/>
          <p:nvPr/>
        </p:nvPicPr>
        <p:blipFill>
          <a:blip r:embed="rId3"/>
          <a:stretch/>
        </p:blipFill>
        <p:spPr>
          <a:xfrm>
            <a:off x="539640" y="6172200"/>
            <a:ext cx="360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50560" y="907560"/>
            <a:ext cx="482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ой эта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дуктивный вид деятельности  «Веселый еж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Катится клубок дальше и говорит нам, что еж живет в норке один. Скучно ему одному. Просит клубок нас найти друзей для ежа. А чтобы нам было легче их найти, отправил портреты  </a:t>
            </a:r>
            <a:r>
              <a:rPr b="0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на столе лежат готовые силуэты ежей)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ам нужно найти по портрету ежа и нарисовать  ему иголки </a:t>
            </a:r>
            <a:r>
              <a:rPr b="0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дети самостоятельно подбирают ежа по нарисованному силуэту; силуэты раздает воспитатель,  опираясь на индивидуальные способности дет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ыберите любой материал для работы, которым вы бы хотели нарисовать иголки своему ежу </a:t>
            </a:r>
            <a:r>
              <a:rPr b="0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 на столе лежат акварельные краски, цветные карандаши, фломастеры,  восковые мел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ти выбирают материал, выполняют задание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 работает индивидуально с деть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олодцы, мы выполнили задание и теперь отправимся дальше. Вот и норка ежика, он ждет нас. Ежик, мы пришли к тебе в гости и привели тебе друзей </a:t>
            </a:r>
            <a:r>
              <a:rPr b="0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ребята выставляют своих ежей под елку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 Ребята, ежик спрашивает: «Тяжелый ли был пу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онравилось ли вам путешествоват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http://images.all-free-download.com/images/graphicmedium/cartoon_tv_clip_art_10377.jpg"/>
          <p:cNvPicPr/>
          <p:nvPr/>
        </p:nvPicPr>
        <p:blipFill>
          <a:blip r:embed="rId1"/>
          <a:stretch/>
        </p:blipFill>
        <p:spPr>
          <a:xfrm>
            <a:off x="6588000" y="4941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http://www.frima.org/Door1.gif"/>
          <p:cNvPicPr/>
          <p:nvPr/>
        </p:nvPicPr>
        <p:blipFill>
          <a:blip r:embed="rId2"/>
          <a:stretch/>
        </p:blipFill>
        <p:spPr>
          <a:xfrm>
            <a:off x="539640" y="6172200"/>
            <a:ext cx="36036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"/>
          <p:cNvPicPr/>
          <p:nvPr/>
        </p:nvPicPr>
        <p:blipFill>
          <a:blip r:embed="rId3"/>
          <a:stretch/>
        </p:blipFill>
        <p:spPr>
          <a:xfrm>
            <a:off x="5508720" y="2347920"/>
            <a:ext cx="2592360" cy="19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68000" y="980640"/>
            <a:ext cx="43196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ой эта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гра «Лесной хоровод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круг ребята становите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Дети берутся за руки и идут по кругу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друг дружке поклонитесь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Кланяются друг другу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опни каблучками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Ставят руки на пояс и топают каблучком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анцуй-ка с нам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Выставляют ножки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нами волк и зайцы пляшу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Дети превращаются в волков, а затем в зайцев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исы в хороводе  нашем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Дети  идут по кругу как лисы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лясали утк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Дети поворачиваются лицом  в круг и виляют хвостиками как утки.)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шел конь ретивый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Выходит конь в круг и бьет копытом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ьется его грив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ходи, честной народ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Дети хлопают в ладоши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наш веселый хоровод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http://images.all-free-download.com/images/graphicmedium/cartoon_tv_clip_art_10377.jpg"/>
          <p:cNvPicPr/>
          <p:nvPr/>
        </p:nvPicPr>
        <p:blipFill>
          <a:blip r:embed="rId1"/>
          <a:stretch/>
        </p:blipFill>
        <p:spPr>
          <a:xfrm>
            <a:off x="6588000" y="4941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C:\Users\на\Desktop\фото к занятию\9.png"/>
          <p:cNvPicPr/>
          <p:nvPr/>
        </p:nvPicPr>
        <p:blipFill>
          <a:blip r:embed="rId2"/>
          <a:stretch/>
        </p:blipFill>
        <p:spPr>
          <a:xfrm>
            <a:off x="4716360" y="2205000"/>
            <a:ext cx="3330720" cy="1874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2" name="Picture 8" descr="http://www.frima.org/Door1.gif"/>
          <p:cNvPicPr/>
          <p:nvPr/>
        </p:nvPicPr>
        <p:blipFill>
          <a:blip r:embed="rId3"/>
          <a:stretch/>
        </p:blipFill>
        <p:spPr>
          <a:xfrm>
            <a:off x="539640" y="6172200"/>
            <a:ext cx="360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68360" y="1052280"/>
            <a:ext cx="39592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ключительный эта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ощр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ети, ежик приготовил для нас угощенье – волшебные грибочки. Как только вы их съедите, сразу окажетесь у себя в группе. Угощайтесь. Ребята,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о прежде чем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ъедим грибочки, давайте попрощаемся с ежом </a:t>
            </a:r>
            <a:r>
              <a:rPr b="0" i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дети прощаются и  едят грибочк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флекс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у что, понравилось вам путешестви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Ребята, что вы расскажете дома своим мамам и папам о сегодняшнем путешестви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ы дет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http://images.all-free-download.com/images/graphicmedium/cartoon_tv_clip_art_10377.jpg"/>
          <p:cNvPicPr/>
          <p:nvPr/>
        </p:nvPicPr>
        <p:blipFill>
          <a:blip r:embed="rId1"/>
          <a:stretch/>
        </p:blipFill>
        <p:spPr>
          <a:xfrm>
            <a:off x="6588000" y="4941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Users\на\Desktop\фото к занятию\10.png"/>
          <p:cNvPicPr/>
          <p:nvPr/>
        </p:nvPicPr>
        <p:blipFill>
          <a:blip r:embed="rId2"/>
          <a:srcRect l="0" t="0" r="11652" b="0"/>
          <a:stretch/>
        </p:blipFill>
        <p:spPr>
          <a:xfrm>
            <a:off x="4859280" y="2133720"/>
            <a:ext cx="3276720" cy="208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9" name="Picture 8" descr="http://www.frima.org/Door1.gif"/>
          <p:cNvPicPr/>
          <p:nvPr/>
        </p:nvPicPr>
        <p:blipFill>
          <a:blip r:embed="rId3"/>
          <a:stretch/>
        </p:blipFill>
        <p:spPr>
          <a:xfrm>
            <a:off x="539640" y="6172200"/>
            <a:ext cx="360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68360" y="1196640"/>
            <a:ext cx="4392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ключительный эта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ожительная оценка детской 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Ребята, какие вы все молодцы. Прекрасно справились со  всеми заданиями и трудностями, даже Бабы Яги  не испугались. Вы все такие смелые. Мне так понравилось с вами путешествовать. Я думаю, что мы обязательно с вами будем путешествовать по зимнему лес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4" descr=""/>
          <p:cNvPicPr/>
          <p:nvPr/>
        </p:nvPicPr>
        <p:blipFill>
          <a:blip r:embed="rId1"/>
          <a:srcRect l="0" t="8455" r="0" b="12664"/>
          <a:stretch/>
        </p:blipFill>
        <p:spPr>
          <a:xfrm>
            <a:off x="5148360" y="2852640"/>
            <a:ext cx="2921040" cy="17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3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8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4000" y="83628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ма: «Осенний лес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ель: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огащение  и активизация словаря по теме «Осенний лес», развитие связной реч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чи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разовательные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огащать и активизировать словарь по лексической теме «Осенний лес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вивать грамматический строй реч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вивающие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пражнять в словообразовании и образовании существительных в родительном падеже множественного числ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вивать познавательные процессы: внимание, восприятие, память и мышлени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вивать умение сравнивать, находить сходство и различи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вивать  сенсорномоторную координацию, подготовка руки к письму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вивать навык самоконтрол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вивать эмоциональную отзывчивость, подражательность,  творческое воображение, умение перевоплощатьс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ные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Воспитывать  бережное  отношение к окружающей природ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7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26560" y="981000"/>
            <a:ext cx="2232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амоанали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C:\Users\на\Desktop\фото к занятию\10.png"/>
          <p:cNvPicPr/>
          <p:nvPr/>
        </p:nvPicPr>
        <p:blipFill>
          <a:blip r:embed="rId1"/>
          <a:srcRect l="0" t="0" r="11652" b="0"/>
          <a:stretch/>
        </p:blipFill>
        <p:spPr>
          <a:xfrm>
            <a:off x="5573880" y="3886200"/>
            <a:ext cx="2598480" cy="165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0" name="Picture 6" descr="http://im8-tub-ru.yandex.net/i?id=152662223-37-72&amp;n=21"/>
          <p:cNvPicPr/>
          <p:nvPr/>
        </p:nvPicPr>
        <p:blipFill>
          <a:blip r:embed="rId2"/>
          <a:stretch/>
        </p:blipFill>
        <p:spPr>
          <a:xfrm>
            <a:off x="395280" y="5554800"/>
            <a:ext cx="792000" cy="68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C:\Users\на\Desktop\фото к занятию\9.png"/>
          <p:cNvPicPr/>
          <p:nvPr/>
        </p:nvPicPr>
        <p:blipFill>
          <a:blip r:embed="rId3"/>
          <a:stretch/>
        </p:blipFill>
        <p:spPr>
          <a:xfrm>
            <a:off x="2967120" y="1509840"/>
            <a:ext cx="2492280" cy="140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2" name="Picture 9" descr="C:\Users\на\Desktop\фото к занятию\7.png"/>
          <p:cNvPicPr/>
          <p:nvPr/>
        </p:nvPicPr>
        <p:blipFill>
          <a:blip r:embed="rId4"/>
          <a:stretch/>
        </p:blipFill>
        <p:spPr>
          <a:xfrm>
            <a:off x="158760" y="1870200"/>
            <a:ext cx="2663640" cy="150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3" name="Picture 10" descr="C:\Users\на\Desktop\фото к занятию\6.png"/>
          <p:cNvPicPr/>
          <p:nvPr/>
        </p:nvPicPr>
        <p:blipFill>
          <a:blip r:embed="rId5"/>
          <a:stretch/>
        </p:blipFill>
        <p:spPr>
          <a:xfrm>
            <a:off x="158760" y="3814920"/>
            <a:ext cx="2663640" cy="150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4" name="Picture 12" descr="C:\Users\на\Desktop\фото к занятию\2.png"/>
          <p:cNvPicPr/>
          <p:nvPr/>
        </p:nvPicPr>
        <p:blipFill>
          <a:blip r:embed="rId6"/>
          <a:srcRect l="13007" t="0" r="34981" b="0"/>
          <a:stretch/>
        </p:blipFill>
        <p:spPr>
          <a:xfrm>
            <a:off x="3059280" y="3309840"/>
            <a:ext cx="2304720" cy="249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5" name="Picture 14" descr="http://cs10730.userapi.com/u15946340/-14/x_e118b21a.jpg"/>
          <p:cNvPicPr/>
          <p:nvPr/>
        </p:nvPicPr>
        <p:blipFill>
          <a:blip r:embed="rId7"/>
          <a:stretch/>
        </p:blipFill>
        <p:spPr>
          <a:xfrm>
            <a:off x="1547640" y="5626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"/>
          <p:cNvPicPr/>
          <p:nvPr/>
        </p:nvPicPr>
        <p:blipFill>
          <a:blip r:embed="rId8"/>
          <a:srcRect l="0" t="8455" r="0" b="12664"/>
          <a:stretch/>
        </p:blipFill>
        <p:spPr>
          <a:xfrm>
            <a:off x="5651640" y="1916280"/>
            <a:ext cx="2555640" cy="151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24000" y="1628280"/>
            <a:ext cx="79200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ьзование современных технологий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Игровые технологии Н.Ф. Губановой «Художественно -  творческое развитие детей средствами театрализованной игры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емы здоровьесберегающих технологии (смена видов деятельности,  динамическая пауз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лемент развивающей технологии М. Монтессори (подготовка руки к письму и развитие  сенсорномоторной координаци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3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орудование и средства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исьмо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убок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удиозапись «Шум ветра», «Шум леса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оутбук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левизор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айдовая  презентация «Чего много в лесу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ртинки листьев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корация осеннего лес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илуэты и шаблоны ежей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исти для рисовани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елки восковы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ломастеры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ветные карандаш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раски акварельны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акан – непроливайка  с водой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грушка еж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ченье «Грибочки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лажные салфетк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95280" y="1197000"/>
            <a:ext cx="7848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дварительная рабо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кскурсия в осенний ле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Чтение рассказов И.Соколова – Микитова «Осина», «Осень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Загадывание и отгадывание загадок по теме «Осень» и «Лес осенью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Просмотр презентации об осе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учивание игры «Лесной хоровод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слушивание аудиозаписей «Шум ветра» и «Шум лес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23640" y="1052280"/>
            <a:ext cx="7885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83880" indent="264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держание образовательной деятельности 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строено в соответствии с федеральными государственными требованиями и с учетом интеграции образовательных областей «Познание», «Социализация», «Художественное творчество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3880" indent="264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анная образовательная деятельность является обобщающей по теме «Осенний лес», цель которой - обогащение активного словаря относительными прилагательными; расширение понимания и использования простых предлогов НА, ПОД; совершенствование навыка использования в речи существительных множественного числа родительного падежа;  совершенствование умения составлять простые предлож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3880" indent="264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посредственно образовательная деятельность является логически выстроенной, так как все компоненты направлены на достижение основной цели. Методы и приемы доступны для детей, так как подобраны в соответствии с возрастными особенностями и компенсирующим направлением групп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3880" indent="264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учность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анного материала заключается в том, что  процесс усвоения программного материала построен по принципу системности, от простого к сложному, учету индивидуальных особенностей детей и компенсаторных возможностей.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держание задач соответствует познавательным возможностям воспитанников, уровню сформированности возрастных психических  функц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апы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4000" y="1700280"/>
          <a:ext cx="7704000" cy="4146480"/>
        </p:xfrm>
        <a:graphic>
          <a:graphicData uri="http://schemas.openxmlformats.org/drawingml/2006/table">
            <a:tbl>
              <a:tblPr/>
              <a:tblGrid>
                <a:gridCol w="502920"/>
                <a:gridCol w="1513080"/>
                <a:gridCol w="4392720"/>
                <a:gridCol w="12952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Эта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Кол – 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Организацион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Создать благоприятную эмоциональную обстановку для включения детей в мыслительную и речевую деятельнос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Основ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. Совершенствовать умения составлять простые предложения,  использовать в речи существительные  множественного числа, родительного падежа; обогащать активный словарь относительными прилагательными; расширять понимание и использование  простых предлогов НА, ПОД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. Развивать сенсорномоторную координацию, эмоциональную отзывчивость, подражательность,  творческое воображение, умение перевоплощаться, подготовка руки к письму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Заключи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Итог  и оценка деятельности детей,  рефлексия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73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052640"/>
            <a:ext cx="6562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етоды и при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  <a:hlinkClick r:id="rId1" action="ppaction://hlinksldjump"/>
              </a:rPr>
              <a:t>Сюрпризный момен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  <a:hlinkClick r:id="rId2" action="ppaction://hlinksldjump"/>
              </a:rPr>
              <a:t>Бесе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  <a:hlinkClick r:id="rId3" action="ppaction://hlinksldjump"/>
              </a:rPr>
              <a:t>Речевое упражнение «Скажи как я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  <a:hlinkClick r:id="rId4" action="ppaction://hlinksldjump"/>
              </a:rPr>
              <a:t>Речевое упражнение «Один – много»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использование ИКТ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  <a:hlinkClick r:id="rId5" action="ppaction://hlinksldjump"/>
              </a:rPr>
              <a:t>Речевое упражнение «С какого дерева лист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  <a:hlinkClick r:id="rId6" action="ppaction://hlinksldjump"/>
              </a:rPr>
              <a:t>Динамическая пауз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  <a:hlinkClick r:id="rId7" action="ppaction://hlinksldjump"/>
              </a:rPr>
              <a:t>Речевое упражнение «Скажи правильн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  <a:hlinkClick r:id="rId8" action="ppaction://hlinksldjump"/>
              </a:rPr>
              <a:t>Речевое упражнение «Вопрос-ответ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  <a:hlinkClick r:id="rId9" action="ppaction://hlinksldjump"/>
              </a:rPr>
              <a:t>Продуктивный вид деятельности «Веселый еж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амоконтро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  <a:hlinkClick r:id="rId10" action="ppaction://hlinksldjump"/>
              </a:rPr>
              <a:t>Игра «Лесной хоровод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  <a:hlinkClick r:id="rId11" action="ppaction://hlinksldjump"/>
              </a:rPr>
              <a:t>Поощр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  <a:hlinkClick r:id="rId12" action="ppaction://hlinksldjump"/>
              </a:rPr>
              <a:t>Рефлекс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ожительная оценка детской деятель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95280" y="1269720"/>
            <a:ext cx="4105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рганизационный эта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еседа</a:t>
            </a:r>
            <a:br>
              <a:rPr sz="17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</a:t>
            </a: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Ребята, сегодня утром я получила посылку, в которой лежало письмо от ежа. Он приглашает нас в гости, потому что собрал в этом году много припасов на зиму и хочет ими с нами поделиться. Но живет он далеко – в лесу и путь к его норке долгий и трудный. Поэтому он послал в посылке волшебный клубок, который будет нам подсказывать дорогу и предупредит об опасност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спитатель:</a:t>
            </a: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ойдем в гости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т детей. </a:t>
            </a: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190800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лкина Анастасия Васильев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Заголовок 1"/>
          <p:cNvSpPr/>
          <p:nvPr/>
        </p:nvSpPr>
        <p:spPr>
          <a:xfrm>
            <a:off x="36360" y="189000"/>
            <a:ext cx="835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нгепасское городское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униципальное автономное дошкольное  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Детский сад  комбинированного вида № 10 «Белочк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6"/>
          <p:cNvSpPr/>
          <p:nvPr/>
        </p:nvSpPr>
        <p:spPr>
          <a:xfrm>
            <a:off x="468360" y="836640"/>
            <a:ext cx="7596000" cy="0"/>
          </a:xfrm>
          <a:prstGeom prst="line">
            <a:avLst/>
          </a:prstGeom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ttp://images.all-free-download.com/images/graphicmedium/cartoon_tv_clip_art_10377.jpg"/>
          <p:cNvPicPr/>
          <p:nvPr/>
        </p:nvPicPr>
        <p:blipFill>
          <a:blip r:embed="rId1"/>
          <a:stretch/>
        </p:blipFill>
        <p:spPr>
          <a:xfrm>
            <a:off x="6588000" y="4941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:\Users\на\Desktop\фото к занятию\1.png"/>
          <p:cNvPicPr/>
          <p:nvPr/>
        </p:nvPicPr>
        <p:blipFill>
          <a:blip r:embed="rId2"/>
          <a:srcRect l="12252" t="12062" r="12252" b="11018"/>
          <a:stretch/>
        </p:blipFill>
        <p:spPr>
          <a:xfrm>
            <a:off x="4643280" y="2013120"/>
            <a:ext cx="3598920" cy="206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6" name="Picture 8" descr="http://www.frima.org/Door1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093000"/>
            <a:ext cx="4017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03:50:51Z</dcterms:created>
  <dc:creator>Дарья</dc:creator>
  <dc:description/>
  <dc:language>en-US</dc:language>
  <cp:lastModifiedBy>на</cp:lastModifiedBy>
  <dcterms:modified xsi:type="dcterms:W3CDTF">2012-10-11T14:42:09Z</dcterms:modified>
  <cp:revision>106</cp:revision>
  <dc:subject/>
  <dc:title>Лангепасское городское  муниципальное автономное дошкольное  образовательное учреждение  «Детский сад  комбинированного вида № 10 «Белочка»</dc:title>
</cp:coreProperties>
</file>