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A52A-9308-4CEC-9AAD-11A59A634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0CCF-1938-46B1-9098-C53D6B131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4D88-9C22-4748-A692-83EE3E827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AE2-CA57-4681-A698-B8648260B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5A5-F026-4E73-861E-2D72DAB0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0DE-E9EF-47B0-A7D3-20FF5C95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24E-2F83-436D-ADD9-0231D918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37D-78DD-4F2F-A3BA-DB8A450D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BD9-DCB3-4538-B30A-81020167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B01-28BB-44FB-A10A-B16D3FBC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67B-B7F3-4A4B-A268-EA00FB84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387-016A-42C6-8182-8B1821F1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74E-935E-4088-8329-B7A7785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7E9-ADE1-41CB-94CA-BD8C79A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C46-95BF-4997-B4B1-1550D25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133-F04B-4E62-ABCF-F026044E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4C39-8C39-48AD-B6E3-5E2A11253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17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640" y="476280"/>
            <a:ext cx="8351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3520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льтимедийная презентаци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посредственно образовательной деятельности по образовательной области «Коммуникация» с детьми старшего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группы компенсирующей направл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052640"/>
            <a:ext cx="4535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онны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«Скажи как 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ежде чем мы отправимся в путешествие по лесу, давайте вспомним, что и кого  мы видели  на экскурсии в осеннем лесу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слушайте мое предложение: «В лесу я увидела осенние деревья»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 по образцу воспитат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тавим другое предложение: «В лесу растут деревья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 по образцу воспитат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вайте вспомним, а кто живет в лес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на\Desktop\фото к занятию\2.png"/>
          <p:cNvPicPr/>
          <p:nvPr/>
        </p:nvPicPr>
        <p:blipFill>
          <a:blip r:embed="rId2"/>
          <a:srcRect l="10885" t="0" r="21621" b="0"/>
          <a:stretch/>
        </p:blipFill>
        <p:spPr>
          <a:xfrm>
            <a:off x="5178600" y="1773360"/>
            <a:ext cx="2922480" cy="243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093000"/>
            <a:ext cx="401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3640" y="1125000"/>
            <a:ext cx="467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«Один - мн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лубок катится и ведет нас по тропинке, идти нужно медленно, спокойно и очень аккуратно, чтобы не повредить муравейник и не потревожить животных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убок остановился и говорит, что прежде чем мы сможем пойти дальше,  давайте посмотрим, и  скажем, чего много в лес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ь: «В лесу не одно дерево </a:t>
            </a: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на экране появляется одно дерево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, а много чего? </a:t>
            </a: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на экране появляется много деревьев)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ревье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«В лесу не одна шишка, а  много че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«В лесу не один лист, а много че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«В лесу не один гриб, а много че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«В лесу не одна ягода, а много че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«В лесу не один зверь, а много ко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на\Desktop\фото к занятию\3.png"/>
          <p:cNvPicPr/>
          <p:nvPr/>
        </p:nvPicPr>
        <p:blipFill>
          <a:blip r:embed="rId2"/>
          <a:srcRect l="7760" t="0" r="6881" b="0"/>
          <a:stretch/>
        </p:blipFill>
        <p:spPr>
          <a:xfrm>
            <a:off x="5116680" y="2276640"/>
            <a:ext cx="305568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197000"/>
            <a:ext cx="4259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 какого дерева лис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ш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убок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катился дальше и остановился на полянке, где разбросаны листья. Клубок предупреждает, что мы обязательно должны взять эти листья, они нам в пути пригодятся. Но, чтобы поднять лист с земли, вам нужно сказать с какого дерева лист и как он называ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каждый ребенок выбирает себе лист дерева,  и взяв его в руки отвечает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лист с березы, он березовый и т.д</a:t>
            </a:r>
            <a:r>
              <a:rPr b="0" i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по данному образцу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на\Desktop\фото к занятию\4.png"/>
          <p:cNvPicPr/>
          <p:nvPr/>
        </p:nvPicPr>
        <p:blipFill>
          <a:blip r:embed="rId2"/>
          <a:stretch/>
        </p:blipFill>
        <p:spPr>
          <a:xfrm>
            <a:off x="4859280" y="1989000"/>
            <a:ext cx="332604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6840" y="1197000"/>
            <a:ext cx="3970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инамическая пау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</a:t>
            </a:r>
            <a:r>
              <a:rPr b="1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Звучит аудиозапись «Шум ветра») Молодцы,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правились с заданием  и можно двигаться дальше, но клубок трясется, боится и предупреждает нас о том, что злая и вредная Баба Яга узнала, что мы идем в  гости к ежу и  задумала нас погубить, а угощенье себе забрать. Клубок подсказывает, что нам нужно срочно превратиться  в деревья и замереть (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ти изображают деревья с ветками, на которых висит по одному листу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Летит Баба Яга в ступе дует сильный ветер, деревья качаются, гну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качаются и гнутся, изображая деревья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Не заметила она, что это не деревья, а дети, пролетела мимо (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ключается аудиозапись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на\Desktop\фото к занятию\5.png"/>
          <p:cNvPicPr/>
          <p:nvPr/>
        </p:nvPicPr>
        <p:blipFill>
          <a:blip r:embed="rId2"/>
          <a:srcRect l="12395" t="12249" r="13354" b="10843"/>
          <a:stretch/>
        </p:blipFill>
        <p:spPr>
          <a:xfrm>
            <a:off x="4716360" y="2133720"/>
            <a:ext cx="320832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196640"/>
            <a:ext cx="396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кажи правильн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лубок говорит, что нужно обратно превращаться в детей, но для этого необходимо сказать, где висел лист  и куда упа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Послушайте: «Лист висел НА дереве и упал ПОД дерево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 </a:t>
            </a:r>
            <a:r>
              <a:rPr b="0" i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отвечает каждый ребенок  по образцу воспитателя, для закрепления сложных предлог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Users\на\Desktop\фото к занятию\6.png"/>
          <p:cNvPicPr/>
          <p:nvPr/>
        </p:nvPicPr>
        <p:blipFill>
          <a:blip r:embed="rId2"/>
          <a:stretch/>
        </p:blipFill>
        <p:spPr>
          <a:xfrm>
            <a:off x="4572000" y="2060640"/>
            <a:ext cx="3498840" cy="196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8" descr="http://www.frima.org/Door1.gif"/>
          <p:cNvPicPr/>
          <p:nvPr/>
        </p:nvPicPr>
        <p:blipFill>
          <a:blip r:embed="rId3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907560"/>
            <a:ext cx="461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«Вопрос-отв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Дети, мне кажется, что я слышу чей – то шепот, наверное,  это деревья. Они хотят с нами поговорить.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и воспитатель  останавливаются перед деревьями, и  воспитатель задает им вопросы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Ребята, скажите, это какие деревья, лиственные или хвойны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А мы с вами хвойные или лиственные  деревья превращалис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Как вы догадалис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еревья осенью, как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А вы знаете,  кто ухаживает за лес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на\Desktop\фото к занятию\7.png"/>
          <p:cNvPicPr/>
          <p:nvPr/>
        </p:nvPicPr>
        <p:blipFill>
          <a:blip r:embed="rId2"/>
          <a:srcRect l="18175" t="0" r="6999" b="0"/>
          <a:stretch/>
        </p:blipFill>
        <p:spPr>
          <a:xfrm>
            <a:off x="5219640" y="1844640"/>
            <a:ext cx="2881440" cy="21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8" descr="http://www.frima.org/Door1.gif"/>
          <p:cNvPicPr/>
          <p:nvPr/>
        </p:nvPicPr>
        <p:blipFill>
          <a:blip r:embed="rId3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0560" y="907560"/>
            <a:ext cx="482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дуктивный вид деятельности  «Веселый еж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тится клубок дальше и говорит нам, что еж живет в норке один. Скучно ему одному. Просит клубок нас найти друзей для ежа. А чтобы нам было легче их найти, отправил портреты  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на столе лежат готовые силуэты ежей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ам нужно найти по портрету ежа и нарисовать  ему иголки 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самостоятельно подбирают ежа по нарисованному силуэту; силуэты раздает воспитатель,  опираясь на индивидуальные способности де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ыберите любой материал для работы, которым вы бы хотели нарисовать иголки своему ежу 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на столе лежат акварельные краски, цветные карандаши, фломастеры,  восковые мел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ти выбирают материал, выполняют задание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 работает индивидуально с деть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олодцы, мы выполнили задание и теперь отправимся дальше. Вот и норка ежика, он ждет нас. Ежик, мы пришли к тебе в гости и привели тебе друзей 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ребята выставляют своих ежей под елку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Ребята, ежик спрашивает: «Тяжелый ли был пу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нравилось ли вам путешествов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www.frima.org/Door1.gif"/>
          <p:cNvPicPr/>
          <p:nvPr/>
        </p:nvPicPr>
        <p:blipFill>
          <a:blip r:embed="rId2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5508720" y="2347920"/>
            <a:ext cx="259236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68000" y="980640"/>
            <a:ext cx="4319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гра «Лесной хорово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руг ребята становите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берутся за руки и идут по кругу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друг дружке поклонитесь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Кланяются друг другу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пни каблучками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тавят руки на пояс и топают каблучком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анцуй-ка с н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Выставляют ножки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нами волк и зайцы пляшу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превращаются в волков, а затем в зайцев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сы в хороводе  наше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 идут по кругу как лисы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лясали ут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поворачиваются лицом  в круг и виляют хвостиками как утки.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шел конь ретивый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Выходит конь в круг и бьет копытом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ьется его грив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ходи, честной народ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хлопают в ладоши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наш веселый хоровод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Users\на\Desktop\фото к занятию\9.png"/>
          <p:cNvPicPr/>
          <p:nvPr/>
        </p:nvPicPr>
        <p:blipFill>
          <a:blip r:embed="rId2"/>
          <a:stretch/>
        </p:blipFill>
        <p:spPr>
          <a:xfrm>
            <a:off x="4716360" y="2205000"/>
            <a:ext cx="3330720" cy="187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8" descr="http://www.frima.org/Door1.gif"/>
          <p:cNvPicPr/>
          <p:nvPr/>
        </p:nvPicPr>
        <p:blipFill>
          <a:blip r:embed="rId3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1052280"/>
            <a:ext cx="39592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ключительны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ощр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ети, ежик приготовил для нас угощенье – волшебные грибочки. Как только вы их съедите, сразу окажетесь у себя в группе. Угощайтесь. Ребята,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прежде чем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ъедим грибочки, давайте попрощаемся с ежом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прощаются и  едят грибочк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флек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у что, понравилось вам путешеств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Ребята, что вы расскажете дома своим мамам и папам о сегодняшнем путешеств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на\Desktop\фото к занятию\10.png"/>
          <p:cNvPicPr/>
          <p:nvPr/>
        </p:nvPicPr>
        <p:blipFill>
          <a:blip r:embed="rId2"/>
          <a:srcRect l="0" t="0" r="11652" b="0"/>
          <a:stretch/>
        </p:blipFill>
        <p:spPr>
          <a:xfrm>
            <a:off x="4859280" y="2133720"/>
            <a:ext cx="3276720" cy="20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8" descr="http://www.frima.org/Door1.gif"/>
          <p:cNvPicPr/>
          <p:nvPr/>
        </p:nvPicPr>
        <p:blipFill>
          <a:blip r:embed="rId3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68360" y="1196640"/>
            <a:ext cx="4392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ключительный эта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жительная оценка детской 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Ребята, какие вы все молодцы. Прекрасно справились со  всеми заданиями и трудностями, даже Бабы Яги  не испугались. Вы все такие смелые. Мне так понравилось с вами путешествовать. Я думаю, что мы обязательно с вами будем путешествовать по зимнему лес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4" descr=""/>
          <p:cNvPicPr/>
          <p:nvPr/>
        </p:nvPicPr>
        <p:blipFill>
          <a:blip r:embed="rId1"/>
          <a:srcRect l="0" t="8455" r="0" b="12664"/>
          <a:stretch/>
        </p:blipFill>
        <p:spPr>
          <a:xfrm>
            <a:off x="5148360" y="2852640"/>
            <a:ext cx="292104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8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83628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ма: «Осенний лес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ь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гащение  и активизация словаря по теме «Осенний лес», развитие связной реч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и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разовательны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гащать и активизировать словарь по лексической теме «Осенний лес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грамматический строй реч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ющи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пражнять в словообразовании и образовании существительных в родительном падеже множественного числ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познавательные процессы: внимание, восприятие, память и мышлени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умение сравнивать, находить сходство и различ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 сенсорномоторную координацию, подготовка руки к письм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навык самоконтрол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эмоциональную отзывчивость, подражательность,  творческое воображение, умение перевоплощатьс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ны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Воспитывать  бережное  отношение к окружающей природ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26560" y="981000"/>
            <a:ext cx="223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амоанал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:\Users\на\Desktop\фото к занятию\10.png"/>
          <p:cNvPicPr/>
          <p:nvPr/>
        </p:nvPicPr>
        <p:blipFill>
          <a:blip r:embed="rId1"/>
          <a:srcRect l="0" t="0" r="11652" b="0"/>
          <a:stretch/>
        </p:blipFill>
        <p:spPr>
          <a:xfrm>
            <a:off x="5573880" y="3886200"/>
            <a:ext cx="2598480" cy="16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0" name="Picture 6" descr="http://im8-tub-ru.yandex.net/i?id=152662223-37-72&amp;n=21"/>
          <p:cNvPicPr/>
          <p:nvPr/>
        </p:nvPicPr>
        <p:blipFill>
          <a:blip r:embed="rId2"/>
          <a:stretch/>
        </p:blipFill>
        <p:spPr>
          <a:xfrm>
            <a:off x="395280" y="555480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C:\Users\на\Desktop\фото к занятию\9.png"/>
          <p:cNvPicPr/>
          <p:nvPr/>
        </p:nvPicPr>
        <p:blipFill>
          <a:blip r:embed="rId3"/>
          <a:stretch/>
        </p:blipFill>
        <p:spPr>
          <a:xfrm>
            <a:off x="2967120" y="1509840"/>
            <a:ext cx="2492280" cy="140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Picture 9" descr="C:\Users\на\Desktop\фото к занятию\7.png"/>
          <p:cNvPicPr/>
          <p:nvPr/>
        </p:nvPicPr>
        <p:blipFill>
          <a:blip r:embed="rId4"/>
          <a:stretch/>
        </p:blipFill>
        <p:spPr>
          <a:xfrm>
            <a:off x="158760" y="1870200"/>
            <a:ext cx="266364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Picture 10" descr="C:\Users\на\Desktop\фото к занятию\6.png"/>
          <p:cNvPicPr/>
          <p:nvPr/>
        </p:nvPicPr>
        <p:blipFill>
          <a:blip r:embed="rId5"/>
          <a:stretch/>
        </p:blipFill>
        <p:spPr>
          <a:xfrm>
            <a:off x="158760" y="3814920"/>
            <a:ext cx="266364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Picture 12" descr="C:\Users\на\Desktop\фото к занятию\2.png"/>
          <p:cNvPicPr/>
          <p:nvPr/>
        </p:nvPicPr>
        <p:blipFill>
          <a:blip r:embed="rId6"/>
          <a:srcRect l="13007" t="0" r="34981" b="0"/>
          <a:stretch/>
        </p:blipFill>
        <p:spPr>
          <a:xfrm>
            <a:off x="3059280" y="3309840"/>
            <a:ext cx="2304720" cy="249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5" name="Picture 14" descr="http://cs10730.userapi.com/u15946340/-14/x_e118b21a.jpg"/>
          <p:cNvPicPr/>
          <p:nvPr/>
        </p:nvPicPr>
        <p:blipFill>
          <a:blip r:embed="rId7"/>
          <a:stretch/>
        </p:blipFill>
        <p:spPr>
          <a:xfrm>
            <a:off x="1547640" y="5626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8"/>
          <a:srcRect l="0" t="8455" r="0" b="12664"/>
          <a:stretch/>
        </p:blipFill>
        <p:spPr>
          <a:xfrm>
            <a:off x="5651640" y="1916280"/>
            <a:ext cx="255564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628280"/>
            <a:ext cx="7920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ование современных технологи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Игровые технологии Н.Ф. Губановой «Художественно -  творческое развитие детей средствами театрализованной игры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емы здоровьесберегающих технологии (смена видов деятельности,  динамическая пауз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лемент развивающей технологии М. Монтессори (подготовка руки к письму и развитие  сенсорномоторной координац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3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рудование и средства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исьм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убо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удиозапись «Шум ветра», «Шум лес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утбу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визо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айдовая  презентация «Чего много в лесу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ртинки листье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корация осеннего лес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луэты и шаблоны еже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исти для рисован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лки восков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ломастеры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ветные карандаш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раски акварель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кан – непроливайка  с водо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грушка еж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ченье «Грибочки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ажные салфет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119700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варительная рабо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кскурсия в осенний ле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Чтение рассказов И.Соколова – Микитова «Осина», «Осень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Загадывание и отгадывание загадок по теме «Осень» и «Лес осенью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Просмотр презентации об осе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учивание игры «Лесной хоровод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лушивание аудиозаписей «Шум ветра» и «Шум лес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3640" y="1052280"/>
            <a:ext cx="788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388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держание образовательной деятельности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троено в соответствии с федеральными государственными требованиями и с учетом интеграции образовательных областей «Познание», «Социализация», «Художественное творчество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8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ая образовательная деятельность является обобщающей по теме «Осенний лес», цель которой - обогащение активного словаря относительными прилагательными; расширение понимания и использования простых предлогов НА, ПОД; совершенствование навыка использования в речи существительных множественного числа родительного падежа;  совершенствование умения составлять простые предлож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8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посредственно образовательная деятельность является логически выстроенной, так как все компоненты направлены на достижение основной цели. Методы и приемы доступны для детей, так как подобраны в соответствии с возрастными особенностями и компенсирующим направлением групп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8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учность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нного материала заключается в том, что  процесс усвоения программного материала построен по принципу системности, от простого к сложному, учету индивидуальных особенностей детей и компенсаторных возможностей.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держание задач соответствует познавательным возможностям воспитанников, уровню сформированности возрастных психических  функц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апы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700280"/>
          <a:ext cx="7704000" cy="4146480"/>
        </p:xfrm>
        <a:graphic>
          <a:graphicData uri="http://schemas.openxmlformats.org/drawingml/2006/table">
            <a:tbl>
              <a:tblPr/>
              <a:tblGrid>
                <a:gridCol w="502920"/>
                <a:gridCol w="1513080"/>
                <a:gridCol w="4392720"/>
                <a:gridCol w="1295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Эт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Кол – 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рганизацион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оздать благоприятную эмоциональную обстановку для включения детей в мыслительную и речевую деятель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снов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. Совершенствовать умения составлять простые предложения,  использовать в речи существительные  множественного числа, родительного падежа; обогащать активный словарь относительными прилагательными; расширять понимание и использование  простых предлогов НА, П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. Развивать сенсорномоторную координацию, эмоциональную отзывчивость, подражательность,  творческое воображение, умение перевоплощаться, подготовка руки к письм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ключ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Итог  и оценка деятельности детей,  рефлекс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73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052640"/>
            <a:ext cx="6562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тоды и при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1" action="ppaction://hlinksldjump"/>
              </a:rPr>
              <a:t>Сюрпризный момен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2" action="ppaction://hlinksldjump"/>
              </a:rPr>
              <a:t>Бесе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3" action="ppaction://hlinksldjump"/>
              </a:rPr>
              <a:t>Речевое упражнение «Скажи как 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4" action="ppaction://hlinksldjump"/>
              </a:rPr>
              <a:t>Речевое упражнение «Один – много»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использование ИК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5" action="ppaction://hlinksldjump"/>
              </a:rPr>
              <a:t>Речевое упражнение «С какого дерева лис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6" action="ppaction://hlinksldjump"/>
              </a:rPr>
              <a:t>Динамическая пау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7" action="ppaction://hlinksldjump"/>
              </a:rPr>
              <a:t>Речевое упражнение «Скажи правильн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8" action="ppaction://hlinksldjump"/>
              </a:rPr>
              <a:t>Речевое упражнение «Вопрос-отве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9" action="ppaction://hlinksldjump"/>
              </a:rPr>
              <a:t>Продуктивный вид деятельности «Веселый еж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амоконтро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10" action="ppaction://hlinksldjump"/>
              </a:rPr>
              <a:t>Игра «Лесной хорово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11" action="ppaction://hlinksldjump"/>
              </a:rPr>
              <a:t>Поощр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12" action="ppaction://hlinksldjump"/>
              </a:rPr>
              <a:t>Рефлек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жительная оценка детск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1269720"/>
            <a:ext cx="410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онны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седа</a:t>
            </a:r>
            <a:br>
              <a:rPr sz="17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Ребята, сегодня утром я получила посылку, в которой лежало письмо от ежа. Он приглашает нас в гости, потому что собрал в этом году много припасов на зиму и хочет ими с нами поделиться. Но живет он далеко – в лесу и путь к его норке долгий и трудный. Поэтому он послал в посылке волшебный клубок, который будет нам подсказывать дорогу и предупредит об опасност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йдем в гости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детей. 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на\Desktop\фото к занятию\1.png"/>
          <p:cNvPicPr/>
          <p:nvPr/>
        </p:nvPicPr>
        <p:blipFill>
          <a:blip r:embed="rId2"/>
          <a:srcRect l="12252" t="12062" r="12252" b="11018"/>
          <a:stretch/>
        </p:blipFill>
        <p:spPr>
          <a:xfrm>
            <a:off x="4643280" y="2013120"/>
            <a:ext cx="3598920" cy="206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093000"/>
            <a:ext cx="401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3:50:51Z</dcterms:created>
  <dc:creator>Дарья</dc:creator>
  <dc:description/>
  <dc:language>en-US</dc:language>
  <cp:lastModifiedBy>на</cp:lastModifiedBy>
  <dcterms:modified xsi:type="dcterms:W3CDTF">2012-10-11T14:42:09Z</dcterms:modified>
  <cp:revision>106</cp:revision>
  <dc:subject/>
  <dc:title>Лангепасское городское  муниципальное автономное дошкольное  образовательное учреждение  «Детский сад  комбинированного вида № 10 «Белочка»</dc:title>
</cp:coreProperties>
</file>