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7.jpeg" ContentType="image/jpeg"/>
  <Override PartName="/ppt/media/image60.gif" ContentType="image/gif"/>
  <Override PartName="/ppt/media/image54.jpeg" ContentType="image/jpeg"/>
  <Override PartName="/ppt/media/image53.jpeg" ContentType="image/jpeg"/>
  <Override PartName="/ppt/media/image33.jpeg" ContentType="image/jpeg"/>
  <Override PartName="/ppt/media/image4.gif" ContentType="image/gif"/>
  <Override PartName="/ppt/media/image16.gif" ContentType="image/gif"/>
  <Override PartName="/ppt/media/image51.jpeg" ContentType="image/jpeg"/>
  <Override PartName="/ppt/media/image27.gif" ContentType="image/gif"/>
  <Override PartName="/ppt/media/image32.jpeg" ContentType="image/jpeg"/>
  <Override PartName="/ppt/media/image24.gif" ContentType="image/gif"/>
  <Override PartName="/ppt/media/image14.jpeg" ContentType="image/jpeg"/>
  <Override PartName="/ppt/media/image61.gif" ContentType="image/gif"/>
  <Override PartName="/ppt/media/image26.gif" ContentType="image/gif"/>
  <Override PartName="/ppt/media/image41.jpeg" ContentType="image/jpeg"/>
  <Override PartName="/ppt/media/image63.gif" ContentType="image/gif"/>
  <Override PartName="/ppt/media/image28.gif" ContentType="image/gif"/>
  <Override PartName="/ppt/media/image64.gif" ContentType="image/gif"/>
  <Override PartName="/ppt/media/image36.jpeg" ContentType="image/jpeg"/>
  <Override PartName="/ppt/media/image1.gif" ContentType="image/gif"/>
  <Override PartName="/ppt/media/image23.jpeg" ContentType="image/jpeg"/>
  <Override PartName="/ppt/media/image49.png" ContentType="image/png"/>
  <Override PartName="/ppt/media/image3.gif" ContentType="image/gif"/>
  <Override PartName="/ppt/media/image42.jpeg" ContentType="image/jpeg"/>
  <Override PartName="/ppt/media/image19.jpeg" ContentType="image/jpeg"/>
  <Override PartName="/ppt/media/image21.gif" ContentType="image/gif"/>
  <Override PartName="/ppt/media/image10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5.png" ContentType="image/png"/>
  <Override PartName="/ppt/media/image12.gif" ContentType="image/gif"/>
  <Override PartName="/ppt/media/image62.gif" ContentType="image/gif"/>
  <Override PartName="/ppt/media/image45.jpeg" ContentType="image/jpeg"/>
  <Override PartName="/ppt/media/image55.png" ContentType="image/png"/>
  <Override PartName="/ppt/media/image2.gif" ContentType="image/gif"/>
  <Override PartName="/ppt/media/image5.png" ContentType="image/png"/>
  <Override PartName="/ppt/media/image43.jpeg" ContentType="image/jpeg"/>
  <Override PartName="/ppt/media/image11.gif" ContentType="image/gif"/>
  <Override PartName="/ppt/media/image7.gif" ContentType="image/gif"/>
  <Override PartName="/ppt/media/image52.jpeg" ContentType="image/jpeg"/>
  <Override PartName="/ppt/media/image8.gif" ContentType="image/gif"/>
  <Override PartName="/ppt/media/image29.gif" ContentType="image/gif"/>
  <Override PartName="/ppt/media/image6.gif" ContentType="image/gif"/>
  <Override PartName="/ppt/media/image9.png" ContentType="image/png"/>
  <Override PartName="/ppt/media/image18.gif" ContentType="image/gif"/>
  <Override PartName="/ppt/media/image58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20.png" ContentType="image/png"/>
  <Override PartName="/ppt/media/image37.jpeg" ContentType="image/jpeg"/>
  <Override PartName="/ppt/media/image38.jpeg" ContentType="image/jpeg"/>
  <Override PartName="/ppt/media/image39.gif" ContentType="image/gif"/>
  <Override PartName="/ppt/media/image40.gif" ContentType="image/gif"/>
  <Override PartName="/ppt/media/image56.jpeg" ContentType="image/jpeg"/>
  <Override PartName="/ppt/media/image46.png" ContentType="image/png"/>
  <Override PartName="/ppt/media/image48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6E4-577B-4E9C-AE05-290C3088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E45-8660-4FB8-8BB7-002621E6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332-82DA-4443-A727-E75E9462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084-3051-4A1E-AA71-45C8EE43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69D-450B-41A3-AB35-D96DE43D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EF5-7AEA-4D2B-A3DD-0C9D0360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285-4129-4AD4-84FD-882D94D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FCD-545C-4094-833D-5098E726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758-2632-4EDA-876B-B9D35158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456-CB77-4EDE-8514-91FE1FE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13B-71B2-41F1-A1CB-5C7830E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D4E-87DB-4E3F-A892-545C122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8143-9C7A-4C8F-A33A-2B855AF8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image" Target="../media/image63.gif"/><Relationship Id="rId5" Type="http://schemas.openxmlformats.org/officeDocument/2006/relationships/image" Target="../media/image15.png"/><Relationship Id="rId6" Type="http://schemas.openxmlformats.org/officeDocument/2006/relationships/image" Target="../media/image64.gif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66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1070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66"/>
              </a:gs>
              <a:gs pos="100000">
                <a:srgbClr val="66ff66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0000cc"/>
                </a:solidFill>
                <a:latin typeface="Monotype Corsiva"/>
              </a:rPr>
              <a:t>Уважаемые гости!!!</a:t>
            </a:r>
            <a:br>
              <a:rPr sz="4400"/>
            </a:b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Monotype Corsiva"/>
              </a:rPr>
              <a:t>Вас приветствуют учащиеся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Monotype Corsiva"/>
              </a:rPr>
              <a:t>школы №519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Monotype Corsiva"/>
              </a:rPr>
              <a:t>и учитель химии  Ущербова Любовь Владимиров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59640" y="4724280"/>
            <a:ext cx="2124000" cy="184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885080" y="0"/>
            <a:ext cx="109548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-1260360" y="-15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0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9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55640" y="1484280"/>
            <a:ext cx="7632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курс хвастов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8600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«Химическое королевство»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8920" y="1483920"/>
            <a:ext cx="3961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дном химическом королевстве жила волшебница и                                                                                                 звали е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ной кислот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2000" y="-360"/>
            <a:ext cx="40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volshebnica" descr=""/>
          <p:cNvPicPr/>
          <p:nvPr/>
        </p:nvPicPr>
        <p:blipFill>
          <a:blip r:embed="rId1"/>
          <a:stretch/>
        </p:blipFill>
        <p:spPr>
          <a:xfrm>
            <a:off x="6804000" y="393372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2129040" cy="2009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2376360" cy="2158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500720" y="4221000"/>
            <a:ext cx="93492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15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45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450"/>
                            </p:stCondLst>
                            <p:childTnLst>
                              <p:par>
                                <p:cTn id="2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450"/>
                            </p:stCondLst>
                            <p:childTnLst>
                              <p:par>
                                <p:cTn id="2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450"/>
                            </p:stCondLst>
                            <p:childTnLst>
                              <p:par>
                                <p:cTn id="2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«Физические свойст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виду была она уж и не так плоха: бесцветная жидкость вязкая  как масло, без запа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масло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30364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11" descr=""/>
          <p:cNvPicPr/>
          <p:nvPr/>
        </p:nvPicPr>
        <p:blipFill>
          <a:blip r:embed="rId2"/>
          <a:stretch/>
        </p:blipFill>
        <p:spPr>
          <a:xfrm>
            <a:off x="5867280" y="3716280"/>
            <a:ext cx="2449800" cy="266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18064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«Растворение кисло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980640"/>
            <a:ext cx="38163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Серная кислота хотела быть заметной и поэтому решила отправиться в путеше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Она шла уже пять часов,  ей очень захотелось пить.                                              И вдруг она увидела колодец.                                                                                             «Вода!» - воскликнула Кислота и, подбежав к колодцу, прикоснулась к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Вода страшно зашипела. С криком испуганная Кислота бросилась прочь. Конечно же, что при   смешивании серной кислоты с водой выделяется большое количество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kol" descr=""/>
          <p:cNvPicPr/>
          <p:nvPr/>
        </p:nvPicPr>
        <p:blipFill>
          <a:blip r:embed="rId1"/>
          <a:stretch/>
        </p:blipFill>
        <p:spPr>
          <a:xfrm>
            <a:off x="5580000" y="981000"/>
            <a:ext cx="3095640" cy="2735280"/>
          </a:xfrm>
          <a:prstGeom prst="rect">
            <a:avLst/>
          </a:prstGeom>
          <a:ln w="0">
            <a:noFill/>
          </a:ln>
        </p:spPr>
      </p:pic>
      <p:pic>
        <p:nvPicPr>
          <p:cNvPr id="141" name="9-4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521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925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25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9280" y="620280"/>
            <a:ext cx="468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«Если вода соприкасается с серной кислотой, то вода, не успев смешаться с ней, может закипеть и выбросить брызги серной кислоты» Эта запись появилась в дневнике молодой путешественницы, а затем вошла в учеб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60" y="-720"/>
            <a:ext cx="21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дневник" descr=""/>
          <p:cNvPicPr/>
          <p:nvPr/>
        </p:nvPicPr>
        <p:blipFill>
          <a:blip r:embed="rId1"/>
          <a:stretch/>
        </p:blipFill>
        <p:spPr>
          <a:xfrm>
            <a:off x="5003640" y="3357720"/>
            <a:ext cx="396108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508720" y="907920"/>
            <a:ext cx="230328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8000" y="475920"/>
            <a:ext cx="39592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Так  и Кислота не утолила свою жажду, она увидела  раскидистое дерево, решила прилечь и отдохнуть в т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37800" y="-360"/>
            <a:ext cx="224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36241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3024360" cy="2519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8000" y="2421000"/>
            <a:ext cx="43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Но и это у нее не получилось.           Как только серная Кислота дотронулась до дерева, оно стало  обугливаться.   Не зная причины этого, испуганная Кислота убежала пр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3573360"/>
            <a:ext cx="309564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8200126[1]" descr=""/>
          <p:cNvPicPr/>
          <p:nvPr/>
        </p:nvPicPr>
        <p:blipFill>
          <a:blip r:embed="rId3"/>
          <a:stretch/>
        </p:blipFill>
        <p:spPr>
          <a:xfrm>
            <a:off x="1619280" y="4941720"/>
            <a:ext cx="2592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8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onotype Corsiva"/>
              </a:rPr>
              <a:t>«Ювелирный магази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267920"/>
            <a:ext cx="4643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скоре она пришла в город и решила зайти в магазин. Им оказался ювели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ислота увидела множество прекрасных колец. Попросив у продавца золотое кольцо, она надела  его на свой длинный, красивый палец. Кислоте понравилось кольцо, и она его куп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25m" descr=""/>
          <p:cNvPicPr/>
          <p:nvPr/>
        </p:nvPicPr>
        <p:blipFill>
          <a:blip r:embed="rId1"/>
          <a:stretch/>
        </p:blipFill>
        <p:spPr>
          <a:xfrm>
            <a:off x="7020000" y="1407960"/>
            <a:ext cx="1946160" cy="1427400"/>
          </a:xfrm>
          <a:prstGeom prst="rect">
            <a:avLst/>
          </a:prstGeom>
          <a:ln w="0">
            <a:noFill/>
          </a:ln>
        </p:spPr>
      </p:pic>
      <p:pic>
        <p:nvPicPr>
          <p:cNvPr id="155" name="sharm_18" descr=""/>
          <p:cNvPicPr/>
          <p:nvPr/>
        </p:nvPicPr>
        <p:blipFill>
          <a:blip r:embed="rId2"/>
          <a:stretch/>
        </p:blipFill>
        <p:spPr>
          <a:xfrm>
            <a:off x="4716360" y="1835280"/>
            <a:ext cx="1749600" cy="1666800"/>
          </a:xfrm>
          <a:prstGeom prst="rect">
            <a:avLst/>
          </a:prstGeom>
          <a:ln w="0">
            <a:noFill/>
          </a:ln>
        </p:spPr>
      </p:pic>
      <p:pic>
        <p:nvPicPr>
          <p:cNvPr id="156" name="breg19" descr=""/>
          <p:cNvPicPr/>
          <p:nvPr/>
        </p:nvPicPr>
        <p:blipFill>
          <a:blip r:embed="rId3"/>
          <a:stretch/>
        </p:blipFill>
        <p:spPr>
          <a:xfrm>
            <a:off x="2268360" y="5300640"/>
            <a:ext cx="151308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3433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ff66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Monotype Corsiva"/>
              </a:rPr>
              <a:t>«Последние сло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197000"/>
            <a:ext cx="529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йдя из города, Кислота отправилась домой. В пути её не оставляли мысли: почему же вода и дерево вели себя так странно при соприкосновении с ней, а с этой золотой вещицей ничего не произошло? «Да всё потому, что золото в серной кислоте не окисляется. Золото- благородный металл». Это были последние слова, записанные Кислотой в своём днев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skazki1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492720" cy="316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364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99ff99"/>
            </a:gs>
            <a:gs pos="100000">
              <a:srgbClr val="ff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44560" cy="492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312920" cy="230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996840" cy="107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516720" y="4076640"/>
            <a:ext cx="2138400" cy="2203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835280" y="1557360"/>
            <a:ext cx="547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059280" y="4221000"/>
            <a:ext cx="2087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910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Monotype Corsiva"/>
              </a:rPr>
              <a:t>Угадай-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ожное вещество при диссоциации которого образуются атомы водорода и кислотный оста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вещество известно алхимикам в 10 ве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тяжелая маслянистая жид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яется «хлебом» химической промыш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кислородосодержащее соединение элемента с порядковым номером 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054080" cy="129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08720" y="333360"/>
            <a:ext cx="1150920" cy="56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308720" y="5013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404640"/>
            <a:ext cx="820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800080"/>
                    </a:gs>
                    <a:gs pos="100000">
                      <a:srgbClr val="bbe0e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ас Либа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800080"/>
                  </a:gs>
                  <a:gs pos="100000">
                    <a:srgbClr val="bbe0e3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leum vitrioli –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поросное ма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leum sulfusis –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ерное ма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54144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2297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7574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2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Группа хра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6720" y="1267920"/>
            <a:ext cx="367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ологически активное                        ве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Я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0360" y="3789360"/>
            <a:ext cx="2592360" cy="221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2017800" cy="1681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843280" y="3068640"/>
            <a:ext cx="172872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95280" y="2492280"/>
            <a:ext cx="184464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8">
                                  <p:stCondLst>
                                    <p:cond delay="3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66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вила обращения с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ращаться осторожн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Работать в резиновых перчатках и защитных очках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Берегись ожога! Во избежания выбрызгивания и ожогов кислоту при сливании лить тонкой струей в воду, а не наоборо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ри попадании кислоты на кожу место поражения быстро промыть большим количеством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977760" cy="162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625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5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5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5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5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Всегда держись на че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59552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57372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4932360" y="4653000"/>
            <a:ext cx="345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зьма Прут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596360" y="5084640"/>
            <a:ext cx="10378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11280" y="357336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2700360" y="260280"/>
            <a:ext cx="1405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4276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пыт - единственно верный путь спрашивать природу и слышать ответ в ее лаборато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1579680" cy="295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26844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468360" y="4365720"/>
            <a:ext cx="331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.И. Менделее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01448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7280" y="5084640"/>
            <a:ext cx="1729080" cy="1513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211640" y="189000"/>
            <a:ext cx="94284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956720" y="3357720"/>
            <a:ext cx="7333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 = Na + Cl  pH=7  Yu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ле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к сильное основание, сильн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+Cl = Ag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ый осадок не растворим в азотной кисл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Na + S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H=7  Y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зеле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к. сильное основание, сильн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Ba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ый осадок не растворим в азотной кисл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Na + 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H&gt;7 Yu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к. сильное основание, слаб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+ 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26828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3284640"/>
            <a:ext cx="0" cy="358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419640" y="443664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47628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4762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40464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126828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197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220500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21337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55897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6610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450864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4437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335772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357720"/>
            <a:ext cx="14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28464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220500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566100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708360" y="5660640"/>
            <a:ext cx="0" cy="289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Применение серной кисл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1224000" cy="91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1584000" cy="107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814320" cy="93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08720" y="1700280"/>
            <a:ext cx="1150920" cy="96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651640" y="1685880"/>
            <a:ext cx="1225440" cy="987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556000" y="1700280"/>
            <a:ext cx="1152360" cy="88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88000" y="4941720"/>
            <a:ext cx="1511280" cy="881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755640" y="4869000"/>
            <a:ext cx="1308240" cy="109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3635280" y="4941720"/>
            <a:ext cx="1440000" cy="1081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 flipV="1">
            <a:off x="1908000" y="2636640"/>
            <a:ext cx="1872000" cy="93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364000" y="2708280"/>
            <a:ext cx="216072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19280" y="4078440"/>
            <a:ext cx="216072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276720" y="2491920"/>
            <a:ext cx="57456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4292640"/>
            <a:ext cx="1224000" cy="64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436572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72000" y="256536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92720" y="2707920"/>
            <a:ext cx="72072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20:11Z</dcterms:created>
  <dc:creator>Владелец</dc:creator>
  <dc:description/>
  <dc:language>en-US</dc:language>
  <cp:lastModifiedBy>Владелец</cp:lastModifiedBy>
  <dcterms:modified xsi:type="dcterms:W3CDTF">2005-04-29T08:20:59Z</dcterms:modified>
  <cp:revision>13</cp:revision>
  <dc:subject/>
  <dc:title>Угадай-ка</dc:title>
</cp:coreProperties>
</file>