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5EC-D8F6-4464-819C-4EE983FC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564-2C11-458B-8F20-BC2EFD22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E36-7276-47C1-928B-AF482585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551-8AC9-42C7-9BD8-99C503A5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DE7-3E29-4572-BE67-1D97C2E1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468-69CE-4C38-9DB9-513AC72E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324-A8C1-471E-9264-CBE02824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A1D-B0A5-410B-B42C-61C5983F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31D-3C00-4EB0-B8F6-D12DCBBA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B61-62CF-4C61-BAD4-A2EA040A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785-0E10-4823-81AB-2DF8489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BD6-DBD6-4471-851F-3F1EB44D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A761-F3FC-410C-AC7A-905A90369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чины попадания человека в условия автономного существов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ого размера должны быть буквы сообщения выложенные камнями или ветками на поляне или склоне го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2857320"/>
            <a:ext cx="804384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 менее 0,5 мет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 менее 1 мет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е менее 3 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 менее 10 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. Что такое «точка возврат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Место, где возвращают деньги взятые в дол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о, с которого возвращают обратно людей, плохо подготовленных к пох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есто куда возвращаются после окончания похода или путешеств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Место, с которого еще можно и целесообразно вернуться на место ава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Причинами попадания человека в условия автономного существования  явля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680" y="2143080"/>
            <a:ext cx="81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Отставание от групп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Внезапное ухудшение погод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отеря ориентировк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Авария транспортного средства в безлюдной мест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Назовите неправильный вариант отв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ри движении группы последним в колонне ид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амый сильный и подготовленный участн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амый слабый и менее подготовленный участн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еловек который лучше всего ориентируется в данной мес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Это не имеет никакого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акое решение из перечисленных должен будет принять человек оказавшийся в условиях автономного существо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2786040"/>
            <a:ext cx="82580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Оставаться на месте или самостоятельно выходить к людя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Какое укрытие строить для защиты от непогоды?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Кого из товарищей по несчастью можно взять с собой при самостоятельном выходе к людя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Сколько человек следует оставить на месте аварии транспортного средства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Человек заблудился в лесу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может послужить ему ориентиром для выхода из незнакомого мес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2428920"/>
            <a:ext cx="83296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Шум какого либо транспортного сред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ние лесных пти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оведение диких лесных живот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леды диких лесных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На каком примерно расстоянии слышен шум проходящего поез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мерно за 10 кило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мерно за 20 кило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мерно за 25 кило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Шум проходящего поезда в лесу практически не слыш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Что в первую очередь нужно сделать на месте аварии транспортного средства в безлюдной местн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9680" y="2857320"/>
            <a:ext cx="81867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ызвать работников ГИБД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казать помощь пострадавши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Отойти на безопасное расстоя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следовать окрестности места ава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В каком случае после аварии транспортного средства, мы примем решение дожидаться помощи на месте ава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2786040"/>
            <a:ext cx="83296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Местность вокруг труднопроходимая,  у нас есть раненые которые не могут идти с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На месте аварии существует непосредственная угроза для жизн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У нас нет уверенности, что нас будут искать именно здес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Местность вокруг  с очень густой растительностью, и нас очень сложно замети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В каком случае после аварии мы примем решение  самостоятельно выходить к людя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 месте аварии есть непосредственная угроза для жизни (лесной пожар, наводнение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Местность вокруг труднопроходим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У нас есть раненые которые не могут самостоятельно передвигат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ам удалось передать сигнал бедствия с указанием нашего местонахожд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45:05Z</dcterms:created>
  <dc:creator>Admin</dc:creator>
  <dc:description/>
  <dc:language>en-US</dc:language>
  <cp:lastModifiedBy>Admin</cp:lastModifiedBy>
  <dcterms:modified xsi:type="dcterms:W3CDTF">2001-12-31T21:20:44Z</dcterms:modified>
  <cp:revision>7</cp:revision>
  <dc:subject/>
  <dc:title>Причины попадания человека в условия автономного существования.</dc:title>
</cp:coreProperties>
</file>