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21F-7041-4BFC-8698-6CABE0E2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821-807C-40CC-BE2D-E1C335DF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D21-1367-4FE4-8E5B-17A0E00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D87-2FE5-437A-9DAE-768A181E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60E-D624-4BB9-95D7-70738CA2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F58-AB2D-46B9-9E59-73EF9DC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4D2-4037-450F-9DF5-07A9575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C76-4B0B-44AA-AA64-C006B43C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E31-AB95-47E5-BAC4-40A4776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39D-3EC6-4905-8880-886591D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5A2-C9E0-4626-A59C-F58244E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8AB-625E-4C41-AEE2-7496634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3F3-FF7C-4B41-ABDA-0A2BAD223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чины попадания человека в условия автономного существов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ого размера должны быть буквы сообщения выложенные камнями или ветками на поляне или склоне го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2857320"/>
            <a:ext cx="80438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 менее 0,5 мет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е менее 1 мет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е менее 3 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 менее 1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. Что такое «точка возврат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есто, где возвращают деньги взятые в дол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о, с которого возвращают обратно людей, плохо подготовленных к пох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есто куда возвращаются после окончания похода или путешеств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Место, с которого еще можно и целесообразно вернуться на место ава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Причинами попадания человека в условия автономного существования  явля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2143080"/>
            <a:ext cx="81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Отставание от групп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Внезапное ухудшение пого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Потеря ориентировк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Авария транспортного средства в безлюдной мест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Назовите неправильный вариант отв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ри движении группы последним в колонне ид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амый сильный и подготовленный участ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амый слабый и менее подготовленный участ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еловек который лучше всего ориентируется в данной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Это не имеет никакого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акое решение из перечисленных должен будет принять человек оказавшийся в условиях автономного существ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2786040"/>
            <a:ext cx="82580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Оставаться на месте или самостоятельно выходить к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Какое укрытие строить для защиты от непогоды?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Кого из товарищей по несчастью можно взять с собой при самостоятельном выходе к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Сколько человек следует оставить на месте аварии транспортного средств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Человек заблудился в лесу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может послужить ему ориентиром для выхода из незнакомого ме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2428920"/>
            <a:ext cx="83296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Шум какого либо транспортного сред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ние лесных пти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оведение диких лесных живот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леды диких лесных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На каком примерно расстоянии слышен шум проходящего пое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мерно за 10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римерно за 20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Примерно за 25 километ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Шум проходящего поезда в лесу практически не слыш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Что в первую очередь нужно сделать на месте аварии транспортного средства в безлюдной местн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9680" y="2857320"/>
            <a:ext cx="81867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ызвать работников ГИБД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казать помощь пострадавши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тойти на безопасное расстоя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следовать окрестности места ава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В каком случае после аварии транспортного средства, мы примем решение дожидаться помощи на месте ава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2786040"/>
            <a:ext cx="83296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Местность вокруг труднопроходимая,  у нас есть раненые которые не могут идти с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На месте аварии существует непосредственная угроза для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У нас нет уверенности, что нас будут искать именно здес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Местность вокруг  с очень густой растительностью, и нас очень сложно замет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В каком случае после аварии мы примем решение  самостоятельно выходить к людя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 месте аварии есть непосредственная угроза для жизни (лесной пожар, наводнени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Местность вокруг труднопроходим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У нас есть раненые которые не могут самостоятельно передвигат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ам удалось передать сигнал бедствия с указанием нашего местонах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45:05Z</dcterms:created>
  <dc:creator>Admin</dc:creator>
  <dc:description/>
  <dc:language>en-US</dc:language>
  <cp:lastModifiedBy>Admin</cp:lastModifiedBy>
  <dcterms:modified xsi:type="dcterms:W3CDTF">2001-12-31T21:20:44Z</dcterms:modified>
  <cp:revision>7</cp:revision>
  <dc:subject/>
  <dc:title>Причины попадания человека в условия автономного существования.</dc:title>
</cp:coreProperties>
</file>