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F69-AC10-4373-94F9-3457C988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DC2A-6772-416B-94EF-A95869A5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BE4-37D4-4E5D-9324-4FCDF591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10AD-CC99-4E61-AF4E-2A5345A9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575-8059-4018-A590-9D55CFC6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9E76-FD36-4321-9985-97E87CB4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E0E-D062-4200-A5F4-CB714E8E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7EB-660E-4574-82D5-A50C13BC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48A-39CB-477E-94B4-B3F2F3DA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BAE0-2C34-4F74-A1C5-3A2E6AD3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DED-E16F-4637-ADC6-02704CC8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017-308E-4E30-B74F-221A0480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6E5B-FD14-44F4-83AA-AFCE5D12A3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art124.tehnografia.ru/img22837.html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http://vmnews.ru/economics/2011/03/02/vstrechayut-s-blinami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kuxarochka.ru/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1000080" y="328680"/>
            <a:ext cx="7467480" cy="2317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292720" y="6957720"/>
            <a:ext cx="251136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1195560" y="2276640"/>
            <a:ext cx="6825960" cy="367344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3" descr=""/>
          <p:cNvPicPr/>
          <p:nvPr/>
        </p:nvPicPr>
        <p:blipFill>
          <a:blip r:embed="rId3"/>
          <a:stretch/>
        </p:blipFill>
        <p:spPr>
          <a:xfrm>
            <a:off x="603360" y="2803680"/>
            <a:ext cx="8004240" cy="2884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50"/>
                            </p:stCondLst>
                            <p:childTnLst>
                              <p:par>
                                <p:cTn id="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ственное питание сегод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едрение индустриальных методов производ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работка новейшего технологического оборудов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ксимальная механизация всех процессов тру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ация обслужи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8" descr="http://part124.tehnografia.ru/images/big/18/razvivat-na-urale-sovremennye-predpriyatiya-obshchestvennogo-pitaniy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46200"/>
            <a:ext cx="4608720" cy="345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4932360" y="1096920"/>
            <a:ext cx="3743280" cy="435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ременные технологии обслужи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56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ние концептуальных предприятий общественного пит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рение сети виртуальных ресторан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готовление блюд в присутствии посетител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ация обслуживания по системе кейтеринг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едрение мерчандайзин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2143080" y="4572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и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мо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ффект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цептуальные предприятия общественного пит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формление в национальном или экзотическом стил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можное смешение кухонь и стиле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бор определенной темы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ование кинематографического, исторического, литературного сюжета, легенды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928800" y="2071800"/>
            <a:ext cx="3308400" cy="19288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"/>
          <p:cNvPicPr/>
          <p:nvPr/>
        </p:nvPicPr>
        <p:blipFill>
          <a:blip r:embed="rId2"/>
          <a:stretch/>
        </p:blipFill>
        <p:spPr>
          <a:xfrm>
            <a:off x="285840" y="500040"/>
            <a:ext cx="3816360" cy="23306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http://vmnews.ru/wp-content/uploads/2011/03/bli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2143080"/>
            <a:ext cx="3143160" cy="1928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5"/>
          <a:stretch/>
        </p:blipFill>
        <p:spPr>
          <a:xfrm>
            <a:off x="2928960" y="2071800"/>
            <a:ext cx="5307120" cy="412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рение сети виртуальных рестора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ем заказа через сеть Интерн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ставка заказа потребител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учение информации о блюдах, ценах, интерьере ресторана на экране компьют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блюдение за процессом приготовления блюда через мони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готовление блюда в присутствии посет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0402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етитель рестор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блюдает за приготовлением блю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 – закрепление контакта гостя и обслуживающего персон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едствие – прийти в ресторан внов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341360"/>
            <a:ext cx="404172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788000" y="2174760"/>
            <a:ext cx="389880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ртуозно владеет ремес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ет опыт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еет общаться с посетител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28760" y="3067200"/>
            <a:ext cx="57150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ейтеринг – выездное обслуживание потреб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P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омеще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зничная продажа                                       разъезд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иальный              вне рестор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Прямая со стрелкой 8"/>
          <p:cNvCxnSpPr/>
          <p:nvPr/>
        </p:nvCxnSpPr>
        <p:spPr>
          <a:xfrm>
            <a:off x="4493880" y="2182320"/>
            <a:ext cx="1878840" cy="3834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69" name="Прямая со стрелкой 10"/>
          <p:cNvCxnSpPr/>
          <p:nvPr/>
        </p:nvCxnSpPr>
        <p:spPr>
          <a:xfrm flipH="1">
            <a:off x="2123640" y="2177640"/>
            <a:ext cx="2370960" cy="5310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70" name="Прямая со стрелкой 14"/>
          <p:cNvCxnSpPr/>
          <p:nvPr/>
        </p:nvCxnSpPr>
        <p:spPr>
          <a:xfrm>
            <a:off x="4494240" y="2182680"/>
            <a:ext cx="1518480" cy="3136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71" name="Прямая со стрелкой 17"/>
          <p:cNvCxnSpPr/>
          <p:nvPr/>
        </p:nvCxnSpPr>
        <p:spPr>
          <a:xfrm flipH="1">
            <a:off x="2663640" y="2182680"/>
            <a:ext cx="1830960" cy="3136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72" name="Прямая со стрелкой 20"/>
          <p:cNvCxnSpPr/>
          <p:nvPr/>
        </p:nvCxnSpPr>
        <p:spPr>
          <a:xfrm>
            <a:off x="4633560" y="203148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Прямая со стрелкой 23"/>
          <p:cNvCxnSpPr/>
          <p:nvPr/>
        </p:nvCxnSpPr>
        <p:spPr>
          <a:xfrm>
            <a:off x="4493880" y="2182680"/>
            <a:ext cx="2670840" cy="1318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74" name="Прямая со стрелкой 25"/>
          <p:cNvCxnSpPr/>
          <p:nvPr/>
        </p:nvCxnSpPr>
        <p:spPr>
          <a:xfrm flipH="1">
            <a:off x="2123640" y="2182680"/>
            <a:ext cx="2370960" cy="1318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890960" y="2857680"/>
            <a:ext cx="4253040" cy="2522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0" y="4309920"/>
            <a:ext cx="4313160" cy="2548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4834080" y="4429080"/>
            <a:ext cx="4309920" cy="2701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4"/>
          <a:stretch/>
        </p:blipFill>
        <p:spPr>
          <a:xfrm>
            <a:off x="428760" y="2857680"/>
            <a:ext cx="42796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36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рчандайзинг- деятельность по стимулированию сбыта прод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зайн блюд и напит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едрение новых методов обслуж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гитация в за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беждающая продаж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ложение в выборе альтернативных услу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4000680" y="928800"/>
            <a:ext cx="4586040" cy="3224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kuxarochka.ru/wp-content/uploads/2012/10/o041205451173204612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7160" y="2357280"/>
            <a:ext cx="417672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04:52:05Z</dcterms:created>
  <dc:creator>ОГОУ НПО ПУ26</dc:creator>
  <dc:description/>
  <dc:language>en-US</dc:language>
  <cp:lastModifiedBy>компъютерный класс</cp:lastModifiedBy>
  <dcterms:modified xsi:type="dcterms:W3CDTF">2012-12-06T10:38:00Z</dcterms:modified>
  <cp:revision>113</cp:revision>
  <dc:subject/>
  <dc:title>Интегрированный проект на тему: «Наука и современные технологии в профессии повара и кондитера».</dc:title>
</cp:coreProperties>
</file>