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117-D4E8-450B-B5E4-ADE10F68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312-961A-4C54-A5D1-04D9B13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E19-6141-44DD-BF28-396F8D6B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441-D1F1-476F-9F52-DFEC5730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8F1-EC33-41B8-A11B-DCE06D8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DBA-B019-49F6-8F24-D836B60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02B-6D16-41A2-81B1-4668F2A7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992-D4A9-4CFB-9E18-9B84D67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A8C-EE3C-47CE-812F-D0B3B48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8AB-7520-46CF-A263-DB69135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27F-0F2E-49C1-A344-CFE37E9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F97-7B62-48F4-AB82-339AACC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020-FF66-4E9B-BEC0-077EFF9B8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rt124.tehnografia.ru/img22837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vmnews.ru/economics/2011/03/02/vstrechayut-s-blinami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kuxarochka.ru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000080" y="328680"/>
            <a:ext cx="74674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292720" y="6957720"/>
            <a:ext cx="251136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195560" y="2276640"/>
            <a:ext cx="682596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603360" y="2803680"/>
            <a:ext cx="8004240" cy="288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5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е питание сего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индустриальных методов производ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новейшего технологического оборуд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симальная механизация всех процессов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part124.tehnografia.ru/images/big/18/razvivat-na-urale-sovremennye-predpriyatiya-obshchestvennogo-pitani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4620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4932360" y="1096920"/>
            <a:ext cx="37432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е технологии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концептуальных предприятий общественного 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рение сети виртуальных рестора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готовление блюд в присутствии посет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обслуживания по системе кейтеринг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мерчандайзин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14308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о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цептуальные предприятия общественн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ормление в национальном или экзотическом стил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можное смешение кухонь и сти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 определенной тем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кинематографического, исторического, литературного сюжета, легенды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3308400" cy="1928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2"/>
          <a:stretch/>
        </p:blipFill>
        <p:spPr>
          <a:xfrm>
            <a:off x="285840" y="500040"/>
            <a:ext cx="3816360" cy="2330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vmnews.ru/wp-content/uploads/2011/03/bl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14308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5"/>
          <a:stretch/>
        </p:blipFill>
        <p:spPr>
          <a:xfrm>
            <a:off x="2928960" y="2071800"/>
            <a:ext cx="5307120" cy="41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рение сети виртуальных рестора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м заказа через сеть 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вка заказа потребител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ение информации о блюдах, ценах, интерьере ресторана на экране компью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е за процессом приготовления блюда через мони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готовление блюда в присутствии посет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40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етитель ресто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ает за приготовлением блю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– закрепление контакта гостя и обслуживающего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ствие – прийти в ресторан вн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88000" y="2174760"/>
            <a:ext cx="38988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туозно владеет ремес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ет опыт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ет общаться с посетител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760" y="306720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йтеринг – выездное обслуживание потреб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мещ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зничная продажа                                       разъез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иальный              вне ресто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8"/>
          <p:cNvCxnSpPr/>
          <p:nvPr/>
        </p:nvCxnSpPr>
        <p:spPr>
          <a:xfrm>
            <a:off x="4493880" y="2182320"/>
            <a:ext cx="1878840" cy="383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 flipH="1">
            <a:off x="2123640" y="2177640"/>
            <a:ext cx="2370960" cy="531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0" name="Прямая со стрелкой 14"/>
          <p:cNvCxnSpPr/>
          <p:nvPr/>
        </p:nvCxnSpPr>
        <p:spPr>
          <a:xfrm>
            <a:off x="4494240" y="2182680"/>
            <a:ext cx="1518480" cy="3136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Прямая со стрелкой 17"/>
          <p:cNvCxnSpPr/>
          <p:nvPr/>
        </p:nvCxnSpPr>
        <p:spPr>
          <a:xfrm flipH="1">
            <a:off x="2663640" y="2182680"/>
            <a:ext cx="1830960" cy="3136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2" name="Прямая со стрелкой 20"/>
          <p:cNvCxnSpPr/>
          <p:nvPr/>
        </p:nvCxnSpPr>
        <p:spPr>
          <a:xfrm>
            <a:off x="4633560" y="20314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Прямая со стрелкой 23"/>
          <p:cNvCxnSpPr/>
          <p:nvPr/>
        </p:nvCxnSpPr>
        <p:spPr>
          <a:xfrm>
            <a:off x="4493880" y="2182680"/>
            <a:ext cx="2670840" cy="131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4" name="Прямая со стрелкой 25"/>
          <p:cNvCxnSpPr/>
          <p:nvPr/>
        </p:nvCxnSpPr>
        <p:spPr>
          <a:xfrm flipH="1">
            <a:off x="2123640" y="2182680"/>
            <a:ext cx="2370960" cy="131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890960" y="2857680"/>
            <a:ext cx="4253040" cy="25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0" y="4309920"/>
            <a:ext cx="4313160" cy="254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4834080" y="4429080"/>
            <a:ext cx="4309920" cy="270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tretch/>
        </p:blipFill>
        <p:spPr>
          <a:xfrm>
            <a:off x="428760" y="2857680"/>
            <a:ext cx="42796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36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чандайзинг- деятельность по стимулированию сбыта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зайн блюд и напи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новых методов 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гитация в з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беждающая прода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 в выборе альтернативных услу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000680" y="928800"/>
            <a:ext cx="4586040" cy="322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kuxarochka.ru/wp-content/uploads/2012/10/o04120545117320461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357280"/>
            <a:ext cx="41767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4:52:05Z</dcterms:created>
  <dc:creator>ОГОУ НПО ПУ26</dc:creator>
  <dc:description/>
  <dc:language>en-US</dc:language>
  <cp:lastModifiedBy>компъютерный класс</cp:lastModifiedBy>
  <dcterms:modified xsi:type="dcterms:W3CDTF">2012-12-06T10:38:00Z</dcterms:modified>
  <cp:revision>113</cp:revision>
  <dc:subject/>
  <dc:title>Интегрированный проект на тему: «Наука и современные технологии в профессии повара и кондитера».</dc:title>
</cp:coreProperties>
</file>