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1364-0AB3-4B80-9341-7CC465E6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D663-B7CD-413D-A3B3-8B29DED6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99C1-74C8-49C4-A8B7-2BD7B6FA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7B6B-3730-4888-BCB3-E8FF52E6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E6EA-DCCA-40B6-960A-A4F6EBFC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B05-7401-49A4-9541-626EBDAC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35DB-76CD-4B76-96B8-93166539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1E92-3D95-4536-8647-3DB93128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B4E2-A832-429B-A1A0-957385BA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6857-1847-4157-BAA2-430FD93D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FF0A-67D9-4D1E-9C79-99B5ACB9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1683-7EA9-464C-89E8-43F96A55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3CC2-AF7B-4FD2-A585-71DE574C2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8470;6(&#1087;&#1088;&#1072;&#1074;&#1080;&#1083;&#1072;%20&#1087;&#1083;&#1072;&#1085;&#1080;&#1088;&#1086;&#1074;&#1072;&#1085;&#1080;&#1103;%20&#1076;&#1083;&#1103;%20&#1091;&#1095;&#1072;&#1097;&#1080;&#1093;&#1089;&#1103;).doc" TargetMode="External"/><Relationship Id="rId2" Type="http://schemas.openxmlformats.org/officeDocument/2006/relationships/hyperlink" Target="file:///&#1055;&#1088;&#1080;&#1083;&#1086;&#1078;&#1077;&#1085;&#1080;&#1077;%20&#8470;7&#1056;&#1077;&#1082;&#1086;&#1084;&#1077;&#1085;&#1076;&#1072;&#1094;&#1080;&#1080;%20&#1088;&#1077;&#1096;&#1077;&#1085;&#1080;&#1103;%20&#1090;&#1077;&#1089;&#1090;&#1086;&#1074;.ppt" TargetMode="External"/><Relationship Id="rId3" Type="http://schemas.openxmlformats.org/officeDocument/2006/relationships/hyperlink" Target="file:///&#1055;&#1088;&#1080;&#1083;&#1086;&#1078;&#1077;&#1085;&#1080;&#1077;%20&#8470;8(&#1057;&#1087;&#1088;&#1072;&#1074;&#1086;&#1095;&#1085;&#1080;&#1082;%20&#1087;&#1086;%20&#1084;&#1072;&#1090;&#1077;&#1084;&#1072;&#1090;&#1080;&#1082;&#1077;).ppt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8470;1(&#1086;%20&#1087;&#1088;&#1072;&#1074;&#1086;&#1085;&#1072;&#1088;&#1091;&#1096;&#1077;&#1085;&#1080;&#1103;&#1093;).pdf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199280" cy="29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оект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«Актуальные вопросы подготовки к ЕГЭ по физик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Цветцих Любовь Эдуард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физики и информатики Русскополянской СОШ №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фикация контрольных измерительных материалов единого государственного экзамена 2010 года по физике.  (Приложение №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«Об утверждении сроков и единого расписания проведения единого государственного экзамена, его продолжительности по каждому общеобразовательному предмету и перечня дополнительных устройств и материалов, пользование которыми разрешено на едином государственном экзамене по отдельным общеобразовательным предметам в 2010 году» (Приложение №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5) </a:t>
            </a:r>
            <a:r>
              <a:rPr b="0" i="1" lang="ru-RU" sz="2000" spc="-1" strike="noStrike">
                <a:solidFill>
                  <a:srgbClr val="0033cc"/>
                </a:solidFill>
                <a:latin typeface="Arial"/>
              </a:rPr>
              <a:t>Рекомендация: Заострить внимание на количественном составе заданий по темам.( 3 балла можно набрать по знаниям и умениям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двух больших т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ая литература – спис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P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приложение №10,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ие  от заданий 2009г Презентация видео -консульт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РООО( приложение №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68360" y="0"/>
          <a:ext cx="8229600" cy="7026120"/>
        </p:xfrm>
        <a:graphic>
          <a:graphicData uri="http://schemas.openxmlformats.org/drawingml/2006/table">
            <a:tbl>
              <a:tblPr/>
              <a:tblGrid>
                <a:gridCol w="1792080"/>
                <a:gridCol w="216000"/>
                <a:gridCol w="1612080"/>
                <a:gridCol w="210240"/>
                <a:gridCol w="436320"/>
                <a:gridCol w="226440"/>
                <a:gridCol w="1637280"/>
                <a:gridCol w="178920"/>
                <a:gridCol w="1920240"/>
              </a:tblGrid>
              <a:tr h="1134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предметные связи. Математика. (умения и зн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ы содержания, проверяемые на ЕГ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е стандарта нового поко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я и зн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ханик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инематика, динамика, статика, законы сохранения в механике, механические колебания и волны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графиков, вычисление площад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ханическое движение и его ви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Механическое движение и его вид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лица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иложение №1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кто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сительность механического движ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ханическое движение и его относи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сительные величины и формулы для скорости и перемещ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и построение графиков, Сложение векторов. Закон Пифаго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Знать и понимать</a:t>
                      </a:r>
                      <a:r>
                        <a:rPr b="1" i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смысл физических величин: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коро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и и формулы скорости. Решение задач на нахождение скор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и построение графиков, Сложение вектор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кор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Знать и понимать</a:t>
                      </a:r>
                      <a:r>
                        <a:rPr b="1" i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смысл физических величин: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ускорение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и и формулы ускорения. Решение задач на нахождение ускор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ражать и вычислять  неизвестно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я прямолинейного равноускоренного движ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Прямолинейное равноускоренное движ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задач на нахождения координаты, перемещения , ускорения, време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решения задач можно использовать памятки «Как решать задачи по динамике», «Как решать задачи» и «Как планировать свою деятельность»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иложение №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 подготовки к ЕГЭ можно использовать рекомендации по решению тестов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(приложение №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решении задач использовать справочники формул по темам и калькуляторы справочников по физике и математике для ленивых школьников.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(приложение № 8,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ждая тема отрабатывается по следующей  технологи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ция (повторительно - обобщающая). Уточняются требования к знаниям и умениям по конкретной теме. (Повторение и обобщение учащимися материала по предмету может быть в различной форме: презентация, консультация, семинар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стирование (для выяснения пробелов знаний по конкретной теме, помощь в выстраивание маршрута изучения тем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е формул - обязательное условие подготовки к  экзамену. Запоминанию формул помогут физические диктанты, создание справочника формул, самопроверка, работа в парах, тренинги в виде тестов на знание формул. Для этого можно использовать таблицы, справочники.(Приложение №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смотреть разборы вариантов ЕГЭ с типичными ошибками, которые часто совершают учащиеся при решении задач по физике . (лекция ИРОО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ение задач различных типов и форм в виде тестов на бумажных и электронных носителях, а также можно использовать электронные тренинги или  Интернет в режиме он-лайн,   используя прое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тренировки мобильности необходимо проводить пробные экзамены, ограниченные временными рам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ята должны "отточить" навыки ответов на вопросы ЕГЭ, научиться использовать готовые варианты ответа для того, чтобы понять, "что от вас хотят"; разобраться в более сложных задачах, предлагаемых на ЕГ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бота с родителя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дение родительских собра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 правилах проведения ЕГЭ (временные интервалы, время проведения, требования к ЕГЭ и особенности его провед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 апел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 повторяющихся ошибках на экзамене.(опыт провед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жим дня  учащихся во время подготовки и сдачи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итание во время экзам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 порядке заполнения бланков и заявления на экзам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комендации о психологической подготовке выпускника к экзаме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видуальные консультации (помощь с выбором экзамен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комство с нормативными документами по проведению ЕГ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комендовать литературу для подготовки к ЕГ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реса, где можно получить достоверную информацию, в том числе адрес школьного  сай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Приложения №1-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бота с предметник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комендации по поводу того, на какие требования к знаниям и умениям  нужно обратить внимание. Отработка конкретных навыков, необходимых для конкретной группы учащихся (реализация индивидуального подход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блюдение единых требований к оценки знаний и умений. Проведение индивидуальных консультаций, необходимых учащим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бота с классным руководител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местная работа по организации родительских собраний и занятий с учащимися. Проведение классных часов «Рекомендации по подготовке к ЕГЭ», «Заполнение документов, бланков»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тог проек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беспроблемнная организация и  проведение ЕГЭ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ой проблемой подготовки является неумение обобщать и систематизировать знания по конкретной теме. Незнание и неумение работать с тестом не дает возможности обучающимся получить большие баллы по экзамену.  Известно,  что только хорошо  подготовленный ученик имеет шанс набрать большое количество баллов. Предмет достаточно сложный и содержит большой объем теоретической информации, необходимой для решения задач. А способность решать задачи развивается только через понимания и мышление, а не через бездумное заучи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й эффективной подготовкой будет  форма занятий, при которой учащийся сможет погружаться в предмет и успешно его осваивать вне зависимости от начального уровня подготовки по физике. Выпускник должен быть информирован, грамотен и психологически настроен на экзаме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беспечить условия для успешного проведения ЕГЭ по физике в МОУ «Русскополянская СОШ №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аботать план мероприятий для подготовки к экзаме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учить нормативную и  методическую базу ЕГЭ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аботать технологию  повторения и систематизации знаний по физик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ть оптимальные психологические условия для успешной подготовки и проведения экзам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68360" y="404640"/>
          <a:ext cx="8229600" cy="5945400"/>
        </p:xfrm>
        <a:graphic>
          <a:graphicData uri="http://schemas.openxmlformats.org/drawingml/2006/table">
            <a:tbl>
              <a:tblPr/>
              <a:tblGrid>
                <a:gridCol w="574560"/>
                <a:gridCol w="1908360"/>
                <a:gridCol w="1404720"/>
                <a:gridCol w="43419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агност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списка учащихся, выбравших ЕГЭ по физике. Выделение уровня подготовки по предмету и цели выбора экзамена. Создание списка документов, регулирующих проведение экзаме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о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- м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нормативных документов. Проведение родительских собр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кт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-м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ботать технологию систематизации знаний по теме. Подготовить справочники, таблицы. Обеспечить достоверной информацией о ЕГЭ учащихся и родителей. Организация «репетиционного» ЕГЭ. Психологические консультации для учащихся и родителей. Оформление информационного стенда и странички на сайте школ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учащихся к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алит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астники проект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едагоги - предметники, администрация школы, учащиеся, роди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блемы выполнения проек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недостаточное количество часов на изучение предмета, плохая информированность учащихся при выборе предмета, несовершенство КИМов, «человеческий» фактор организаторов и учащихся, субъективизм при оценивании, психологические трудности и неполноценное здоровье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тодологическое обеспечение проекта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одготовленные материалы-презентации, документы для работы с учащимися и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териально-техническое обеспечение проек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наличие достаточной базы компьютеров, свободный доступ к Интернет, специальный банк электронных  и бумажных тренинговых заданий по подготовке к ЕГЭ, обеспечение лабораторными приборами, наличие электронных и бумажных носителей тестов. Справочники, табл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358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ритерии эффективности проекта( предполагаемые измен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рошее качество знаний выпускников школы, успешная сдача  ЕГЭ, обеспечение преемственности высшего и школьного образования, положительные установки на ЕГЭ всеми участниками образовательного проце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лан реализации проекта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Подготовка учеников к ЕГ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одготовке к ЕГЭ необходим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накомиться с документами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правонарушениях» письмо Рособрнадзора 12.03.2009 № 01-44/08-01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( Приложение №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о Порядке проведения единого государственного экзамена, утвержденного приказом Министерства образования и науки Российской Федерации от 24 февраля 2009 г. № 57(зарегистрирован Министерством юстиции Российской Федерации 26 марта 2009 г., регистрационный № 13600) ( Приложение №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дификатор элементов содержания и требований к уровню подготовки выпускников общеобразовательных учреждений для единого государственного экзамена 2010 года по физике. ( Приложение №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4:39:40Z</dcterms:created>
  <dc:creator>домашний</dc:creator>
  <dc:description/>
  <dc:language>en-US</dc:language>
  <cp:lastModifiedBy>домашний</cp:lastModifiedBy>
  <dcterms:modified xsi:type="dcterms:W3CDTF">2010-04-21T10:04:31Z</dcterms:modified>
  <cp:revision>5</cp:revision>
  <dc:subject/>
  <dc:title>Проект  «Актуальные вопросы подготовки к ЕГЭ по физике»</dc:title>
</cp:coreProperties>
</file>