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60E-9A63-4BF4-9EEF-788602A0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42C-F081-4502-9D2A-BF1FC915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D21-F8D8-4FCC-A5D2-522C152F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496-2F11-4245-978E-537249A9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0D9E-9341-4782-8E5F-2BFEED41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7717-2F2A-498A-AAA6-3673D9F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355-0AE9-4226-97E1-3CB96D8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4931-3C2C-49AD-8889-360C4DE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941-CBF8-4F0F-8CB1-3BD2841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63D6-5900-4774-9377-609D514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08E9-F44A-4C7F-AB1C-BBDAD64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356-55D1-47D1-9D45-DC0169D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797F-AD3D-41E5-9497-A4AFA9CC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4F20-FEA2-4D3F-A734-4BE9D6C6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6A5-700A-4BD9-94C5-82BA6100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655B-FC23-4C0B-B9E6-BABA044C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8781-A353-4CCB-A54D-D0B0EED4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E749-7611-4D8D-A94E-1689750A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22D4-1900-482D-A7FC-10D1C3B2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A5B9-4F13-4674-A217-C83EF50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F786-71C3-4039-9015-02A859B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3DC7-25DA-4207-BE5D-6274B77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CA8-2DFC-47D0-8C96-EED0B5A1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B178-AB6A-46A5-B97B-2FD01824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BE6B-E7AE-4147-83BB-9B5B618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34D0-F50C-4FEF-B6B9-DEE4988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7BF5-891F-441D-A6E0-9AA095B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68A3-7BE7-405C-A0BA-6AE4F9D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56D5-89E9-4522-AF02-C745C542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7F67-C81A-4D8C-B179-7D27FCC0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0953-BB71-4F0A-BE1E-6640A8E1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27BE-AB7A-425C-8BED-EF937ADE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40FF-7287-4D4E-B089-013AB9C6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876-8A4A-4868-9654-81E93DF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8DB8-5A6D-485B-87E9-188B231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1EFFB-3E28-4523-ADE8-61ED835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5D7D-9C95-4143-BAD7-0067A1F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8927-56B7-4EE5-BEEA-8EB42B0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CDD7-771B-4FB2-B484-0D9B9AEB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B3D8-BA73-480B-B3D3-F7D4A64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C395-148F-4D66-A4FE-49F35C5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C61B-50BC-4C1E-8201-6660F3E8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A5B3-828C-4707-B4EC-58434AA9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D5E8-E2EF-4CA0-9441-09813CB5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952-91F2-4355-9484-51B16D13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02FA-A4CA-4E36-A3D9-C1589CC7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5EE2-12BE-4471-8DBF-D3F35571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05F7-184F-43CF-AC25-EF0F56C0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1B69-BDBF-48B1-BC5E-B80E4F9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1D81-C395-4E13-A307-F7A5066A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395F-3DF0-4A0B-9E60-5DD77E1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C20A-D798-44E7-8F29-0001D4F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9C6F-5467-413D-A11B-28762D9B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88BF-22C9-4EF1-A105-88F266F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08CD5-8F0F-4EFC-BCFE-A8AF15CF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9C9-76D6-4022-8DE8-4AA6157D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0CE05-101A-43EC-9F2B-301B50AE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BC3-06C3-445B-BDC3-D56936D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F0A-C537-4BDA-9C98-3CCC2BE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E16-153C-4F1A-8B73-B678E8E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BF3-F649-4FF7-B9F6-D66AB28871B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B0C-11CD-405E-9C0C-F8C2DEDD127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662-5BA5-40D0-BC21-A9B9A630CD0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7A64-7C5A-4EA8-880F-7F68D33C968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F149-D20B-40E1-9A99-3DDD0302F4A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530440" y="530280"/>
            <a:ext cx="68515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6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уководитель: Колташёва М.В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Исполнители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группа 7-8 класс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окладчик Двоеглазов Деми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3" descr="галилео 6.jpg"/>
          <p:cNvPicPr/>
          <p:nvPr/>
        </p:nvPicPr>
        <p:blipFill>
          <a:blip r:embed="rId1"/>
          <a:stretch/>
        </p:blipFill>
        <p:spPr>
          <a:xfrm>
            <a:off x="324000" y="115920"/>
            <a:ext cx="4514760" cy="3612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галилео 7.jpg"/>
          <p:cNvPicPr/>
          <p:nvPr/>
        </p:nvPicPr>
        <p:blipFill>
          <a:blip r:embed="rId2"/>
          <a:stretch/>
        </p:blipFill>
        <p:spPr>
          <a:xfrm>
            <a:off x="3995640" y="620640"/>
            <a:ext cx="4737240" cy="3789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539640" y="4581360"/>
            <a:ext cx="7920000" cy="16185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на линейках из дерева и пластмассы масло не расплавилось. Потому что их теплопроводность равна почти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мы можем смело держась за 1 конец нагревать другой не опасаясь обжеч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3" descr=""/>
          <p:cNvPicPr/>
          <p:nvPr/>
        </p:nvPicPr>
        <p:blipFill>
          <a:blip r:embed="rId1"/>
          <a:stretch/>
        </p:blipFill>
        <p:spPr>
          <a:xfrm>
            <a:off x="291960" y="853920"/>
            <a:ext cx="77295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01600" y="2487600"/>
            <a:ext cx="6168960" cy="968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7128000" cy="25207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ктивизировать интерес учащихся к предмету «Физика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3500280"/>
            <a:ext cx="723888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физические явления с помощью опытов и экспериментов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Прямоугольник 6" descr=""/>
          <p:cNvPicPr/>
          <p:nvPr/>
        </p:nvPicPr>
        <p:blipFill>
          <a:blip r:embed="rId2"/>
          <a:stretch/>
        </p:blipFill>
        <p:spPr>
          <a:xfrm>
            <a:off x="79200" y="42840"/>
            <a:ext cx="55105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95280" y="4911840"/>
            <a:ext cx="723888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Выступление на школьной Научно Практической Конферен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Выступление на городской Научно Практической Конференции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539640" y="1628640"/>
            <a:ext cx="6120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здана группа учащихся, интересующихся темой «Экспериментальная физ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обраны опыты и эксперименты для изучения физически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здан видеофильм «Экспериментальная физ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5" descr=""/>
          <p:cNvPicPr/>
          <p:nvPr/>
        </p:nvPicPr>
        <p:blipFill>
          <a:blip r:embed="rId2"/>
          <a:stretch/>
        </p:blipFill>
        <p:spPr>
          <a:xfrm>
            <a:off x="176040" y="3833640"/>
            <a:ext cx="79981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9240" y="469800"/>
            <a:ext cx="8437320" cy="10670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3" descr="галилео 1.jpg"/>
          <p:cNvPicPr/>
          <p:nvPr/>
        </p:nvPicPr>
        <p:blipFill>
          <a:blip r:embed="rId2"/>
          <a:stretch/>
        </p:blipFill>
        <p:spPr>
          <a:xfrm>
            <a:off x="539640" y="1700280"/>
            <a:ext cx="5234040" cy="4187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5940360" y="1700280"/>
            <a:ext cx="2592360" cy="26542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зьмем 4 обыкновенных линейки из: алюминия, металла, дерева и пласт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235" name="Содержимое 3" descr="галилео 2.jpg"/>
          <p:cNvPicPr/>
          <p:nvPr/>
        </p:nvPicPr>
        <p:blipFill>
          <a:blip r:embed="rId1"/>
          <a:stretch/>
        </p:blipFill>
        <p:spPr>
          <a:xfrm>
            <a:off x="324000" y="1052640"/>
            <a:ext cx="5472000" cy="46288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5796000" y="1125360"/>
            <a:ext cx="2592360" cy="22269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им на э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нейки кусочки ма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238" name="Содержимое 3" descr="галилео 3.jpg"/>
          <p:cNvPicPr/>
          <p:nvPr/>
        </p:nvPicPr>
        <p:blipFill>
          <a:blip r:embed="rId1"/>
          <a:stretch/>
        </p:blipFill>
        <p:spPr>
          <a:xfrm>
            <a:off x="468360" y="836640"/>
            <a:ext cx="5850000" cy="4680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6372360" y="620640"/>
            <a:ext cx="2160360" cy="558252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чнем нагревать эти линейки с помощью газовой го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 лучше у линейки теплопровод-ность, тем быстрее второй её конец нагреется и начнет плавить масло. После чего оно съедет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3" descr="галилео 4.jpg"/>
          <p:cNvPicPr/>
          <p:nvPr/>
        </p:nvPicPr>
        <p:blipFill>
          <a:blip r:embed="rId1"/>
          <a:stretch/>
        </p:blipFill>
        <p:spPr>
          <a:xfrm>
            <a:off x="395280" y="90792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227640" y="981000"/>
            <a:ext cx="2376720" cy="31431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м начало плавиться масло на алюминиевой линейке, а это значит что среди этих материалов у него самая хорошая теплопровод-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243" name="Содержимое 3" descr="галилео 5.jpg"/>
          <p:cNvPicPr/>
          <p:nvPr/>
        </p:nvPicPr>
        <p:blipFill>
          <a:blip r:embed="rId1"/>
          <a:stretch/>
        </p:blipFill>
        <p:spPr>
          <a:xfrm>
            <a:off x="395280" y="836640"/>
            <a:ext cx="6121440" cy="5184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6588000" y="981000"/>
            <a:ext cx="2087640" cy="14655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ым расплавилось масло на металлической линей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6:17:54Z</dcterms:created>
  <dc:creator>Пользователь</dc:creator>
  <dc:description/>
  <dc:language>en-US</dc:language>
  <cp:lastModifiedBy>шк</cp:lastModifiedBy>
  <dcterms:modified xsi:type="dcterms:W3CDTF">2013-01-17T02:23:48Z</dcterms:modified>
  <cp:revision>9</cp:revision>
  <dc:subject/>
  <dc:title>Экспериментальная физика</dc:title>
</cp:coreProperties>
</file>