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533D-59B5-4355-B581-4FB2C3EE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B050-64AF-4664-9B17-F08AC1B3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F7BF-5C74-4AC2-9DA5-847DFF75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A9D-622B-4F40-AEA8-126F2D70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2747-58FE-43DC-9E1C-3FFC79D45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695C-87A9-4DC1-9FA8-9901244D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1FED-1422-47EC-A277-BB465CD0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2FD3-2A16-40F4-A058-92FB360B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AEF5-EF7C-4D27-80A7-EF6608A2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628E-06DF-4600-A4F9-85EE4A54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70A2-1C69-49C5-AEE4-1BD6B20B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5573-8A48-436E-81DE-6E42C080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46CC-3D3E-403A-8431-A155346C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C695-D863-4977-B2E2-B8B24EBE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6677-F4E3-4D9F-BE55-A9B9108A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348E-CCFC-43E0-B225-FBFCF2C26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9208-965C-4159-8413-40E6464B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82B4A-2799-4CD1-A856-B55C9A1E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FD6F6-796C-45C6-B198-25148197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DC372-E807-483E-AA2E-83765032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CFDED-4AAA-47B1-A3D4-51D5D8CF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CAF72-012A-474D-84F8-22E7B0D7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FA98-DFBA-4AC9-BE2E-BDA17B8A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2E318-57E5-4863-80D0-0E0B0581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E871B-7A2E-4E00-87F9-EAFF257C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CCA72-BEA1-4493-9FA4-A68B26B5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7C9CC-4ECD-47B9-87C4-B9966133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0DCE8-1DCD-431A-AD99-2DC74F1F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39810-9698-4895-A76C-F6ED9957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701C5-083A-4D3D-A93D-3A8A8DD9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42E15-A2FB-4ADC-ABF3-2EBAFDAE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721F1-7081-4A0D-A1EB-2DB50F8A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24DED-4567-487D-B653-6F601F00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A3F5-564A-48E1-A058-F8C29A41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FF018-613E-47CC-9D01-8BF68B93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9C439-6373-46BE-BB75-012BCE33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F43D5-46B9-420F-824C-B134C75A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B27A1-927C-4BFE-9741-EBD8DAA3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22DBF-7759-4D6B-829C-34B38B13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479F5-372A-4B07-8516-84467D2F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20C75-EC5F-4617-95E1-15FF6A7F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CFC0C-A523-4093-9425-1414EDFF0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5DAFC-A435-4159-90EC-1B8B9744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4C6B0-FBA9-4F8D-B75E-BAD4067B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058-8A14-48B5-BD86-4411AF68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AF39F-FAAD-45A4-A428-862FA799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9313E-FCB3-4DD6-812B-71055081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87076-8E83-4F83-82D0-4EAAA63B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F95D0-3EC0-4206-8417-76D82E7F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E2742-9C15-4D04-8206-CC68C6F3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22C31-99A1-4025-9DFA-A0295192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0D3B6-2986-40FA-B581-890ADB53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F4706-1650-45CA-8F9A-922C4A9D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DBE85-6B9C-4575-8BAE-78B6DCCA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4B3AA-B364-4F67-BDEE-A434378C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9645-E2CA-4279-B346-DABD9A68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7A93F-FC45-4B9D-9354-6D36FB68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4FAA-4D45-497E-95A2-EA7391B8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E71C-8B38-4D32-8307-7B647FF0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A2A9-E833-4296-B18A-DBE29BC3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0198-6172-45A2-ADE1-24ECDA010B80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999C-E4B8-424E-982A-68DED60D273A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133C-E5E7-4CBF-A008-7DD65EF07268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84C6-E451-44D5-B15E-037BA4D537FC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9049-934C-406E-AF15-71042A4374FA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530440" y="530280"/>
            <a:ext cx="685152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60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Руководитель: Колташёва М.В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Исполнители: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группа 7-8 классы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Докладчик Двоеглазов Демид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Содержимое 3" descr="галилео 6.jpg"/>
          <p:cNvPicPr/>
          <p:nvPr/>
        </p:nvPicPr>
        <p:blipFill>
          <a:blip r:embed="rId1"/>
          <a:stretch/>
        </p:blipFill>
        <p:spPr>
          <a:xfrm>
            <a:off x="324000" y="115920"/>
            <a:ext cx="4514760" cy="361296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4" descr="галилео 7.jpg"/>
          <p:cNvPicPr/>
          <p:nvPr/>
        </p:nvPicPr>
        <p:blipFill>
          <a:blip r:embed="rId2"/>
          <a:stretch/>
        </p:blipFill>
        <p:spPr>
          <a:xfrm>
            <a:off x="3995640" y="620640"/>
            <a:ext cx="4737240" cy="3789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5"/>
          <p:cNvSpPr/>
          <p:nvPr/>
        </p:nvSpPr>
        <p:spPr>
          <a:xfrm>
            <a:off x="539640" y="4581360"/>
            <a:ext cx="7920000" cy="161856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 на линейках из дерева и пластмассы масло не расплавилось. Потому что их теплопроводность равна почти 0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мы можем смело держась за 1 конец нагревать другой не опасаясь обжеч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3" descr=""/>
          <p:cNvPicPr/>
          <p:nvPr/>
        </p:nvPicPr>
        <p:blipFill>
          <a:blip r:embed="rId1"/>
          <a:stretch/>
        </p:blipFill>
        <p:spPr>
          <a:xfrm>
            <a:off x="291960" y="853920"/>
            <a:ext cx="772956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01600" y="2487600"/>
            <a:ext cx="6168960" cy="9684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7128000" cy="25207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Активизировать интерес учащихся к предмету «Физика»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8360" y="3500280"/>
            <a:ext cx="723888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Изучить физические явления с помощью опытов и экспериментов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Прямоугольник 6" descr=""/>
          <p:cNvPicPr/>
          <p:nvPr/>
        </p:nvPicPr>
        <p:blipFill>
          <a:blip r:embed="rId2"/>
          <a:stretch/>
        </p:blipFill>
        <p:spPr>
          <a:xfrm>
            <a:off x="79200" y="42840"/>
            <a:ext cx="551052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395280" y="4911840"/>
            <a:ext cx="7238880" cy="19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Выступление на школьной Научно Практической Конференци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 Выступление на городской Научно Практической Конференции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539640" y="1628640"/>
            <a:ext cx="61200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здана группа учащихся, интересующихся темой «Экспериментальная физи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добраны опыты и эксперименты для изучения физических яв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здан видеофильм «Экспериментальная физи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Прямоугольник 5" descr=""/>
          <p:cNvPicPr/>
          <p:nvPr/>
        </p:nvPicPr>
        <p:blipFill>
          <a:blip r:embed="rId2"/>
          <a:stretch/>
        </p:blipFill>
        <p:spPr>
          <a:xfrm>
            <a:off x="176040" y="3833640"/>
            <a:ext cx="799812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19240" y="469800"/>
            <a:ext cx="8437320" cy="1067040"/>
          </a:xfrm>
          <a:prstGeom prst="rect">
            <a:avLst/>
          </a:prstGeom>
          <a:ln w="0">
            <a:noFill/>
          </a:ln>
        </p:spPr>
      </p:pic>
      <p:pic>
        <p:nvPicPr>
          <p:cNvPr id="232" name="Содержимое 3" descr="галилео 1.jpg"/>
          <p:cNvPicPr/>
          <p:nvPr/>
        </p:nvPicPr>
        <p:blipFill>
          <a:blip r:embed="rId2"/>
          <a:stretch/>
        </p:blipFill>
        <p:spPr>
          <a:xfrm>
            <a:off x="539640" y="1700280"/>
            <a:ext cx="5234040" cy="41878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4"/>
          <p:cNvSpPr/>
          <p:nvPr/>
        </p:nvSpPr>
        <p:spPr>
          <a:xfrm>
            <a:off x="5940360" y="1700280"/>
            <a:ext cx="2592360" cy="265428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зьмем 4 обыкновенных линейки из: алюминия, металла, дерева и пластма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d75b7e"/>
              </a:solidFill>
              <a:latin typeface="Trebuchet MS"/>
            </a:endParaRPr>
          </a:p>
        </p:txBody>
      </p:sp>
      <p:pic>
        <p:nvPicPr>
          <p:cNvPr id="235" name="Содержимое 3" descr="галилео 2.jpg"/>
          <p:cNvPicPr/>
          <p:nvPr/>
        </p:nvPicPr>
        <p:blipFill>
          <a:blip r:embed="rId1"/>
          <a:stretch/>
        </p:blipFill>
        <p:spPr>
          <a:xfrm>
            <a:off x="324000" y="1052640"/>
            <a:ext cx="5472000" cy="46288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4"/>
          <p:cNvSpPr/>
          <p:nvPr/>
        </p:nvSpPr>
        <p:spPr>
          <a:xfrm>
            <a:off x="5796000" y="1125360"/>
            <a:ext cx="2592360" cy="222696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вим на э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инейки кусочки ма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d75b7e"/>
              </a:solidFill>
              <a:latin typeface="Trebuchet MS"/>
            </a:endParaRPr>
          </a:p>
        </p:txBody>
      </p:sp>
      <p:pic>
        <p:nvPicPr>
          <p:cNvPr id="238" name="Содержимое 3" descr="галилео 3.jpg"/>
          <p:cNvPicPr/>
          <p:nvPr/>
        </p:nvPicPr>
        <p:blipFill>
          <a:blip r:embed="rId1"/>
          <a:stretch/>
        </p:blipFill>
        <p:spPr>
          <a:xfrm>
            <a:off x="468360" y="836640"/>
            <a:ext cx="5850000" cy="46800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6372360" y="620640"/>
            <a:ext cx="2160360" cy="558252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начнем нагревать эти линейки с помощью газовой горе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м лучше у линейки теплопровод-ность, тем быстрее второй её конец нагреется и начнет плавить масло. После чего оно съедет вни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Содержимое 3" descr="галилео 4.jpg"/>
          <p:cNvPicPr/>
          <p:nvPr/>
        </p:nvPicPr>
        <p:blipFill>
          <a:blip r:embed="rId1"/>
          <a:stretch/>
        </p:blipFill>
        <p:spPr>
          <a:xfrm>
            <a:off x="395280" y="907920"/>
            <a:ext cx="5761080" cy="49690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4"/>
          <p:cNvSpPr/>
          <p:nvPr/>
        </p:nvSpPr>
        <p:spPr>
          <a:xfrm>
            <a:off x="6227640" y="981000"/>
            <a:ext cx="2376720" cy="314316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вым начало плавиться масло на алюминиевой линейке, а это значит что среди этих материалов у него самая хорошая теплопровод-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d75b7e"/>
              </a:solidFill>
              <a:latin typeface="Trebuchet MS"/>
            </a:endParaRPr>
          </a:p>
        </p:txBody>
      </p:sp>
      <p:pic>
        <p:nvPicPr>
          <p:cNvPr id="243" name="Содержимое 3" descr="галилео 5.jpg"/>
          <p:cNvPicPr/>
          <p:nvPr/>
        </p:nvPicPr>
        <p:blipFill>
          <a:blip r:embed="rId1"/>
          <a:stretch/>
        </p:blipFill>
        <p:spPr>
          <a:xfrm>
            <a:off x="395280" y="836640"/>
            <a:ext cx="6121440" cy="5184720"/>
          </a:xfrm>
          <a:prstGeom prst="rect">
            <a:avLst/>
          </a:prstGeom>
          <a:ln w="0">
            <a:noFill/>
          </a:ln>
        </p:spPr>
      </p:pic>
      <p:sp>
        <p:nvSpPr>
          <p:cNvPr id="244" name="TextBox 4"/>
          <p:cNvSpPr/>
          <p:nvPr/>
        </p:nvSpPr>
        <p:spPr>
          <a:xfrm>
            <a:off x="6588000" y="981000"/>
            <a:ext cx="2087640" cy="146556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торым расплавилось масло на металлической линей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16:17:54Z</dcterms:created>
  <dc:creator>Пользователь</dc:creator>
  <dc:description/>
  <dc:language>en-US</dc:language>
  <cp:lastModifiedBy>шк</cp:lastModifiedBy>
  <dcterms:modified xsi:type="dcterms:W3CDTF">2013-01-17T02:23:48Z</dcterms:modified>
  <cp:revision>9</cp:revision>
  <dc:subject/>
  <dc:title>Экспериментальная физика</dc:title>
</cp:coreProperties>
</file>