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29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jpeg" ContentType="image/jpeg"/>
  <Override PartName="/ppt/media/image15.png" ContentType="image/png"/>
  <Override PartName="/ppt/media/image23.png" ContentType="image/png"/>
  <Override PartName="/ppt/media/image20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16.png" ContentType="image/png"/>
  <Override PartName="/ppt/media/image21.jpeg" ContentType="image/jpeg"/>
  <Override PartName="/ppt/media/image17.gif" ContentType="image/gif"/>
  <Override PartName="/ppt/media/image2.png" ContentType="image/png"/>
  <Override PartName="/ppt/media/image25.jpeg" ContentType="image/jpeg"/>
  <Override PartName="/ppt/media/image28.gif" ContentType="image/gif"/>
  <Override PartName="/ppt/media/image14.jpeg" ContentType="image/jpeg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53F-2534-4A47-849D-39761166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65B-827E-4E3E-9925-6A76141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C1B-040F-491E-85D4-2CB1DD32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BF9-6031-40E6-ABAC-4CBF9F4A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0B3-0D22-4CEA-9CE6-CCB2CCE2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D98-8D96-425E-974C-AF8CEF6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00E-E479-4E21-B527-67FD7E04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8C9-0EF0-48E2-99AF-3D7F9D8E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F06-4F6A-412C-BD59-3184FC2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77C-7060-42CB-AD3F-4539F2D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96D-6034-4EEF-960F-4744BE25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227-8608-4474-9D45-952231E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E3E-A3B0-4CAF-8016-C26AD0A36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 you know about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imcottage3"/>
          <p:cNvPicPr/>
          <p:nvPr/>
        </p:nvPicPr>
        <p:blipFill>
          <a:blip r:embed="rId1"/>
          <a:stretch/>
        </p:blipFill>
        <p:spPr>
          <a:xfrm>
            <a:off x="2700360" y="2205000"/>
            <a:ext cx="3651120" cy="331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rdrtrees"/>
          <p:cNvPicPr/>
          <p:nvPr/>
        </p:nvPicPr>
        <p:blipFill>
          <a:blip r:embed="rId2"/>
          <a:stretch/>
        </p:blipFill>
        <p:spPr>
          <a:xfrm>
            <a:off x="539640" y="5516640"/>
            <a:ext cx="813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69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the custom of sending Christm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ds to friends, colleagues and relatives app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открытка снеговик"/>
          <p:cNvPicPr/>
          <p:nvPr/>
        </p:nvPicPr>
        <p:blipFill>
          <a:blip r:embed="rId2"/>
          <a:stretch/>
        </p:blipFill>
        <p:spPr>
          <a:xfrm rot="20880000">
            <a:off x="1498680" y="1739520"/>
            <a:ext cx="2241360" cy="461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8160" y="206064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1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455840" y="566640"/>
            <a:ext cx="67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raditional Christmas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61080" y="530064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oast turke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nimcake"/>
          <p:cNvPicPr/>
          <p:nvPr/>
        </p:nvPicPr>
        <p:blipFill>
          <a:blip r:embed="rId1"/>
          <a:stretch/>
        </p:blipFill>
        <p:spPr>
          <a:xfrm>
            <a:off x="684360" y="1557360"/>
            <a:ext cx="2904840" cy="309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ндейка"/>
          <p:cNvPicPr/>
          <p:nvPr/>
        </p:nvPicPr>
        <p:blipFill>
          <a:blip r:embed="rId2"/>
          <a:stretch/>
        </p:blipFill>
        <p:spPr>
          <a:xfrm>
            <a:off x="3851280" y="1981080"/>
            <a:ext cx="460836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616760" y="476280"/>
            <a:ext cx="60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is the name of the Christmas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12000" y="55609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снегирь"/>
          <p:cNvPicPr/>
          <p:nvPr/>
        </p:nvPicPr>
        <p:blipFill>
          <a:blip r:embed="rId2"/>
          <a:stretch/>
        </p:blipFill>
        <p:spPr>
          <a:xfrm>
            <a:off x="2987640" y="1125360"/>
            <a:ext cx="33735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8de7"/>
            </a:gs>
            <a:gs pos="100000">
              <a:srgbClr val="0f4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022760" y="56664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ay is the day on the 26th of Dece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277800" y="6093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 Box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7kid1"/>
          <p:cNvPicPr/>
          <p:nvPr/>
        </p:nvPicPr>
        <p:blipFill>
          <a:blip r:embed="rId1"/>
          <a:stretch/>
        </p:blipFill>
        <p:spPr>
          <a:xfrm>
            <a:off x="3203640" y="1341360"/>
            <a:ext cx="3816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db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18960" y="47628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ongs do people sing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rdrcarolers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1389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95280" y="20620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ristmas Carols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song of the holiday is Jingle Be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Jingle, bells! Jingle, bel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Jingle all the w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h what fun it is to 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 a one-horse open s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Dashing through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 a one-horse open sleig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'er the fields we g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aughing all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ells, on bob-tail 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aking spirits b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at fun it is to ride and 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 sleighing song to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картина"/>
          <p:cNvPicPr/>
          <p:nvPr/>
        </p:nvPicPr>
        <p:blipFill>
          <a:blip r:embed="rId2"/>
          <a:stretch/>
        </p:blipFill>
        <p:spPr>
          <a:xfrm>
            <a:off x="4500720" y="2852640"/>
            <a:ext cx="4222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Jingl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 Jingl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ll the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h 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t is to 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n a one-ho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le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shing throug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horse op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'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we 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aughing all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ells, on bob-ta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king spir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it is to ride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 sleigh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my congratula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ry Christmas and Happy New Y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ice w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English teac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animfloralsleigh"/>
          <p:cNvPicPr/>
          <p:nvPr/>
        </p:nvPicPr>
        <p:blipFill>
          <a:blip r:embed="rId1"/>
          <a:stretch/>
        </p:blipFill>
        <p:spPr>
          <a:xfrm>
            <a:off x="0" y="5013360"/>
            <a:ext cx="8894880" cy="16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animbrderhappyholfrosty"/>
          <p:cNvPicPr/>
          <p:nvPr/>
        </p:nvPicPr>
        <p:blipFill>
          <a:blip r:embed="rId2"/>
          <a:stretch/>
        </p:blipFill>
        <p:spPr>
          <a:xfrm>
            <a:off x="3780000" y="2349360"/>
            <a:ext cx="4032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8360" y="980280"/>
            <a:ext cx="48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is Christmas celebrated in Eur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iminsidewelcomectr"/>
          <p:cNvPicPr/>
          <p:nvPr/>
        </p:nvPicPr>
        <p:blipFill>
          <a:blip r:embed="rId2"/>
          <a:stretch/>
        </p:blipFill>
        <p:spPr>
          <a:xfrm>
            <a:off x="971640" y="1413000"/>
            <a:ext cx="6913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6311160" y="5229360"/>
            <a:ext cx="24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 the 7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of 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11280" y="24210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Russians celebrate that holi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o they celebr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5840" y="85716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se birthday is celebrated on Christ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nativity2"/>
          <p:cNvPicPr/>
          <p:nvPr/>
        </p:nvPicPr>
        <p:blipFill>
          <a:blip r:embed="rId2"/>
          <a:stretch/>
        </p:blipFill>
        <p:spPr>
          <a:xfrm>
            <a:off x="3851280" y="2276640"/>
            <a:ext cx="4591080" cy="3060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346560" y="5950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esus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735120" y="63972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id appear the English custom of a visit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 Christ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antakiss"/>
          <p:cNvPicPr/>
          <p:nvPr/>
        </p:nvPicPr>
        <p:blipFill>
          <a:blip r:embed="rId2"/>
          <a:stretch/>
        </p:blipFill>
        <p:spPr>
          <a:xfrm>
            <a:off x="3059280" y="2276640"/>
            <a:ext cx="4452840" cy="3146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573800" y="5803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 1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474200" y="6922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Christmas come to Britain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23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91240" y="3933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fplace"/>
          <p:cNvPicPr/>
          <p:nvPr/>
        </p:nvPicPr>
        <p:blipFill>
          <a:blip r:embed="rId2"/>
          <a:stretch/>
        </p:blipFill>
        <p:spPr>
          <a:xfrm>
            <a:off x="684360" y="1844640"/>
            <a:ext cx="48243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472400" y="476280"/>
            <a:ext cx="64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 they call Father Frost in the West?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here does he live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northpole"/>
          <p:cNvPicPr/>
          <p:nvPr/>
        </p:nvPicPr>
        <p:blipFill>
          <a:blip r:embed="rId2"/>
          <a:stretch/>
        </p:blipFill>
        <p:spPr>
          <a:xfrm>
            <a:off x="3780000" y="2781360"/>
            <a:ext cx="4968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193480" y="351000"/>
            <a:ext cx="52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Santa Claus 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antareindeer"/>
          <p:cNvPicPr/>
          <p:nvPr/>
        </p:nvPicPr>
        <p:blipFill>
          <a:blip r:embed="rId2"/>
          <a:stretch/>
        </p:blipFill>
        <p:spPr>
          <a:xfrm>
            <a:off x="1116000" y="1484280"/>
            <a:ext cx="6910560" cy="1859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505040" y="573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y REI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899280" y="544320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es Santa Claus enter houses to giv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Christmas presents and where does he pu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animsantachim"/>
          <p:cNvPicPr/>
          <p:nvPr/>
        </p:nvPicPr>
        <p:blipFill>
          <a:blip r:embed="rId2"/>
          <a:stretch/>
        </p:blipFill>
        <p:spPr>
          <a:xfrm>
            <a:off x="3059280" y="-892080"/>
            <a:ext cx="2436480" cy="3254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796000" y="3573360"/>
            <a:ext cx="22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wn the chim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36:59Z</dcterms:created>
  <dc:creator>PANKOV</dc:creator>
  <dc:description/>
  <dc:language>en-US</dc:language>
  <cp:lastModifiedBy>LUDMILA PANKOVSKAYA</cp:lastModifiedBy>
  <dcterms:modified xsi:type="dcterms:W3CDTF">2013-01-16T05:28:27Z</dcterms:modified>
  <cp:revision>29</cp:revision>
  <dc:subject/>
  <dc:title>Слайд 1</dc:title>
</cp:coreProperties>
</file>