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gif" ContentType="image/gif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B4E-E9B3-4272-8D3F-FD98F28E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A92-CAB3-43F5-84BB-195A2050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903-E5D7-4E08-8049-87E55B9C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224-F675-41B6-9C3D-15647702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73F1-795B-40C8-99C6-1AD33980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F650-F140-40F4-B955-731CFC08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3EF2-5867-4D33-9074-167C6951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0B41-0E62-4BF4-AF30-B8052437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9E69-9C73-4B67-9C25-6489B60D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B274-CAAE-482A-854F-5C1821EA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A13F-3646-4057-A68D-6BB149B2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8A9-3928-40CB-94D1-875ECB30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DB67-6BA5-4222-A4AB-642B6582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7DB2-8CBB-4073-ABDA-EDDC7ED6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1DE-2B26-4B33-BE95-0DD95DCE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59E0-8444-4AEA-B063-4AB89310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6C2A-6945-4C8A-80FD-7358B44D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4AAD-D155-4ED8-920C-1360B450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1E5BD-7C56-4471-9C96-65CC9CC2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63B0-2E12-4A3E-966A-2F481F47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0943-599D-4430-A45A-61EEAA73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EE0E-83D9-4F10-8C4B-A838A8AD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DF3-CABE-4AC8-97F7-4D89F2B3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EB4FD-3CD3-4981-A06C-3D0796AA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C6ECD-188F-47A2-BA39-84732AD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2287-EBDA-4439-A7E0-9092862E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5D50-FC0D-4A31-B847-56B99F3D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AE20-CDEA-4BA5-9627-074C65D6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958CB-39A2-4217-9E40-A526C2C2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8D3EA-5DA5-4B77-AA46-9C179FF5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5B08-4B51-4939-B087-6B78FFC2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D028-E374-4BD7-A184-7C5F618D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39F6-23B2-483B-9317-1C31BFB5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0F0-5912-4934-A8F6-D5AD7D21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DC49-49F2-463A-BA37-A7F4CD90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78F3-B8C3-487F-BBB4-BF1E46E3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32E98-BA58-496E-857C-DAB82BC7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B0D60-8FBE-4A03-AACC-B3E361F0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8D0B-752C-4C8E-BAE1-3C31E35C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39AE8-0B4E-4022-B781-62E19D3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FADF7-1F12-47A2-A346-0F42EB0D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8958-88F1-4C6D-A6F3-9044EF5A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1EA96-604F-4702-A07B-E14155E6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91A7A-C9E0-4859-AE62-9C786929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C26-F00C-4A2B-A580-05CA1E09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94755-A769-47A1-A6D9-9DD9855F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36E5C-A7A0-44BD-B470-D0886516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491E6-8D32-47EA-8B20-C385841C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5A7BE-BF2F-4F43-A82D-09DAAD4D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8DA55-B951-41CE-B6C5-C789100C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356B-5D00-4135-9CF2-4022EB25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4F915-28B0-49B5-89D7-5821DA17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1D658-E7C1-4890-9F84-000F05A4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3B03C-AB6C-4523-BB24-91788D85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C65E5-4920-4A24-B8A5-694640A3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FF5-6F10-48BC-BF5A-E776F19D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EE4A0-4322-4494-8BA9-E157FC2E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55C59-5BD0-4FF8-88F8-853EE3FC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199B-CAE0-4392-A5B0-F4AC96D3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D38E6-0116-4FFE-BEA5-5D4BCDDC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AA10D-9235-4AA3-B2CE-B5AF3B82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1BDA-D543-45BE-B25C-6BDBAF76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C4FB4-C1A2-4890-8F0A-E47F53FA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8A800-5FD5-4531-B9C8-42D5F16E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F91EA-362E-4DD4-A444-4F542313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FDB72-EF11-424E-AD20-FE3570DA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E36-D71A-4C99-AAF2-25BD83BC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67DD4-35D7-458F-BE28-18CC53F7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782EF-BCEC-4D5F-801F-B7101D0E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06B74-7B83-4748-B890-24107888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24842-82C1-41F7-A176-C489EC09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4E466-B21E-4DC7-A97C-3BEE6EAD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E0A56-FFC3-457D-9145-8164BA78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1309E-1254-4441-8CB6-23D180E0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BAF47-9703-48A5-BD01-602590E1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15B17-5BF6-4AE8-A4C4-3332F8D2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0462E-D661-4719-89BA-70350A56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0B3-C43F-4CD6-9849-684D44B2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AC1CB-71E9-454B-959C-E0D1D9E6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07D67-008F-4333-BE1C-942E5D7A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E5A52-61B6-4D36-A73E-83DAEA4C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33593-B7C4-4867-9A9C-740D3983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A291C-E2F0-4716-9C5A-579C41A2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B5643-5161-4997-B9B7-3559AFBE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F34CC-6829-40F8-8A9F-B052C9F1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C8D0B-5B71-4A61-966D-3D0B3C0C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33AA1-D325-429D-B5D5-DAD68D4B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D08FE-43C6-4342-8B7E-A0B0EB67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CD3-CEDE-494C-B7E5-B98B199F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2E8D3-229F-4894-9551-4A6B37E1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09C36-8C75-4797-A255-5FC1FDF1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490BE-A001-4BCC-A9E7-233C2D47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AC14C-79EE-44D0-B375-AAE65A1D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8D3FB-2D3B-4089-9CD5-04E49052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FBC13-7ABB-4C46-AAB8-9E52299B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207E9-DFEC-41B6-8552-16B2622E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3597-6437-453B-BCE4-22992E257F7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6FD3-CF8F-4F7A-A0E8-18D0F8B10B4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7CD4-D978-46E9-B46F-37596D4E9E8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607D-9950-4D59-945C-8203F22C2F9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3381-5C2E-478B-B423-D2144FDACC0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9CD1-E7E1-4F52-AB07-092C5048219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C74F-9A9C-4F8C-914B-2F674604C9C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9D1F-5B86-40F3-B798-FFFCE1D4CE3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33440" y="2792520"/>
            <a:ext cx="8272440" cy="1230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28400" y="5357880"/>
            <a:ext cx="830556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Lucida Sans Unicode"/>
              </a:rPr>
              <a:t>27.09.2011г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Lucida Sans Unicode"/>
              </a:rPr>
              <a:t>История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Lucida Sans Unicode"/>
              </a:rPr>
              <a:t>5 класс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chasi.avi" descr=""/>
          <p:cNvPicPr/>
          <p:nvPr/>
        </p:nvPicPr>
        <p:blipFill>
          <a:blip r:embed="rId2"/>
          <a:stretch/>
        </p:blipFill>
        <p:spPr>
          <a:xfrm>
            <a:off x="3143160" y="357120"/>
            <a:ext cx="2813040" cy="21081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100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20F8-2DEC-48B3-80DA-8E5842FBADD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"/>
          <p:cNvSpPr/>
          <p:nvPr/>
        </p:nvSpPr>
        <p:spPr>
          <a:xfrm>
            <a:off x="0" y="3124080"/>
            <a:ext cx="9144000" cy="176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343400" y="32004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5"/>
          <p:cNvSpPr/>
          <p:nvPr/>
        </p:nvSpPr>
        <p:spPr>
          <a:xfrm rot="16200000">
            <a:off x="1619280" y="437760"/>
            <a:ext cx="1066680" cy="4305240"/>
          </a:xfrm>
          <a:custGeom>
            <a:avLst/>
            <a:gdLst>
              <a:gd name="textAreaLeft" fmla="*/ 0 w 1066680"/>
              <a:gd name="textAreaRight" fmla="*/ 748080 w 1066680"/>
              <a:gd name="textAreaTop" fmla="*/ 514440 h 4305240"/>
              <a:gd name="textAreaBottom" fmla="*/ 3790800 h 430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ccffcc">
              <a:alpha val="50000"/>
            </a:srgbClr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00"/>
                </a:solidFill>
                <a:latin typeface="Arial Black"/>
              </a:rPr>
              <a:t>СОБЫТИЯ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9900"/>
                </a:solidFill>
                <a:latin typeface="Arial Black"/>
              </a:rPr>
              <a:t>ДО</a:t>
            </a:r>
            <a:r>
              <a:rPr b="1" lang="uk-UA" sz="24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uk-UA" sz="1800" spc="-1" strike="noStrike">
                <a:solidFill>
                  <a:srgbClr val="009900"/>
                </a:solidFill>
                <a:latin typeface="Arial Black"/>
              </a:rPr>
              <a:t>НАШЕЙ</a:t>
            </a:r>
            <a:r>
              <a:rPr b="1" lang="uk-UA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uk-UA" sz="1800" spc="-1" strike="noStrike">
                <a:solidFill>
                  <a:srgbClr val="009900"/>
                </a:solidFill>
                <a:latin typeface="Arial Black"/>
              </a:rPr>
              <a:t>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619560" y="3462480"/>
            <a:ext cx="26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9900"/>
                </a:solidFill>
                <a:latin typeface="Arial Black"/>
              </a:rPr>
              <a:t>ДО Н.Э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 rot="16200000">
            <a:off x="6248160" y="152280"/>
            <a:ext cx="990720" cy="4800600"/>
          </a:xfrm>
          <a:custGeom>
            <a:avLst/>
            <a:gdLst>
              <a:gd name="textAreaLeft" fmla="*/ 0 w 990720"/>
              <a:gd name="textAreaRight" fmla="*/ 694800 w 990720"/>
              <a:gd name="textAreaTop" fmla="*/ 573480 h 4800600"/>
              <a:gd name="textAreaBottom" fmla="*/ 422712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66ffff">
              <a:alpha val="50000"/>
            </a:srgbClr>
          </a:solidFill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66ff"/>
                </a:solidFill>
                <a:latin typeface="Arial Black"/>
              </a:rPr>
              <a:t>СОБЫТИЯ</a:t>
            </a:r>
            <a:r>
              <a:rPr b="0" lang="uk-UA" sz="28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uk-UA" sz="3600" spc="-1" strike="noStrike">
                <a:solidFill>
                  <a:srgbClr val="3366ff"/>
                </a:solidFill>
                <a:latin typeface="Arial Black"/>
              </a:rPr>
              <a:t>НАШЕЙ </a:t>
            </a:r>
            <a:r>
              <a:rPr b="0" lang="uk-UA" sz="1800" spc="-1" strike="noStrike">
                <a:solidFill>
                  <a:srgbClr val="3366ff"/>
                </a:solidFill>
                <a:latin typeface="Arial Black"/>
              </a:rPr>
              <a:t>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6077160" y="3505320"/>
            <a:ext cx="149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ff"/>
                </a:solidFill>
                <a:latin typeface="Arial Black"/>
              </a:rPr>
              <a:t>Н.Э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>
            <a:hlinkClick r:id="" action="ppaction://hlinkshowjump?jump=nextslide"/>
          </p:cNvPr>
          <p:cNvSpPr/>
          <p:nvPr/>
        </p:nvSpPr>
        <p:spPr>
          <a:xfrm>
            <a:off x="8381880" y="611964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75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95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45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1EEA-8850-4FAE-8E4A-3E2AB8C0630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"/>
          <p:cNvSpPr/>
          <p:nvPr/>
        </p:nvSpPr>
        <p:spPr>
          <a:xfrm>
            <a:off x="228600" y="3124080"/>
            <a:ext cx="85345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"/>
          <p:cNvSpPr/>
          <p:nvPr/>
        </p:nvSpPr>
        <p:spPr>
          <a:xfrm>
            <a:off x="4343400" y="32004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"/>
          <p:cNvSpPr/>
          <p:nvPr/>
        </p:nvSpPr>
        <p:spPr>
          <a:xfrm>
            <a:off x="3124080" y="1828800"/>
            <a:ext cx="0" cy="12193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6"/>
          <p:cNvSpPr/>
          <p:nvPr/>
        </p:nvSpPr>
        <p:spPr>
          <a:xfrm>
            <a:off x="5638680" y="1828800"/>
            <a:ext cx="0" cy="1219320"/>
          </a:xfrm>
          <a:prstGeom prst="line">
            <a:avLst/>
          </a:prstGeom>
          <a:ln w="7632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04920" y="1066680"/>
            <a:ext cx="4190760" cy="70344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00"/>
                </a:solidFill>
                <a:latin typeface="Arial Black"/>
              </a:rPr>
              <a:t>100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5029200" y="1066680"/>
            <a:ext cx="3581280" cy="703440"/>
          </a:xfrm>
          <a:prstGeom prst="rect">
            <a:avLst/>
          </a:prstGeom>
          <a:solidFill>
            <a:srgbClr val="66ffff">
              <a:alpha val="21000"/>
            </a:srgbClr>
          </a:solidFill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66ff"/>
                </a:solidFill>
                <a:latin typeface="Arial Black"/>
              </a:rPr>
              <a:t>100 г.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1134000" y="4613400"/>
            <a:ext cx="6831360" cy="10994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9900"/>
                </a:solidFill>
                <a:latin typeface="Arial Black"/>
              </a:rPr>
              <a:t>100</a:t>
            </a:r>
            <a:r>
              <a:rPr b="0" lang="uk-UA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+</a:t>
            </a:r>
            <a:r>
              <a:rPr b="0" lang="uk-UA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6600" spc="-1" strike="noStrike">
                <a:solidFill>
                  <a:srgbClr val="0000ff"/>
                </a:solidFill>
                <a:latin typeface="Arial Black"/>
              </a:rPr>
              <a:t>100</a:t>
            </a:r>
            <a:r>
              <a:rPr b="0" lang="uk-UA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uk-UA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6000" spc="-1" strike="noStrike">
                <a:solidFill>
                  <a:srgbClr val="ff0000"/>
                </a:solidFill>
                <a:latin typeface="Arial Black"/>
              </a:rPr>
              <a:t>200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(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0"/>
          <p:cNvSpPr/>
          <p:nvPr/>
        </p:nvSpPr>
        <p:spPr>
          <a:xfrm rot="16200000">
            <a:off x="3504960" y="2209680"/>
            <a:ext cx="457200" cy="1219320"/>
          </a:xfrm>
          <a:custGeom>
            <a:avLst/>
            <a:gdLst>
              <a:gd name="textAreaLeft" fmla="*/ 0 w 457200"/>
              <a:gd name="textAreaRight" fmla="*/ 320760 w 457200"/>
              <a:gd name="textAreaTop" fmla="*/ 144360 h 1219320"/>
              <a:gd name="textAreaBottom" fmla="*/ 10749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00ff00">
              <a:alpha val="50000"/>
            </a:srgbClr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1"/>
          <p:cNvSpPr/>
          <p:nvPr/>
        </p:nvSpPr>
        <p:spPr>
          <a:xfrm rot="16200000">
            <a:off x="4724280" y="2209680"/>
            <a:ext cx="457200" cy="1219320"/>
          </a:xfrm>
          <a:custGeom>
            <a:avLst/>
            <a:gdLst>
              <a:gd name="textAreaLeft" fmla="*/ 0 w 457200"/>
              <a:gd name="textAreaRight" fmla="*/ 320760 w 457200"/>
              <a:gd name="textAreaTop" fmla="*/ 145440 h 1219320"/>
              <a:gd name="textAreaBottom" fmla="*/ 10738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3399ff">
              <a:alpha val="50000"/>
            </a:srgbClr>
          </a:solidFill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"/>
          <p:cNvSpPr/>
          <p:nvPr/>
        </p:nvSpPr>
        <p:spPr>
          <a:xfrm flipV="1">
            <a:off x="1295280" y="2819520"/>
            <a:ext cx="2286000" cy="18288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3"/>
          <p:cNvSpPr/>
          <p:nvPr/>
        </p:nvSpPr>
        <p:spPr>
          <a:xfrm>
            <a:off x="4114800" y="2819520"/>
            <a:ext cx="914400" cy="1904760"/>
          </a:xfrm>
          <a:custGeom>
            <a:avLst/>
            <a:gdLst>
              <a:gd name="textAreaLeft" fmla="*/ 0 w 914400"/>
              <a:gd name="textAreaRight" fmla="*/ 914760 w 9144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768" h="1344">
                <a:moveTo>
                  <a:pt x="0" y="1344"/>
                </a:moveTo>
                <a:lnTo>
                  <a:pt x="555" y="766"/>
                </a:lnTo>
                <a:lnTo>
                  <a:pt x="768" y="0"/>
                </a:lnTo>
              </a:path>
            </a:pathLst>
          </a:custGeom>
          <a:noFill/>
          <a:ln w="57240">
            <a:solidFill>
              <a:srgbClr val="da1f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4"/>
          <p:cNvSpPr/>
          <p:nvPr/>
        </p:nvSpPr>
        <p:spPr>
          <a:xfrm rot="5320200">
            <a:off x="4152240" y="2093760"/>
            <a:ext cx="457200" cy="2514600"/>
          </a:xfrm>
          <a:custGeom>
            <a:avLst/>
            <a:gdLst>
              <a:gd name="textAreaLeft" fmla="*/ 0 w 457200"/>
              <a:gd name="textAreaRight" fmla="*/ 320760 w 457200"/>
              <a:gd name="textAreaTop" fmla="*/ 297720 h 2514600"/>
              <a:gd name="textAreaBottom" fmla="*/ 22168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5"/>
          <p:cNvSpPr/>
          <p:nvPr/>
        </p:nvSpPr>
        <p:spPr>
          <a:xfrm rot="5320200">
            <a:off x="4152240" y="2095200"/>
            <a:ext cx="457200" cy="2514600"/>
          </a:xfrm>
          <a:custGeom>
            <a:avLst/>
            <a:gdLst>
              <a:gd name="textAreaLeft" fmla="*/ 0 w 457200"/>
              <a:gd name="textAreaRight" fmla="*/ 320760 w 457200"/>
              <a:gd name="textAreaTop" fmla="*/ 297720 h 2514600"/>
              <a:gd name="textAreaBottom" fmla="*/ 22168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6"/>
          <p:cNvSpPr/>
          <p:nvPr/>
        </p:nvSpPr>
        <p:spPr>
          <a:xfrm rot="5320200">
            <a:off x="4152240" y="2095200"/>
            <a:ext cx="457200" cy="2514600"/>
          </a:xfrm>
          <a:custGeom>
            <a:avLst/>
            <a:gdLst>
              <a:gd name="textAreaLeft" fmla="*/ 0 w 457200"/>
              <a:gd name="textAreaRight" fmla="*/ 320760 w 457200"/>
              <a:gd name="textAreaTop" fmla="*/ 297720 h 2514600"/>
              <a:gd name="textAreaBottom" fmla="*/ 22168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7"/>
          <p:cNvSpPr/>
          <p:nvPr/>
        </p:nvSpPr>
        <p:spPr>
          <a:xfrm rot="5320200">
            <a:off x="4152240" y="2095200"/>
            <a:ext cx="457200" cy="2514600"/>
          </a:xfrm>
          <a:custGeom>
            <a:avLst/>
            <a:gdLst>
              <a:gd name="textAreaLeft" fmla="*/ 0 w 457200"/>
              <a:gd name="textAreaRight" fmla="*/ 320760 w 457200"/>
              <a:gd name="textAreaTop" fmla="*/ 297720 h 2514600"/>
              <a:gd name="textAreaBottom" fmla="*/ 22168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8"/>
          <p:cNvSpPr/>
          <p:nvPr/>
        </p:nvSpPr>
        <p:spPr>
          <a:xfrm rot="5320200">
            <a:off x="4152240" y="2095200"/>
            <a:ext cx="457200" cy="2514600"/>
          </a:xfrm>
          <a:custGeom>
            <a:avLst/>
            <a:gdLst>
              <a:gd name="textAreaLeft" fmla="*/ 0 w 457200"/>
              <a:gd name="textAreaRight" fmla="*/ 320760 w 457200"/>
              <a:gd name="textAreaTop" fmla="*/ 297720 h 2514600"/>
              <a:gd name="textAreaBottom" fmla="*/ 22168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9"/>
          <p:cNvSpPr/>
          <p:nvPr/>
        </p:nvSpPr>
        <p:spPr>
          <a:xfrm rot="5407200">
            <a:off x="4152240" y="2095200"/>
            <a:ext cx="457200" cy="2514600"/>
          </a:xfrm>
          <a:custGeom>
            <a:avLst/>
            <a:gdLst>
              <a:gd name="textAreaLeft" fmla="*/ 0 w 457200"/>
              <a:gd name="textAreaRight" fmla="*/ 320760 w 457200"/>
              <a:gd name="textAreaTop" fmla="*/ 297720 h 2514600"/>
              <a:gd name="textAreaBottom" fmla="*/ 22168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0"/>
          <p:cNvSpPr/>
          <p:nvPr/>
        </p:nvSpPr>
        <p:spPr>
          <a:xfrm>
            <a:off x="5334120" y="3505320"/>
            <a:ext cx="99036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1">
            <a:hlinkClick r:id="" action="ppaction://hlinkshowjump?jump=nextslide"/>
          </p:cNvPr>
          <p:cNvSpPr/>
          <p:nvPr/>
        </p:nvSpPr>
        <p:spPr>
          <a:xfrm>
            <a:off x="8381880" y="611964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23"/>
          <p:cNvSpPr/>
          <p:nvPr/>
        </p:nvSpPr>
        <p:spPr>
          <a:xfrm>
            <a:off x="4286160" y="2500200"/>
            <a:ext cx="23760" cy="10810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75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325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825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75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7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2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7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2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evt="end">
                                        <p:tn val="235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7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evt="end">
                                        <p:tn val="240"/>
                                      </p:cond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5"/>
                                      </p:cond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7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evt="end">
                                        <p:tn val="250"/>
                                      </p:cond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2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5"/>
                                      </p:cond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7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2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68A8-D211-4B9E-870E-A2364403DF5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"/>
          <p:cNvSpPr/>
          <p:nvPr/>
        </p:nvSpPr>
        <p:spPr>
          <a:xfrm>
            <a:off x="228600" y="3124080"/>
            <a:ext cx="85345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6781680" y="3124080"/>
            <a:ext cx="0" cy="381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"/>
          <p:cNvSpPr/>
          <p:nvPr/>
        </p:nvSpPr>
        <p:spPr>
          <a:xfrm>
            <a:off x="510552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"/>
          <p:cNvSpPr/>
          <p:nvPr/>
        </p:nvSpPr>
        <p:spPr>
          <a:xfrm>
            <a:off x="83808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4995360" y="190512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123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650520" y="190512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456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38160" y="3825720"/>
            <a:ext cx="9105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КАКОЕ 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ПРОИЗОШЛО  </a:t>
            </a:r>
            <a:r>
              <a:rPr b="0" lang="uk-UA" sz="4000" spc="-1" strike="noStrike" u="sng">
                <a:solidFill>
                  <a:srgbClr val="eb641b"/>
                </a:solidFill>
                <a:uFillTx/>
                <a:latin typeface="Arial Black"/>
              </a:rPr>
              <a:t>РАНЬШЕ</a:t>
            </a:r>
            <a:r>
              <a:rPr b="0" lang="uk-UA" sz="4000" spc="-1" strike="noStrike">
                <a:solidFill>
                  <a:srgbClr val="eb641b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>
            <a:hlinkClick r:id="" action="ppaction://hlinkshowjump?jump=nextslide"/>
          </p:cNvPr>
          <p:cNvSpPr/>
          <p:nvPr/>
        </p:nvSpPr>
        <p:spPr>
          <a:xfrm>
            <a:off x="8381880" y="611964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75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1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6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1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6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75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425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925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75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1717-0FBB-4021-ABF1-F9668F8C578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>
            <a:hlinkClick r:id="" action="ppaction://hlinkshowjump?jump=nextslide"/>
          </p:cNvPr>
          <p:cNvSpPr/>
          <p:nvPr/>
        </p:nvSpPr>
        <p:spPr>
          <a:xfrm>
            <a:off x="8381880" y="611964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0"/>
          <p:cNvSpPr/>
          <p:nvPr/>
        </p:nvSpPr>
        <p:spPr>
          <a:xfrm>
            <a:off x="1252440" y="3516480"/>
            <a:ext cx="661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ЭТО СОБЫТ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ОТОРОЕ НА «ЛИНИИ ВРЕМЕ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СПОЛОЖ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6600"/>
                </a:solidFill>
                <a:uFillTx/>
                <a:latin typeface="Arial Black"/>
              </a:rPr>
              <a:t>ЛЕВЕ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 ДАННОМ ПРИМЕРЕ – </a:t>
            </a:r>
            <a:r>
              <a:rPr b="1" lang="ru-RU" sz="2800" spc="-1" strike="noStrike">
                <a:solidFill>
                  <a:srgbClr val="009900"/>
                </a:solidFill>
                <a:latin typeface="Arial Black"/>
              </a:rPr>
              <a:t>456 г. до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"/>
          <p:cNvSpPr/>
          <p:nvPr/>
        </p:nvSpPr>
        <p:spPr>
          <a:xfrm>
            <a:off x="228600" y="3124080"/>
            <a:ext cx="85345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"/>
          <p:cNvSpPr/>
          <p:nvPr/>
        </p:nvSpPr>
        <p:spPr>
          <a:xfrm>
            <a:off x="6781680" y="3124080"/>
            <a:ext cx="0" cy="381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510552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"/>
          <p:cNvSpPr/>
          <p:nvPr/>
        </p:nvSpPr>
        <p:spPr>
          <a:xfrm>
            <a:off x="83808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4995360" y="190512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123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650520" y="190512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456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75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325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825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75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4A13-8DF5-4994-8DDF-614B573896D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"/>
          <p:cNvSpPr/>
          <p:nvPr/>
        </p:nvSpPr>
        <p:spPr>
          <a:xfrm>
            <a:off x="228600" y="3124080"/>
            <a:ext cx="85345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6781680" y="3124080"/>
            <a:ext cx="0" cy="381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"/>
          <p:cNvSpPr/>
          <p:nvPr/>
        </p:nvSpPr>
        <p:spPr>
          <a:xfrm>
            <a:off x="83808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650520" y="191628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456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"/>
          <p:cNvSpPr/>
          <p:nvPr/>
        </p:nvSpPr>
        <p:spPr>
          <a:xfrm>
            <a:off x="510552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4995360" y="191628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123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0" y="3809880"/>
            <a:ext cx="91058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СКОЛЬКО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ПРОШЛО</a:t>
            </a:r>
            <a:r>
              <a:rPr b="0" lang="uk-UA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4800" spc="-1" strike="noStrike" u="sng">
                <a:solidFill>
                  <a:srgbClr val="cc6600"/>
                </a:solidFill>
                <a:uFillTx/>
                <a:latin typeface="Arial Black"/>
              </a:rPr>
              <a:t>МЕЖ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СОБЫТИЯМИ, КОТОРЫЕ ПРОИЗОШЛИ </a:t>
            </a:r>
            <a:r>
              <a:rPr b="0" lang="uk-UA" sz="3600" spc="-1" strike="noStrike">
                <a:solidFill>
                  <a:srgbClr val="009900"/>
                </a:solidFill>
                <a:latin typeface="Arial Black"/>
              </a:rPr>
              <a:t>ДО Н.Э.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0">
            <a:hlinkClick r:id="" action="ppaction://hlinkshowjump?jump=nextslide"/>
          </p:cNvPr>
          <p:cNvSpPr/>
          <p:nvPr/>
        </p:nvSpPr>
        <p:spPr>
          <a:xfrm>
            <a:off x="8381880" y="611964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75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5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5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5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55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75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375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875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75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DA8F-5510-4F89-A6EE-A877DEA63D1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"/>
          <p:cNvSpPr/>
          <p:nvPr/>
        </p:nvSpPr>
        <p:spPr>
          <a:xfrm>
            <a:off x="228600" y="3124080"/>
            <a:ext cx="85345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"/>
          <p:cNvSpPr/>
          <p:nvPr/>
        </p:nvSpPr>
        <p:spPr>
          <a:xfrm>
            <a:off x="6781680" y="3124080"/>
            <a:ext cx="0" cy="381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"/>
          <p:cNvSpPr/>
          <p:nvPr/>
        </p:nvSpPr>
        <p:spPr>
          <a:xfrm>
            <a:off x="83808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664920" y="190512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456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502920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4919400" y="190512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123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9"/>
          <p:cNvSpPr/>
          <p:nvPr/>
        </p:nvSpPr>
        <p:spPr>
          <a:xfrm rot="5397000">
            <a:off x="3060720" y="966600"/>
            <a:ext cx="1454040" cy="5905440"/>
          </a:xfrm>
          <a:custGeom>
            <a:avLst/>
            <a:gdLst>
              <a:gd name="textAreaLeft" fmla="*/ 0 w 1454040"/>
              <a:gd name="textAreaRight" fmla="*/ 1019880 w 1454040"/>
              <a:gd name="textAreaTop" fmla="*/ 705600 h 5905440"/>
              <a:gd name="textAreaBottom" fmla="*/ 5199840 h 590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1435320" y="4761000"/>
            <a:ext cx="18676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Arial Black"/>
              </a:rPr>
              <a:t>456</a:t>
            </a: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/>
          <p:cNvSpPr/>
          <p:nvPr/>
        </p:nvSpPr>
        <p:spPr>
          <a:xfrm rot="5400000">
            <a:off x="5562360" y="2666880"/>
            <a:ext cx="609480" cy="1676520"/>
          </a:xfrm>
          <a:custGeom>
            <a:avLst/>
            <a:gdLst>
              <a:gd name="textAreaLeft" fmla="*/ 0 w 609480"/>
              <a:gd name="textAreaRight" fmla="*/ 427680 w 609480"/>
              <a:gd name="textAreaTop" fmla="*/ 200160 h 1676520"/>
              <a:gd name="textAreaBottom" fmla="*/ 14763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00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3263040" y="439416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3854520" y="4761000"/>
            <a:ext cx="18252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9900"/>
                </a:solidFill>
                <a:latin typeface="Arial Black"/>
              </a:rPr>
              <a:t>12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6220080" y="4748040"/>
            <a:ext cx="1748880" cy="119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0000"/>
                </a:solidFill>
                <a:latin typeface="Arial Black"/>
              </a:rPr>
              <a:t>33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5"/>
          <p:cNvSpPr/>
          <p:nvPr/>
        </p:nvSpPr>
        <p:spPr>
          <a:xfrm rot="5397000">
            <a:off x="2435760" y="1597680"/>
            <a:ext cx="916200" cy="4114800"/>
          </a:xfrm>
          <a:custGeom>
            <a:avLst/>
            <a:gdLst>
              <a:gd name="textAreaLeft" fmla="*/ 0 w 916200"/>
              <a:gd name="textAreaRight" fmla="*/ 642600 w 916200"/>
              <a:gd name="textAreaTop" fmla="*/ 491760 h 4114800"/>
              <a:gd name="textAreaBottom" fmla="*/ 36230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6"/>
          <p:cNvSpPr/>
          <p:nvPr/>
        </p:nvSpPr>
        <p:spPr>
          <a:xfrm rot="5397000">
            <a:off x="2437560" y="1600560"/>
            <a:ext cx="915840" cy="4114800"/>
          </a:xfrm>
          <a:custGeom>
            <a:avLst/>
            <a:gdLst>
              <a:gd name="textAreaLeft" fmla="*/ 0 w 915840"/>
              <a:gd name="textAreaRight" fmla="*/ 642600 w 915840"/>
              <a:gd name="textAreaTop" fmla="*/ 491760 h 4114800"/>
              <a:gd name="textAreaBottom" fmla="*/ 36230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7"/>
          <p:cNvSpPr/>
          <p:nvPr/>
        </p:nvSpPr>
        <p:spPr>
          <a:xfrm rot="5397000">
            <a:off x="2437560" y="1600560"/>
            <a:ext cx="915840" cy="4114800"/>
          </a:xfrm>
          <a:custGeom>
            <a:avLst/>
            <a:gdLst>
              <a:gd name="textAreaLeft" fmla="*/ 0 w 915840"/>
              <a:gd name="textAreaRight" fmla="*/ 642600 w 915840"/>
              <a:gd name="textAreaTop" fmla="*/ 491760 h 4114800"/>
              <a:gd name="textAreaBottom" fmla="*/ 36230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8"/>
          <p:cNvSpPr/>
          <p:nvPr/>
        </p:nvSpPr>
        <p:spPr>
          <a:xfrm rot="5397000">
            <a:off x="2437560" y="1600560"/>
            <a:ext cx="915840" cy="4114800"/>
          </a:xfrm>
          <a:custGeom>
            <a:avLst/>
            <a:gdLst>
              <a:gd name="textAreaLeft" fmla="*/ 0 w 915840"/>
              <a:gd name="textAreaRight" fmla="*/ 642600 w 915840"/>
              <a:gd name="textAreaTop" fmla="*/ 491760 h 4114800"/>
              <a:gd name="textAreaBottom" fmla="*/ 36230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9"/>
          <p:cNvSpPr/>
          <p:nvPr/>
        </p:nvSpPr>
        <p:spPr>
          <a:xfrm rot="5397000">
            <a:off x="2437560" y="1600560"/>
            <a:ext cx="915840" cy="4114800"/>
          </a:xfrm>
          <a:custGeom>
            <a:avLst/>
            <a:gdLst>
              <a:gd name="textAreaLeft" fmla="*/ 0 w 915840"/>
              <a:gd name="textAreaRight" fmla="*/ 642600 w 915840"/>
              <a:gd name="textAreaTop" fmla="*/ 491760 h 4114800"/>
              <a:gd name="textAreaBottom" fmla="*/ 36230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20"/>
          <p:cNvSpPr/>
          <p:nvPr/>
        </p:nvSpPr>
        <p:spPr>
          <a:xfrm rot="5397000">
            <a:off x="2323800" y="1712880"/>
            <a:ext cx="1143000" cy="4114800"/>
          </a:xfrm>
          <a:custGeom>
            <a:avLst/>
            <a:gdLst>
              <a:gd name="textAreaLeft" fmla="*/ 0 w 1143000"/>
              <a:gd name="textAreaRight" fmla="*/ 801720 w 1143000"/>
              <a:gd name="textAreaTop" fmla="*/ 491760 h 4114800"/>
              <a:gd name="textAreaBottom" fmla="*/ 36230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5729760" y="49593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 Black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3">
            <a:hlinkClick r:id="" action="ppaction://hlinkshowjump?jump=firstslide"/>
          </p:cNvPr>
          <p:cNvSpPr/>
          <p:nvPr/>
        </p:nvSpPr>
        <p:spPr>
          <a:xfrm flipH="1">
            <a:off x="8349480" y="6093000"/>
            <a:ext cx="685800" cy="66168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1680"/>
              <a:gd name="textAreaBottom" fmla="*/ 618840 h 661680"/>
            </a:gdLst>
            <a:ahLst/>
            <a:rect l="textAreaLeft" t="textAreaTop" r="textAreaRight" b="textAreaBottom"/>
            <a:pathLst>
              <a:path w="22387" h="21600">
                <a:moveTo>
                  <a:pt x="0" y="0"/>
                </a:moveTo>
                <a:lnTo>
                  <a:pt x="22387" y="0"/>
                </a:lnTo>
                <a:lnTo>
                  <a:pt x="22387" y="21600"/>
                </a:lnTo>
                <a:lnTo>
                  <a:pt x="0" y="21600"/>
                </a:lnTo>
                <a:close/>
              </a:path>
              <a:path fill="lightenLess" w="22387" h="21600">
                <a:moveTo>
                  <a:pt x="0" y="0"/>
                </a:moveTo>
                <a:lnTo>
                  <a:pt x="22387" y="0"/>
                </a:lnTo>
                <a:lnTo>
                  <a:pt x="20987" y="1400"/>
                </a:lnTo>
                <a:lnTo>
                  <a:pt x="1400" y="1400"/>
                </a:lnTo>
                <a:close/>
              </a:path>
              <a:path fill="darken" w="22387" h="21600">
                <a:moveTo>
                  <a:pt x="22387" y="0"/>
                </a:moveTo>
                <a:lnTo>
                  <a:pt x="22387" y="21600"/>
                </a:lnTo>
                <a:lnTo>
                  <a:pt x="20987" y="20200"/>
                </a:lnTo>
                <a:lnTo>
                  <a:pt x="20987" y="1400"/>
                </a:lnTo>
                <a:close/>
              </a:path>
              <a:path fill="darkenLess" w="22387" h="21600">
                <a:moveTo>
                  <a:pt x="22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87" y="20200"/>
                </a:lnTo>
                <a:close/>
              </a:path>
              <a:path fill="lighten" w="22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87" h="21600">
                <a:moveTo>
                  <a:pt x="4187" y="3794"/>
                </a:moveTo>
                <a:lnTo>
                  <a:pt x="18200" y="10800"/>
                </a:lnTo>
                <a:lnTo>
                  <a:pt x="4187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75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325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825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75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65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215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75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3375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3875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6375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7875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8375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9875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3375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evt="end">
                                        <p:tn val="437"/>
                                      </p:cond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875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evt="end">
                                        <p:tn val="442"/>
                                      </p:cond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6375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0" dur="1" fill="hold">
                                    <p:stCondLst>
                                      <p:cond evt="end">
                                        <p:tn val="447"/>
                                      </p:cond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7875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2"/>
                                      </p:cond>
                                    </p:stCondLst>
                                  </p:cTn>
                                  <p:tgtEl>
                                    <p:spTgt spid="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9375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285480" y="152388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дней в году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к – это сколько лет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ысячелетие – это сколько веков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ысячелетие – это сколько лет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каком веке мы живем? Какой век будет следующим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ой год был последним в ХХ веке? В каком году начался ХХ1 век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 какому веку относятся: 998 г., 1941 г., 1242 г., 356 г.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6" descr="ag00317_"/>
          <p:cNvPicPr/>
          <p:nvPr/>
        </p:nvPicPr>
        <p:blipFill>
          <a:blip r:embed="rId2"/>
          <a:stretch/>
        </p:blipFill>
        <p:spPr>
          <a:xfrm>
            <a:off x="6643800" y="201600"/>
            <a:ext cx="17906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меть на ленте времени и сосчитай, сколько лет разделяет дату основания Рима (753 г до н.э) и год вашего рождения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меть на ленте времени и сосчитай, сколько лет прошло от постройки пирамиды Хеопса (2600 г до н.э) до принятия Конституции РФ (1993 г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ой год был раньше и на сколько раньше – 65 г до н.э или 40 г н.э. Объясните как вы это сосчитали.               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2" name="Заголовок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93" name="Прямая со стрелкой 4"/>
          <p:cNvCxnSpPr/>
          <p:nvPr/>
        </p:nvCxnSpPr>
        <p:spPr>
          <a:xfrm>
            <a:off x="642600" y="500040"/>
            <a:ext cx="743004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4" name="Прямая соединительная линия 6"/>
          <p:cNvSpPr/>
          <p:nvPr/>
        </p:nvSpPr>
        <p:spPr>
          <a:xfrm flipH="1">
            <a:off x="4572000" y="214200"/>
            <a:ext cx="1440" cy="714600"/>
          </a:xfrm>
          <a:prstGeom prst="line">
            <a:avLst/>
          </a:prstGeom>
          <a:ln w="442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ие практические потребности заставили человека древности заняться составлением календаря?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прошло лет с первого года нашей эры до сегодняшнего дня? Сколько это составляет полных веков? Тысячелетий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вое упоминание о Москве было в 1147 году. В каком  веке, тысячелетии это произошло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2143080"/>
            <a:ext cx="82296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читать с. 28-30.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Размести на ленте времени даты рождения : свою, родителей, бабушек и дедушек. Сосчитай, сколько лет прошло от рождения самого старшего члена вашей семьи до твоего рожд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ир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и</a:t>
            </a: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стоя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и</a:t>
            </a: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ричстоеский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и</a:t>
            </a: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сникточ</a:t>
            </a: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ол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рхеогия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ногра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э</a:t>
            </a: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тфия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54064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ag00317_"/>
          <p:cNvPicPr/>
          <p:nvPr/>
        </p:nvPicPr>
        <p:blipFill>
          <a:blip r:embed="rId2"/>
          <a:stretch/>
        </p:blipFill>
        <p:spPr>
          <a:xfrm>
            <a:off x="6429240" y="4071960"/>
            <a:ext cx="15717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Какие новые занятия появились у древних людей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Из чего делали посуду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Из чего изготавливали ткань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Какое значение имело появление  этих новых занятий для людей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. Сутки – период обращения Земли вокруг своей оси; сутки делятся на 24 часа, час – на 60 минут, минута – на 60 секунд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2. Год – период обращения Земли вокруг Солнца, равный 365,2422 суткам (тропический год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3. Век – промежуток времени в 100 лет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4. Тысячелетие охватывает 10 веков – 1 000 лет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azteki kal"/>
          <p:cNvPicPr/>
          <p:nvPr/>
        </p:nvPicPr>
        <p:blipFill>
          <a:blip r:embed="rId1"/>
          <a:stretch/>
        </p:blipFill>
        <p:spPr>
          <a:xfrm>
            <a:off x="2538360" y="1744560"/>
            <a:ext cx="4067280" cy="40006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381" name="Заголовок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5235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ДАВАЙТ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ГРАФИЧЕС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ЕДСТАВИМ «ДВИЖЕНИЕ» ВРЕМЕН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УСТЬ ЛИНИЯ  СО СТРЕЛКО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БЕРЁТ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ВОЁ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НАЧАЛО СЛЕВ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Line 2"/>
          <p:cNvSpPr/>
          <p:nvPr/>
        </p:nvSpPr>
        <p:spPr>
          <a:xfrm flipV="1">
            <a:off x="642960" y="4785840"/>
            <a:ext cx="8072280" cy="716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1571760" y="5429160"/>
            <a:ext cx="60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uk-UA" sz="2800" spc="-1" strike="noStrike">
                <a:solidFill>
                  <a:srgbClr val="ffffff"/>
                </a:solidFill>
                <a:latin typeface="Arial Black"/>
              </a:rPr>
              <a:t>ЛИНИЯ ВРЕМЕН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343B-2FDB-4FFD-BEEE-AB908A6003E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"/>
          <p:cNvSpPr/>
          <p:nvPr/>
        </p:nvSpPr>
        <p:spPr>
          <a:xfrm rot="16200000">
            <a:off x="6362640" y="1638000"/>
            <a:ext cx="762120" cy="4800600"/>
          </a:xfrm>
          <a:custGeom>
            <a:avLst/>
            <a:gdLst>
              <a:gd name="textAreaLeft" fmla="*/ 0 w 762120"/>
              <a:gd name="textAreaRight" fmla="*/ 534600 w 762120"/>
              <a:gd name="textAreaTop" fmla="*/ 573480 h 4800600"/>
              <a:gd name="textAreaBottom" fmla="*/ 422712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66ffff">
              <a:alpha val="50000"/>
            </a:srgbClr>
          </a:solidFill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357200" y="380880"/>
            <a:ext cx="6643800" cy="2895840"/>
          </a:xfrm>
          <a:prstGeom prst="wedgeEllipseCallout">
            <a:avLst>
              <a:gd name="adj1" fmla="val -4166"/>
              <a:gd name="adj2" fmla="val 91282"/>
            </a:avLst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ДА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РО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4343400" y="44956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3200400" y="4800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/>
          <p:cNvSpPr/>
          <p:nvPr/>
        </p:nvSpPr>
        <p:spPr>
          <a:xfrm rot="16200000">
            <a:off x="1771560" y="1885680"/>
            <a:ext cx="762120" cy="4305240"/>
          </a:xfrm>
          <a:custGeom>
            <a:avLst/>
            <a:gdLst>
              <a:gd name="textAreaLeft" fmla="*/ 0 w 762120"/>
              <a:gd name="textAreaRight" fmla="*/ 534600 w 762120"/>
              <a:gd name="textAreaTop" fmla="*/ 514440 h 4305240"/>
              <a:gd name="textAreaBottom" fmla="*/ 3790800 h 430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ccffcc">
              <a:alpha val="50000"/>
            </a:srgbClr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">
            <a:hlinkClick r:id="" action="ppaction://hlinkshowjump?jump=nextslide"/>
          </p:cNvPr>
          <p:cNvSpPr/>
          <p:nvPr/>
        </p:nvSpPr>
        <p:spPr>
          <a:xfrm>
            <a:off x="8381880" y="611964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75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C355-781F-46EF-B602-7B7926F9DAD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"/>
          <p:cNvSpPr/>
          <p:nvPr/>
        </p:nvSpPr>
        <p:spPr>
          <a:xfrm flipV="1">
            <a:off x="0" y="4359240"/>
            <a:ext cx="8964720" cy="648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1285920" y="549360"/>
            <a:ext cx="7215120" cy="2590560"/>
          </a:xfrm>
          <a:prstGeom prst="wedgeEllipseCallout">
            <a:avLst>
              <a:gd name="adj1" fmla="val -4166"/>
              <a:gd name="adj2" fmla="val 96138"/>
            </a:avLst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4572000" y="435924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684360" y="5237280"/>
            <a:ext cx="7643520" cy="1312920"/>
          </a:xfrm>
          <a:prstGeom prst="rect">
            <a:avLst/>
          </a:prstGeom>
          <a:solidFill>
            <a:srgbClr val="ccffcc">
              <a:alpha val="50000"/>
            </a:srgbClr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ДО РОЖДЕНИЯ ХР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9">
            <a:hlinkClick r:id="" action="ppaction://hlinkshowjump?jump=nextslide"/>
          </p:cNvPr>
          <p:cNvSpPr/>
          <p:nvPr/>
        </p:nvSpPr>
        <p:spPr>
          <a:xfrm>
            <a:off x="8686800" y="63244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0"/>
          <p:cNvSpPr/>
          <p:nvPr/>
        </p:nvSpPr>
        <p:spPr>
          <a:xfrm>
            <a:off x="2419200" y="700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 Black"/>
              </a:rPr>
              <a:t>ДА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 Black"/>
              </a:rPr>
              <a:t>РО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 Black"/>
              </a:rPr>
              <a:t>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 rot="16200000">
            <a:off x="1869480" y="1651680"/>
            <a:ext cx="761760" cy="4500720"/>
          </a:xfrm>
          <a:custGeom>
            <a:avLst/>
            <a:gdLst>
              <a:gd name="textAreaLeft" fmla="*/ 0 w 761760"/>
              <a:gd name="textAreaRight" fmla="*/ 534240 w 761760"/>
              <a:gd name="textAreaTop" fmla="*/ 348120 h 4500720"/>
              <a:gd name="textAreaBottom" fmla="*/ 415260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671"/>
                  <a:pt x="21600" y="3342"/>
                </a:cubicBezTo>
                <a:lnTo>
                  <a:pt x="21600" y="18258"/>
                </a:lnTo>
                <a:cubicBezTo>
                  <a:pt x="21600" y="19929"/>
                  <a:pt x="10800" y="21600"/>
                  <a:pt x="0" y="21600"/>
                </a:cubicBezTo>
              </a:path>
            </a:pathLst>
          </a:custGeom>
          <a:solidFill>
            <a:srgbClr val="ccffcc">
              <a:alpha val="50000"/>
            </a:srgbClr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8"/>
          <p:cNvSpPr/>
          <p:nvPr/>
        </p:nvSpPr>
        <p:spPr>
          <a:xfrm flipV="1">
            <a:off x="1332000" y="3749400"/>
            <a:ext cx="0" cy="2057400"/>
          </a:xfrm>
          <a:prstGeom prst="line">
            <a:avLst/>
          </a:prstGeom>
          <a:ln w="101520">
            <a:solidFill>
              <a:srgbClr val="00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4F05-AA23-4BA0-B6E6-83F2B1AB08F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"/>
          <p:cNvSpPr/>
          <p:nvPr/>
        </p:nvSpPr>
        <p:spPr>
          <a:xfrm rot="16200000">
            <a:off x="6362640" y="1638000"/>
            <a:ext cx="762120" cy="4800600"/>
          </a:xfrm>
          <a:custGeom>
            <a:avLst/>
            <a:gdLst>
              <a:gd name="textAreaLeft" fmla="*/ 0 w 762120"/>
              <a:gd name="textAreaRight" fmla="*/ 534600 w 762120"/>
              <a:gd name="textAreaTop" fmla="*/ 573480 h 4800600"/>
              <a:gd name="textAreaBottom" fmla="*/ 422712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66ffff">
              <a:alpha val="50000"/>
            </a:srgbClr>
          </a:solidFill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>
            <a:off x="304920" y="4495680"/>
            <a:ext cx="838188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1600200" y="685800"/>
            <a:ext cx="6019920" cy="2590920"/>
          </a:xfrm>
          <a:prstGeom prst="wedgeEllipseCallout">
            <a:avLst>
              <a:gd name="adj1" fmla="val -4166"/>
              <a:gd name="adj2" fmla="val 96138"/>
            </a:avLst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ДА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РО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"/>
          <p:cNvSpPr/>
          <p:nvPr/>
        </p:nvSpPr>
        <p:spPr>
          <a:xfrm>
            <a:off x="4343400" y="44956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657600" y="48006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324000" y="5229360"/>
            <a:ext cx="8229600" cy="1312920"/>
          </a:xfrm>
          <a:prstGeom prst="rect">
            <a:avLst/>
          </a:prstGeom>
          <a:solidFill>
            <a:srgbClr val="66ffff">
              <a:alpha val="50000"/>
            </a:srgbClr>
          </a:solidFill>
          <a:ln w="7632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ff"/>
                </a:solidFill>
                <a:latin typeface="Arial Black"/>
              </a:rPr>
              <a:t>ВРЕМЯ ПОС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ff"/>
                </a:solidFill>
                <a:latin typeface="Arial Black"/>
              </a:rPr>
              <a:t>РОЖДЕНИЯ ХР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 flipV="1">
            <a:off x="7596360" y="3931920"/>
            <a:ext cx="0" cy="2521080"/>
          </a:xfrm>
          <a:prstGeom prst="line">
            <a:avLst/>
          </a:prstGeom>
          <a:ln w="101520">
            <a:solidFill>
              <a:srgbClr val="da1f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9">
            <a:hlinkClick r:id="" action="ppaction://hlinkshowjump?jump=nextslide"/>
          </p:cNvPr>
          <p:cNvSpPr/>
          <p:nvPr/>
        </p:nvSpPr>
        <p:spPr>
          <a:xfrm>
            <a:off x="8686800" y="64008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75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6:36:16Z</dcterms:created>
  <dc:creator>Надежда</dc:creator>
  <dc:description/>
  <dc:language>en-US</dc:language>
  <cp:lastModifiedBy>MSI</cp:lastModifiedBy>
  <dcterms:modified xsi:type="dcterms:W3CDTF">2011-09-26T16:19:53Z</dcterms:modified>
  <cp:revision>33</cp:revision>
  <dc:subject/>
  <dc:title>Счет лет в истории</dc:title>
</cp:coreProperties>
</file>