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3CE-DF63-48DB-9A96-CBBC77BA9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C9C-359E-40F0-8B30-C885E5728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01B-4A57-4324-9965-3A501914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4BD-78DB-4AD3-BF22-F4D6E11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3E0-4FA5-46B4-81C2-670639CE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C8D-FB0E-4241-81A8-C9CCA007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716-A734-4441-BECA-A7B2C98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6E7-E55A-4AC1-9A25-BCE6E63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A9D-D6FF-4FA5-B0CB-0064FC4B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7B9-0C80-4974-8760-359DD6D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FF6-7D05-40A6-AC15-3322F02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085-05FC-406D-A478-1AB38B1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859-A3F4-4C60-AE33-837CD8D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9DC-37BD-4405-B469-75FD049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030-FF6C-4E5D-9544-CDDE65A00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1428840"/>
            <a:ext cx="69152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игнальная ракета, трассирующие патроны, дымовые шашки все эти средства имеют отношен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К подручным сред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К средствам самооборо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К табельным (специальным) сред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К универсальным средст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Около полуночи  по местному времени полная луна находитьс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71480" y="2571480"/>
            <a:ext cx="61578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На ю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а севе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На запад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На вост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обозначает данный сигнал бедствия? </a:t>
            </a:r>
            <a:br>
              <a:rPr sz="4000"/>
            </a:b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9720" y="2500200"/>
            <a:ext cx="7186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)  Нужны компас и карт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)  Здесь возможна посад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)  Нужны пища и вод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)  Нужны медикамен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обозначает данный сигнал бедствия?</a:t>
            </a: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5520" y="2785680"/>
            <a:ext cx="7900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Все в поряд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ужны компас и кар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Укажите направление движ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Нужны медикам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Что обозначает данный сигнал бедствия?</a:t>
            </a: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K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3880" y="2999880"/>
            <a:ext cx="82155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Пытаемся взлете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Здесь возможна посад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Укажите направление след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Нужен вр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В солнечный полдень тень от предмета указывает направление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3080" y="2571840"/>
            <a:ext cx="42148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На ю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На зап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 На 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По каким местным приметам нельзя определить  стороны св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99760" y="2303280"/>
            <a:ext cx="8186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тволам и коре деревь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Лишайнику и мх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устарнику и сухой тра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Муравейни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Азимут – это угол между направлением на север и какой либо предмет на местности. Сколько примерно градусов составляет азимут в направлении деревни Марен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99840" y="4357440"/>
            <a:ext cx="40719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  О граду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  90 градус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  180 градус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  270 граду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Какая звезда указывает направление на север в ночном небе северного полушар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28920" y="2714760"/>
            <a:ext cx="58579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ириу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Альтаи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Поляр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Созвездие Водол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Могут ли помочь при ориентировании на местности  такие объекты как церкви и кладбищ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3920" y="2999880"/>
            <a:ext cx="74725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Могут только церкв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Могут только кладб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Могут оба названных объ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Могут помочь только крещенным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40:09Z</dcterms:created>
  <dc:creator>Admin</dc:creator>
  <dc:description/>
  <dc:language>en-US</dc:language>
  <cp:lastModifiedBy>Admin</cp:lastModifiedBy>
  <dcterms:modified xsi:type="dcterms:W3CDTF">2012-01-16T18:21:30Z</dcterms:modified>
  <cp:revision>10</cp:revision>
  <dc:subject/>
  <dc:title>КАРТОЧКА № 6.</dc:title>
</cp:coreProperties>
</file>