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F620-CD4A-4462-BBEE-95866DD3AA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0852-9EF1-420C-B1B7-9BCFF7717A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238-00EE-4A58-A946-AA186A4C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BDF-7FC4-40AC-88E8-3495DC8E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38E-497A-4272-81F3-9A618072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CAE-67B9-4809-BB08-95F4DCA5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872-C757-4169-B5AA-1F645FE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FBD-2215-4BDF-9AB1-51ED0C9A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4E1-4A91-4669-97A3-D7308D6B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EA1-3340-47FB-84D6-96112636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D8F-86F9-4B9E-8E68-2DB1B257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498-DEE1-4FF4-A60B-3D5DCDDA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DA5-749F-48FF-A552-6129404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AA2-2CB1-4BD5-8CFC-58008D5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B606-AE8C-4CEB-B7AE-AA0EBC267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ОЧКА №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1428840"/>
            <a:ext cx="69152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игнальная ракета, трассирующие патроны, дымовые шашки все эти средства имеют отношен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)  К подручным средств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Б)  К средствам самооборо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)  К табельным (специальным) средств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)  К универсальным средст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Около полуночи  по местному времени полная луна находиться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71480" y="2571480"/>
            <a:ext cx="61578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На ю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На севе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На запад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На вост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Что обозначает данный сигнал бедствия? </a:t>
            </a:r>
            <a:br>
              <a:rPr sz="4000"/>
            </a:b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40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9720" y="2500200"/>
            <a:ext cx="71866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)  Нужны компас и карт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)  Здесь возможна посадк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)  Нужны пища и вод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)  Нужны медикамен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Что обозначает данный сигнал бедствия?</a:t>
            </a:r>
            <a:br>
              <a:rPr sz="4000"/>
            </a:b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85520" y="2785680"/>
            <a:ext cx="79009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Все в поряд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Нужны компас и кар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Укажите направление движ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Нужны медикам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Что обозначает данный сигнал бедствия?</a:t>
            </a:r>
            <a:br>
              <a:rPr sz="4000"/>
            </a:b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K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3880" y="2999880"/>
            <a:ext cx="821556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Пытаемся взлете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Здесь возможна посад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Укажите направление следо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Нужен вр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В солнечный полдень тень от предмета указывает направление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3080" y="2571840"/>
            <a:ext cx="42148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 На сев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 На ю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 На запа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 На вос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По каким местным приметам нельзя определить  стороны све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99760" y="2303280"/>
            <a:ext cx="8186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Стволам и коре деревье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Лишайнику и мх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Кустарнику и сухой тра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Муравейник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Азимут – это угол между направлением на север и какой либо предмет на местности. Сколько примерно градусов составляет азимут в направлении деревни Маренн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99840" y="4357440"/>
            <a:ext cx="40719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  О градус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  90 градус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  180 градус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  270 градус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Какая звезда указывает направление на север в ночном небе северного полушар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28920" y="2714760"/>
            <a:ext cx="585792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Сириу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Альтаи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Полярн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Созвездие Водоле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Могут ли помочь при ориентировании на местности  такие объекты как церкви и кладбищ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3920" y="2999880"/>
            <a:ext cx="747252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Могут только церкв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Могут только кладб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Могут оба названных объек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Могут помочь только крещенным люд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40:09Z</dcterms:created>
  <dc:creator>Admin</dc:creator>
  <dc:description/>
  <dc:language>en-US</dc:language>
  <cp:lastModifiedBy>Admin</cp:lastModifiedBy>
  <dcterms:modified xsi:type="dcterms:W3CDTF">2012-01-16T18:21:30Z</dcterms:modified>
  <cp:revision>10</cp:revision>
  <dc:subject/>
  <dc:title>КАРТОЧКА № 6.</dc:title>
</cp:coreProperties>
</file>