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9AA-644F-423C-A4B6-C61890A7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BDB-1A35-4EE8-9FC1-FF736B11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DB4-947E-45EF-80F0-734C30C1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B90-175D-4C0B-923A-600267FB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E6B-2C92-4D41-9C23-D617E23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494-C9EB-45EE-AC4B-0FD0BBDD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CF6-DA50-4041-93AC-556DACF0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C40-4845-4AF2-BCA4-40589704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82B-D527-463D-B6C9-E1735196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A53-DC43-4634-9050-57F0223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458-BFBF-45C7-B2D6-2735B69A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1AC-5ADF-411F-BB54-26369869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0415-B204-447F-8697-2DE76E1BF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40373.jpg"/>
          <p:cNvPicPr/>
          <p:nvPr/>
        </p:nvPicPr>
        <p:blipFill>
          <a:blip r:embed="rId1"/>
          <a:stretch/>
        </p:blipFill>
        <p:spPr>
          <a:xfrm>
            <a:off x="3929040" y="4902120"/>
            <a:ext cx="1558800" cy="159876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684360" y="1341360"/>
            <a:ext cx="7775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кусственны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нтеллек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iz_k.f._prikliucheniya_elektronika_-_do_chego_doshel_progress.mp3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65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elektrostroy.com/wp-content/uploads/2009/12/img4b2858ec9064c.jpg"/>
          <p:cNvPicPr/>
          <p:nvPr/>
        </p:nvPicPr>
        <p:blipFill>
          <a:blip r:embed="rId1"/>
          <a:stretch/>
        </p:blipFill>
        <p:spPr>
          <a:xfrm>
            <a:off x="357120" y="928800"/>
            <a:ext cx="6375600" cy="4786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929280" y="428760"/>
            <a:ext cx="192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ые боты гарантируют дистанционные осмотры и консультации, заботятся за больными и позволяют медицинским работникам заглядывать в труднодоступные участки тела больного и точно осуществлять тончайшие вмеш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http://elektrostroy.com/wp-content/uploads/2009/12/img4b2858ed8f65a.jpg"/>
          <p:cNvPicPr/>
          <p:nvPr/>
        </p:nvPicPr>
        <p:blipFill>
          <a:blip r:embed="rId1"/>
          <a:stretch/>
        </p:blipFill>
        <p:spPr>
          <a:xfrm>
            <a:off x="4643280" y="3500280"/>
            <a:ext cx="4286520" cy="3218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http://elektrostroy.com/wp-content/uploads/2009/12/img4b2858ee066cf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218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4643280" y="0"/>
            <a:ext cx="450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ная итальянскими ученым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авающая капсула с на каме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на для изыскания пищеварительной системы. Ее использование не навевает больному дискомфорта, который неминуем при эндоскопии. Кроме того, при помощи капсулы можно осмотреть желудочно-кишечный тракт на всем протяжении, что неприступно передовым эндоскопическим методолог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42920" y="3357720"/>
            <a:ext cx="4286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ругая итальянская исследование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мособирающийся робот ARE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Assembling Reconfigurable Endoluminal Surgical System, Самособирающаяся эндолюминальная хирургическая система с изменяемой конфигурацией) для проведения операций в отсутствии разреза кожных покровов. Проглоченные больным отдельные высокофункциональные блоки снутри организма намериваются в контролируемый модуль, при помощи которого ведется хирургическое вмешатель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5" descr="http://elektrostroy.com/wp-content/uploads/2009/12/img4b2858ee72d0c.jpg"/>
          <p:cNvPicPr/>
          <p:nvPr/>
        </p:nvPicPr>
        <p:blipFill>
          <a:blip r:embed="rId1"/>
          <a:stretch/>
        </p:blipFill>
        <p:spPr>
          <a:xfrm>
            <a:off x="4643280" y="2998800"/>
            <a:ext cx="4286520" cy="3859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http://elektrostroy.com/wp-content/uploads/2009/12/img4b2858eeeb2b0.jpg"/>
          <p:cNvPicPr/>
          <p:nvPr/>
        </p:nvPicPr>
        <p:blipFill>
          <a:blip r:embed="rId2"/>
          <a:stretch/>
        </p:blipFill>
        <p:spPr>
          <a:xfrm>
            <a:off x="214200" y="285840"/>
            <a:ext cx="4286520" cy="3217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85840" y="371484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ю суще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ботизированного колоноскопа Endotic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ники итальянской компании Estor подсмотрели у гусениц бабочек-пядениц. Устройство само “проползает” по кишечному тракту без труда медицинского работника, что существенно сокращает действие на стены ЖКТ и делает изыскание меньше дискомфор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786200" y="71424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бот Bloodbo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созданный в Имперском институте Лондона, уготован для механического забора образчиков кр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7" descr="http://elektrostroy.com/wp-content/uploads/2009/12/img4b2858ef705b0.jpg"/>
          <p:cNvPicPr/>
          <p:nvPr/>
        </p:nvPicPr>
        <p:blipFill>
          <a:blip r:embed="rId1"/>
          <a:stretch/>
        </p:blipFill>
        <p:spPr>
          <a:xfrm>
            <a:off x="4572000" y="3429000"/>
            <a:ext cx="4286160" cy="3218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http://elektrostroy.com/wp-content/uploads/2009/12/img4b2858f03e4aa.jpg"/>
          <p:cNvPicPr/>
          <p:nvPr/>
        </p:nvPicPr>
        <p:blipFill>
          <a:blip r:embed="rId2"/>
          <a:stretch/>
        </p:blipFill>
        <p:spPr>
          <a:xfrm>
            <a:off x="428760" y="500040"/>
            <a:ext cx="4286160" cy="2660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00760" y="214200"/>
            <a:ext cx="371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ще 1 исследование Имперского института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бот i-Snak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для проведения лапароскопических операций на бьющемся сердечко. Положение камер и инструментов синхронизируется с перемещениями сердечной мускулы, при всем этом хирург видит на экране неподвижное изображение 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42960" y="3571920"/>
            <a:ext cx="3643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ный там вед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Probo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для хирургического исцеления гиперплазии предстательной железы требует от медицинского работника только задания размера органа, который нужно удалить. Все последующее вмешательство случается механ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9" descr="http://elektrostroy.com/wp-content/uploads/2009/12/img4b2858f0bd7a9.jpg"/>
          <p:cNvPicPr/>
          <p:nvPr/>
        </p:nvPicPr>
        <p:blipFill>
          <a:blip r:embed="rId1"/>
          <a:stretch/>
        </p:blipFill>
        <p:spPr>
          <a:xfrm>
            <a:off x="571680" y="357120"/>
            <a:ext cx="4286160" cy="32544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http://elektrostroy.com/wp-content/uploads/2009/12/img4b2858f1426bd.jpg"/>
          <p:cNvPicPr/>
          <p:nvPr/>
        </p:nvPicPr>
        <p:blipFill>
          <a:blip r:embed="rId2"/>
          <a:stretch/>
        </p:blipFill>
        <p:spPr>
          <a:xfrm>
            <a:off x="4357800" y="3357720"/>
            <a:ext cx="4286160" cy="3278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5286240" y="928800"/>
            <a:ext cx="300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ирургический бот Da Vinc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зволяет через не очень большие отверстия в шкуре скрупулезно исполнять наитруднейшие операции на внутренних орган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928800" y="421488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ртуальное вскрытие трупов: содержится в построении послойного трехмерного изображения мертвеца при помощи оптических скан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7" descr="Американская армейская Unmanned System Labs занята разработками и испытанием беспилотных аппаратов, призванных лезть в самое пекло, сберегая человеческие жизни"/>
          <p:cNvPicPr/>
          <p:nvPr/>
        </p:nvPicPr>
        <p:blipFill>
          <a:blip r:embed="rId1"/>
          <a:stretch/>
        </p:blipFill>
        <p:spPr>
          <a:xfrm>
            <a:off x="351000" y="244440"/>
            <a:ext cx="8542080" cy="6424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395280" y="56988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спилотные аппараты, призванных лезть в самое пекло, сберегая человеческ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heli.jpg"/>
          <p:cNvPicPr/>
          <p:nvPr/>
        </p:nvPicPr>
        <p:blipFill>
          <a:blip r:embed="rId1"/>
          <a:stretch/>
        </p:blipFill>
        <p:spPr>
          <a:xfrm>
            <a:off x="214200" y="428760"/>
            <a:ext cx="863604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Сварочные роботы.jpg"/>
          <p:cNvPicPr/>
          <p:nvPr/>
        </p:nvPicPr>
        <p:blipFill>
          <a:blip r:embed="rId1"/>
          <a:stretch/>
        </p:blipFill>
        <p:spPr>
          <a:xfrm>
            <a:off x="571680" y="428760"/>
            <a:ext cx="5719680" cy="528624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1285920" y="585792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боты в сварочном д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ar.jpg"/>
          <p:cNvPicPr/>
          <p:nvPr/>
        </p:nvPicPr>
        <p:blipFill>
          <a:blip r:embed="rId2"/>
          <a:stretch/>
        </p:blipFill>
        <p:spPr>
          <a:xfrm>
            <a:off x="6357960" y="714240"/>
            <a:ext cx="2539800" cy="455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Танцующие роботы QRIO"/>
          <p:cNvPicPr/>
          <p:nvPr/>
        </p:nvPicPr>
        <p:blipFill>
          <a:blip r:embed="rId1"/>
          <a:srcRect l="0" t="0" r="0" b="7431"/>
          <a:stretch/>
        </p:blipFill>
        <p:spPr>
          <a:xfrm>
            <a:off x="2889360" y="204840"/>
            <a:ext cx="5859360" cy="639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0" y="191628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нц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QRI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sony_1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627280" y="260280"/>
            <a:ext cx="6265800" cy="62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деальное государство ни в коем случае не должно допускать нищеты (как и чрезмерного обогащения) своих граждан. Даже самый последний землепашец в таком обществе не ропщет на свою долю, — ведь в его распоряжении непременно находятся не менее трех рабов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laton"/>
          <p:cNvPicPr/>
          <p:nvPr/>
        </p:nvPicPr>
        <p:blipFill>
          <a:blip r:embed="rId1"/>
          <a:stretch/>
        </p:blipFill>
        <p:spPr>
          <a:xfrm>
            <a:off x="324000" y="333360"/>
            <a:ext cx="2392200" cy="2664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324000" y="2997360"/>
            <a:ext cx="230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античный филос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Платон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60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Интересно, если бы за выход в чемпионат мира наша сборная сражалась с командой робособачек Aibo, — кто бы победил?"/>
          <p:cNvPicPr/>
          <p:nvPr/>
        </p:nvPicPr>
        <p:blipFill>
          <a:blip r:embed="rId1"/>
          <a:stretch/>
        </p:blipFill>
        <p:spPr>
          <a:xfrm>
            <a:off x="-84240" y="722160"/>
            <a:ext cx="9409320" cy="5558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-36360" y="4428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тересно, если бы за выход в чемпионат мира наша сборная сражалась с командой робособачек Aibo, — кто бы победи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" descr="http://elektrostroy.com/wp-content/uploads/2009/12/img4b2858ed145c3.jpg"/>
          <p:cNvPicPr/>
          <p:nvPr/>
        </p:nvPicPr>
        <p:blipFill>
          <a:blip r:embed="rId1"/>
          <a:stretch/>
        </p:blipFill>
        <p:spPr>
          <a:xfrm>
            <a:off x="857160" y="500040"/>
            <a:ext cx="6375600" cy="4786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857160" y="557208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бот RI-MA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адепт электронных “сиделок”, сделанных японскими уче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Робот ifbot — чуткий собеседник для одиноких пожилых людей. "/>
          <p:cNvPicPr/>
          <p:nvPr/>
        </p:nvPicPr>
        <p:blipFill>
          <a:blip r:embed="rId1"/>
          <a:stretch/>
        </p:blipFill>
        <p:spPr>
          <a:xfrm>
            <a:off x="326376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79280" y="1052640"/>
            <a:ext cx="30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бот ifbot — чуткий собеседник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я одиноких пожилых люд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WordArt 4" descr=""/>
          <p:cNvPicPr/>
          <p:nvPr/>
        </p:nvPicPr>
        <p:blipFill>
          <a:blip r:embed="rId1"/>
          <a:stretch/>
        </p:blipFill>
        <p:spPr>
          <a:xfrm>
            <a:off x="414360" y="1566720"/>
            <a:ext cx="8596440" cy="365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c19298713ae0.jpg"/>
          <p:cNvPicPr/>
          <p:nvPr/>
        </p:nvPicPr>
        <p:blipFill>
          <a:blip r:embed="rId1"/>
          <a:stretch/>
        </p:blipFill>
        <p:spPr>
          <a:xfrm>
            <a:off x="0" y="857160"/>
            <a:ext cx="8796240" cy="478656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684360" y="1341360"/>
            <a:ext cx="7775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лав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оботам!!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6" name="iz_k.f._prikliucheniya_elektronika_-_do_chego_doshel_progress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8365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7" descr="Cкоро каждого человека будут обслуживать не менее трех роботов.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95280" y="47628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Скоро каждого человека будут обслуживать не менее трех роботов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1.jpg"/>
          <p:cNvPicPr/>
          <p:nvPr/>
        </p:nvPicPr>
        <p:blipFill>
          <a:blip r:embed="rId1"/>
          <a:stretch/>
        </p:blipFill>
        <p:spPr>
          <a:xfrm>
            <a:off x="171360" y="357120"/>
            <a:ext cx="8901360" cy="5929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3" descr="Современный робопылесос"/>
          <p:cNvPicPr/>
          <p:nvPr/>
        </p:nvPicPr>
        <p:blipFill>
          <a:blip r:embed="rId1"/>
          <a:stretch/>
        </p:blipFill>
        <p:spPr>
          <a:xfrm>
            <a:off x="611280" y="404640"/>
            <a:ext cx="7953120" cy="5888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971640" y="620640"/>
            <a:ext cx="3456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Соврем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робопылес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4" descr="http://www.computer-museum.ru/../images/frgnhist/slava_robotam_5.jpg"/>
          <p:cNvPicPr/>
          <p:nvPr/>
        </p:nvPicPr>
        <p:blipFill>
          <a:blip r:embed="rId1"/>
          <a:srcRect l="0" t="0" r="0" b="8276"/>
          <a:stretch/>
        </p:blipFill>
        <p:spPr>
          <a:xfrm>
            <a:off x="3255840" y="0"/>
            <a:ext cx="5492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0" y="1628640"/>
            <a:ext cx="31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боты, для повседневного применения в общественной и домашне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3263a839190575864d613231b4fb3764.jpg"/>
          <p:cNvPicPr/>
          <p:nvPr/>
        </p:nvPicPr>
        <p:blipFill>
          <a:blip r:embed="rId1"/>
          <a:stretch/>
        </p:blipFill>
        <p:spPr>
          <a:xfrm>
            <a:off x="500040" y="285840"/>
            <a:ext cx="8217000" cy="6429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714240" y="64296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e5"/>
                </a:solidFill>
                <a:latin typeface="Arial"/>
              </a:rPr>
              <a:t>Робот - убор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9" descr="Актроиды — разновидность гуманоидных роботов, призванных действовать (to act) в соответствии с определенной ролью. Как правило, это роль секретаря или девушки, встречающей посетителей на входе в офис. Задать гостю несколько стандартных вопросов, определит"/>
          <p:cNvPicPr/>
          <p:nvPr/>
        </p:nvPicPr>
        <p:blipFill>
          <a:blip r:embed="rId1"/>
          <a:srcRect l="0" t="4279" r="0" b="2794"/>
          <a:stretch/>
        </p:blipFill>
        <p:spPr>
          <a:xfrm>
            <a:off x="3851280" y="0"/>
            <a:ext cx="3954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468360" y="1197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бот — секрет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0" descr="PaPeRo готовы и работать, и играть, как и большинство из нас"/>
          <p:cNvPicPr/>
          <p:nvPr/>
        </p:nvPicPr>
        <p:blipFill>
          <a:blip r:embed="rId1"/>
          <a:stretch/>
        </p:blipFill>
        <p:spPr>
          <a:xfrm>
            <a:off x="395280" y="0"/>
            <a:ext cx="8372520" cy="6761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924360" y="465300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PaPeRo готовы и работать, и играть, как и большинство из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6:58:42Z</dcterms:created>
  <dc:creator>Верхнеберезовская СШ</dc:creator>
  <dc:description/>
  <dc:language>en-US</dc:language>
  <cp:lastModifiedBy>Жидяевы</cp:lastModifiedBy>
  <dcterms:modified xsi:type="dcterms:W3CDTF">2010-03-25T12:25:40Z</dcterms:modified>
  <cp:revision>16</cp:revision>
  <dc:subject/>
  <dc:title>Слайд 1</dc:title>
</cp:coreProperties>
</file>