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95C-AE60-4F99-8325-6EC5AB8C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22D4-3C0C-495C-8DB9-41B30D52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668-447A-4A7A-AB42-F80C1677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F63E-DC08-496D-9DF1-F8947504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53A-9CB0-4461-8E86-ECFDE454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7171-D69A-4DF9-BD15-1CE72751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804-E3E8-4CAC-8195-BB025AA6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DF53-36F1-4EB0-9443-4AE9B256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7AD6-999C-4189-BAE6-042D135F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E13-2DC5-47E7-882D-F2A2849E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0E6-9249-4124-993C-0BE46DFD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394-C9FD-4C86-A182-BB20E796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A620-A2E3-4FEA-9F1E-BDD5156D0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40373.jpg"/>
          <p:cNvPicPr/>
          <p:nvPr/>
        </p:nvPicPr>
        <p:blipFill>
          <a:blip r:embed="rId1"/>
          <a:stretch/>
        </p:blipFill>
        <p:spPr>
          <a:xfrm>
            <a:off x="3929040" y="4902120"/>
            <a:ext cx="1558800" cy="159876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684360" y="1341360"/>
            <a:ext cx="77752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скусственный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нтеллект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3" name="iz_k.f._prikliucheniya_elektronika_-_do_chego_doshel_progress.mp3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365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http://elektrostroy.com/wp-content/uploads/2009/12/img4b2858ec9064c.jpg"/>
          <p:cNvPicPr/>
          <p:nvPr/>
        </p:nvPicPr>
        <p:blipFill>
          <a:blip r:embed="rId1"/>
          <a:stretch/>
        </p:blipFill>
        <p:spPr>
          <a:xfrm>
            <a:off x="357120" y="928800"/>
            <a:ext cx="6375600" cy="4786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6929280" y="428760"/>
            <a:ext cx="1928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ременные боты гарантируют дистанционные осмотры и консультации, заботятся за больными и позволяют медицинским работникам заглядывать в труднодоступные участки тела больного и точно осуществлять тончайшие вмешатель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http://elektrostroy.com/wp-content/uploads/2009/12/img4b2858ed8f65a.jpg"/>
          <p:cNvPicPr/>
          <p:nvPr/>
        </p:nvPicPr>
        <p:blipFill>
          <a:blip r:embed="rId1"/>
          <a:stretch/>
        </p:blipFill>
        <p:spPr>
          <a:xfrm>
            <a:off x="4643280" y="3500280"/>
            <a:ext cx="4286520" cy="32180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http://elektrostroy.com/wp-content/uploads/2009/12/img4b2858ee066cf.jpg"/>
          <p:cNvPicPr/>
          <p:nvPr/>
        </p:nvPicPr>
        <p:blipFill>
          <a:blip r:embed="rId2"/>
          <a:stretch/>
        </p:blipFill>
        <p:spPr>
          <a:xfrm>
            <a:off x="0" y="0"/>
            <a:ext cx="4286160" cy="321804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4643280" y="0"/>
            <a:ext cx="450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ная итальянскими ученым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авающая капсула с на камер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здана для изыскания пищеварительной системы. Ее использование не навевает больному дискомфорта, который неминуем при эндоскопии. Кроме того, при помощи капсулы можно осмотреть желудочно-кишечный тракт на всем протяжении, что неприступно передовым эндоскопическим методолог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42920" y="3357720"/>
            <a:ext cx="42861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ругая итальянская исследование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амособирающийся робот ARE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Assembling Reconfigurable Endoluminal Surgical System, Самособирающаяся эндолюминальная хирургическая система с изменяемой конфигурацией) для проведения операций в отсутствии разреза кожных покровов. Проглоченные больным отдельные высокофункциональные блоки снутри организма намериваются в контролируемый модуль, при помощи которого ведется хирургическое вмешатель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5" descr="http://elektrostroy.com/wp-content/uploads/2009/12/img4b2858ee72d0c.jpg"/>
          <p:cNvPicPr/>
          <p:nvPr/>
        </p:nvPicPr>
        <p:blipFill>
          <a:blip r:embed="rId1"/>
          <a:stretch/>
        </p:blipFill>
        <p:spPr>
          <a:xfrm>
            <a:off x="4643280" y="2998800"/>
            <a:ext cx="4286520" cy="38592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http://elektrostroy.com/wp-content/uploads/2009/12/img4b2858eeeb2b0.jpg"/>
          <p:cNvPicPr/>
          <p:nvPr/>
        </p:nvPicPr>
        <p:blipFill>
          <a:blip r:embed="rId2"/>
          <a:stretch/>
        </p:blipFill>
        <p:spPr>
          <a:xfrm>
            <a:off x="214200" y="285840"/>
            <a:ext cx="4286520" cy="321768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285840" y="3714840"/>
            <a:ext cx="407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дею сущест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ботизированного колоноскопа Endotic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аботники итальянской компании Estor подсмотрели у гусениц бабочек-пядениц. Устройство само “проползает” по кишечному тракту без труда медицинского работника, что существенно сокращает действие на стены ЖКТ и делает изыскание меньше дискомфор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4786200" y="71424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бот Bloodbo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созданный в Имперском институте Лондона, уготован для механического забора образчиков кро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7" descr="http://elektrostroy.com/wp-content/uploads/2009/12/img4b2858ef705b0.jpg"/>
          <p:cNvPicPr/>
          <p:nvPr/>
        </p:nvPicPr>
        <p:blipFill>
          <a:blip r:embed="rId1"/>
          <a:stretch/>
        </p:blipFill>
        <p:spPr>
          <a:xfrm>
            <a:off x="4572000" y="3429000"/>
            <a:ext cx="4286160" cy="32180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8" descr="http://elektrostroy.com/wp-content/uploads/2009/12/img4b2858f03e4aa.jpg"/>
          <p:cNvPicPr/>
          <p:nvPr/>
        </p:nvPicPr>
        <p:blipFill>
          <a:blip r:embed="rId2"/>
          <a:stretch/>
        </p:blipFill>
        <p:spPr>
          <a:xfrm>
            <a:off x="428760" y="500040"/>
            <a:ext cx="4286160" cy="266076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5000760" y="214200"/>
            <a:ext cx="371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ще 1 исследование Имперского института 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бот i-Snak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для проведения лапароскопических операций на бьющемся сердечко. Положение камер и инструментов синхронизируется с перемещениями сердечной мускулы, при всем этом хирург видит на экране неподвижное изображение орг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42960" y="3571920"/>
            <a:ext cx="3643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ный там ведь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Probo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для хирургического исцеления гиперплазии предстательной железы требует от медицинского работника только задания размера органа, который нужно удалить. Все последующее вмешательство случается механ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9" descr="http://elektrostroy.com/wp-content/uploads/2009/12/img4b2858f0bd7a9.jpg"/>
          <p:cNvPicPr/>
          <p:nvPr/>
        </p:nvPicPr>
        <p:blipFill>
          <a:blip r:embed="rId1"/>
          <a:stretch/>
        </p:blipFill>
        <p:spPr>
          <a:xfrm>
            <a:off x="571680" y="357120"/>
            <a:ext cx="4286160" cy="32544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0" descr="http://elektrostroy.com/wp-content/uploads/2009/12/img4b2858f1426bd.jpg"/>
          <p:cNvPicPr/>
          <p:nvPr/>
        </p:nvPicPr>
        <p:blipFill>
          <a:blip r:embed="rId2"/>
          <a:stretch/>
        </p:blipFill>
        <p:spPr>
          <a:xfrm>
            <a:off x="4357800" y="3357720"/>
            <a:ext cx="4286160" cy="3278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5286240" y="928800"/>
            <a:ext cx="3000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ирургический бот Da Vinc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озволяет через не очень большие отверстия в шкуре скрупулезно исполнять наитруднейшие операции на внутренних орган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928800" y="4214880"/>
            <a:ext cx="264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ртуальное вскрытие трупов: содержится в построении послойного трехмерного изображения мертвеца при помощи оптических скане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7" descr="Американская армейская Unmanned System Labs занята разработками и испытанием беспилотных аппаратов, призванных лезть в самое пекло, сберегая человеческие жизни"/>
          <p:cNvPicPr/>
          <p:nvPr/>
        </p:nvPicPr>
        <p:blipFill>
          <a:blip r:embed="rId1"/>
          <a:stretch/>
        </p:blipFill>
        <p:spPr>
          <a:xfrm>
            <a:off x="351000" y="244440"/>
            <a:ext cx="8542080" cy="64245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395280" y="56988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еспилотные аппараты, призванных лезть в самое пекло, сберегая человеческие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heli.jpg"/>
          <p:cNvPicPr/>
          <p:nvPr/>
        </p:nvPicPr>
        <p:blipFill>
          <a:blip r:embed="rId1"/>
          <a:stretch/>
        </p:blipFill>
        <p:spPr>
          <a:xfrm>
            <a:off x="214200" y="428760"/>
            <a:ext cx="863604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Сварочные роботы.jpg"/>
          <p:cNvPicPr/>
          <p:nvPr/>
        </p:nvPicPr>
        <p:blipFill>
          <a:blip r:embed="rId1"/>
          <a:stretch/>
        </p:blipFill>
        <p:spPr>
          <a:xfrm>
            <a:off x="571680" y="428760"/>
            <a:ext cx="5719680" cy="528624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1285920" y="585792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боты в сварочном д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" descr="ar.jpg"/>
          <p:cNvPicPr/>
          <p:nvPr/>
        </p:nvPicPr>
        <p:blipFill>
          <a:blip r:embed="rId2"/>
          <a:stretch/>
        </p:blipFill>
        <p:spPr>
          <a:xfrm>
            <a:off x="6357960" y="714240"/>
            <a:ext cx="2539800" cy="4559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Танцующие роботы QRIO"/>
          <p:cNvPicPr/>
          <p:nvPr/>
        </p:nvPicPr>
        <p:blipFill>
          <a:blip r:embed="rId1"/>
          <a:srcRect l="0" t="0" r="0" b="7431"/>
          <a:stretch/>
        </p:blipFill>
        <p:spPr>
          <a:xfrm>
            <a:off x="2889360" y="204840"/>
            <a:ext cx="5859360" cy="6392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0" y="1916280"/>
            <a:ext cx="266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нцу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о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QRI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sony_14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627280" y="260280"/>
            <a:ext cx="6265800" cy="62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деальное государство ни в коем случае не должно допускать нищеты (как и чрезмерного обогащения) своих граждан. Даже самый последний землепашец в таком обществе не ропщет на свою долю, — ведь в его распоряжении непременно находятся не менее трех рабов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platon"/>
          <p:cNvPicPr/>
          <p:nvPr/>
        </p:nvPicPr>
        <p:blipFill>
          <a:blip r:embed="rId1"/>
          <a:stretch/>
        </p:blipFill>
        <p:spPr>
          <a:xfrm>
            <a:off x="324000" y="333360"/>
            <a:ext cx="2392200" cy="2664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324000" y="2997360"/>
            <a:ext cx="230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античный филосо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Платон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600"/>
                            </p:stCondLst>
                            <p:childTnLst>
                              <p:par>
                                <p:cTn id="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Интересно, если бы за выход в чемпионат мира наша сборная сражалась с командой робособачек Aibo, — кто бы победил?"/>
          <p:cNvPicPr/>
          <p:nvPr/>
        </p:nvPicPr>
        <p:blipFill>
          <a:blip r:embed="rId1"/>
          <a:stretch/>
        </p:blipFill>
        <p:spPr>
          <a:xfrm>
            <a:off x="-84240" y="722160"/>
            <a:ext cx="9409320" cy="55580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-36360" y="44280"/>
            <a:ext cx="75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нтересно, если бы за выход в чемпионат мира наша сборная сражалась с командой робособачек Aibo, — кто бы победи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2" descr="http://elektrostroy.com/wp-content/uploads/2009/12/img4b2858ed145c3.jpg"/>
          <p:cNvPicPr/>
          <p:nvPr/>
        </p:nvPicPr>
        <p:blipFill>
          <a:blip r:embed="rId1"/>
          <a:stretch/>
        </p:blipFill>
        <p:spPr>
          <a:xfrm>
            <a:off x="857160" y="500040"/>
            <a:ext cx="6375600" cy="47862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857160" y="557208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бот RI-MAN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адепт электронных “сиделок”, сделанных японскими учен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Робот ifbot — чуткий собеседник для одиноких пожилых людей. "/>
          <p:cNvPicPr/>
          <p:nvPr/>
        </p:nvPicPr>
        <p:blipFill>
          <a:blip r:embed="rId1"/>
          <a:stretch/>
        </p:blipFill>
        <p:spPr>
          <a:xfrm>
            <a:off x="3263760" y="0"/>
            <a:ext cx="51958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179280" y="1052640"/>
            <a:ext cx="30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обот ifbot — чуткий собеседник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ля одиноких пожилых люд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WordArt 4" descr=""/>
          <p:cNvPicPr/>
          <p:nvPr/>
        </p:nvPicPr>
        <p:blipFill>
          <a:blip r:embed="rId1"/>
          <a:stretch/>
        </p:blipFill>
        <p:spPr>
          <a:xfrm>
            <a:off x="414360" y="1566720"/>
            <a:ext cx="8596440" cy="3651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c19298713ae0.jpg"/>
          <p:cNvPicPr/>
          <p:nvPr/>
        </p:nvPicPr>
        <p:blipFill>
          <a:blip r:embed="rId1"/>
          <a:stretch/>
        </p:blipFill>
        <p:spPr>
          <a:xfrm>
            <a:off x="0" y="857160"/>
            <a:ext cx="8796240" cy="4786560"/>
          </a:xfrm>
          <a:prstGeom prst="rect">
            <a:avLst/>
          </a:prstGeom>
          <a:ln w="0">
            <a:noFill/>
          </a:ln>
        </p:spPr>
      </p:pic>
      <p:sp>
        <p:nvSpPr>
          <p:cNvPr id="95" name="WordArt 6"/>
          <p:cNvSpPr txBox="1"/>
          <p:nvPr/>
        </p:nvSpPr>
        <p:spPr>
          <a:xfrm>
            <a:off x="684360" y="1341360"/>
            <a:ext cx="77752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лав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роботам!!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96" name="iz_k.f._prikliucheniya_elektronika_-_do_chego_doshel_progress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8365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7" descr="Cкоро каждого человека будут обслуживать не менее трех роботов.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038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95280" y="476280"/>
            <a:ext cx="41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Скоро каждого человека будут обслуживать не менее трех роботов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01.jpg"/>
          <p:cNvPicPr/>
          <p:nvPr/>
        </p:nvPicPr>
        <p:blipFill>
          <a:blip r:embed="rId1"/>
          <a:stretch/>
        </p:blipFill>
        <p:spPr>
          <a:xfrm>
            <a:off x="171360" y="357120"/>
            <a:ext cx="8901360" cy="5929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3" descr="Современный робопылесос"/>
          <p:cNvPicPr/>
          <p:nvPr/>
        </p:nvPicPr>
        <p:blipFill>
          <a:blip r:embed="rId1"/>
          <a:stretch/>
        </p:blipFill>
        <p:spPr>
          <a:xfrm>
            <a:off x="611280" y="404640"/>
            <a:ext cx="7953120" cy="5888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971640" y="620640"/>
            <a:ext cx="3456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Соврем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робопылес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4" descr="http://www.computer-museum.ru/../images/frgnhist/slava_robotam_5.jpg"/>
          <p:cNvPicPr/>
          <p:nvPr/>
        </p:nvPicPr>
        <p:blipFill>
          <a:blip r:embed="rId1"/>
          <a:srcRect l="0" t="0" r="0" b="8276"/>
          <a:stretch/>
        </p:blipFill>
        <p:spPr>
          <a:xfrm>
            <a:off x="3255840" y="0"/>
            <a:ext cx="54928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0" y="1628640"/>
            <a:ext cx="313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оботы, для повседневного применения в общественной и домашней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3263a839190575864d613231b4fb3764.jpg"/>
          <p:cNvPicPr/>
          <p:nvPr/>
        </p:nvPicPr>
        <p:blipFill>
          <a:blip r:embed="rId1"/>
          <a:stretch/>
        </p:blipFill>
        <p:spPr>
          <a:xfrm>
            <a:off x="500040" y="285840"/>
            <a:ext cx="8217000" cy="642924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714240" y="64296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e5"/>
                </a:solidFill>
                <a:latin typeface="Arial"/>
              </a:rPr>
              <a:t>Робот - уборщ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9" descr="Актроиды — разновидность гуманоидных роботов, призванных действовать (to act) в соответствии с определенной ролью. Как правило, это роль секретаря или девушки, встречающей посетителей на входе в офис. Задать гостю несколько стандартных вопросов, определит"/>
          <p:cNvPicPr/>
          <p:nvPr/>
        </p:nvPicPr>
        <p:blipFill>
          <a:blip r:embed="rId1"/>
          <a:srcRect l="0" t="4279" r="0" b="2794"/>
          <a:stretch/>
        </p:blipFill>
        <p:spPr>
          <a:xfrm>
            <a:off x="3851280" y="0"/>
            <a:ext cx="39546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468360" y="1197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обот — секрет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0" descr="PaPeRo готовы и работать, и играть, как и большинство из нас"/>
          <p:cNvPicPr/>
          <p:nvPr/>
        </p:nvPicPr>
        <p:blipFill>
          <a:blip r:embed="rId1"/>
          <a:stretch/>
        </p:blipFill>
        <p:spPr>
          <a:xfrm>
            <a:off x="395280" y="0"/>
            <a:ext cx="8372520" cy="67611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924360" y="4653000"/>
            <a:ext cx="410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PaPeRo готовы и работать, и играть, как и большинство из 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6:58:42Z</dcterms:created>
  <dc:creator>Верхнеберезовская СШ</dc:creator>
  <dc:description/>
  <dc:language>en-US</dc:language>
  <cp:lastModifiedBy>Жидяевы</cp:lastModifiedBy>
  <dcterms:modified xsi:type="dcterms:W3CDTF">2010-03-25T12:25:40Z</dcterms:modified>
  <cp:revision>16</cp:revision>
  <dc:subject/>
  <dc:title>Слайд 1</dc:title>
</cp:coreProperties>
</file>