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F55-EDCD-4A77-B5D5-C1E3D8B9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F51-050D-43C6-8D90-29818FE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B89-5080-4B3D-9BC0-42939BEB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10C-2033-48C4-8E86-5C478619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24A-C905-4A37-B67F-643551E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3EC-A990-47A0-BD2A-D5EE921A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A69-CD4A-40D1-AF86-252F7FC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950-DBBF-45A3-81E8-B7FF98C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81E-1585-4CF0-BCBC-3C3DB65D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DB7-726F-40C6-AC77-A86319F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5A4-0FEE-4A3C-A1B2-22EEA06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268-D897-4E62-9D26-AB4751E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A052-C95A-4181-9829-39FB964DB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ЫЕ, СОЛНЕЧНЫЕ УДАРЫ. ОБМОР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 оказать помощь при обморожении лиц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ирать лицо снег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Растирать лицо шерстяной варежкой или шарф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ымыть лицо горячей вод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сторожно согревать и массировать  теплой ру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Что является первым признаком обморожения рук, ног, ли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теря ими чувствительности к хол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Обмороженные места становятся твердыми на ощуп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бмороженные места приобр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но - синий оттен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ороженные места сильно отек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огда может произойти солнечный уд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жаркий солнечный день, когда лучи солнца падают на непокрытую голов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асмурную, жаркую безветренную погоду, при длительной тяжелой физической рабо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олько в период с мая по сентябр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Только в летний период ( июнь – авгус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огда может произойти тепловой  уд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жаркий солнечный день, когда лучи солнца падают на непокрытую голов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асмурную, жаркую безветренную погоду, при длительной тяжелой физической рабо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олько в период с мая по сентябр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Только в летний период ( июнь – авгус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ем отличаются признаки теплового и солнечного удар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знаки теплового и солнечного ударов практически одинако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 тепловом ударе у человека не бывает головной 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 солнечном ударе не наблюдается учащенного сердцеби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ри тепловом ударе у человека краснеет кожа лица, а при солнечном ударе кожа лица бледне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Чем отличается первая помощь при тепловом и при солнечных удара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400"/>
            <a:ext cx="8329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Первая помощь при тепловом и солнечном ударах практически одинаков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При солнечном ударе человеку дают холодный чай или холодную воду, а при тепловом ударе – слегка подсоленую теплую вод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и солнечном ударе рекомендуется холодный компресс на голову, а при тепловом ударе – компресс не накладывает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ри тепловом ударе голова пострадавшего должна находиться выше туловища, при солнечном – ниж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Есть ли разница в профилактике тепловых и солнечных ударов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Меры по предупреждению солнечного удара не предусматривают контроля за физическими нагруз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Меры по предупреждению теплового удара не требуют носить головной убо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Для профилактики теплового удара нужно принимать душ, а для профилактики солнечного удара лучше купание в водоем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рофилактика тепловых и солнечных ударов совершенно одина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Обморок возникает по причин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Чрезмерного притока крови к головному моз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достаточного притока крови к головному моз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еритмичных сокращений сердечной мыш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достаточного поступления воздуха в лег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. Для оказания помощи пострадавшему  при обмороке необходим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9680" y="1785960"/>
            <a:ext cx="81867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ложить пострадавшего так, чтобы голова его была выше тул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Уложить пострадавшего так, чтобы голова пострадавшего была ниже тул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Уложить пострадавшего на твердую, ровную поверх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ложить пострадавшего на правый 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Возможно ли обморожение при плюсовой температур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5520" y="2214360"/>
            <a:ext cx="7900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т, не возмож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возможно в сырую ветреную пог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а, возможно у физически слабых лю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Да, возможно у людей в состоянии наркотического или алкогольного опья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7:03:53Z</dcterms:created>
  <dc:creator>Admin</dc:creator>
  <dc:description/>
  <dc:language>en-US</dc:language>
  <cp:lastModifiedBy>Admin</cp:lastModifiedBy>
  <dcterms:modified xsi:type="dcterms:W3CDTF">2012-04-17T19:44:49Z</dcterms:modified>
  <cp:revision>17</cp:revision>
  <dc:subject/>
  <dc:title>ТЕПЛОВЫЕ, СОЛНЕЧНЫЕ УДАРЫ. ОБМОРОЖЕНИЯ.</dc:title>
</cp:coreProperties>
</file>