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3A5-1324-4E2A-BA6E-FA43AEA4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0D8-7E4F-4ACE-A880-DA963DD6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128-7C07-4C32-BA6C-21531B70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928-DA55-4EF8-B8EE-BB94E379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A5E-20B2-4245-8B29-979C8C93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50B-C38D-4103-B9E4-6A6BC178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935-EFFA-497D-9978-4E62EBAC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5E1-D771-4440-980F-9C2B2B35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3F4-31C9-4EF0-8068-48106D26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00B-E3F0-4458-AD8F-A6C8945B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DA2-97C5-45F4-9A43-03055358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977-0522-4B45-B185-1340A555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6FDF-1685-4387-8B93-0573C6A4A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ЛОВЫЕ, СОЛНЕЧНЫЕ УДАРЫ. ОБМОРО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Как оказать помощь при обморожении лиц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Растирать лицо снег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Растирать лицо шерстяной варежкой или шарф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Вымыть лицо горячей вод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сторожно согревать и массировать  теплой ру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 Что является первым признаком обморожения рук, ног, лиц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отеря ими чувствительности к холо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Обмороженные места становятся твердыми на ощуп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Обмороженные места приобрет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но - синий оттен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мороженные места сильно отек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Когда может произойти солнечный уда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В жаркий солнечный день, когда лучи солнца падают на непокрытую голов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 пасмурную, жаркую безветренную погоду, при длительной тяжелой физической рабо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Только в период с мая по сентябр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Только в летний период ( июнь – авгус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Когда может произойти тепловой  уда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В жаркий солнечный день, когда лучи солнца падают на непокрытую голов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 пасмурную, жаркую безветренную погоду, при длительной тяжелой физической рабо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Только в период с мая по сентябр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Только в летний период ( июнь – авгус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Чем отличаются признаки теплового и солнечного удар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ризнаки теплового и солнечного ударов практически одинаков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ри тепловом ударе у человека не бывает головной бол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ри солнечном ударе не наблюдается учащенного сердцеби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При тепловом ударе у человека краснеет кожа лица, а при солнечном ударе кожа лица бледне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Чем отличается первая помощь при тепловом и при солнечных ударах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1571400"/>
            <a:ext cx="8329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Первая помощь при тепловом и солнечном ударах практически одинаков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При солнечном ударе человеку дают холодный чай или холодную воду, а при тепловом ударе – слегка подсоленую теплую вод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При солнечном ударе рекомендуется холодный компресс на голову, а при тепловом ударе – компресс не накладываетс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При тепловом ударе голова пострадавшего должна находиться выше туловища, при солнечном – ниж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Есть ли разница в профилактике тепловых и солнечных ударов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Меры по предупреждению солнечного удара не предусматривают контроля за физическими нагрузк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Меры по предупреждению теплового удара не требуют носить головной убор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Для профилактики теплового удара нужно принимать душ, а для профилактики солнечного удара лучше купание в водоемах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Профилактика тепловых и солнечных ударов совершенно одинак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Обморок возникает по причин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Чрезмерного притока крови к головному мозг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едостаточного притока крови к головному мозг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еритмичных сокращений сердечной мышц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едостаточного поступления воздуха в лег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. Для оказания помощи пострадавшему  при обмороке необходим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9680" y="1785960"/>
            <a:ext cx="81867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Уложить пострадавшего так, чтобы голова его была выше туловищ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Уложить пострадавшего так, чтобы голова пострадавшего была ниже туловищ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Уложить пострадавшего на твердую, ровную поверх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Уложить пострадавшего на правый б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Возможно ли обморожение при плюсовой температур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5520" y="2214360"/>
            <a:ext cx="79009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ет, не возмож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Да, возможно в сырую ветреную пого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Да, возможно у физически слабых люд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Да, возможно у людей в состоянии наркотического или алкогольного опьян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7:03:53Z</dcterms:created>
  <dc:creator>Admin</dc:creator>
  <dc:description/>
  <dc:language>en-US</dc:language>
  <cp:lastModifiedBy>Admin</cp:lastModifiedBy>
  <dcterms:modified xsi:type="dcterms:W3CDTF">2012-04-17T19:44:49Z</dcterms:modified>
  <cp:revision>17</cp:revision>
  <dc:subject/>
  <dc:title>ТЕПЛОВЫЕ, СОЛНЕЧНЫЕ УДАРЫ. ОБМОРОЖЕНИЯ.</dc:title>
</cp:coreProperties>
</file>