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11EC-990B-4B4A-80BD-A5C221262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DF0F-10DC-41C5-B298-A5A2989DE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492E-9035-4E94-B7B8-6A74BEDE2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A410-15A2-4D63-A25F-A2F693D05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7D1E2-F5EA-454E-99B1-DC293C3D8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CFE21-5C1B-4AB5-8A9D-9B8023118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B771C-B41B-488C-9152-A1FDED0A8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A65FA-51E4-400C-B8AA-6EA836409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CEF8F-AD4C-457B-A491-6E2CAE925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83554-C860-49E5-B25F-FE817C379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4BA69-DD0A-40C1-BE33-D003DD75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3C20-95E4-40BB-B0B5-9338AE81F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1E897-C710-4A6E-863A-F050B391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1B253-48AD-4330-A6AA-68EFE40C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200D0-7FB2-4903-B353-9FD980FB2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21DB5-7088-4A4E-8524-6D03E84E2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79E90-5979-4474-A501-2CC507721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E5C35-BB04-445C-B487-2765074B1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4B2E4-4781-4E2B-AEEE-D62F78E3D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5D46D-A6E3-47E3-B2F1-D4A0481C8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2F73C-C9E3-434B-B438-DD4E217AD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B9228-0899-428B-B44E-1B6378901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49BC-9B34-432B-87BB-0263B5D38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6211E-0B60-4B0E-82FD-1748CFA9D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BCFAB-C2A7-42F4-BE9E-61E2EE1A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AD4F9-5D3D-4A61-925D-CF90F907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454A2-2A57-49B1-BE19-7E51B21E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4D13F-2F6A-46EB-824E-763DDDAEE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DA1EE-0C25-4A42-ACA4-72D7631C4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08211-5D64-4367-8C4D-3D5A40B8E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184A7-663B-43CA-87EC-19AD8A4B7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AA9A4-035D-4BDC-B58F-06B7BE64F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F6333-64A8-48C5-9910-F7F6EC847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3E41-06BE-4222-9965-DA01C9EB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1411B-CBAE-4B35-A230-2DE3D22F6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DE339-B322-4964-9C32-8A25A2837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ADBB0-92B8-47AB-91BF-75811DF06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1F790-7C73-4884-BBA2-BAEE7A01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B2C35-ABE7-43D5-9E37-67CC40DB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D77E1-B779-44F7-BF8C-21067B68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3E665-5C28-40F1-8C20-122432924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E9B6C-DEC9-47A7-A577-3E2A61E0C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025D0-291C-4226-8D31-F0384B74A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E9AF7-1F23-482E-946B-7EB027468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F640-49EC-4169-A152-38C1FEB7D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53EA6-15F4-4DAF-A457-444E75BA9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23F19-213A-42E5-9936-ED36229CB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F4194-BFDA-4FF3-BB5C-1056B70DF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585F4-473B-458F-9DD4-EA963DA93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9C199-722A-4840-9133-86F670668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61191-98BA-495D-ADD2-6233BDD1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D6CEA-56D9-40F0-8C1B-66C4EF1B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5B2AC-E9D7-4EB1-8D0D-AFAC1648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BCA6A-58D0-476A-88A1-3AAA2D51C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C722D-1996-43C0-AE47-D6799C6C0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686E-05A6-4E5C-829D-56D83D749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67A92-6096-4CF0-B617-7CF73F6E4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99D5-5599-4957-B607-4366F663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991D-CF9A-4700-9076-23F77286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541C-8DB3-4BCB-8786-3E65336B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15CD-E6DB-4294-A38E-FDC359D17B7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E8D5E-A84E-44D2-91D1-F27EA94BB0C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Straight Connector 6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12AD1-BCD3-4791-A447-D04BFF25B9D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Straight Connector 10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48A71-7EE4-4E47-82C1-F137AF0ABF1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C5BBC-FC94-4E13-AAC7-4148EB95FD5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848720" cy="19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2533c"/>
                </a:solidFill>
                <a:latin typeface="Arial"/>
              </a:rPr>
              <a:t>ОБЩАЯ ХАРАКТЕРИСТИ­КА ТИПА ПЛОСКИЕ ЧЕР­ВИ. МНОГООБРАЗИЕ ПЛОСКИХ ЧЕРВЕЙ.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858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576e"/>
                </a:solidFill>
                <a:latin typeface="Arial"/>
              </a:rPr>
              <a:t>Разработала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576e"/>
                </a:solidFill>
                <a:latin typeface="Arial"/>
              </a:rPr>
              <a:t>Учитель биологии МБОУ СОШ № 7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576e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57576e"/>
                </a:solidFill>
                <a:latin typeface="Arial"/>
              </a:rPr>
              <a:t>г. Канаш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576e"/>
                </a:solidFill>
                <a:latin typeface="Arial"/>
              </a:rPr>
              <a:t>Капитонова Т.П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504960" y="533160"/>
            <a:ext cx="4800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2533c"/>
                </a:solidFill>
                <a:latin typeface="Arial"/>
              </a:rPr>
              <a:t>Класс Сосальщики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51" name="Picture 3" descr="D:\Биология\7 класс\ЖИВОТНЫЕ\Беспозвоночные\Тип плоские черви\sosalshik.gif"/>
          <p:cNvPicPr/>
          <p:nvPr/>
        </p:nvPicPr>
        <p:blipFill>
          <a:blip r:embed="rId1"/>
          <a:stretch/>
        </p:blipFill>
        <p:spPr>
          <a:xfrm>
            <a:off x="533520" y="1676520"/>
            <a:ext cx="3568680" cy="2286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" descr=""/>
          <p:cNvPicPr/>
          <p:nvPr/>
        </p:nvPicPr>
        <p:blipFill>
          <a:blip r:embed="rId2"/>
          <a:stretch/>
        </p:blipFill>
        <p:spPr>
          <a:xfrm>
            <a:off x="4724280" y="3124080"/>
            <a:ext cx="428328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4343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2533c"/>
                </a:solidFill>
                <a:latin typeface="Arial"/>
              </a:rPr>
              <a:t>Класс Ленточные черви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54" name="Picture 4" descr="D:\Биология\7 класс\ЖИВОТНЫЕ\Беспозвоночные\Тип плоские черви\d_lat1.gif"/>
          <p:cNvPicPr/>
          <p:nvPr/>
        </p:nvPicPr>
        <p:blipFill>
          <a:blip r:embed="rId1"/>
          <a:stretch/>
        </p:blipFill>
        <p:spPr>
          <a:xfrm>
            <a:off x="5486400" y="3733920"/>
            <a:ext cx="3324240" cy="26319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D:\Биология\7 класс\ЖИВОТНЫЕ\Беспозвоночные\Тип плоские черви\buchii-cepen7.jpg"/>
          <p:cNvPicPr/>
          <p:nvPr/>
        </p:nvPicPr>
        <p:blipFill>
          <a:blip r:embed="rId2"/>
          <a:stretch/>
        </p:blipFill>
        <p:spPr>
          <a:xfrm>
            <a:off x="304920" y="2239920"/>
            <a:ext cx="4643280" cy="35560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D:\Биология\7 класс\ЖИВОТНЫЕ\Беспозвоночные\Тип плоские черви\c22e6bfe83c4.jpg"/>
          <p:cNvPicPr/>
          <p:nvPr/>
        </p:nvPicPr>
        <p:blipFill>
          <a:blip r:embed="rId3"/>
          <a:stretch/>
        </p:blipFill>
        <p:spPr>
          <a:xfrm>
            <a:off x="5486400" y="1181160"/>
            <a:ext cx="311796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2533c"/>
                </a:solidFill>
                <a:latin typeface="Arial"/>
              </a:rPr>
              <a:t>Внешнее строение планарии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73280"/>
            <a:ext cx="403848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257440" y="1673280"/>
            <a:ext cx="342900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34"/>
                </a:solidFill>
                <a:latin typeface="Arial"/>
              </a:rPr>
              <a:t>Тело вытянуто, выделены передний и задний концы. У свободноживущих на переднем конце имеются щупальцевидные выросты с органами чувств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60" name="Picture 2" descr="D:\Биология\7 класс\ЖИВОТНЫЕ\Беспозвоночные\Тип плоские черви\Planaria SEX 1.jpg"/>
          <p:cNvPicPr/>
          <p:nvPr/>
        </p:nvPicPr>
        <p:blipFill>
          <a:blip r:embed="rId1"/>
          <a:stretch/>
        </p:blipFill>
        <p:spPr>
          <a:xfrm>
            <a:off x="388800" y="1676520"/>
            <a:ext cx="47325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2533c"/>
                </a:solidFill>
                <a:latin typeface="Arial"/>
              </a:rPr>
              <a:t>Особенности внутреннего строения ресничных червей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62" name="Picture 2" descr="D:\Биология\7 класс\ЖИВОТНЫЕ\Беспозвоночные\Тип плоские черви\0004-004-Obschaja-kharakteristika-tipa.jpg"/>
          <p:cNvPicPr/>
          <p:nvPr/>
        </p:nvPicPr>
        <p:blipFill>
          <a:blip r:embed="rId1"/>
          <a:stretch/>
        </p:blipFill>
        <p:spPr>
          <a:xfrm>
            <a:off x="762120" y="2006640"/>
            <a:ext cx="7924680" cy="42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2533c"/>
                </a:solidFill>
                <a:latin typeface="Arial"/>
              </a:rPr>
              <a:t>Системы органов плоских червей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64" name="Picture 2" descr="D:\Биология\7 класс\ЖИВОТНЫЕ\Беспозвоночные\Тип плоские черви\0010-014-Obschaja-kharakteristika-tipa - копия.png"/>
          <p:cNvPicPr/>
          <p:nvPr/>
        </p:nvPicPr>
        <p:blipFill>
          <a:blip r:embed="rId1"/>
          <a:stretch/>
        </p:blipFill>
        <p:spPr>
          <a:xfrm>
            <a:off x="2643120" y="1512720"/>
            <a:ext cx="3981600" cy="4746960"/>
          </a:xfrm>
          <a:prstGeom prst="rect">
            <a:avLst/>
          </a:prstGeom>
          <a:ln w="0">
            <a:noFill/>
          </a:ln>
        </p:spPr>
      </p:pic>
      <p:sp>
        <p:nvSpPr>
          <p:cNvPr id="265" name="Управляющая кнопка: справка 2"/>
          <p:cNvSpPr/>
          <p:nvPr/>
        </p:nvSpPr>
        <p:spPr>
          <a:xfrm>
            <a:off x="1376280" y="1447920"/>
            <a:ext cx="833400" cy="838080"/>
          </a:xfrm>
          <a:custGeom>
            <a:avLst/>
            <a:gdLst>
              <a:gd name="textAreaLeft" fmla="*/ 54000 w 833400"/>
              <a:gd name="textAreaRight" fmla="*/ 779400 w 833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721">
                <a:moveTo>
                  <a:pt x="0" y="0"/>
                </a:moveTo>
                <a:lnTo>
                  <a:pt x="21600" y="0"/>
                </a:lnTo>
                <a:lnTo>
                  <a:pt x="21600" y="21721"/>
                </a:lnTo>
                <a:lnTo>
                  <a:pt x="0" y="21721"/>
                </a:lnTo>
                <a:close/>
              </a:path>
              <a:path fill="lightenLess" w="21600" h="2172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21">
                <a:moveTo>
                  <a:pt x="21600" y="0"/>
                </a:moveTo>
                <a:lnTo>
                  <a:pt x="21600" y="21721"/>
                </a:lnTo>
                <a:lnTo>
                  <a:pt x="20200" y="20321"/>
                </a:lnTo>
                <a:lnTo>
                  <a:pt x="20200" y="1400"/>
                </a:lnTo>
                <a:close/>
              </a:path>
              <a:path fill="darkenLess" w="21600" h="21721">
                <a:moveTo>
                  <a:pt x="21600" y="21721"/>
                </a:moveTo>
                <a:lnTo>
                  <a:pt x="0" y="21721"/>
                </a:lnTo>
                <a:lnTo>
                  <a:pt x="1400" y="20321"/>
                </a:lnTo>
                <a:lnTo>
                  <a:pt x="20200" y="20321"/>
                </a:lnTo>
                <a:close/>
              </a:path>
              <a:path fill="lighten" w="21600" h="21721">
                <a:moveTo>
                  <a:pt x="0" y="2172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21"/>
                </a:lnTo>
                <a:close/>
              </a:path>
              <a:path fill="darken" w="21600" h="21721">
                <a:moveTo>
                  <a:pt x="10800" y="1486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721">
                <a:moveTo>
                  <a:pt x="11905" y="14342"/>
                </a:moveTo>
                <a:lnTo>
                  <a:pt x="11905" y="12384"/>
                </a:lnTo>
                <a:cubicBezTo>
                  <a:pt x="11905" y="11557"/>
                  <a:pt x="12236" y="10861"/>
                  <a:pt x="12837" y="10861"/>
                </a:cubicBezTo>
                <a:cubicBezTo>
                  <a:pt x="13968" y="10861"/>
                  <a:pt x="14865" y="9494"/>
                  <a:pt x="14865" y="7910"/>
                </a:cubicBezTo>
                <a:cubicBezTo>
                  <a:pt x="14865" y="5595"/>
                  <a:pt x="13011" y="3854"/>
                  <a:pt x="10800" y="3854"/>
                </a:cubicBezTo>
                <a:cubicBezTo>
                  <a:pt x="8589" y="3854"/>
                  <a:pt x="6918" y="5595"/>
                  <a:pt x="6918" y="7910"/>
                </a:cubicBezTo>
                <a:lnTo>
                  <a:pt x="8772" y="7910"/>
                </a:lnTo>
                <a:cubicBezTo>
                  <a:pt x="8772" y="6770"/>
                  <a:pt x="9695" y="5882"/>
                  <a:pt x="10800" y="5882"/>
                </a:cubicBezTo>
                <a:cubicBezTo>
                  <a:pt x="11905" y="5882"/>
                  <a:pt x="12837" y="6770"/>
                  <a:pt x="12837" y="7910"/>
                </a:cubicBezTo>
                <a:cubicBezTo>
                  <a:pt x="12837" y="8650"/>
                  <a:pt x="12367" y="9381"/>
                  <a:pt x="11905" y="9381"/>
                </a:cubicBezTo>
                <a:cubicBezTo>
                  <a:pt x="10800" y="9381"/>
                  <a:pt x="9695" y="10861"/>
                  <a:pt x="9695" y="12384"/>
                </a:cubicBezTo>
                <a:lnTo>
                  <a:pt x="9695" y="14342"/>
                </a:lnTo>
                <a:close/>
              </a:path>
            </a:pathLst>
          </a:custGeom>
          <a:solidFill>
            <a:srgbClr val="93a299"/>
          </a:solidFill>
          <a:ln w="2628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6" name="Управляющая кнопка: справка 3"/>
          <p:cNvSpPr/>
          <p:nvPr/>
        </p:nvSpPr>
        <p:spPr>
          <a:xfrm>
            <a:off x="1376280" y="3002040"/>
            <a:ext cx="833400" cy="884160"/>
          </a:xfrm>
          <a:custGeom>
            <a:avLst/>
            <a:gdLst>
              <a:gd name="textAreaLeft" fmla="*/ 54000 w 833400"/>
              <a:gd name="textAreaRight" fmla="*/ 779400 w 833400"/>
              <a:gd name="textAreaTop" fmla="*/ 54000 h 884160"/>
              <a:gd name="textAreaBottom" fmla="*/ 830160 h 884160"/>
            </a:gdLst>
            <a:ahLst/>
            <a:rect l="textAreaLeft" t="textAreaTop" r="textAreaRight" b="textAreaBottom"/>
            <a:pathLst>
              <a:path w="21600" h="22915">
                <a:moveTo>
                  <a:pt x="0" y="0"/>
                </a:moveTo>
                <a:lnTo>
                  <a:pt x="21600" y="0"/>
                </a:lnTo>
                <a:lnTo>
                  <a:pt x="21600" y="22915"/>
                </a:lnTo>
                <a:lnTo>
                  <a:pt x="0" y="22915"/>
                </a:lnTo>
                <a:close/>
              </a:path>
              <a:path fill="lightenLess" w="21600" h="229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15">
                <a:moveTo>
                  <a:pt x="21600" y="0"/>
                </a:moveTo>
                <a:lnTo>
                  <a:pt x="21600" y="22915"/>
                </a:lnTo>
                <a:lnTo>
                  <a:pt x="20200" y="21515"/>
                </a:lnTo>
                <a:lnTo>
                  <a:pt x="20200" y="1400"/>
                </a:lnTo>
                <a:close/>
              </a:path>
              <a:path fill="darkenLess" w="21600" h="22915">
                <a:moveTo>
                  <a:pt x="21600" y="22915"/>
                </a:moveTo>
                <a:lnTo>
                  <a:pt x="0" y="22915"/>
                </a:lnTo>
                <a:lnTo>
                  <a:pt x="1400" y="21515"/>
                </a:lnTo>
                <a:lnTo>
                  <a:pt x="20200" y="21515"/>
                </a:lnTo>
                <a:close/>
              </a:path>
              <a:path fill="lighten" w="21600" h="22915">
                <a:moveTo>
                  <a:pt x="0" y="229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15"/>
                </a:lnTo>
                <a:close/>
              </a:path>
              <a:path fill="darken" w="21600" h="22915">
                <a:moveTo>
                  <a:pt x="10800" y="15461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2915">
                <a:moveTo>
                  <a:pt x="11905" y="14939"/>
                </a:moveTo>
                <a:lnTo>
                  <a:pt x="11905" y="12981"/>
                </a:lnTo>
                <a:cubicBezTo>
                  <a:pt x="11905" y="12154"/>
                  <a:pt x="12236" y="11458"/>
                  <a:pt x="12837" y="11458"/>
                </a:cubicBezTo>
                <a:cubicBezTo>
                  <a:pt x="13968" y="11458"/>
                  <a:pt x="14865" y="10091"/>
                  <a:pt x="14865" y="8507"/>
                </a:cubicBezTo>
                <a:cubicBezTo>
                  <a:pt x="14865" y="6192"/>
                  <a:pt x="13011" y="4451"/>
                  <a:pt x="10800" y="4451"/>
                </a:cubicBezTo>
                <a:cubicBezTo>
                  <a:pt x="8589" y="4451"/>
                  <a:pt x="6918" y="6192"/>
                  <a:pt x="6918" y="8507"/>
                </a:cubicBezTo>
                <a:lnTo>
                  <a:pt x="8772" y="8507"/>
                </a:lnTo>
                <a:cubicBezTo>
                  <a:pt x="8772" y="7367"/>
                  <a:pt x="9695" y="6479"/>
                  <a:pt x="10800" y="6479"/>
                </a:cubicBezTo>
                <a:cubicBezTo>
                  <a:pt x="11905" y="6479"/>
                  <a:pt x="12837" y="7367"/>
                  <a:pt x="12837" y="8507"/>
                </a:cubicBezTo>
                <a:cubicBezTo>
                  <a:pt x="12837" y="9247"/>
                  <a:pt x="12367" y="9978"/>
                  <a:pt x="11905" y="9978"/>
                </a:cubicBezTo>
                <a:cubicBezTo>
                  <a:pt x="10800" y="9978"/>
                  <a:pt x="9695" y="11458"/>
                  <a:pt x="9695" y="12981"/>
                </a:cubicBezTo>
                <a:lnTo>
                  <a:pt x="9695" y="14939"/>
                </a:lnTo>
                <a:close/>
              </a:path>
            </a:pathLst>
          </a:custGeom>
          <a:solidFill>
            <a:srgbClr val="93a299"/>
          </a:solidFill>
          <a:ln w="2628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7" name="Управляющая кнопка: справка 4"/>
          <p:cNvSpPr/>
          <p:nvPr/>
        </p:nvSpPr>
        <p:spPr>
          <a:xfrm>
            <a:off x="1271520" y="5257800"/>
            <a:ext cx="938160" cy="838080"/>
          </a:xfrm>
          <a:custGeom>
            <a:avLst/>
            <a:gdLst>
              <a:gd name="textAreaLeft" fmla="*/ 54000 w 938160"/>
              <a:gd name="textAreaRight" fmla="*/ 884160 w 9381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4178" h="21600">
                <a:moveTo>
                  <a:pt x="0" y="0"/>
                </a:moveTo>
                <a:lnTo>
                  <a:pt x="24178" y="0"/>
                </a:lnTo>
                <a:lnTo>
                  <a:pt x="24178" y="21600"/>
                </a:lnTo>
                <a:lnTo>
                  <a:pt x="0" y="21600"/>
                </a:lnTo>
                <a:close/>
              </a:path>
              <a:path fill="lightenLess" w="24178" h="21600">
                <a:moveTo>
                  <a:pt x="0" y="0"/>
                </a:moveTo>
                <a:lnTo>
                  <a:pt x="24178" y="0"/>
                </a:lnTo>
                <a:lnTo>
                  <a:pt x="22778" y="1400"/>
                </a:lnTo>
                <a:lnTo>
                  <a:pt x="1400" y="1400"/>
                </a:lnTo>
                <a:close/>
              </a:path>
              <a:path fill="darken" w="24178" h="21600">
                <a:moveTo>
                  <a:pt x="24178" y="0"/>
                </a:moveTo>
                <a:lnTo>
                  <a:pt x="24178" y="21600"/>
                </a:lnTo>
                <a:lnTo>
                  <a:pt x="22778" y="20200"/>
                </a:lnTo>
                <a:lnTo>
                  <a:pt x="22778" y="1400"/>
                </a:lnTo>
                <a:close/>
              </a:path>
              <a:path fill="darkenLess" w="24178" h="21600">
                <a:moveTo>
                  <a:pt x="24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78" y="20200"/>
                </a:lnTo>
                <a:close/>
              </a:path>
              <a:path fill="lighten" w="24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78" h="21600">
                <a:moveTo>
                  <a:pt x="1208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178" h="21600">
                <a:moveTo>
                  <a:pt x="13195" y="14281"/>
                </a:moveTo>
                <a:lnTo>
                  <a:pt x="13195" y="12323"/>
                </a:lnTo>
                <a:cubicBezTo>
                  <a:pt x="13195" y="11496"/>
                  <a:pt x="13525" y="10800"/>
                  <a:pt x="14126" y="10800"/>
                </a:cubicBezTo>
                <a:cubicBezTo>
                  <a:pt x="15257" y="10800"/>
                  <a:pt x="16154" y="9434"/>
                  <a:pt x="16154" y="7849"/>
                </a:cubicBezTo>
                <a:cubicBezTo>
                  <a:pt x="16154" y="5534"/>
                  <a:pt x="14300" y="3794"/>
                  <a:pt x="12089" y="3794"/>
                </a:cubicBezTo>
                <a:cubicBezTo>
                  <a:pt x="9878" y="3794"/>
                  <a:pt x="8207" y="5534"/>
                  <a:pt x="8207" y="7849"/>
                </a:cubicBezTo>
                <a:lnTo>
                  <a:pt x="10061" y="7849"/>
                </a:lnTo>
                <a:cubicBezTo>
                  <a:pt x="10061" y="6709"/>
                  <a:pt x="10984" y="5821"/>
                  <a:pt x="12089" y="5821"/>
                </a:cubicBezTo>
                <a:cubicBezTo>
                  <a:pt x="13195" y="5821"/>
                  <a:pt x="14126" y="6709"/>
                  <a:pt x="14126" y="7849"/>
                </a:cubicBezTo>
                <a:cubicBezTo>
                  <a:pt x="14126" y="8589"/>
                  <a:pt x="13656" y="9320"/>
                  <a:pt x="13195" y="9320"/>
                </a:cubicBezTo>
                <a:cubicBezTo>
                  <a:pt x="12089" y="9320"/>
                  <a:pt x="10984" y="10800"/>
                  <a:pt x="10984" y="12323"/>
                </a:cubicBezTo>
                <a:lnTo>
                  <a:pt x="10984" y="14281"/>
                </a:lnTo>
                <a:close/>
              </a:path>
            </a:pathLst>
          </a:custGeom>
          <a:solidFill>
            <a:srgbClr val="93a299"/>
          </a:solidFill>
          <a:ln w="2628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8" name="Управляющая кнопка: справка 5"/>
          <p:cNvSpPr/>
          <p:nvPr/>
        </p:nvSpPr>
        <p:spPr>
          <a:xfrm>
            <a:off x="6527880" y="4737240"/>
            <a:ext cx="1041480" cy="1041120"/>
          </a:xfrm>
          <a:custGeom>
            <a:avLst/>
            <a:gdLst>
              <a:gd name="textAreaLeft" fmla="*/ 67320 w 1041480"/>
              <a:gd name="textAreaRight" fmla="*/ 974160 w 1041480"/>
              <a:gd name="textAreaTop" fmla="*/ 67320 h 1041120"/>
              <a:gd name="textAreaBottom" fmla="*/ 973800 h 10411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1080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7" h="21600">
                <a:moveTo>
                  <a:pt x="11909" y="14281"/>
                </a:moveTo>
                <a:lnTo>
                  <a:pt x="11909" y="12323"/>
                </a:lnTo>
                <a:cubicBezTo>
                  <a:pt x="11909" y="11496"/>
                  <a:pt x="12240" y="10800"/>
                  <a:pt x="12840" y="10800"/>
                </a:cubicBezTo>
                <a:cubicBezTo>
                  <a:pt x="13972" y="10800"/>
                  <a:pt x="14868" y="9434"/>
                  <a:pt x="14868" y="7849"/>
                </a:cubicBezTo>
                <a:cubicBezTo>
                  <a:pt x="14868" y="5534"/>
                  <a:pt x="13014" y="3794"/>
                  <a:pt x="10804" y="3794"/>
                </a:cubicBezTo>
                <a:cubicBezTo>
                  <a:pt x="8593" y="3794"/>
                  <a:pt x="6922" y="5534"/>
                  <a:pt x="6922" y="7849"/>
                </a:cubicBezTo>
                <a:lnTo>
                  <a:pt x="8776" y="7849"/>
                </a:lnTo>
                <a:cubicBezTo>
                  <a:pt x="8776" y="6709"/>
                  <a:pt x="9698" y="5821"/>
                  <a:pt x="10804" y="5821"/>
                </a:cubicBezTo>
                <a:cubicBezTo>
                  <a:pt x="11909" y="5821"/>
                  <a:pt x="12840" y="6709"/>
                  <a:pt x="12840" y="7849"/>
                </a:cubicBezTo>
                <a:cubicBezTo>
                  <a:pt x="12840" y="8589"/>
                  <a:pt x="12370" y="9320"/>
                  <a:pt x="11909" y="9320"/>
                </a:cubicBezTo>
                <a:cubicBezTo>
                  <a:pt x="10804" y="9320"/>
                  <a:pt x="9698" y="10800"/>
                  <a:pt x="9698" y="12323"/>
                </a:cubicBezTo>
                <a:lnTo>
                  <a:pt x="9698" y="14281"/>
                </a:lnTo>
                <a:close/>
              </a:path>
            </a:pathLst>
          </a:custGeom>
          <a:solidFill>
            <a:srgbClr val="93a299"/>
          </a:solidFill>
          <a:ln w="2628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9" name=""/>
          <p:cNvGraphicFramePr/>
          <p:nvPr/>
        </p:nvGraphicFramePr>
        <p:xfrm>
          <a:off x="304920" y="609480"/>
          <a:ext cx="8610480" cy="6218280"/>
        </p:xfrm>
        <a:graphic>
          <a:graphicData uri="http://schemas.openxmlformats.org/drawingml/2006/table">
            <a:tbl>
              <a:tblPr/>
              <a:tblGrid>
                <a:gridCol w="1752480"/>
                <a:gridCol w="3200400"/>
                <a:gridCol w="365760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Система органов</a:t>
                      </a:r>
                      <a:endParaRPr b="0" lang="en-US" sz="2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3a299"/>
                      </a:solidFill>
                    </a:lnL>
                    <a:lnR w="5760">
                      <a:solidFill>
                        <a:srgbClr val="93a299"/>
                      </a:solidFill>
                    </a:lnR>
                    <a:lnT w="5760">
                      <a:solidFill>
                        <a:srgbClr val="93a299"/>
                      </a:solidFill>
                    </a:lnT>
                    <a:lnB w="12240">
                      <a:solidFill>
                        <a:srgbClr val="93a2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Органы системы</a:t>
                      </a:r>
                      <a:endParaRPr b="0" lang="en-US" sz="2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3a299"/>
                      </a:solidFill>
                    </a:lnL>
                    <a:lnR w="5760">
                      <a:solidFill>
                        <a:srgbClr val="93a299"/>
                      </a:solidFill>
                    </a:lnR>
                    <a:lnT w="5760">
                      <a:solidFill>
                        <a:srgbClr val="93a299"/>
                      </a:solidFill>
                    </a:lnT>
                    <a:lnB w="12240">
                      <a:solidFill>
                        <a:srgbClr val="93a2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Функции системы</a:t>
                      </a:r>
                      <a:endParaRPr b="0" lang="en-US" sz="2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3a299"/>
                      </a:solidFill>
                    </a:lnL>
                    <a:lnR w="5760">
                      <a:solidFill>
                        <a:srgbClr val="93a299"/>
                      </a:solidFill>
                    </a:lnR>
                    <a:lnT w="5760">
                      <a:solidFill>
                        <a:srgbClr val="93a299"/>
                      </a:solidFill>
                    </a:lnT>
                    <a:lnB w="12240">
                      <a:solidFill>
                        <a:srgbClr val="93a299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Пищевари-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тельная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3a299"/>
                      </a:solidFill>
                    </a:lnL>
                    <a:lnR w="5760">
                      <a:solidFill>
                        <a:srgbClr val="93a299"/>
                      </a:solidFill>
                    </a:lnR>
                    <a:lnT w="12240">
                      <a:solidFill>
                        <a:srgbClr val="93a299"/>
                      </a:solidFill>
                    </a:lnT>
                    <a:lnB w="5760">
                      <a:solidFill>
                        <a:srgbClr val="93a299"/>
                      </a:solidFill>
                    </a:lnB>
                    <a:solidFill>
                      <a:srgbClr val="93a2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Ротовое отверстие, глотка, кишка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3a299"/>
                      </a:solidFill>
                    </a:lnL>
                    <a:lnR w="5760">
                      <a:solidFill>
                        <a:srgbClr val="93a299"/>
                      </a:solidFill>
                    </a:lnR>
                    <a:lnT w="12240">
                      <a:solidFill>
                        <a:srgbClr val="93a299"/>
                      </a:solidFill>
                    </a:lnT>
                    <a:lnB w="5760">
                      <a:solidFill>
                        <a:srgbClr val="93a299"/>
                      </a:solidFill>
                    </a:lnB>
                    <a:solidFill>
                      <a:srgbClr val="93a2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Захват добычи, переваривание, удаление непереваренных остатков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3a299"/>
                      </a:solidFill>
                    </a:lnL>
                    <a:lnR w="5760">
                      <a:solidFill>
                        <a:srgbClr val="93a299"/>
                      </a:solidFill>
                    </a:lnR>
                    <a:lnT w="12240">
                      <a:solidFill>
                        <a:srgbClr val="93a299"/>
                      </a:solidFill>
                    </a:lnT>
                    <a:lnB w="5760">
                      <a:solidFill>
                        <a:srgbClr val="93a299"/>
                      </a:solidFill>
                    </a:lnB>
                    <a:solidFill>
                      <a:srgbClr val="93a299">
                        <a:alpha val="20000"/>
                      </a:srgbClr>
                    </a:solidFill>
                  </a:tcPr>
                </a:tc>
              </a:tr>
              <a:tr h="118908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Нервная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Органы чувств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3a299"/>
                      </a:solidFill>
                    </a:lnL>
                    <a:lnR w="5760">
                      <a:solidFill>
                        <a:srgbClr val="93a299"/>
                      </a:solidFill>
                    </a:lnR>
                    <a:lnT w="5760">
                      <a:solidFill>
                        <a:srgbClr val="93a299"/>
                      </a:solidFill>
                    </a:lnT>
                    <a:lnB w="5760">
                      <a:solidFill>
                        <a:srgbClr val="93a2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Нервные узлы- мозговые ганглии,  2 нервных ствола, поперечные перемычки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3a299"/>
                      </a:solidFill>
                    </a:lnL>
                    <a:lnR w="5760">
                      <a:solidFill>
                        <a:srgbClr val="93a299"/>
                      </a:solidFill>
                    </a:lnR>
                    <a:lnT w="5760">
                      <a:solidFill>
                        <a:srgbClr val="93a299"/>
                      </a:solidFill>
                    </a:lnT>
                    <a:lnB w="5760">
                      <a:solidFill>
                        <a:srgbClr val="93a2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регуляция деятельности систем органов и реакций на изменение условий внутренней и внешней среды.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3a299"/>
                      </a:solidFill>
                    </a:lnL>
                    <a:lnR w="5760">
                      <a:solidFill>
                        <a:srgbClr val="93a299"/>
                      </a:solidFill>
                    </a:lnR>
                    <a:lnT w="5760">
                      <a:solidFill>
                        <a:srgbClr val="93a299"/>
                      </a:solidFill>
                    </a:lnT>
                    <a:lnB w="5760">
                      <a:solidFill>
                        <a:srgbClr val="93a299"/>
                      </a:solidFill>
                    </a:lnB>
                    <a:noFill/>
                  </a:tcPr>
                </a:tc>
              </a:tr>
              <a:tr h="91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Светочувствительные глазки, органы равновесия, кожные реснички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3a299"/>
                      </a:solidFill>
                    </a:lnL>
                    <a:lnR w="5760">
                      <a:solidFill>
                        <a:srgbClr val="93a299"/>
                      </a:solidFill>
                    </a:lnR>
                    <a:lnT w="5760">
                      <a:solidFill>
                        <a:srgbClr val="93a299"/>
                      </a:solidFill>
                    </a:lnT>
                    <a:lnB w="5760">
                      <a:solidFill>
                        <a:srgbClr val="93a299"/>
                      </a:solidFill>
                    </a:lnB>
                    <a:solidFill>
                      <a:srgbClr val="93a2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Восприятие  раздражений из окружающей среды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3a299"/>
                      </a:solidFill>
                    </a:lnL>
                    <a:lnR w="5760">
                      <a:solidFill>
                        <a:srgbClr val="93a299"/>
                      </a:solidFill>
                    </a:lnR>
                    <a:lnT w="5760">
                      <a:solidFill>
                        <a:srgbClr val="93a299"/>
                      </a:solidFill>
                    </a:lnT>
                    <a:lnB w="5760">
                      <a:solidFill>
                        <a:srgbClr val="93a299"/>
                      </a:solidFill>
                    </a:lnB>
                    <a:solidFill>
                      <a:srgbClr val="93a299">
                        <a:alpha val="20000"/>
                      </a:srgbClr>
                    </a:solidFill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Выделитель-ная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3a299"/>
                      </a:solidFill>
                    </a:lnL>
                    <a:lnR w="5760">
                      <a:solidFill>
                        <a:srgbClr val="93a299"/>
                      </a:solidFill>
                    </a:lnR>
                    <a:lnT w="5760">
                      <a:solidFill>
                        <a:srgbClr val="93a299"/>
                      </a:solidFill>
                    </a:lnT>
                    <a:lnB w="5760">
                      <a:solidFill>
                        <a:srgbClr val="93a2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Разветвленные канальца протонефридии, звездчатые клетки с ресничками,выделительные отверстия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3a299"/>
                      </a:solidFill>
                    </a:lnL>
                    <a:lnR w="5760">
                      <a:solidFill>
                        <a:srgbClr val="93a299"/>
                      </a:solidFill>
                    </a:lnR>
                    <a:lnT w="5760">
                      <a:solidFill>
                        <a:srgbClr val="93a299"/>
                      </a:solidFill>
                    </a:lnT>
                    <a:lnB w="5760">
                      <a:solidFill>
                        <a:srgbClr val="93a2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Выделение продуктов обмена веществ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3a299"/>
                      </a:solidFill>
                    </a:lnL>
                    <a:lnR w="5760">
                      <a:solidFill>
                        <a:srgbClr val="93a299"/>
                      </a:solidFill>
                    </a:lnR>
                    <a:lnT w="5760">
                      <a:solidFill>
                        <a:srgbClr val="93a299"/>
                      </a:solidFill>
                    </a:lnT>
                    <a:lnB w="5760">
                      <a:solidFill>
                        <a:srgbClr val="93a299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Половая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3a299"/>
                      </a:solidFill>
                    </a:lnL>
                    <a:lnR w="5760">
                      <a:solidFill>
                        <a:srgbClr val="93a299"/>
                      </a:solidFill>
                    </a:lnR>
                    <a:lnT w="5760">
                      <a:solidFill>
                        <a:srgbClr val="93a299"/>
                      </a:solidFill>
                    </a:lnT>
                    <a:lnB w="5760">
                      <a:solidFill>
                        <a:srgbClr val="93a299"/>
                      </a:solidFill>
                    </a:lnB>
                    <a:solidFill>
                      <a:srgbClr val="93a2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Половые железы – семенники и яичники;  выводные протоки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3a299"/>
                      </a:solidFill>
                    </a:lnL>
                    <a:lnR w="5760">
                      <a:solidFill>
                        <a:srgbClr val="93a299"/>
                      </a:solidFill>
                    </a:lnR>
                    <a:lnT w="5760">
                      <a:solidFill>
                        <a:srgbClr val="93a299"/>
                      </a:solidFill>
                    </a:lnT>
                    <a:lnB w="5760">
                      <a:solidFill>
                        <a:srgbClr val="93a299"/>
                      </a:solidFill>
                    </a:lnB>
                    <a:solidFill>
                      <a:srgbClr val="93a2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Половое размножение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3a299"/>
                      </a:solidFill>
                    </a:lnL>
                    <a:lnR w="5760">
                      <a:solidFill>
                        <a:srgbClr val="93a299"/>
                      </a:solidFill>
                    </a:lnR>
                    <a:lnT w="5760">
                      <a:solidFill>
                        <a:srgbClr val="93a299"/>
                      </a:solidFill>
                    </a:lnT>
                    <a:lnB w="5760">
                      <a:solidFill>
                        <a:srgbClr val="93a299"/>
                      </a:solidFill>
                    </a:lnB>
                    <a:solidFill>
                      <a:srgbClr val="93a299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slow">
    <p:randomBar dir="vert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2533c"/>
                </a:solidFill>
                <a:latin typeface="Arial"/>
              </a:rPr>
              <a:t>Какие прогрессивные изменения произошли у плоских червей?</a:t>
            </a: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39322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2533c"/>
                </a:solidFill>
                <a:latin typeface="Arial"/>
              </a:rPr>
              <a:t>Гидра пресноводная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6840" y="2438280"/>
            <a:ext cx="3932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Двухслойные (экто- и эндодерма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Лучевая симметрия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Нет органов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Диффузная нервная система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Нет кожно-мускульного мешка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54160" y="1676160"/>
            <a:ext cx="39322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2533c"/>
                </a:solidFill>
                <a:latin typeface="Arial"/>
              </a:rPr>
              <a:t>Планария белая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754160" y="2438280"/>
            <a:ext cx="3932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Трехслойные (экто-, эндо-, мезодерма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Двусторонняя симметрия тела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Есть органы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Лестничная нервная система, органы чувств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Есть кожно-мускульный мешок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99"/>
                </a:solidFill>
                <a:latin typeface="Arial"/>
              </a:rPr>
              <a:t>Проверь свои знания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99"/>
                </a:solidFill>
                <a:latin typeface="Arial"/>
              </a:rPr>
              <a:t>Какие классы входят в тип плоские черви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99"/>
                </a:solidFill>
                <a:latin typeface="Arial"/>
              </a:rPr>
              <a:t>Ресничные черви, сосальщики, лернточные черви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99"/>
                </a:solidFill>
                <a:latin typeface="Arial"/>
              </a:rPr>
              <a:t>Какие системы органов появились у плоских червей?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99"/>
                </a:solidFill>
                <a:latin typeface="Arial"/>
              </a:rPr>
              <a:t>Пищеварительная, выделительная, половая,  нервная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99"/>
                </a:solidFill>
                <a:latin typeface="Arial"/>
              </a:rPr>
              <a:t>Как дышат плоские черви?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99"/>
                </a:solidFill>
                <a:latin typeface="Arial"/>
              </a:rPr>
              <a:t>Ресничные - через поверхность тела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2533c"/>
                </a:solidFill>
                <a:latin typeface="Arial"/>
              </a:rPr>
              <a:t>Домашнее задание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9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92934"/>
                </a:solidFill>
                <a:latin typeface="Arial"/>
              </a:rPr>
              <a:t>Д/З стр. учебника 116-117 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9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92934"/>
                </a:solidFill>
                <a:latin typeface="Arial"/>
              </a:rPr>
              <a:t>Составить тест по теме урока.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2533c"/>
                </a:solidFill>
                <a:latin typeface="Arial"/>
              </a:rPr>
              <a:t>Задачи: </a:t>
            </a:r>
            <a:br>
              <a:rPr sz="3600"/>
            </a:b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рассмотреть классификацию плоских червей;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just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изучить особенности строения и жизнедеятельности плоских червей на примере планарии белой;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just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выявить черты более высокой организации по сравнению с кишечнополостными и губками: появление лестничной  нервной системы, выделительной, половой систем;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just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познакомиться с представителями типа;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2533c"/>
                </a:solidFill>
                <a:latin typeface="Arial"/>
              </a:rPr>
              <a:t>Каково строение гидры?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673280"/>
            <a:ext cx="403848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648320" y="1673280"/>
            <a:ext cx="403848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34"/>
                </a:solidFill>
                <a:latin typeface="Arial"/>
              </a:rPr>
              <a:t>1-щупальца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34"/>
                </a:solidFill>
                <a:latin typeface="Arial"/>
              </a:rPr>
              <a:t>2-подошва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34"/>
                </a:solidFill>
                <a:latin typeface="Arial"/>
              </a:rPr>
              <a:t>3-кишечная полость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34"/>
                </a:solidFill>
                <a:latin typeface="Arial"/>
              </a:rPr>
              <a:t>4.Эктодерма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34"/>
                </a:solidFill>
                <a:latin typeface="Arial"/>
              </a:rPr>
              <a:t>5.Молодая гидра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26" name="Picture 2" descr="D:\Биология\7 класс\ЖИВОТНЫЕ\Беспозвоночные\кишечнополостные\31.jpg"/>
          <p:cNvPicPr/>
          <p:nvPr/>
        </p:nvPicPr>
        <p:blipFill>
          <a:blip r:embed="rId1"/>
          <a:stretch/>
        </p:blipFill>
        <p:spPr>
          <a:xfrm>
            <a:off x="414360" y="2362320"/>
            <a:ext cx="4113360" cy="35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2533c"/>
                </a:solidFill>
                <a:latin typeface="Arial"/>
              </a:rPr>
              <a:t>Определите процесс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28" name="Picture 3" descr="D:\Биология\7 класс\ЖИВОТНЫЕ\Беспозвоночные\кишечнополостные\enc_biology-9-5 - копия.jpg"/>
          <p:cNvPicPr/>
          <p:nvPr/>
        </p:nvPicPr>
        <p:blipFill>
          <a:blip r:embed="rId1"/>
          <a:stretch/>
        </p:blipFill>
        <p:spPr>
          <a:xfrm>
            <a:off x="533520" y="2819520"/>
            <a:ext cx="792468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1905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2533c"/>
                </a:solidFill>
                <a:latin typeface="Arial"/>
              </a:rPr>
              <a:t>Определите процесс</a:t>
            </a:r>
            <a:endParaRPr b="0" lang="en-US" sz="24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2859120" y="838080"/>
            <a:ext cx="5904000" cy="5500800"/>
          </a:xfrm>
          <a:prstGeom prst="rect">
            <a:avLst/>
          </a:prstGeom>
          <a:ln w="7632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9000"/>
              </a:srgbClr>
            </a:outerShdw>
          </a:effectLst>
        </p:spPr>
      </p:pic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1905120" cy="42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34"/>
                </a:solidFill>
                <a:latin typeface="Arial"/>
              </a:rPr>
              <a:t>Почкование – бесполое размножение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32" name="Picture 2" descr="D:\Биология\7 класс\ЖИВОТНЫЕ\Беспозвоночные\кишечнополостные\31.jpg"/>
          <p:cNvPicPr/>
          <p:nvPr/>
        </p:nvPicPr>
        <p:blipFill>
          <a:blip r:embed="rId2"/>
          <a:stretch/>
        </p:blipFill>
        <p:spPr>
          <a:xfrm>
            <a:off x="2362320" y="685800"/>
            <a:ext cx="6487920" cy="56674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" descr="D:\Биология\7 класс\ЖИВОТНЫЕ\Беспозвоночные\кишечнополостные\31.jpg"/>
          <p:cNvPicPr/>
          <p:nvPr/>
        </p:nvPicPr>
        <p:blipFill>
          <a:blip r:embed="rId3"/>
          <a:stretch/>
        </p:blipFill>
        <p:spPr>
          <a:xfrm>
            <a:off x="2514600" y="685800"/>
            <a:ext cx="6107040" cy="5667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791640"/>
            <a:ext cx="2143080" cy="88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2533c"/>
                </a:solidFill>
                <a:latin typeface="Arial"/>
              </a:rPr>
              <a:t>Определите процесс</a:t>
            </a:r>
            <a:endParaRPr b="0" lang="en-US" sz="24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2859120" y="838080"/>
            <a:ext cx="5904000" cy="5500800"/>
          </a:xfrm>
          <a:prstGeom prst="rect">
            <a:avLst/>
          </a:prstGeom>
          <a:ln w="7632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9000"/>
              </a:srgbClr>
            </a:outerShdw>
          </a:effectLst>
        </p:spPr>
      </p:pic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2139840" cy="42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Чередование полового и бесполого поколения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Сцифоидных медуз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37" name="Picture 5" descr="D:\Биология\7 класс\ЖИВОТНЫЕ\Беспозвоночные\кишечнополостные\жизн.цикл сцифоидных - копия.jpg"/>
          <p:cNvPicPr/>
          <p:nvPr/>
        </p:nvPicPr>
        <p:blipFill>
          <a:blip r:embed="rId2"/>
          <a:stretch/>
        </p:blipFill>
        <p:spPr>
          <a:xfrm>
            <a:off x="3352680" y="1143000"/>
            <a:ext cx="4872240" cy="495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44960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2533c"/>
                </a:solidFill>
                <a:latin typeface="Arial"/>
              </a:rPr>
              <a:t>Назовите животное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39" name="Picture 2" descr="D:\Биология\7 класс\ЖИВОТНЫЕ\Беспозвоночные\кишечнополостные\i.jpeg"/>
          <p:cNvPicPr/>
          <p:nvPr/>
        </p:nvPicPr>
        <p:blipFill>
          <a:blip r:embed="rId1"/>
          <a:stretch/>
        </p:blipFill>
        <p:spPr>
          <a:xfrm>
            <a:off x="403200" y="1371600"/>
            <a:ext cx="3886200" cy="26240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" descr="D:\Биология\7 класс\ЖИВОТНЫЕ\Беспозвоночные\кишечнополостные\image11471.jpg"/>
          <p:cNvPicPr/>
          <p:nvPr/>
        </p:nvPicPr>
        <p:blipFill>
          <a:blip r:embed="rId2"/>
          <a:stretch/>
        </p:blipFill>
        <p:spPr>
          <a:xfrm>
            <a:off x="4419720" y="3808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D:\Биология\7 класс\ЖИВОТНЫЕ\Беспозвоночные\кишечнополостные\0_684c7_5e50cd54_L.jpeg"/>
          <p:cNvPicPr/>
          <p:nvPr/>
        </p:nvPicPr>
        <p:blipFill>
          <a:blip r:embed="rId3"/>
          <a:stretch/>
        </p:blipFill>
        <p:spPr>
          <a:xfrm>
            <a:off x="4854600" y="3873600"/>
            <a:ext cx="4078440" cy="26668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D:\Биология\7 класс\ЖИВОТНЫЕ\Беспозвоночные\кишечнополостные\c60d4167ce0c.jpg"/>
          <p:cNvPicPr/>
          <p:nvPr/>
        </p:nvPicPr>
        <p:blipFill>
          <a:blip r:embed="rId4"/>
          <a:stretch/>
        </p:blipFill>
        <p:spPr>
          <a:xfrm>
            <a:off x="228600" y="3763800"/>
            <a:ext cx="3848040" cy="28861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D:\Биология\7 класс\ЖИВОТНЫЕ\Беспозвоночные\Тип плоские черви\Planaria SEX 1.jpg"/>
          <p:cNvPicPr/>
          <p:nvPr/>
        </p:nvPicPr>
        <p:blipFill>
          <a:blip r:embed="rId5"/>
          <a:stretch/>
        </p:blipFill>
        <p:spPr>
          <a:xfrm>
            <a:off x="3070080" y="3006720"/>
            <a:ext cx="382284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2533c"/>
                </a:solidFill>
                <a:latin typeface="Arial"/>
              </a:rPr>
              <a:t>Тип плоские черви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многоклеточные животные с двусторонней симметрией тела, имеющего уплощенную в спинно-брюшном направлении форму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трехслойные животные: эктодерма, мезодерма и энтодерма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Мезодерма выполняет функции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транспортная (передвижение питательных веществ по всему телу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запасающая (отложение питательных веществ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опорная (поддерживает внутренние органы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38102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2533c"/>
                </a:solidFill>
                <a:latin typeface="Arial"/>
              </a:rPr>
              <a:t>Класс Ресничные черви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47" name="Picture 2" descr="D:\Биология\7 класс\ЖИВОТНЫЕ\Беспозвоночные\Тип плоские черви\Pseudobiceros-gloriosus6.jpg"/>
          <p:cNvPicPr/>
          <p:nvPr/>
        </p:nvPicPr>
        <p:blipFill>
          <a:blip r:embed="rId1"/>
          <a:stretch/>
        </p:blipFill>
        <p:spPr>
          <a:xfrm>
            <a:off x="5170320" y="606600"/>
            <a:ext cx="3603960" cy="27032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" descr="D:\Биология\7 класс\ЖИВОТНЫЕ\Беспозвоночные\Тип плоские черви\flatworm.jpg"/>
          <p:cNvPicPr/>
          <p:nvPr/>
        </p:nvPicPr>
        <p:blipFill>
          <a:blip r:embed="rId2"/>
          <a:stretch/>
        </p:blipFill>
        <p:spPr>
          <a:xfrm>
            <a:off x="5160960" y="3733920"/>
            <a:ext cx="3916440" cy="29350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7" descr="D:\Биология\7 класс\ЖИВОТНЫЕ\Беспозвоночные\Тип плоские черви\Pseudoceros_dimidiatus.jpg"/>
          <p:cNvPicPr/>
          <p:nvPr/>
        </p:nvPicPr>
        <p:blipFill>
          <a:blip r:embed="rId3"/>
          <a:stretch/>
        </p:blipFill>
        <p:spPr>
          <a:xfrm>
            <a:off x="228600" y="1957320"/>
            <a:ext cx="432756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3T10:31:54Z</dcterms:created>
  <dc:creator>Asus</dc:creator>
  <dc:description/>
  <dc:language>en-US</dc:language>
  <cp:lastModifiedBy>NeSe</cp:lastModifiedBy>
  <dcterms:modified xsi:type="dcterms:W3CDTF">2013-01-17T16:23:49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