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59B-926E-4519-B670-9CC7DAA5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AB1-F539-4E11-B6E0-27CDA0A1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1C6-21A3-419D-A5C2-F4903756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DAB-91BF-4815-A839-D38A3271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8AA6-303B-4EB0-A51E-DA7600D6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BD1D-DCFC-4C75-8414-C3CF77C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42F5-6D00-403F-86C1-15647677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697-2F97-4454-A008-C6A4C6D8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4133-9556-4422-B693-1272A647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6CCF-DD4C-4C71-80FA-675EDCD6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DA1B-90FF-4D6C-9D6C-9359A3C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A3D-A264-43C6-833C-C98A191E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9B49-335D-449D-8BA1-D6943266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CD0D-50AA-46B1-90CD-634894D6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9D5D-783D-45B7-9F77-96FB5B49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821E-C91D-439F-9D39-A0EB3974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4534-2FF4-479B-9395-3C280C7C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04DB-7CFB-4023-8055-B84075FC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3CB2-96C5-440B-8A5F-073FFF3E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32C3-6DFD-4906-A614-375DF5A1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4652-03EE-4F59-99F6-01DA1619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732C-5088-4D24-9976-2B5B15D2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B90-82EA-4BFE-B0C7-746E9B05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5DD37-27BF-4C82-AD9C-18B9A8E2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62145-4A24-4996-8714-CF182FD5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1CED3-7CF3-4CA7-85B4-D592E545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6E7F-7B24-45C0-BA62-5793A772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E777-6A72-4F2F-8476-5A08C041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F5A6D-475E-4700-AB23-862AD138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FF20-8D1C-45E5-B8F5-72A10CD7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6712A-523A-4088-8153-BAAE544B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15358-88F6-431B-9ADD-B02745D0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04ADE-708C-44B8-AF8D-370C6BCB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F36-AE5C-4DC2-90AF-4FE99567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1029-C62F-4120-94B0-8C308A11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CEA5-1F4B-4B6F-BFE0-C25F6C72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D420D-AD78-4D57-AA5C-C1A77D25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271F7-9E87-4740-9ED3-A086201B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C8C51-0431-48E0-9088-F5D9346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0608-3318-4835-B393-73334D3D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0D7F7-57B6-4107-B097-1F11F922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0B05-C515-42B0-B094-8297BF42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3A56-C7FA-472B-8905-A8A97D53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5CCD-7B64-4F9D-8290-49340D23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E04-85A4-4D52-950B-50F5F08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D935F-01CE-4B1B-AA09-10F8AFFB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35BE7-52B4-4267-BFE6-4D11AEDC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F26DB-3B03-4194-8463-C8AA8D28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1480E-333A-4224-A0A7-CB70D152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8B6EF-9505-4D72-B4C5-28D41970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4FC99-49A7-49FA-8B0D-0CD15C89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D974D-CF60-4648-A45A-8460D49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A347D-38D2-49D3-BAF0-BD2AFF3A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9D84D-0008-4683-A037-14596905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3D69-CDE4-4CC5-BC6C-A77954D0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446-2428-41DB-8C44-CBBC1F68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2AE78-C052-4F2E-9241-14E7AFFE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1E2-9E49-4326-A41E-0BB36AB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F12-8EAE-4424-9AD4-CB119470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FD2-B304-4ED6-8958-A5E48753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8367-B314-4B7F-8616-EE27419355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AF6D-11A2-4245-AF56-9E72B0E7DD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736F-7581-4FEE-8B20-E6446BB729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4C70-CABF-46B2-8F14-2344F65CF5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0420-7FBE-4536-9F34-5450DF4DF6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ОБЩАЯ ХАРАКТЕРИСТИ­КА ТИПА ПЛОСКИЕ ЧЕР­ВИ. МНОГООБРАЗИЕ ПЛОСКИХ ЧЕРВЕЙ.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Разработала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Учитель биологии МБОУ СОШ № 7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г. Канаш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Капитонова Т.П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04960" y="533160"/>
            <a:ext cx="4800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Класс Сосальщик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3" descr="D:\Биология\7 класс\ЖИВОТНЫЕ\Беспозвоночные\Тип плоские черви\sosalshik.gif"/>
          <p:cNvPicPr/>
          <p:nvPr/>
        </p:nvPicPr>
        <p:blipFill>
          <a:blip r:embed="rId1"/>
          <a:stretch/>
        </p:blipFill>
        <p:spPr>
          <a:xfrm>
            <a:off x="533520" y="1676520"/>
            <a:ext cx="3568680" cy="228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42832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4343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Класс Ленточные черви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4" name="Picture 4" descr="D:\Биология\7 класс\ЖИВОТНЫЕ\Беспозвоночные\Тип плоские черви\d_lat1.gif"/>
          <p:cNvPicPr/>
          <p:nvPr/>
        </p:nvPicPr>
        <p:blipFill>
          <a:blip r:embed="rId1"/>
          <a:stretch/>
        </p:blipFill>
        <p:spPr>
          <a:xfrm>
            <a:off x="5486400" y="3733920"/>
            <a:ext cx="3324240" cy="2631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D:\Биология\7 класс\ЖИВОТНЫЕ\Беспозвоночные\Тип плоские черви\buchii-cepen7.jpg"/>
          <p:cNvPicPr/>
          <p:nvPr/>
        </p:nvPicPr>
        <p:blipFill>
          <a:blip r:embed="rId2"/>
          <a:stretch/>
        </p:blipFill>
        <p:spPr>
          <a:xfrm>
            <a:off x="304920" y="2239920"/>
            <a:ext cx="4643280" cy="3556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D:\Биология\7 класс\ЖИВОТНЫЕ\Беспозвоночные\Тип плоские черви\c22e6bfe83c4.jpg"/>
          <p:cNvPicPr/>
          <p:nvPr/>
        </p:nvPicPr>
        <p:blipFill>
          <a:blip r:embed="rId3"/>
          <a:stretch/>
        </p:blipFill>
        <p:spPr>
          <a:xfrm>
            <a:off x="5486400" y="1181160"/>
            <a:ext cx="31179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Внешнее строение планари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257440" y="1673280"/>
            <a:ext cx="34290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Тело вытянуто, выделены передний и задний концы. У свободноживущих на переднем конце имеются щупальцевидные выросты с органами чувств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0" name="Picture 2" descr="D:\Биология\7 класс\ЖИВОТНЫЕ\Беспозвоночные\Тип плоские черви\Planaria SEX 1.jpg"/>
          <p:cNvPicPr/>
          <p:nvPr/>
        </p:nvPicPr>
        <p:blipFill>
          <a:blip r:embed="rId1"/>
          <a:stretch/>
        </p:blipFill>
        <p:spPr>
          <a:xfrm>
            <a:off x="388800" y="1676520"/>
            <a:ext cx="473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Особенности внутреннего строения ресничных червей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2" name="Picture 2" descr="D:\Биология\7 класс\ЖИВОТНЫЕ\Беспозвоночные\Тип плоские черви\0004-004-Obschaja-kharakteristika-tipa.jpg"/>
          <p:cNvPicPr/>
          <p:nvPr/>
        </p:nvPicPr>
        <p:blipFill>
          <a:blip r:embed="rId1"/>
          <a:stretch/>
        </p:blipFill>
        <p:spPr>
          <a:xfrm>
            <a:off x="762120" y="2006640"/>
            <a:ext cx="79246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Системы органов плоских червей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4" name="Picture 2" descr="D:\Биология\7 класс\ЖИВОТНЫЕ\Беспозвоночные\Тип плоские черви\0010-014-Obschaja-kharakteristika-tipa - копия.png"/>
          <p:cNvPicPr/>
          <p:nvPr/>
        </p:nvPicPr>
        <p:blipFill>
          <a:blip r:embed="rId1"/>
          <a:stretch/>
        </p:blipFill>
        <p:spPr>
          <a:xfrm>
            <a:off x="2643120" y="1512720"/>
            <a:ext cx="3981600" cy="4746960"/>
          </a:xfrm>
          <a:prstGeom prst="rect">
            <a:avLst/>
          </a:prstGeom>
          <a:ln w="0">
            <a:noFill/>
          </a:ln>
        </p:spPr>
      </p:pic>
      <p:sp>
        <p:nvSpPr>
          <p:cNvPr id="265" name="Управляющая кнопка: справка 2"/>
          <p:cNvSpPr/>
          <p:nvPr/>
        </p:nvSpPr>
        <p:spPr>
          <a:xfrm>
            <a:off x="1376280" y="1447920"/>
            <a:ext cx="833400" cy="838080"/>
          </a:xfrm>
          <a:custGeom>
            <a:avLst/>
            <a:gdLst>
              <a:gd name="textAreaLeft" fmla="*/ 54000 w 833400"/>
              <a:gd name="textAreaRight" fmla="*/ 779400 w 833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10800" y="148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21">
                <a:moveTo>
                  <a:pt x="11905" y="14342"/>
                </a:moveTo>
                <a:lnTo>
                  <a:pt x="11905" y="12384"/>
                </a:lnTo>
                <a:cubicBezTo>
                  <a:pt x="11905" y="11557"/>
                  <a:pt x="12236" y="10861"/>
                  <a:pt x="12837" y="10861"/>
                </a:cubicBezTo>
                <a:cubicBezTo>
                  <a:pt x="13968" y="10861"/>
                  <a:pt x="14865" y="9494"/>
                  <a:pt x="14865" y="7910"/>
                </a:cubicBezTo>
                <a:cubicBezTo>
                  <a:pt x="14865" y="5595"/>
                  <a:pt x="13011" y="3854"/>
                  <a:pt x="10800" y="3854"/>
                </a:cubicBezTo>
                <a:cubicBezTo>
                  <a:pt x="8589" y="3854"/>
                  <a:pt x="6918" y="5595"/>
                  <a:pt x="6918" y="7910"/>
                </a:cubicBezTo>
                <a:lnTo>
                  <a:pt x="8772" y="7910"/>
                </a:lnTo>
                <a:cubicBezTo>
                  <a:pt x="8772" y="6770"/>
                  <a:pt x="9695" y="5882"/>
                  <a:pt x="10800" y="5882"/>
                </a:cubicBezTo>
                <a:cubicBezTo>
                  <a:pt x="11905" y="5882"/>
                  <a:pt x="12837" y="6770"/>
                  <a:pt x="12837" y="7910"/>
                </a:cubicBezTo>
                <a:cubicBezTo>
                  <a:pt x="12837" y="8650"/>
                  <a:pt x="12367" y="9381"/>
                  <a:pt x="11905" y="9381"/>
                </a:cubicBezTo>
                <a:cubicBezTo>
                  <a:pt x="10800" y="9381"/>
                  <a:pt x="9695" y="10861"/>
                  <a:pt x="9695" y="12384"/>
                </a:cubicBezTo>
                <a:lnTo>
                  <a:pt x="9695" y="14342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Управляющая кнопка: справка 3"/>
          <p:cNvSpPr/>
          <p:nvPr/>
        </p:nvSpPr>
        <p:spPr>
          <a:xfrm>
            <a:off x="1376280" y="3002040"/>
            <a:ext cx="833400" cy="884160"/>
          </a:xfrm>
          <a:custGeom>
            <a:avLst/>
            <a:gdLst>
              <a:gd name="textAreaLeft" fmla="*/ 54000 w 833400"/>
              <a:gd name="textAreaRight" fmla="*/ 779400 w 833400"/>
              <a:gd name="textAreaTop" fmla="*/ 54000 h 884160"/>
              <a:gd name="textAreaBottom" fmla="*/ 830160 h 884160"/>
            </a:gdLst>
            <a:ahLst/>
            <a:rect l="textAreaLeft" t="textAreaTop" r="textAreaRight" b="textAreaBottom"/>
            <a:pathLst>
              <a:path w="21600" h="22915">
                <a:moveTo>
                  <a:pt x="0" y="0"/>
                </a:moveTo>
                <a:lnTo>
                  <a:pt x="21600" y="0"/>
                </a:lnTo>
                <a:lnTo>
                  <a:pt x="21600" y="22915"/>
                </a:lnTo>
                <a:lnTo>
                  <a:pt x="0" y="22915"/>
                </a:lnTo>
                <a:close/>
              </a:path>
              <a:path fill="lightenLess" w="21600" h="22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15">
                <a:moveTo>
                  <a:pt x="21600" y="0"/>
                </a:moveTo>
                <a:lnTo>
                  <a:pt x="21600" y="22915"/>
                </a:lnTo>
                <a:lnTo>
                  <a:pt x="20200" y="21515"/>
                </a:lnTo>
                <a:lnTo>
                  <a:pt x="20200" y="1400"/>
                </a:lnTo>
                <a:close/>
              </a:path>
              <a:path fill="darkenLess" w="21600" h="22915">
                <a:moveTo>
                  <a:pt x="21600" y="22915"/>
                </a:moveTo>
                <a:lnTo>
                  <a:pt x="0" y="22915"/>
                </a:lnTo>
                <a:lnTo>
                  <a:pt x="1400" y="21515"/>
                </a:lnTo>
                <a:lnTo>
                  <a:pt x="20200" y="21515"/>
                </a:lnTo>
                <a:close/>
              </a:path>
              <a:path fill="lighten" w="21600" h="22915">
                <a:moveTo>
                  <a:pt x="0" y="22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15"/>
                </a:lnTo>
                <a:close/>
              </a:path>
              <a:path fill="darken" w="21600" h="22915">
                <a:moveTo>
                  <a:pt x="10800" y="154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915">
                <a:moveTo>
                  <a:pt x="11905" y="14939"/>
                </a:moveTo>
                <a:lnTo>
                  <a:pt x="11905" y="12981"/>
                </a:lnTo>
                <a:cubicBezTo>
                  <a:pt x="11905" y="12154"/>
                  <a:pt x="12236" y="11458"/>
                  <a:pt x="12837" y="11458"/>
                </a:cubicBezTo>
                <a:cubicBezTo>
                  <a:pt x="13968" y="11458"/>
                  <a:pt x="14865" y="10091"/>
                  <a:pt x="14865" y="8507"/>
                </a:cubicBezTo>
                <a:cubicBezTo>
                  <a:pt x="14865" y="6192"/>
                  <a:pt x="13011" y="4451"/>
                  <a:pt x="10800" y="4451"/>
                </a:cubicBezTo>
                <a:cubicBezTo>
                  <a:pt x="8589" y="4451"/>
                  <a:pt x="6918" y="6192"/>
                  <a:pt x="6918" y="8507"/>
                </a:cubicBezTo>
                <a:lnTo>
                  <a:pt x="8772" y="8507"/>
                </a:lnTo>
                <a:cubicBezTo>
                  <a:pt x="8772" y="7367"/>
                  <a:pt x="9695" y="6479"/>
                  <a:pt x="10800" y="6479"/>
                </a:cubicBezTo>
                <a:cubicBezTo>
                  <a:pt x="11905" y="6479"/>
                  <a:pt x="12837" y="7367"/>
                  <a:pt x="12837" y="8507"/>
                </a:cubicBezTo>
                <a:cubicBezTo>
                  <a:pt x="12837" y="9247"/>
                  <a:pt x="12367" y="9978"/>
                  <a:pt x="11905" y="9978"/>
                </a:cubicBezTo>
                <a:cubicBezTo>
                  <a:pt x="10800" y="9978"/>
                  <a:pt x="9695" y="11458"/>
                  <a:pt x="9695" y="12981"/>
                </a:cubicBezTo>
                <a:lnTo>
                  <a:pt x="9695" y="14939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Управляющая кнопка: справка 4"/>
          <p:cNvSpPr/>
          <p:nvPr/>
        </p:nvSpPr>
        <p:spPr>
          <a:xfrm>
            <a:off x="1271520" y="5257800"/>
            <a:ext cx="938160" cy="838080"/>
          </a:xfrm>
          <a:custGeom>
            <a:avLst/>
            <a:gdLst>
              <a:gd name="textAreaLeft" fmla="*/ 54000 w 938160"/>
              <a:gd name="textAreaRight" fmla="*/ 884160 w 938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1208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78" h="21600">
                <a:moveTo>
                  <a:pt x="13195" y="14281"/>
                </a:moveTo>
                <a:lnTo>
                  <a:pt x="13195" y="12323"/>
                </a:lnTo>
                <a:cubicBezTo>
                  <a:pt x="13195" y="11496"/>
                  <a:pt x="13525" y="10800"/>
                  <a:pt x="14126" y="10800"/>
                </a:cubicBezTo>
                <a:cubicBezTo>
                  <a:pt x="15257" y="10800"/>
                  <a:pt x="16154" y="9434"/>
                  <a:pt x="16154" y="7849"/>
                </a:cubicBezTo>
                <a:cubicBezTo>
                  <a:pt x="16154" y="5534"/>
                  <a:pt x="14300" y="3794"/>
                  <a:pt x="12089" y="3794"/>
                </a:cubicBezTo>
                <a:cubicBezTo>
                  <a:pt x="9878" y="3794"/>
                  <a:pt x="8207" y="5534"/>
                  <a:pt x="8207" y="7849"/>
                </a:cubicBezTo>
                <a:lnTo>
                  <a:pt x="10061" y="7849"/>
                </a:lnTo>
                <a:cubicBezTo>
                  <a:pt x="10061" y="6709"/>
                  <a:pt x="10984" y="5821"/>
                  <a:pt x="12089" y="5821"/>
                </a:cubicBezTo>
                <a:cubicBezTo>
                  <a:pt x="13195" y="5821"/>
                  <a:pt x="14126" y="6709"/>
                  <a:pt x="14126" y="7849"/>
                </a:cubicBezTo>
                <a:cubicBezTo>
                  <a:pt x="14126" y="8589"/>
                  <a:pt x="13656" y="9320"/>
                  <a:pt x="13195" y="9320"/>
                </a:cubicBezTo>
                <a:cubicBezTo>
                  <a:pt x="12089" y="9320"/>
                  <a:pt x="10984" y="10800"/>
                  <a:pt x="10984" y="12323"/>
                </a:cubicBezTo>
                <a:lnTo>
                  <a:pt x="10984" y="14281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Управляющая кнопка: справка 5"/>
          <p:cNvSpPr/>
          <p:nvPr/>
        </p:nvSpPr>
        <p:spPr>
          <a:xfrm>
            <a:off x="6527880" y="4737240"/>
            <a:ext cx="1041480" cy="10411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04920" y="609480"/>
          <a:ext cx="8610480" cy="6218280"/>
        </p:xfrm>
        <a:graphic>
          <a:graphicData uri="http://schemas.openxmlformats.org/drawingml/2006/table">
            <a:tbl>
              <a:tblPr/>
              <a:tblGrid>
                <a:gridCol w="1752480"/>
                <a:gridCol w="3200400"/>
                <a:gridCol w="36576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Система органов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1224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рганы системы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1224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Функции системы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12240">
                      <a:solidFill>
                        <a:srgbClr val="93a299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ищевари-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ельная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1224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отовое отверстие, глотка, кишка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1224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Захват добычи, переваривание, удаление непереваренных остатков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1224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</a:tr>
              <a:tr h="11890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ервная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рганы чувств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ервные узлы- мозговые ганглии,  2 нервных ствола, поперечные перемычки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егуляция деятельности систем органов и реакций на изменение условий внутренней и внешней среды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Светочувствительные глазки, органы равновесия, кожные реснички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Восприятие  раздражений из окружающей среды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Выделитель-ная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азветвленные канальца протонефридии, звездчатые клетки с ресничками,выделительные отверстия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Выделение продуктов обмена веществ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оловая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оловые железы – семенники и яичники;  выводные протоки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533c"/>
                </a:solidFill>
                <a:latin typeface="Arial"/>
              </a:rPr>
              <a:t>Какие прогрессивные изменения произошли у плоских червей?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32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2533c"/>
                </a:solidFill>
                <a:latin typeface="Arial"/>
              </a:rPr>
              <a:t>Гидра пресноводная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2438280"/>
            <a:ext cx="3932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Двухслойные (экто- и эндодерма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Лучевая симметрия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Нет органов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Диффузная нервная систем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Нет кожно-мускульного мешк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4160" y="1676160"/>
            <a:ext cx="3932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2533c"/>
                </a:solidFill>
                <a:latin typeface="Arial"/>
              </a:rPr>
              <a:t>Планария белая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54160" y="2438280"/>
            <a:ext cx="3932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Трехслойные (экто-, эндо-, мезодерма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Двусторонняя симметрия тел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Есть орган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Лестничная нервная система, органы чувств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Есть кожно-мускульный мешок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Arial"/>
              </a:rPr>
              <a:t>Проверь свои знания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Какие классы входят в тип плоские черв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Ресничные черви, сосальщики, лернточные черви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Какие системы органов появились у плоских червей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Пищеварительная, выделительная, половая,  нервна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Как дышат плоские черви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Ресничные - через поверхность тел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</a:rPr>
              <a:t>Д/З стр. учебника 116-117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</a:rPr>
              <a:t>Составить тест по теме урока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Задачи: 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рассмотреть классификацию плоских червей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изучить особенности строения и жизнедеятельности плоских червей на примере планарии белой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ыявить черты более высокой организации по сравнению с кишечнополостными и губками: появление лестничной  нервной системы, выделительной, половой систем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ознакомиться с представителями типа;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Каково строение гидры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1-щупальц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2-подошв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3-кишечная полость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4.Эктодерм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5.Молодая гидр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6" name="Picture 2" descr="D:\Биология\7 класс\ЖИВОТНЫЕ\Беспозвоночные\кишечнополостные\31.jpg"/>
          <p:cNvPicPr/>
          <p:nvPr/>
        </p:nvPicPr>
        <p:blipFill>
          <a:blip r:embed="rId1"/>
          <a:stretch/>
        </p:blipFill>
        <p:spPr>
          <a:xfrm>
            <a:off x="414360" y="2362320"/>
            <a:ext cx="411336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пределите процесс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Picture 3" descr="D:\Биология\7 класс\ЖИВОТНЫЕ\Беспозвоночные\кишечнополостные\enc_biology-9-5 - копия.jpg"/>
          <p:cNvPicPr/>
          <p:nvPr/>
        </p:nvPicPr>
        <p:blipFill>
          <a:blip r:embed="rId1"/>
          <a:stretch/>
        </p:blipFill>
        <p:spPr>
          <a:xfrm>
            <a:off x="533520" y="2819520"/>
            <a:ext cx="79246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1905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2533c"/>
                </a:solidFill>
                <a:latin typeface="Arial"/>
              </a:rPr>
              <a:t>Определите процесс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859120" y="838080"/>
            <a:ext cx="5904000" cy="55008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190512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Почкование – бесполое размножение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2" descr="D:\Биология\7 класс\ЖИВОТНЫЕ\Беспозвоночные\кишечнополостные\31.jpg"/>
          <p:cNvPicPr/>
          <p:nvPr/>
        </p:nvPicPr>
        <p:blipFill>
          <a:blip r:embed="rId2"/>
          <a:stretch/>
        </p:blipFill>
        <p:spPr>
          <a:xfrm>
            <a:off x="2362320" y="685800"/>
            <a:ext cx="6487920" cy="5667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D:\Биология\7 класс\ЖИВОТНЫЕ\Беспозвоночные\кишечнополостные\31.jpg"/>
          <p:cNvPicPr/>
          <p:nvPr/>
        </p:nvPicPr>
        <p:blipFill>
          <a:blip r:embed="rId3"/>
          <a:stretch/>
        </p:blipFill>
        <p:spPr>
          <a:xfrm>
            <a:off x="2514600" y="685800"/>
            <a:ext cx="610704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791640"/>
            <a:ext cx="2143080" cy="8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2533c"/>
                </a:solidFill>
                <a:latin typeface="Arial"/>
              </a:rPr>
              <a:t>Определите процесс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859120" y="838080"/>
            <a:ext cx="5904000" cy="55008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13984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Чередование полового и бесполого поколения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цифоидных медуз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7" name="Picture 5" descr="D:\Биология\7 класс\ЖИВОТНЫЕ\Беспозвоночные\кишечнополостные\жизн.цикл сцифоидных - копия.jpg"/>
          <p:cNvPicPr/>
          <p:nvPr/>
        </p:nvPicPr>
        <p:blipFill>
          <a:blip r:embed="rId2"/>
          <a:stretch/>
        </p:blipFill>
        <p:spPr>
          <a:xfrm>
            <a:off x="3352680" y="1143000"/>
            <a:ext cx="487224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44960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Назовите животное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9" name="Picture 2" descr="D:\Биология\7 класс\ЖИВОТНЫЕ\Беспозвоночные\кишечнополостные\i.jpeg"/>
          <p:cNvPicPr/>
          <p:nvPr/>
        </p:nvPicPr>
        <p:blipFill>
          <a:blip r:embed="rId1"/>
          <a:stretch/>
        </p:blipFill>
        <p:spPr>
          <a:xfrm>
            <a:off x="403200" y="1371600"/>
            <a:ext cx="3886200" cy="2624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D:\Биология\7 класс\ЖИВОТНЫЕ\Беспозвоночные\кишечнополостные\image11471.jpg"/>
          <p:cNvPicPr/>
          <p:nvPr/>
        </p:nvPicPr>
        <p:blipFill>
          <a:blip r:embed="rId2"/>
          <a:stretch/>
        </p:blipFill>
        <p:spPr>
          <a:xfrm>
            <a:off x="4419720" y="380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D:\Биология\7 класс\ЖИВОТНЫЕ\Беспозвоночные\кишечнополостные\0_684c7_5e50cd54_L.jpeg"/>
          <p:cNvPicPr/>
          <p:nvPr/>
        </p:nvPicPr>
        <p:blipFill>
          <a:blip r:embed="rId3"/>
          <a:stretch/>
        </p:blipFill>
        <p:spPr>
          <a:xfrm>
            <a:off x="4854600" y="3873600"/>
            <a:ext cx="4078440" cy="2666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D:\Биология\7 класс\ЖИВОТНЫЕ\Беспозвоночные\кишечнополостные\c60d4167ce0c.jpg"/>
          <p:cNvPicPr/>
          <p:nvPr/>
        </p:nvPicPr>
        <p:blipFill>
          <a:blip r:embed="rId4"/>
          <a:stretch/>
        </p:blipFill>
        <p:spPr>
          <a:xfrm>
            <a:off x="228600" y="376380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D:\Биология\7 класс\ЖИВОТНЫЕ\Беспозвоночные\Тип плоские черви\Planaria SEX 1.jpg"/>
          <p:cNvPicPr/>
          <p:nvPr/>
        </p:nvPicPr>
        <p:blipFill>
          <a:blip r:embed="rId5"/>
          <a:stretch/>
        </p:blipFill>
        <p:spPr>
          <a:xfrm>
            <a:off x="3070080" y="3006720"/>
            <a:ext cx="3822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Тип плоские черв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многоклеточные животные с двусторонней симметрией тела, имеющего уплощенную в спинно-брюшном направлении форму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трехслойные животные: эктодерма, мезодерма и энтодерм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Мезодерма выполняет функции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транспортная (передвижение питательных веществ по всему телу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запасающая (отложение питательных веществ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порная (поддерживает внутренние органы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3810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Класс Ресничные черви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7" name="Picture 2" descr="D:\Биология\7 класс\ЖИВОТНЫЕ\Беспозвоночные\Тип плоские черви\Pseudobiceros-gloriosus6.jpg"/>
          <p:cNvPicPr/>
          <p:nvPr/>
        </p:nvPicPr>
        <p:blipFill>
          <a:blip r:embed="rId1"/>
          <a:stretch/>
        </p:blipFill>
        <p:spPr>
          <a:xfrm>
            <a:off x="5170320" y="606600"/>
            <a:ext cx="3603960" cy="2703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D:\Биология\7 класс\ЖИВОТНЫЕ\Беспозвоночные\Тип плоские черви\flatworm.jpg"/>
          <p:cNvPicPr/>
          <p:nvPr/>
        </p:nvPicPr>
        <p:blipFill>
          <a:blip r:embed="rId2"/>
          <a:stretch/>
        </p:blipFill>
        <p:spPr>
          <a:xfrm>
            <a:off x="5160960" y="3733920"/>
            <a:ext cx="3916440" cy="2935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D:\Биология\7 класс\ЖИВОТНЫЕ\Беспозвоночные\Тип плоские черви\Pseudoceros_dimidiatus.jpg"/>
          <p:cNvPicPr/>
          <p:nvPr/>
        </p:nvPicPr>
        <p:blipFill>
          <a:blip r:embed="rId3"/>
          <a:stretch/>
        </p:blipFill>
        <p:spPr>
          <a:xfrm>
            <a:off x="228600" y="1957320"/>
            <a:ext cx="43275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0:31:54Z</dcterms:created>
  <dc:creator>Asus</dc:creator>
  <dc:description/>
  <dc:language>en-US</dc:language>
  <cp:lastModifiedBy>NeSe</cp:lastModifiedBy>
  <dcterms:modified xsi:type="dcterms:W3CDTF">2013-01-17T16:23:4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