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577-C176-49FD-91FA-B1FA008F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B89-F16A-4890-AB28-481532B5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443-BEF6-403A-A5D1-20AE3049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8B2-6282-46DB-B00E-013C5DF6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A02-48C0-43BC-88EF-EB48F12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9CF-650D-4BB5-AB84-CDD4B5BC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1FB-320F-4A55-A13A-DDC74B3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10E-D5AB-4278-8B0C-189A26BD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FC3-5D1E-4949-B04C-957A5D8E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CA4-9685-4B5A-A78B-36D6DAED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511-2D72-4A24-8533-E06D501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B0E-68D2-4C2D-BEDC-B74D9C8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BA9-CC88-463A-A97A-9E439AEBF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2"/>
          <a:stretch/>
        </p:blipFill>
        <p:spPr>
          <a:xfrm>
            <a:off x="-171360" y="1566720"/>
            <a:ext cx="965016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433440" y="585720"/>
            <a:ext cx="4437000" cy="1109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042920" y="4941720"/>
            <a:ext cx="8101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Работу подготовил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реподаватель-организатор ОБ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олош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62728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г.Санкт-Петербург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835280" y="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ГБОУ СОШ №280 имени М.Ю.Лермонтова Адмиралтей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95280" y="18900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4.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Повстанческая толп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10253f"/>
                </a:solidFill>
                <a:latin typeface="Arial"/>
              </a:rPr>
              <a:t>Формируется на основе общего справедливого возмущения действиями властей. Своевременное внесение в нее организующего начала способно возвысить стихийное массовое выступление до сознательного акта политической бор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0000000_rebels.jpg"/>
          <p:cNvPicPr/>
          <p:nvPr/>
        </p:nvPicPr>
        <p:blipFill>
          <a:blip r:embed="rId2"/>
          <a:stretch/>
        </p:blipFill>
        <p:spPr>
          <a:xfrm>
            <a:off x="1763640" y="2924280"/>
            <a:ext cx="5265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0" y="836640"/>
            <a:ext cx="914400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амое лучшее – не попадать в неё, обой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Если вы попали в толпу, вашей главной задачей будет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не упасть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Застегните одежду, спрячьте под головной убор или воротник волосы, выбросьте любые мешающие движения вещи (зонтик, сумку, пакет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Если вы всё же упали, нужно немедленно защитить голову руками и ВСТАВАТЬ – рывком, подтянув под себя ноги и сгруппировавшис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Если подняться не возможно, сгруппируйтесь, прижав колени к груди и защитив голову рук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Находясь в толпе, избегайте её центра и кр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Избегайте всего неподвижного на пути – столбов, тумб, деревье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Не цепляйтесь ни за что руками. Руки согните в локтях и прижмите к корпусу тела. Сцепленными в замок кистями рук вы защитите диафрагму, а локти смягчат толчки сз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609480" y="-171360"/>
            <a:ext cx="79185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427640" y="333360"/>
            <a:ext cx="432108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Собираясь на массовые мероприятия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</a:rPr>
              <a:t> о том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плохо застегивающаяся, неудобная одежда, длинный шкаф, зонт или объемная сумка могут сильно осложнить твое нахождение в тол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Приходить на все массовые мероприятия лучше заранее, тогда ты избежишь толкотни при вх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Если есть возможность выбора, безопасней садиться ближе к выхожу и дальше от центрального прох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При угрозе беспорядков следует немедленно покинуть зал, стад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krik.jpg"/>
          <p:cNvPicPr/>
          <p:nvPr/>
        </p:nvPicPr>
        <p:blipFill>
          <a:blip r:embed="rId2"/>
          <a:stretch/>
        </p:blipFill>
        <p:spPr>
          <a:xfrm>
            <a:off x="0" y="1341360"/>
            <a:ext cx="4195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tol_p1_1"/>
          <p:cNvPicPr/>
          <p:nvPr/>
        </p:nvPicPr>
        <p:blipFill>
          <a:blip r:embed="rId2"/>
          <a:stretch/>
        </p:blipFill>
        <p:spPr>
          <a:xfrm>
            <a:off x="179280" y="1197000"/>
            <a:ext cx="8713800" cy="5545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826920" y="2602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Без паники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536400" y="487440"/>
            <a:ext cx="8180640" cy="20113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79280" y="4581360"/>
            <a:ext cx="7488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Стр. 79 –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Объясни термин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паническое бег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2828880"/>
            <a:ext cx="8893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buClr>
                <a:srgbClr val="1025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0253f"/>
                </a:solidFill>
                <a:latin typeface="Arial"/>
              </a:rPr>
              <a:t>Что такое толп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1025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0253f"/>
                </a:solidFill>
                <a:latin typeface="Arial"/>
              </a:rPr>
              <a:t>Правила безопасности в толп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865080" y="804960"/>
            <a:ext cx="73836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Общественное мес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Это помещение или пространство, где множество людей могут гулять, работать, отдыхать, решать свои иные проблемы (метро, парк, стадион, площадь, сберкасса, рыно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е скопление людей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толпа     паника      </a:t>
            </a:r>
            <a:r>
              <a:rPr b="0" lang="ru-RU" sz="4800" spc="-1" strike="noStrike" u="sng">
                <a:solidFill>
                  <a:srgbClr val="c00000"/>
                </a:solidFill>
                <a:uFillTx/>
                <a:latin typeface="Calibri"/>
              </a:rPr>
              <a:t>дав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956720" y="4508640"/>
            <a:ext cx="863280" cy="28728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79280" y="537372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651640" y="537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2771640" y="537372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tol_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28440" y="157176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http://ooho.ru/wp-content/uploads/2009/01/ucsi016849.jpg"/>
          <p:cNvPicPr/>
          <p:nvPr/>
        </p:nvPicPr>
        <p:blipFill>
          <a:blip r:embed="rId2"/>
          <a:stretch/>
        </p:blipFill>
        <p:spPr>
          <a:xfrm>
            <a:off x="5143680" y="4429080"/>
            <a:ext cx="3524040" cy="20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416 0.11852 L -0.00416 -0.1125 E">
                                      <p:cBhvr>
                                        <p:cTn id="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71680" y="836280"/>
            <a:ext cx="8286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Агрессивная толп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Объединена слепой ненавистью к конкретному объекту (какому-либо религиозному или политическому движению, структуре). Обычно сопровождается избиениями, погромами, поджогами и т.п.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068640" y="3198960"/>
            <a:ext cx="343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22094413.1.jpg"/>
          <p:cNvPicPr/>
          <p:nvPr/>
        </p:nvPicPr>
        <p:blipFill>
          <a:blip r:embed="rId2"/>
          <a:stretch/>
        </p:blipFill>
        <p:spPr>
          <a:xfrm>
            <a:off x="2700360" y="3573360"/>
            <a:ext cx="390528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-450720" y="-23760"/>
            <a:ext cx="1001556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42920" y="4046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Паническая толпа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Arial"/>
              </a:rPr>
              <a:t>Стихийно спасающаяся от реального или воображаемого источника опасности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panicking crowd.jpg"/>
          <p:cNvPicPr/>
          <p:nvPr/>
        </p:nvPicPr>
        <p:blipFill>
          <a:blip r:embed="rId2"/>
          <a:stretch/>
        </p:blipFill>
        <p:spPr>
          <a:xfrm>
            <a:off x="1258920" y="1989000"/>
            <a:ext cx="6265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189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яжательская толп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Вступает в неупорядоченный непосредственный конфликт за обладание какими-либо ценностями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(взятие штурмом мест в отходящем транспорте, ажиотажный расхват продуктов в предприятиях торговли, разгром продовольственных складов, осаждение финансовых (например, банковских) учреждений, в небольших количествах проявляется в местах крупных катастроф со значительными человеческими жертвами и т.п.)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_1720415_011219argentina300b.jpg"/>
          <p:cNvPicPr/>
          <p:nvPr/>
        </p:nvPicPr>
        <p:blipFill>
          <a:blip r:embed="rId2"/>
          <a:stretch/>
        </p:blipFill>
        <p:spPr>
          <a:xfrm>
            <a:off x="2050920" y="3186000"/>
            <a:ext cx="50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5:44:12Z</dcterms:created>
  <dc:creator>Сережа</dc:creator>
  <dc:description/>
  <dc:language>en-US</dc:language>
  <cp:lastModifiedBy>Сережа</cp:lastModifiedBy>
  <dcterms:modified xsi:type="dcterms:W3CDTF">2013-01-17T17:17:38Z</dcterms:modified>
  <cp:revision>16</cp:revision>
  <dc:subject/>
  <dc:title>Слайд 1</dc:title>
</cp:coreProperties>
</file>