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9.png" ContentType="image/png"/>
  <Override PartName="/ppt/media/image36.gif" ContentType="image/gif"/>
  <Override PartName="/ppt/media/image26.gif" ContentType="image/gif"/>
  <Override PartName="/ppt/media/image19.png" ContentType="image/png"/>
  <Override PartName="/ppt/media/image20.jpeg" ContentType="image/jpeg"/>
  <Override PartName="/ppt/media/image25.png" ContentType="image/png"/>
  <Override PartName="/ppt/media/image32.gif" ContentType="image/gif"/>
  <Override PartName="/ppt/media/image23.gif" ContentType="image/gif"/>
  <Override PartName="/ppt/media/image22.png" ContentType="image/png"/>
  <Override PartName="/ppt/media/image5.jpeg" ContentType="image/jpeg"/>
  <Override PartName="/ppt/media/image35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3.wmf" ContentType="image/x-wmf"/>
  <Override PartName="/ppt/media/image30.jpeg" ContentType="image/jpeg"/>
  <Override PartName="/ppt/media/image11.jpeg" ContentType="image/jpeg"/>
  <Override PartName="/ppt/media/image34.jpeg" ContentType="image/jpeg"/>
  <Override PartName="/ppt/media/image37.png" ContentType="image/png"/>
  <Override PartName="/ppt/media/image31.jpeg" ContentType="image/jpeg"/>
  <Override PartName="/ppt/media/image38.gif" ContentType="image/gif"/>
  <Override PartName="/ppt/media/image7.gif" ContentType="image/gif"/>
  <Override PartName="/ppt/media/image3.wmf" ContentType="image/x-wmf"/>
  <Override PartName="/ppt/media/image39.gif" ContentType="image/gif"/>
  <Override PartName="/ppt/media/image12.png" ContentType="image/png"/>
  <Override PartName="/ppt/media/image6.wmf" ContentType="image/x-wmf"/>
  <Override PartName="/ppt/media/image4.png" ContentType="image/png"/>
  <Override PartName="/ppt/media/image24.gif" ContentType="image/gif"/>
  <Override PartName="/ppt/media/image27.png" ContentType="image/png"/>
  <Override PartName="/ppt/media/image33.jpeg" ContentType="image/jpeg"/>
  <Override PartName="/ppt/media/image2.jpeg" ContentType="image/jpeg"/>
  <Override PartName="/ppt/media/image1.jpeg" ContentType="image/jpeg"/>
  <Override PartName="/ppt/media/image15.wmf" ContentType="image/x-wmf"/>
  <Override PartName="/ppt/media/image10.jpeg" ContentType="image/jpeg"/>
  <Override PartName="/ppt/media/image14.png" ContentType="image/png"/>
  <Override PartName="/ppt/media/image16.wmf" ContentType="image/x-wmf"/>
  <Override PartName="/ppt/media/image18.gif" ContentType="image/gif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B5CF-2346-4F4F-BE8D-44685AFBC8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4CC7-5C3A-4093-9129-6A469DEEE3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2956-5B1E-4542-BBB7-AE965F6411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E88B-95DC-4565-B185-971D012194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6616-B2F4-40FB-8A78-A1790BC1F4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AE74-789D-4AF5-B84E-08DFC216A7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9CB-78E7-476E-9330-5CB4BDE9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F5F9-E249-40BA-97CB-6B753B17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38E8-AB92-43AF-9C6A-2B939CF0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B92-89B4-40A2-83A5-C2B8AB0E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313F1-E989-46D7-9A08-D774BB15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88900-606C-4AA3-B43F-57AA216B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D5DB8-0377-4B19-91C5-E25BF198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C25F8-8034-45EA-B0EC-B0D2AD51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28F97-D1C2-4A5C-954A-930D48AA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4D130-896C-4321-AF4B-CEC5BAF5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3E941-606E-48A5-BA2F-73F41556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F1C-0B65-4E4B-A108-793EA9A9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5D7DB-9535-48D2-810F-510502B9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EEF5B-9B68-4C12-883F-4953851A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3AE6D-0917-402F-BBC0-19A75E60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35737-9A8F-4531-ADFF-B047D705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E23CD-82E8-45B1-9142-10F45C29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16A-F920-45A3-872C-1A8D4ACF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2A7-99B6-4D5F-96E5-65BFCAAC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1E3E-8525-43A6-99E4-DA5D7313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1E4-F7F1-465D-ACB2-293B82D4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597F-4FA1-482F-9824-74F03127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8D6-4AB9-4936-9978-97D659D0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146-D539-480E-BE5D-305768C0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9295-2B61-4690-B6C4-4F315158107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C628-6D0E-4CB5-A3B2-7BDFFAC8DF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FD1B-27A3-45E5-83B7-0C8DAE5990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3B89-CCBC-4AB7-A2C6-197E4A43AEA8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wmf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6.gif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7240" y="4508280"/>
            <a:ext cx="480204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 математики МБОУ СОШ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. Фащёв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синских Л. 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1219320" y="152280"/>
            <a:ext cx="635292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Арифметическая прогрес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1752480" y="990720"/>
            <a:ext cx="4667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Формула n-го чле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4" name="WordArt 6"/>
          <p:cNvSpPr txBox="1"/>
          <p:nvPr/>
        </p:nvSpPr>
        <p:spPr>
          <a:xfrm>
            <a:off x="1143000" y="1828800"/>
            <a:ext cx="6448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арифметической прогресси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5" name="WordArt 7"/>
          <p:cNvSpPr txBox="1"/>
          <p:nvPr/>
        </p:nvSpPr>
        <p:spPr>
          <a:xfrm>
            <a:off x="1676520" y="2666880"/>
            <a:ext cx="4610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Обобщающи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96" name="Picture 8" descr="j0196374"/>
          <p:cNvPicPr/>
          <p:nvPr/>
        </p:nvPicPr>
        <p:blipFill>
          <a:blip r:embed="rId9"/>
          <a:stretch/>
        </p:blipFill>
        <p:spPr>
          <a:xfrm>
            <a:off x="838080" y="3657600"/>
            <a:ext cx="2159280" cy="2266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10"/>
          <a:stretch/>
        </p:blipFill>
        <p:spPr>
          <a:xfrm>
            <a:off x="88390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8" name="WordArt 10"/>
          <p:cNvSpPr txBox="1"/>
          <p:nvPr/>
        </p:nvSpPr>
        <p:spPr>
          <a:xfrm>
            <a:off x="3995640" y="3645000"/>
            <a:ext cx="2592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9 клас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96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ча №1. Дана арифметическая прогресс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йдите разность арифметической прогре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495680" y="2057400"/>
            <a:ext cx="420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а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а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( n-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= а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4d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1954 + 4d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d = 2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1954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d = 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= 5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d = 5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1066680" y="152280"/>
            <a:ext cx="6400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крепление пройденног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143000" y="114300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риал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3" name="Picture 7" descr="j0299125"/>
          <p:cNvPicPr/>
          <p:nvPr/>
        </p:nvPicPr>
        <p:blipFill>
          <a:blip r:embed="rId1"/>
          <a:stretch/>
        </p:blipFill>
        <p:spPr>
          <a:xfrm>
            <a:off x="6248520" y="4648320"/>
            <a:ext cx="2624040" cy="1981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j0213505"/>
          <p:cNvPicPr/>
          <p:nvPr/>
        </p:nvPicPr>
        <p:blipFill>
          <a:blip r:embed="rId2"/>
          <a:stretch/>
        </p:blipFill>
        <p:spPr>
          <a:xfrm>
            <a:off x="1371600" y="5257800"/>
            <a:ext cx="3038400" cy="137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5" name="Object 9"/>
              <p:cNvSpPr txBox="1"/>
              <p:nvPr/>
            </p:nvSpPr>
            <p:spPr>
              <a:xfrm>
                <a:off x="324000" y="3213000"/>
                <a:ext cx="38098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1954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16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7242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бята, число 53 в арифметической прогрессии просто натуральное числ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какую роль играет данное число в жизни Липецкой област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пецкая область образовалась  6 января 1954 года.  И ей исполнилось 53 года. Это самая молодая область в Центрально – Черноземной зоне. Площадь Липецкой области 2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00 кв. км, население – 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4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00 человек. В состав Липецкой области входят 19 районов, в том числе и наш Грязинский райо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4724280" y="0"/>
            <a:ext cx="4114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торическая справ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Picture 5" descr="карта1"/>
          <p:cNvPicPr/>
          <p:nvPr/>
        </p:nvPicPr>
        <p:blipFill>
          <a:blip r:embed="rId2"/>
          <a:stretch/>
        </p:blipFill>
        <p:spPr>
          <a:xfrm>
            <a:off x="4194000" y="1600200"/>
            <a:ext cx="5254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000"/>
                            </p:stCondLst>
                            <p:childTnLst>
                              <p:par>
                                <p:cTn id="4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герб"/>
          <p:cNvPicPr/>
          <p:nvPr/>
        </p:nvPicPr>
        <p:blipFill>
          <a:blip r:embed="rId2"/>
          <a:stretch/>
        </p:blipFill>
        <p:spPr>
          <a:xfrm>
            <a:off x="380880" y="457200"/>
            <a:ext cx="2210040" cy="1452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липецк"/>
          <p:cNvPicPr/>
          <p:nvPr/>
        </p:nvPicPr>
        <p:blipFill>
          <a:blip r:embed="rId3"/>
          <a:stretch/>
        </p:blipFill>
        <p:spPr>
          <a:xfrm>
            <a:off x="4932360" y="549360"/>
            <a:ext cx="4211640" cy="38624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304920" y="2209680"/>
            <a:ext cx="4724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казом Президиума Верховного                                                                                                                                    Совета СССР от 6 января 1954 г.                                                                                                                                                                                                   в состав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СФС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была образована Липецкая область с центром в городе Липец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04920" y="4495680"/>
            <a:ext cx="48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настоящее время область включает 18 административных районов и 4 города областного подчинения с населением     1 млн. 250 тыс. челове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734220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ча № 2.Дана арифметическая прогресс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:    8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2556000" y="907920"/>
                <a:ext cx="23032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228600" y="3581280"/>
                <a:ext cx="2438280" cy="18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d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6"/>
              <p:cNvSpPr txBox="1"/>
              <p:nvPr/>
            </p:nvSpPr>
            <p:spPr>
              <a:xfrm>
                <a:off x="3429000" y="3657600"/>
                <a:ext cx="228600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8" name="Picture 7" descr="аним реб"/>
          <p:cNvPicPr/>
          <p:nvPr/>
        </p:nvPicPr>
        <p:blipFill>
          <a:blip r:embed="rId1"/>
          <a:stretch/>
        </p:blipFill>
        <p:spPr>
          <a:xfrm>
            <a:off x="5800680" y="2590920"/>
            <a:ext cx="2882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бята, а это число говорит нам о том, что Грязинскому району в 2008 году исполнится 80 лет. И проживает нас в Грязинском районе более 72 тыс. человек. Площадь-1500 кв. к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шив следующую задачу, мы с вами узнаем в каком году образовался наш райо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2057400" y="457200"/>
            <a:ext cx="5219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сторическая справ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1" name="Picture 4" descr="j0189205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4191120" y="1676520"/>
            <a:ext cx="4647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рифметическая прогрессия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йдите одиннадцатый член данной прогрессии.</a:t>
            </a:r>
            <a:br>
              <a:rPr sz="2000"/>
            </a:br>
            <a:br>
              <a:rPr sz="2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"/>
              <p:cNvSpPr txBox="1"/>
              <p:nvPr/>
            </p:nvSpPr>
            <p:spPr>
              <a:xfrm>
                <a:off x="468360" y="836640"/>
                <a:ext cx="2717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68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1886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762120" y="3021120"/>
                <a:ext cx="30477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6" name="Picture 5" descr="картинка №1"/>
          <p:cNvPicPr/>
          <p:nvPr/>
        </p:nvPicPr>
        <p:blipFill>
          <a:blip r:embed="rId1"/>
          <a:stretch/>
        </p:blipFill>
        <p:spPr>
          <a:xfrm>
            <a:off x="5618160" y="2590920"/>
            <a:ext cx="3525840" cy="29559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610200" y="228600"/>
            <a:ext cx="135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ча 3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250920" y="4365720"/>
            <a:ext cx="73911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843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868 год. Первые упоминания о городе Грязи.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0 июля 1928 года образовался Грязинский район.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erb1"/>
          <p:cNvPicPr/>
          <p:nvPr/>
        </p:nvPicPr>
        <p:blipFill>
          <a:blip r:embed="rId2"/>
          <a:stretch/>
        </p:blipFill>
        <p:spPr>
          <a:xfrm>
            <a:off x="380880" y="152280"/>
            <a:ext cx="1252800" cy="1600200"/>
          </a:xfrm>
          <a:prstGeom prst="rect">
            <a:avLst/>
          </a:prstGeom>
          <a:ln w="0">
            <a:noFill/>
          </a:ln>
        </p:spPr>
      </p:pic>
      <p:sp>
        <p:nvSpPr>
          <p:cNvPr id="170" name="WordArt 3"/>
          <p:cNvSpPr txBox="1"/>
          <p:nvPr/>
        </p:nvSpPr>
        <p:spPr>
          <a:xfrm>
            <a:off x="3492360" y="476280"/>
            <a:ext cx="208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рязи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048120" y="22096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imes New Roman"/>
              </a:rPr>
              <a:t>Основан 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1868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imes New Roman"/>
              </a:rPr>
              <a:t>Город с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19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5" descr="фото г"/>
          <p:cNvPicPr/>
          <p:nvPr/>
        </p:nvPicPr>
        <p:blipFill>
          <a:blip r:embed="rId3"/>
          <a:stretch/>
        </p:blipFill>
        <p:spPr>
          <a:xfrm>
            <a:off x="152280" y="1981080"/>
            <a:ext cx="2895840" cy="2054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фото Грязи3"/>
          <p:cNvPicPr/>
          <p:nvPr/>
        </p:nvPicPr>
        <p:blipFill>
          <a:blip r:embed="rId4"/>
          <a:stretch/>
        </p:blipFill>
        <p:spPr>
          <a:xfrm>
            <a:off x="5943600" y="1905120"/>
            <a:ext cx="2895480" cy="2054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>
            <a:off x="1295280" y="43434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Город расположен в пределах Окско-Донской равнины,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р. Матыра (левый приток Воронежа, бассейн Дона), в 30 км юго-востоку от Липецка. Ж.д. уз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В 18 км от Грязи, в селе Гудаловка (ныне Плеханово) родился Г.В. Плехан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8" descr="рисунок1"/>
          <p:cNvPicPr/>
          <p:nvPr/>
        </p:nvPicPr>
        <p:blipFill>
          <a:blip r:embed="rId5"/>
          <a:stretch/>
        </p:blipFill>
        <p:spPr>
          <a:xfrm>
            <a:off x="152280" y="548640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дача 4.    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на арифметическая прогрессия                                                      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йти разность и первый член данной арифметической прогрессии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3"/>
              <p:cNvSpPr txBox="1"/>
              <p:nvPr/>
            </p:nvSpPr>
            <p:spPr>
              <a:xfrm>
                <a:off x="380880" y="762120"/>
                <a:ext cx="457200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1790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6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3962520" y="3021120"/>
                <a:ext cx="2133360" cy="18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Решение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d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0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90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d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6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9" name="Picture 5" descr="111"/>
          <p:cNvPicPr/>
          <p:nvPr/>
        </p:nvPicPr>
        <p:blipFill>
          <a:blip r:embed="rId2"/>
          <a:stretch/>
        </p:blipFill>
        <p:spPr>
          <a:xfrm>
            <a:off x="36360" y="1905120"/>
            <a:ext cx="3461040" cy="4800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6553080" y="3276720"/>
                <a:ext cx="236232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441972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год, в котором была основана наша Фащёвка. Начало Фащёвке положено в первые годы 18 века. Площадь – 11148 га. В состав сельского поселения входят 7 населенных пунктов: деревни Дурасовка, Писарёвка, Подлякино, Прудки, Соломоновка, село Фащёвка, посёлок Садовый.</a:t>
            </a: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 = 24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ащёвка расположена на берегу реки Двуречка, протяженность которой 24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74"/>
          <p:cNvPicPr/>
          <p:nvPr/>
        </p:nvPicPr>
        <p:blipFill>
          <a:blip r:embed="rId1"/>
          <a:stretch/>
        </p:blipFill>
        <p:spPr>
          <a:xfrm>
            <a:off x="5029200" y="609480"/>
            <a:ext cx="3895560" cy="5562720"/>
          </a:xfrm>
          <a:prstGeom prst="rect">
            <a:avLst/>
          </a:prstGeom>
          <a:ln w="0">
            <a:noFill/>
          </a:ln>
        </p:spPr>
      </p:pic>
      <p:sp>
        <p:nvSpPr>
          <p:cNvPr id="183" name="WordArt 4"/>
          <p:cNvSpPr txBox="1"/>
          <p:nvPr/>
        </p:nvSpPr>
        <p:spPr>
          <a:xfrm>
            <a:off x="1752480" y="304920"/>
            <a:ext cx="1524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742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838080" y="1143000"/>
                <a:ext cx="3124440" cy="22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арифм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рогрессия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6375240" y="2817720"/>
                <a:ext cx="58428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Задача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2590920" y="3857760"/>
                <a:ext cx="282564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1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8" name="Picture 6" descr="123"/>
          <p:cNvPicPr/>
          <p:nvPr/>
        </p:nvPicPr>
        <p:blipFill>
          <a:blip r:embed="rId2"/>
          <a:stretch/>
        </p:blipFill>
        <p:spPr>
          <a:xfrm>
            <a:off x="5105520" y="228600"/>
            <a:ext cx="3854160" cy="3510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609480" y="228600"/>
                <a:ext cx="22860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Задача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WordArt 8"/>
          <p:cNvSpPr txBox="1"/>
          <p:nvPr/>
        </p:nvSpPr>
        <p:spPr>
          <a:xfrm>
            <a:off x="1295280" y="4876920"/>
            <a:ext cx="6600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еление сельского поселени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щёвского сельского совет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бщение и систематизация теоретического материала по данной тем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работка умений и навыков применения формул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 члена арифметической прогрессии  и разности арифметической прогресси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ие навыков работы с дополнительной литературой, с историческим материало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ие познавательной активности учащихс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ие коммуникативных навыков учащихс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ирование интересов к изучению математ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1371600" y="228600"/>
            <a:ext cx="4952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ь уро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4" descr="j0199661"/>
          <p:cNvPicPr/>
          <p:nvPr/>
        </p:nvPicPr>
        <p:blipFill>
          <a:blip r:embed="rId2"/>
          <a:stretch/>
        </p:blipFill>
        <p:spPr>
          <a:xfrm>
            <a:off x="6781680" y="228600"/>
            <a:ext cx="2362320" cy="1828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арифметической прогрессии пятый член равен 176, седьмой член равен 194. Найдите первый член и сто девяносто восьмой член данной арифметической прогресс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609480" y="3997440"/>
                <a:ext cx="25146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6610320" y="2800440"/>
                <a:ext cx="11448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4" name="WordArt 5"/>
          <p:cNvSpPr txBox="1"/>
          <p:nvPr/>
        </p:nvSpPr>
        <p:spPr>
          <a:xfrm>
            <a:off x="304920" y="2133720"/>
            <a:ext cx="36288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чеников в наш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школ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4876920" y="2114640"/>
                <a:ext cx="38098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98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WordArt 7"/>
          <p:cNvSpPr txBox="1"/>
          <p:nvPr/>
        </p:nvSpPr>
        <p:spPr>
          <a:xfrm>
            <a:off x="5029200" y="3657600"/>
            <a:ext cx="3581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141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д образовани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ащёвской школ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cc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бята, алгебра тесно связано не только с историей, но и с геометри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ча № 3. На экране изображена арифметическая прогрессия ступенчатой фигурой. Найдите сколько квадратиков вмещает в себя восьмая ступе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(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ифметическая прогресс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=2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= 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йт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шен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= а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+ 7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= 2+ 3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·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7 = 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23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вадра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257800" y="3352680"/>
          <a:ext cx="4572000" cy="3762360"/>
        </p:xfrm>
        <a:graphic>
          <a:graphicData uri="http://schemas.openxmlformats.org/drawingml/2006/table">
            <a:tbl>
              <a:tblPr/>
              <a:tblGrid>
                <a:gridCol w="262080"/>
                <a:gridCol w="260280"/>
                <a:gridCol w="260280"/>
                <a:gridCol w="260280"/>
                <a:gridCol w="262080"/>
                <a:gridCol w="260280"/>
                <a:gridCol w="260280"/>
                <a:gridCol w="260280"/>
                <a:gridCol w="262080"/>
                <a:gridCol w="260280"/>
                <a:gridCol w="260280"/>
                <a:gridCol w="260640"/>
                <a:gridCol w="261720"/>
                <a:gridCol w="260280"/>
                <a:gridCol w="92088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 gridSpan="1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3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риант 1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риант 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арифметической прогрессии                         1. В арифметической прогрессии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йти:                                                                             Найт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Найти разность арифметической                           2.  Найти разность арифметиче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грессии                                                                        прогрессии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838080" y="3230640"/>
                <a:ext cx="2743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: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8</m:t>
                    </m:r>
                    <m:r>
                      <m:t xml:space="preserve">;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WordArt 4"/>
          <p:cNvSpPr txBox="1"/>
          <p:nvPr/>
        </p:nvSpPr>
        <p:spPr>
          <a:xfrm>
            <a:off x="609480" y="304920"/>
            <a:ext cx="7391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стоятельная раб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1371600" y="3579840"/>
                <a:ext cx="4748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6"/>
              <p:cNvSpPr txBox="1"/>
              <p:nvPr/>
            </p:nvSpPr>
            <p:spPr>
              <a:xfrm>
                <a:off x="1600200" y="4419720"/>
                <a:ext cx="10666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есл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609480" y="4876920"/>
                <a:ext cx="1981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,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5638680" y="3048120"/>
                <a:ext cx="2438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: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,2</m:t>
                    </m:r>
                    <m:r>
                      <m:t xml:space="preserve">;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6477120" y="3429000"/>
                <a:ext cx="444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705720" y="4419720"/>
                <a:ext cx="10666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есл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1"/>
              <p:cNvSpPr txBox="1"/>
              <p:nvPr/>
            </p:nvSpPr>
            <p:spPr>
              <a:xfrm>
                <a:off x="5638680" y="4800600"/>
                <a:ext cx="20574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3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,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j0195384"/>
          <p:cNvPicPr/>
          <p:nvPr/>
        </p:nvPicPr>
        <p:blipFill>
          <a:blip r:embed="rId2"/>
          <a:stretch/>
        </p:blipFill>
        <p:spPr>
          <a:xfrm>
            <a:off x="0" y="1905120"/>
            <a:ext cx="4192560" cy="4267080"/>
          </a:xfrm>
          <a:prstGeom prst="rect">
            <a:avLst/>
          </a:prstGeom>
          <a:ln w="0">
            <a:noFill/>
          </a:ln>
        </p:spPr>
      </p:pic>
      <p:sp>
        <p:nvSpPr>
          <p:cNvPr id="210" name="WordArt 3"/>
          <p:cNvSpPr txBox="1"/>
          <p:nvPr/>
        </p:nvSpPr>
        <p:spPr>
          <a:xfrm>
            <a:off x="1371600" y="304920"/>
            <a:ext cx="7010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е на до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4419720" y="2209680"/>
            <a:ext cx="42386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№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61 (по вариантам)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№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6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1143000" y="228600"/>
            <a:ext cx="71629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7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им за внимание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наступающим новым годом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3" name="Picture 3" descr="ёлка"/>
          <p:cNvPicPr/>
          <p:nvPr/>
        </p:nvPicPr>
        <p:blipFill>
          <a:blip r:embed="rId1"/>
          <a:stretch/>
        </p:blipFill>
        <p:spPr>
          <a:xfrm>
            <a:off x="1268280" y="3048120"/>
            <a:ext cx="3375000" cy="3581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обезьяна"/>
          <p:cNvPicPr/>
          <p:nvPr/>
        </p:nvPicPr>
        <p:blipFill>
          <a:blip r:embed="rId2"/>
          <a:stretch/>
        </p:blipFill>
        <p:spPr>
          <a:xfrm>
            <a:off x="5638680" y="3962520"/>
            <a:ext cx="27194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9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0800000">
            <a:off x="467640" y="6857280"/>
            <a:ext cx="8218440" cy="2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йти вместе – это начал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таться вместе – это развит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ать вместе – это успе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WordArt 5"/>
          <p:cNvSpPr txBox="1"/>
          <p:nvPr/>
        </p:nvSpPr>
        <p:spPr>
          <a:xfrm>
            <a:off x="611280" y="3645000"/>
            <a:ext cx="712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 свидани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 новых встреч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84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77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77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9" dur="77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1" dur="77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9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916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276720" y="1600200"/>
            <a:ext cx="1904760" cy="581400"/>
          </a:xfrm>
          <a:prstGeom prst="rect">
            <a:avLst/>
          </a:pr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геб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429000" y="5334120"/>
            <a:ext cx="1905120" cy="4777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омет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705720" y="3733920"/>
            <a:ext cx="1904760" cy="52056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то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4724280" y="2209680"/>
            <a:ext cx="274320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09480" y="3505320"/>
            <a:ext cx="1905120" cy="52056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ограф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4191120" y="2209680"/>
            <a:ext cx="75960" cy="3124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8"/>
          <p:cNvSpPr/>
          <p:nvPr/>
        </p:nvSpPr>
        <p:spPr>
          <a:xfrm flipH="1">
            <a:off x="1599840" y="2209680"/>
            <a:ext cx="20574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WordArt 9"/>
          <p:cNvSpPr txBox="1"/>
          <p:nvPr/>
        </p:nvSpPr>
        <p:spPr>
          <a:xfrm>
            <a:off x="990720" y="228600"/>
            <a:ext cx="6248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ежпредметные связ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0" name="Picture 10" descr="j0254436"/>
          <p:cNvPicPr/>
          <p:nvPr/>
        </p:nvPicPr>
        <p:blipFill>
          <a:blip r:embed="rId1"/>
          <a:stretch/>
        </p:blipFill>
        <p:spPr>
          <a:xfrm>
            <a:off x="6172200" y="4952880"/>
            <a:ext cx="2133720" cy="1676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-103)"/>
                                      </p:to>
                                    </p:se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-103)"/>
                                      </p:to>
                                    </p:se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78,0)"/>
                                      </p:to>
                                    </p:set>
                                    <p:set>
                                      <p:cBhvr>
                                        <p:cTn id="142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78,0)"/>
                                      </p:to>
                                    </p:set>
                                    <p:set>
                                      <p:cBhvr>
                                        <p:cTn id="143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50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146" dur="50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147" dur="50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50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50" dur="50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51" dur="50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онный моме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бщение цели уро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ка домашнего зад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ронтальный опро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репление пройденного матери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тог урока. Задание на 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WordArt 3"/>
          <p:cNvSpPr txBox="1"/>
          <p:nvPr/>
        </p:nvSpPr>
        <p:spPr>
          <a:xfrm>
            <a:off x="838080" y="0"/>
            <a:ext cx="6248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 уро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4" descr="j0205582"/>
          <p:cNvPicPr/>
          <p:nvPr/>
        </p:nvPicPr>
        <p:blipFill>
          <a:blip r:embed="rId1"/>
          <a:stretch/>
        </p:blipFill>
        <p:spPr>
          <a:xfrm>
            <a:off x="6705720" y="1219320"/>
            <a:ext cx="2438280" cy="1981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4647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годня на уроке мы                              закрепим знания по теме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 Арифметическая прогрессия» и в ходе решения задач повторим формулы арифметической прогресс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WordArt 3"/>
          <p:cNvSpPr txBox="1"/>
          <p:nvPr/>
        </p:nvSpPr>
        <p:spPr>
          <a:xfrm>
            <a:off x="1066680" y="304920"/>
            <a:ext cx="569592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0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общение цели уро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6" name="Picture 4" descr="t3"/>
          <p:cNvPicPr/>
          <p:nvPr/>
        </p:nvPicPr>
        <p:blipFill>
          <a:blip r:embed="rId2"/>
          <a:stretch/>
        </p:blipFill>
        <p:spPr>
          <a:xfrm>
            <a:off x="5791320" y="2133720"/>
            <a:ext cx="3143160" cy="4190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5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23" dur="indefinite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4" dur="indefinite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27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28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52 (б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ано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3"/>
              <p:cNvSpPr txBox="1"/>
              <p:nvPr/>
            </p:nvSpPr>
            <p:spPr>
              <a:xfrm>
                <a:off x="6610320" y="2789280"/>
                <a:ext cx="11736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9" name="WordArt 4"/>
          <p:cNvSpPr txBox="1"/>
          <p:nvPr/>
        </p:nvSpPr>
        <p:spPr>
          <a:xfrm>
            <a:off x="1143000" y="304920"/>
            <a:ext cx="6715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ка домашнего задания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600200" y="48006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6" descr="j0195384"/>
          <p:cNvPicPr/>
          <p:nvPr/>
        </p:nvPicPr>
        <p:blipFill>
          <a:blip r:embed="rId4"/>
          <a:stretch/>
        </p:blipFill>
        <p:spPr>
          <a:xfrm>
            <a:off x="5638680" y="3962520"/>
            <a:ext cx="3276720" cy="266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Object 7"/>
              <p:cNvSpPr txBox="1"/>
              <p:nvPr/>
            </p:nvSpPr>
            <p:spPr>
              <a:xfrm>
                <a:off x="971640" y="2492280"/>
                <a:ext cx="2593800" cy="36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арифме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рогрессия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Решение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8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ff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53 (б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3"/>
              <p:cNvSpPr txBox="1"/>
              <p:nvPr/>
            </p:nvSpPr>
            <p:spPr>
              <a:xfrm>
                <a:off x="2416320" y="3855960"/>
                <a:ext cx="11736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609480" y="1447920"/>
                <a:ext cx="2759040" cy="45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арифме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рогрессия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Решение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,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3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6" name="Picture 5" descr="j0195384"/>
          <p:cNvPicPr/>
          <p:nvPr/>
        </p:nvPicPr>
        <p:blipFill>
          <a:blip r:embed="rId1"/>
          <a:stretch/>
        </p:blipFill>
        <p:spPr>
          <a:xfrm>
            <a:off x="4114800" y="2209680"/>
            <a:ext cx="434340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ctr">
              <a:lnSpc>
                <a:spcPct val="70000"/>
              </a:lnSpc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cc"/>
                </a:solidFill>
                <a:latin typeface="Tahoma"/>
              </a:rPr>
              <a:t>Устный счет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0" algn="ctr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90099"/>
                </a:solidFill>
                <a:latin typeface="Tahoma"/>
              </a:rPr>
              <a:t>Тест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-495360">
              <a:lnSpc>
                <a:spcPct val="70000"/>
              </a:lnSpc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Последовательность (    ) задана формулой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Найдите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1) 10                        2) 24            3)  12         4) 15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-495360">
              <a:lnSpc>
                <a:spcPct val="70000"/>
              </a:lnSpc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Укажите последний член последовательности двузначных чисел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1)  103                  2) 99           3) 50           4)  75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-495360">
              <a:lnSpc>
                <a:spcPct val="70000"/>
              </a:lnSpc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Найдите четвёртый член арифметической прогрессии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13;   9; …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1) -1              2) 1             3)  6               4) 0        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6610320" y="2800440"/>
                <a:ext cx="114480" cy="1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9" name="WordArt 4"/>
          <p:cNvSpPr txBox="1"/>
          <p:nvPr/>
        </p:nvSpPr>
        <p:spPr>
          <a:xfrm>
            <a:off x="1371600" y="228600"/>
            <a:ext cx="5562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ронтальный опро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0" name="Picture 5" descr="j0196400"/>
          <p:cNvPicPr/>
          <p:nvPr/>
        </p:nvPicPr>
        <p:blipFill>
          <a:blip r:embed="rId2"/>
          <a:stretch/>
        </p:blipFill>
        <p:spPr>
          <a:xfrm>
            <a:off x="7010280" y="4495680"/>
            <a:ext cx="1981440" cy="181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1" name="Object 6"/>
              <p:cNvSpPr txBox="1"/>
              <p:nvPr/>
            </p:nvSpPr>
            <p:spPr>
              <a:xfrm>
                <a:off x="3581280" y="2320920"/>
                <a:ext cx="297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8"/>
              <p:cNvSpPr txBox="1"/>
              <p:nvPr/>
            </p:nvSpPr>
            <p:spPr>
              <a:xfrm>
                <a:off x="6095880" y="2057400"/>
                <a:ext cx="14479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9"/>
              <p:cNvSpPr txBox="1"/>
              <p:nvPr/>
            </p:nvSpPr>
            <p:spPr>
              <a:xfrm>
                <a:off x="2209680" y="2286000"/>
                <a:ext cx="274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500"/>
                            </p:stCondLst>
                            <p:childTnLst>
                              <p:par>
                                <p:cTn id="3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2263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Проверка теоретического материа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йте определение арифметической прогресси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помощью какой формулы можно найти разность арифметической прогресси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какой формуле находитс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ый член арифметической прогресси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405800" y="4076640"/>
            <a:ext cx="12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=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т+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а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т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53800" y="5877000"/>
            <a:ext cx="77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(n-1)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а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kn+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гд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 –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которые чис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j0205466"/>
          <p:cNvPicPr/>
          <p:nvPr/>
        </p:nvPicPr>
        <p:blipFill>
          <a:blip r:embed="rId1"/>
          <a:stretch/>
        </p:blipFill>
        <p:spPr>
          <a:xfrm>
            <a:off x="7324560" y="5048280"/>
            <a:ext cx="18194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1:20:58Z</dcterms:created>
  <dc:creator>Мама</dc:creator>
  <dc:description/>
  <dc:language>en-US</dc:language>
  <cp:lastModifiedBy>Admin</cp:lastModifiedBy>
  <dcterms:modified xsi:type="dcterms:W3CDTF">2013-01-17T15:08:24Z</dcterms:modified>
  <cp:revision>16</cp:revision>
  <dc:subject/>
  <dc:title>Слайд 1</dc:title>
</cp:coreProperties>
</file>