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9.png" ContentType="image/png"/>
  <Override PartName="/ppt/media/image36.gif" ContentType="image/gif"/>
  <Override PartName="/ppt/media/image26.gif" ContentType="image/gif"/>
  <Override PartName="/ppt/media/image19.png" ContentType="image/png"/>
  <Override PartName="/ppt/media/image20.jpeg" ContentType="image/jpeg"/>
  <Override PartName="/ppt/media/image25.png" ContentType="image/png"/>
  <Override PartName="/ppt/media/image32.gif" ContentType="image/gif"/>
  <Override PartName="/ppt/media/image23.gif" ContentType="image/gif"/>
  <Override PartName="/ppt/media/image22.png" ContentType="image/png"/>
  <Override PartName="/ppt/media/image5.jpeg" ContentType="image/jpeg"/>
  <Override PartName="/ppt/media/image35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0.jpeg" ContentType="image/jpeg"/>
  <Override PartName="/ppt/media/image11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38.gif" ContentType="image/gif"/>
  <Override PartName="/ppt/media/image7.gif" ContentType="image/gif"/>
  <Override PartName="/ppt/media/image3.wmf" ContentType="image/x-wmf"/>
  <Override PartName="/ppt/media/image39.gif" ContentType="image/gif"/>
  <Override PartName="/ppt/media/image12.png" ContentType="image/png"/>
  <Override PartName="/ppt/media/image6.wmf" ContentType="image/x-wmf"/>
  <Override PartName="/ppt/media/image4.png" ContentType="image/png"/>
  <Override PartName="/ppt/media/image24.gif" ContentType="image/gif"/>
  <Override PartName="/ppt/media/image27.png" ContentType="image/png"/>
  <Override PartName="/ppt/media/image33.jpeg" ContentType="image/jpeg"/>
  <Override PartName="/ppt/media/image2.jpeg" ContentType="image/jpeg"/>
  <Override PartName="/ppt/media/image1.jpeg" ContentType="image/jpeg"/>
  <Override PartName="/ppt/media/image15.wmf" ContentType="image/x-wmf"/>
  <Override PartName="/ppt/media/image10.jpeg" ContentType="image/jpeg"/>
  <Override PartName="/ppt/media/image14.png" ContentType="image/png"/>
  <Override PartName="/ppt/media/image16.wmf" ContentType="image/x-wmf"/>
  <Override PartName="/ppt/media/image18.gif" ContentType="image/gi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23A9-C316-4C89-B965-A95F91D52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CFD5-6178-4230-B598-6482FAB921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E7DD-D25A-4C76-A47B-FCF94AE27E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61DB-C203-4B11-97F2-45D8B13535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FC6-E25A-44C9-84E3-ED19EC6B91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C02-698B-41DF-9365-55F46DEA5F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F6E-F90A-4B66-9FAA-B64024C3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283-A82B-4BA2-9219-4EEC97E7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092-847C-41D2-896A-E85A76FC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571-6691-4BC3-AB07-45CCB236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159BC-75FD-44B1-96A7-8A1EBA90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9320F-2D03-420E-9066-C549D8D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5A757-FA7E-41AF-BDE6-EFBDE3B5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CC94-8492-43C5-9018-6844357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3F219-9B0B-4667-84DA-DF3AC327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7D4C-F23C-4080-8BFF-C89CDDD0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3A53A-A94B-4A91-B494-B12E3B7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15A-3110-42E7-84F6-25BA6410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72437-371D-46BF-8A66-33A9367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FCCE7-3482-4CF6-B7D8-13EB2E0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8D076-0CD8-4009-8817-43D2CAE2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60133-D415-477A-85AE-D7FFA1BB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6C47F-FFD5-4083-9A9C-73667D64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882-A304-4788-810D-460E369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847-2F99-4060-91A1-B358AB4A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E11-0D03-4241-BAA3-F3D7680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757-9768-4F3A-83F9-8F369EFB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577-4648-4FB6-A164-1C335C6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D31-10E6-4D43-810F-EE9CA41D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B32-3546-4C4E-9272-7227629D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10D2-501A-49DF-A782-6117BB301A6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5703-7C0F-4E78-9938-FCBB641B0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E1ED-1E26-4CE6-AB54-D394C51052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BB3-6C39-4FF5-BF66-25053416506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7240" y="4508280"/>
            <a:ext cx="480204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математики МБОУ СОШ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. Фащё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синских Л.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219320" y="152280"/>
            <a:ext cx="63529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ифметическая прогре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752480" y="990720"/>
            <a:ext cx="466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Формула n-го чл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143000" y="1828800"/>
            <a:ext cx="64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арифметической прогресс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1676520" y="2666880"/>
            <a:ext cx="4610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Обобщающи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6" name="Picture 8" descr="j0196374"/>
          <p:cNvPicPr/>
          <p:nvPr/>
        </p:nvPicPr>
        <p:blipFill>
          <a:blip r:embed="rId9"/>
          <a:stretch/>
        </p:blipFill>
        <p:spPr>
          <a:xfrm>
            <a:off x="838080" y="3657600"/>
            <a:ext cx="2159280" cy="226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10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WordArt 10"/>
          <p:cNvSpPr txBox="1"/>
          <p:nvPr/>
        </p:nvSpPr>
        <p:spPr>
          <a:xfrm>
            <a:off x="3995640" y="3645000"/>
            <a:ext cx="259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9 клас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9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№1. Дана арифметическая прогресс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дите разность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495680" y="20574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( n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= 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4d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1954 + 4d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d = 2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954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d =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d = 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1066680" y="15228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репление пройденног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143000" y="114300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ри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7" descr="j0299125"/>
          <p:cNvPicPr/>
          <p:nvPr/>
        </p:nvPicPr>
        <p:blipFill>
          <a:blip r:embed="rId1"/>
          <a:stretch/>
        </p:blipFill>
        <p:spPr>
          <a:xfrm>
            <a:off x="6248520" y="4648320"/>
            <a:ext cx="262404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213505"/>
          <p:cNvPicPr/>
          <p:nvPr/>
        </p:nvPicPr>
        <p:blipFill>
          <a:blip r:embed="rId2"/>
          <a:stretch/>
        </p:blipFill>
        <p:spPr>
          <a:xfrm>
            <a:off x="1371600" y="5257800"/>
            <a:ext cx="303840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324000" y="3213000"/>
                <a:ext cx="3809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95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16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ята, число 53 в арифметической прогрессии просто натуральное чис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какую роль играет данное число в жизни Липецкой обла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пецкая область образовалась  6 января 1954 года.  И ей исполнилось 53 года. Это самая молодая область в Центрально – Черноземной зоне. Площадь Липецкой области 2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00 кв. км, население –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00 человек. В состав Липецкой области входят 19 районов, в том числе и наш Грязинский рай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4724280" y="0"/>
            <a:ext cx="4114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5" descr="карта1"/>
          <p:cNvPicPr/>
          <p:nvPr/>
        </p:nvPicPr>
        <p:blipFill>
          <a:blip r:embed="rId2"/>
          <a:stretch/>
        </p:blipFill>
        <p:spPr>
          <a:xfrm>
            <a:off x="4194000" y="1600200"/>
            <a:ext cx="5254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герб"/>
          <p:cNvPicPr/>
          <p:nvPr/>
        </p:nvPicPr>
        <p:blipFill>
          <a:blip r:embed="rId2"/>
          <a:stretch/>
        </p:blipFill>
        <p:spPr>
          <a:xfrm>
            <a:off x="380880" y="457200"/>
            <a:ext cx="2210040" cy="14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липецк"/>
          <p:cNvPicPr/>
          <p:nvPr/>
        </p:nvPicPr>
        <p:blipFill>
          <a:blip r:embed="rId3"/>
          <a:stretch/>
        </p:blipFill>
        <p:spPr>
          <a:xfrm>
            <a:off x="4932360" y="549360"/>
            <a:ext cx="4211640" cy="38624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04920" y="2209680"/>
            <a:ext cx="4724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казом Президиума Верховного                                                                                                                                    Совета СССР от 6 января 1954 г.                                                                                                                                                                                                   в состав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СФС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ыла образована Липецкая область с центром в городе Липец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04920" y="449568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астоящее время область включает 18 административных районов и 4 города областного подчинения с населением     1 млн. 250 тыс.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73422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 2.Дана арифметическая прогрес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    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2556000" y="907920"/>
                <a:ext cx="2303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28600" y="3581280"/>
                <a:ext cx="243828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3429000" y="3657600"/>
                <a:ext cx="22860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" name="Picture 7" descr="аним реб"/>
          <p:cNvPicPr/>
          <p:nvPr/>
        </p:nvPicPr>
        <p:blipFill>
          <a:blip r:embed="rId1"/>
          <a:stretch/>
        </p:blipFill>
        <p:spPr>
          <a:xfrm>
            <a:off x="5800680" y="2590920"/>
            <a:ext cx="288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ята, а это число говорит нам о том, что Грязинскому району в 2008 году исполнится 80 лет. И проживает нас в Грязинском районе более 72 тыс. человек. Площадь-1500 кв. 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ив следующую задачу, мы с вами узнаем в каком году образовался наш рай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2057400" y="457200"/>
            <a:ext cx="5219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торическая спра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1" name="Picture 4" descr="j0189205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647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ифметическая прогресс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одиннадцатый член данной прогрессии.</a:t>
            </a:r>
            <a:br>
              <a:rPr sz="2000"/>
            </a:b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468360" y="836640"/>
                <a:ext cx="2717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68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1886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762120" y="3021120"/>
                <a:ext cx="3047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Picture 5" descr="картинка №1"/>
          <p:cNvPicPr/>
          <p:nvPr/>
        </p:nvPicPr>
        <p:blipFill>
          <a:blip r:embed="rId1"/>
          <a:stretch/>
        </p:blipFill>
        <p:spPr>
          <a:xfrm>
            <a:off x="5618160" y="2590920"/>
            <a:ext cx="3525840" cy="2955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610200" y="228600"/>
            <a:ext cx="13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ча 3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250920" y="4365720"/>
            <a:ext cx="7391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843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868 год. Первые упоминания о городе Грязи.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0 июля 1928 года образовался Грязинский район.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erb1"/>
          <p:cNvPicPr/>
          <p:nvPr/>
        </p:nvPicPr>
        <p:blipFill>
          <a:blip r:embed="rId2"/>
          <a:stretch/>
        </p:blipFill>
        <p:spPr>
          <a:xfrm>
            <a:off x="380880" y="152280"/>
            <a:ext cx="12528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3"/>
          <p:cNvSpPr txBox="1"/>
          <p:nvPr/>
        </p:nvSpPr>
        <p:spPr>
          <a:xfrm>
            <a:off x="3492360" y="476280"/>
            <a:ext cx="20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рязи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8120" y="22096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imes New Roman"/>
              </a:rPr>
              <a:t>Основан 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186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imes New Roman"/>
              </a:rPr>
              <a:t>Город с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19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фото г"/>
          <p:cNvPicPr/>
          <p:nvPr/>
        </p:nvPicPr>
        <p:blipFill>
          <a:blip r:embed="rId3"/>
          <a:stretch/>
        </p:blipFill>
        <p:spPr>
          <a:xfrm>
            <a:off x="152280" y="1981080"/>
            <a:ext cx="2895840" cy="2054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фото Грязи3"/>
          <p:cNvPicPr/>
          <p:nvPr/>
        </p:nvPicPr>
        <p:blipFill>
          <a:blip r:embed="rId4"/>
          <a:stretch/>
        </p:blipFill>
        <p:spPr>
          <a:xfrm>
            <a:off x="5943600" y="1905120"/>
            <a:ext cx="2895480" cy="205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1295280" y="4343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Город расположен в пределах Окско-Донской равнины,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. Матыра (левый приток Воронежа, бассейн Дона), в 30 км юго-востоку от Липецка. Ж.д. уз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В 18 км от Грязи, в селе Гудаловка (ныне Плеханово) родился Г.В. Плех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рисунок1"/>
          <p:cNvPicPr/>
          <p:nvPr/>
        </p:nvPicPr>
        <p:blipFill>
          <a:blip r:embed="rId5"/>
          <a:stretch/>
        </p:blipFill>
        <p:spPr>
          <a:xfrm>
            <a:off x="152280" y="548640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а 4.  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а арифметическая прогрессия                             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йти разность и первый член данной арифметической прогресси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380880" y="762120"/>
                <a:ext cx="45720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179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6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3962520" y="3021120"/>
                <a:ext cx="213336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90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9" name="Picture 5" descr="111"/>
          <p:cNvPicPr/>
          <p:nvPr/>
        </p:nvPicPr>
        <p:blipFill>
          <a:blip r:embed="rId2"/>
          <a:stretch/>
        </p:blipFill>
        <p:spPr>
          <a:xfrm>
            <a:off x="36360" y="1905120"/>
            <a:ext cx="3461040" cy="480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6553080" y="3276720"/>
                <a:ext cx="23623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год, в котором была основана наша Фащёвка. Начало Фащёвке положено в первые годы 18 века. Площадь – 11148 га. В состав сельского поселения входят 7 населенных пунктов: деревни Дурасовка, Писарёвка, Подлякино, Прудки, Соломоновка, село Фащёвка, посёлок Садовый.</a:t>
            </a: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 = 24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ащёвка расположена на берегу реки Двуречка, протяженность которой 24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74"/>
          <p:cNvPicPr/>
          <p:nvPr/>
        </p:nvPicPr>
        <p:blipFill>
          <a:blip r:embed="rId1"/>
          <a:stretch/>
        </p:blipFill>
        <p:spPr>
          <a:xfrm>
            <a:off x="5029200" y="609480"/>
            <a:ext cx="389556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WordArt 4"/>
          <p:cNvSpPr txBox="1"/>
          <p:nvPr/>
        </p:nvSpPr>
        <p:spPr>
          <a:xfrm>
            <a:off x="1752480" y="304920"/>
            <a:ext cx="152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4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838080" y="1143000"/>
                <a:ext cx="312444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иф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рогрессия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6375240" y="2817720"/>
                <a:ext cx="5842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дача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2590920" y="3857760"/>
                <a:ext cx="28256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Picture 6" descr="123"/>
          <p:cNvPicPr/>
          <p:nvPr/>
        </p:nvPicPr>
        <p:blipFill>
          <a:blip r:embed="rId2"/>
          <a:stretch/>
        </p:blipFill>
        <p:spPr>
          <a:xfrm>
            <a:off x="5105520" y="228600"/>
            <a:ext cx="3854160" cy="35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609480" y="228600"/>
                <a:ext cx="2286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дача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WordArt 8"/>
          <p:cNvSpPr txBox="1"/>
          <p:nvPr/>
        </p:nvSpPr>
        <p:spPr>
          <a:xfrm>
            <a:off x="1295280" y="4876920"/>
            <a:ext cx="66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ление сельского поселен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щёвского сельского сове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бщение и систематизация теоретического материала по данной тем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ботка умений и навыков применения форму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 члена арифметической прогрессии  и разности арифметической прогресс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навыков работы с дополнительной литературой, с историческим материало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ознавательной активности учащихс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коммуникативных навыков учащихс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интересов к изучению матема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371600" y="22860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уро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4" descr="j0199661"/>
          <p:cNvPicPr/>
          <p:nvPr/>
        </p:nvPicPr>
        <p:blipFill>
          <a:blip r:embed="rId2"/>
          <a:stretch/>
        </p:blipFill>
        <p:spPr>
          <a:xfrm>
            <a:off x="6781680" y="2286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рифметической прогрессии пятый член равен 176, седьмой член равен 194. Найдите первый член и сто девяносто восьмой член данной арифметической прогре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609480" y="3997440"/>
                <a:ext cx="2514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610320" y="2800440"/>
                <a:ext cx="11448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4" name="WordArt 5"/>
          <p:cNvSpPr txBox="1"/>
          <p:nvPr/>
        </p:nvSpPr>
        <p:spPr>
          <a:xfrm>
            <a:off x="304920" y="2133720"/>
            <a:ext cx="36288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ников в на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шк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4876920" y="2114640"/>
                <a:ext cx="38098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WordArt 7"/>
          <p:cNvSpPr txBox="1"/>
          <p:nvPr/>
        </p:nvSpPr>
        <p:spPr>
          <a:xfrm>
            <a:off x="5029200" y="3657600"/>
            <a:ext cx="3581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14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д образован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ащёвской школ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, алгебра тесно связано не только с историей, но и с геометр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№ 3. На экране изображена арифметическая прогрессия ступенчатой фигурой. Найдите сколько квадратиков вмещает в себя восьмая ступ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ифметическая прогресс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=2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= 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2+ 3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7 = 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23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вадра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57800" y="3352680"/>
          <a:ext cx="4572000" cy="3762360"/>
        </p:xfrm>
        <a:graphic>
          <a:graphicData uri="http://schemas.openxmlformats.org/drawingml/2006/table">
            <a:tbl>
              <a:tblPr/>
              <a:tblGrid>
                <a:gridCol w="262080"/>
                <a:gridCol w="260280"/>
                <a:gridCol w="260280"/>
                <a:gridCol w="260280"/>
                <a:gridCol w="262080"/>
                <a:gridCol w="260280"/>
                <a:gridCol w="260280"/>
                <a:gridCol w="260280"/>
                <a:gridCol w="262080"/>
                <a:gridCol w="260280"/>
                <a:gridCol w="260280"/>
                <a:gridCol w="260640"/>
                <a:gridCol w="261720"/>
                <a:gridCol w="260280"/>
                <a:gridCol w="9208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 1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 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арифметической прогрессии                         1. В арифметической прогрессии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йти:                                                                             Найт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Найти разность арифметической                           2.  Найти разность арифмет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грессии                                                                        прогрессии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838080" y="3230640"/>
                <a:ext cx="2743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WordArt 4"/>
          <p:cNvSpPr txBox="1"/>
          <p:nvPr/>
        </p:nvSpPr>
        <p:spPr>
          <a:xfrm>
            <a:off x="609480" y="30492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стоя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1371600" y="3579840"/>
                <a:ext cx="474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1600200" y="4419720"/>
                <a:ext cx="10666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609480" y="4876920"/>
                <a:ext cx="1981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5638680" y="3048120"/>
                <a:ext cx="2438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477120" y="3429000"/>
                <a:ext cx="44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705720" y="4419720"/>
                <a:ext cx="10666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1"/>
              <p:cNvSpPr txBox="1"/>
              <p:nvPr/>
            </p:nvSpPr>
            <p:spPr>
              <a:xfrm>
                <a:off x="5638680" y="4800600"/>
                <a:ext cx="2057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0195384"/>
          <p:cNvPicPr/>
          <p:nvPr/>
        </p:nvPicPr>
        <p:blipFill>
          <a:blip r:embed="rId2"/>
          <a:stretch/>
        </p:blipFill>
        <p:spPr>
          <a:xfrm>
            <a:off x="0" y="1905120"/>
            <a:ext cx="419256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WordArt 3"/>
          <p:cNvSpPr txBox="1"/>
          <p:nvPr/>
        </p:nvSpPr>
        <p:spPr>
          <a:xfrm>
            <a:off x="1371600" y="30492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 на до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4419720" y="2209680"/>
            <a:ext cx="4238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№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1 (по вариантам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№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1143000" y="22860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наступающим новым годо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3" descr="ёлка"/>
          <p:cNvPicPr/>
          <p:nvPr/>
        </p:nvPicPr>
        <p:blipFill>
          <a:blip r:embed="rId1"/>
          <a:stretch/>
        </p:blipFill>
        <p:spPr>
          <a:xfrm>
            <a:off x="1268280" y="3048120"/>
            <a:ext cx="3375000" cy="358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обезьяна"/>
          <p:cNvPicPr/>
          <p:nvPr/>
        </p:nvPicPr>
        <p:blipFill>
          <a:blip r:embed="rId2"/>
          <a:stretch/>
        </p:blipFill>
        <p:spPr>
          <a:xfrm>
            <a:off x="5638680" y="3962520"/>
            <a:ext cx="27194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0800000">
            <a:off x="467640" y="6857280"/>
            <a:ext cx="8218440" cy="2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йти вместе – это нача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ться вместе – это развит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ть вместе – это успе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611280" y="364500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4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4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9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9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91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76720" y="1600200"/>
            <a:ext cx="1904760" cy="58140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геб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429000" y="5334120"/>
            <a:ext cx="1905120" cy="4777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оме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705720" y="3733920"/>
            <a:ext cx="1904760" cy="52056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724280" y="2209680"/>
            <a:ext cx="27432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9480" y="3505320"/>
            <a:ext cx="1905120" cy="52056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4191120" y="2209680"/>
            <a:ext cx="7596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1599840" y="220968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990720" y="228600"/>
            <a:ext cx="6248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жпредметные связ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10" descr="j0254436"/>
          <p:cNvPicPr/>
          <p:nvPr/>
        </p:nvPicPr>
        <p:blipFill>
          <a:blip r:embed="rId1"/>
          <a:stretch/>
        </p:blipFill>
        <p:spPr>
          <a:xfrm>
            <a:off x="6172200" y="495288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03)"/>
                                      </p:to>
                                    </p:se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03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78,0)"/>
                                      </p:to>
                                    </p:set>
                                    <p:set>
                                      <p:cBhvr>
                                        <p:cTn id="142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78,0)"/>
                                      </p:to>
                                    </p:set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1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онный мо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е цели уро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онтальный опр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ройденн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 урока. Задание на 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838080" y="0"/>
            <a:ext cx="6248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 уро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4" descr="j0205582"/>
          <p:cNvPicPr/>
          <p:nvPr/>
        </p:nvPicPr>
        <p:blipFill>
          <a:blip r:embed="rId1"/>
          <a:stretch/>
        </p:blipFill>
        <p:spPr>
          <a:xfrm>
            <a:off x="6705720" y="1219320"/>
            <a:ext cx="2438280" cy="19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4647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на уроке мы                              закрепим знания по теме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Арифметическая прогрессия» и в ходе решения задач повторим формулы арифметической прогре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1066680" y="304920"/>
            <a:ext cx="56959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общение цели уро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4" descr="t3"/>
          <p:cNvPicPr/>
          <p:nvPr/>
        </p:nvPicPr>
        <p:blipFill>
          <a:blip r:embed="rId2"/>
          <a:stretch/>
        </p:blipFill>
        <p:spPr>
          <a:xfrm>
            <a:off x="5791320" y="2133720"/>
            <a:ext cx="3143160" cy="4190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23" dur="indefinite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4" dur="indefinite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52 (б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ан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6610320" y="2789280"/>
                <a:ext cx="1173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WordArt 4"/>
          <p:cNvSpPr txBox="1"/>
          <p:nvPr/>
        </p:nvSpPr>
        <p:spPr>
          <a:xfrm>
            <a:off x="1143000" y="304920"/>
            <a:ext cx="6715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ка домашнего задани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60020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j0195384"/>
          <p:cNvPicPr/>
          <p:nvPr/>
        </p:nvPicPr>
        <p:blipFill>
          <a:blip r:embed="rId4"/>
          <a:stretch/>
        </p:blipFill>
        <p:spPr>
          <a:xfrm>
            <a:off x="5638680" y="3962520"/>
            <a:ext cx="32767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971640" y="2492280"/>
                <a:ext cx="259380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ифм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рогрессия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8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53 (б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2416320" y="3855960"/>
                <a:ext cx="1173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09480" y="1447920"/>
                <a:ext cx="275904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ифм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рогрессия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3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Picture 5" descr="j0195384"/>
          <p:cNvPicPr/>
          <p:nvPr/>
        </p:nvPicPr>
        <p:blipFill>
          <a:blip r:embed="rId1"/>
          <a:stretch/>
        </p:blipFill>
        <p:spPr>
          <a:xfrm>
            <a:off x="4114800" y="2209680"/>
            <a:ext cx="43434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ctr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cc"/>
                </a:solidFill>
                <a:latin typeface="Tahoma"/>
              </a:rPr>
              <a:t>Устный сче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0099"/>
                </a:solidFill>
                <a:latin typeface="Tahoma"/>
              </a:rPr>
              <a:t>Тес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следовательность (    ) задана формулой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айдите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) 10                        2) 24            3)  12         4) 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кажите последний член последовательности двузначных чисе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)  103                  2) 99           3) 50           4)  7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lnSpc>
                <a:spcPct val="7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айдите четвёртый член арифметической прогресси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3;   9; …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) -1              2) 1             3)  6               4) 0      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6610320" y="2800440"/>
                <a:ext cx="114480" cy="1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WordArt 4"/>
          <p:cNvSpPr txBox="1"/>
          <p:nvPr/>
        </p:nvSpPr>
        <p:spPr>
          <a:xfrm>
            <a:off x="1371600" y="228600"/>
            <a:ext cx="5562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ронтальный 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0" name="Picture 5" descr="j0196400"/>
          <p:cNvPicPr/>
          <p:nvPr/>
        </p:nvPicPr>
        <p:blipFill>
          <a:blip r:embed="rId2"/>
          <a:stretch/>
        </p:blipFill>
        <p:spPr>
          <a:xfrm>
            <a:off x="7010280" y="4495680"/>
            <a:ext cx="1981440" cy="181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3581280" y="2320920"/>
                <a:ext cx="297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6095880" y="2057400"/>
                <a:ext cx="1447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2209680" y="228600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226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Проверка теоретического материа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йте определение арифметической прогресс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помощью какой формулы можно найти разность арифметической прогресс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акой формуле находитс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ый член арифметической прогресс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405800" y="4076640"/>
            <a:ext cx="12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т+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3800" y="5877000"/>
            <a:ext cx="77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(n-1)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а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kn+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 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j0205466"/>
          <p:cNvPicPr/>
          <p:nvPr/>
        </p:nvPicPr>
        <p:blipFill>
          <a:blip r:embed="rId1"/>
          <a:stretch/>
        </p:blipFill>
        <p:spPr>
          <a:xfrm>
            <a:off x="7324560" y="504828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1:20:58Z</dcterms:created>
  <dc:creator>Мама</dc:creator>
  <dc:description/>
  <dc:language>en-US</dc:language>
  <cp:lastModifiedBy>Admin</cp:lastModifiedBy>
  <dcterms:modified xsi:type="dcterms:W3CDTF">2013-01-17T15:08:24Z</dcterms:modified>
  <cp:revision>16</cp:revision>
  <dc:subject/>
  <dc:title>Слайд 1</dc:title>
</cp:coreProperties>
</file>