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6509-7C5F-4848-8E66-D222CAE8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D16-3521-470E-B3A6-4F024A3F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D459-D97C-4AE0-B6A4-38486F69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0E5-C67D-4A50-B81C-CF2AFB48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9333-7CCA-4DE3-BC8E-1D97AAAB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034A-ABC4-4EB9-88D8-27F9FDC9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CAC9-6FEE-4A1F-BD4E-8EF5E3CC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40F7-F2A7-4AB5-92D5-2036A79B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7CFA-338B-4782-91E5-F41F4E68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2160-3475-4C65-8465-6E06B939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FA0F-198D-4A7F-A09D-AEA72737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A57-9EF7-47AA-A3FA-D4E3EE0D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C82F-BB95-4403-9DE1-60283EBD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A15A-F4D1-4CD5-B6BB-E90369F3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BE3D-99D7-4CBD-875E-9DDF8EB4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E546-BFC6-449B-AE6A-62FC30A4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2C7E-86C4-4DC3-87FE-BF887116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82A2-4B37-4CF9-8B35-A06E0967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018-4C80-4370-9115-2365BD3B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72B5-EDE4-4B6C-A041-92150D4E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7A3D-BCA9-4ADC-B6B3-FB557BDA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F88-4FB2-4DA8-BC6F-5A9503D9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8BC-AA14-4D9B-8BEB-4DB5B20C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AC0-8CB4-45B0-9887-C25FDE8B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fefe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cda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F8E2-714F-4931-BC13-BC8CB120DA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cda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8253-A192-4710-B3FB-319FE11877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Tahoma"/>
              </a:rPr>
              <a:t>«Нахождение значений дробных выражений».</a:t>
            </a:r>
            <a:r>
              <a:rPr b="0" lang="en-US" sz="4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3809880"/>
            <a:ext cx="3429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рок математики в 6 класс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10480" y="3429000"/>
            <a:ext cx="2333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143000" y="1371600"/>
                <a:ext cx="2100240" cy="48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9112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Минутка отдыха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029200" y="2971800"/>
            <a:ext cx="3657600" cy="23781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5181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жмите друг другу руки и похвалите за работ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колько рукопожатий всего вы сделали в групп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419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cda9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Tahoma"/>
              </a:rPr>
              <a:t>Сложные задания</a:t>
            </a: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 1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09480" y="1371600"/>
                <a:ext cx="7239240" cy="504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Вычислите: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3675240"/>
            <a:ext cx="3276720" cy="31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cda9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Tahoma"/>
              </a:rPr>
              <a:t>Сложные задания</a:t>
            </a: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 2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3675240"/>
            <a:ext cx="3276720" cy="3130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371600" y="1282680"/>
                <a:ext cx="6680160" cy="557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Вычислите: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cda9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56272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ма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98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16 а)-г)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4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7242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ahoma"/>
              </a:rPr>
              <a:t>Подведем итоги</a:t>
            </a:r>
            <a:endParaRPr b="0" lang="en-US" sz="40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019160"/>
          <a:ext cx="8381880" cy="4629240"/>
        </p:xfrm>
        <a:graphic>
          <a:graphicData uri="http://schemas.openxmlformats.org/drawingml/2006/table">
            <a:tbl>
              <a:tblPr/>
              <a:tblGrid>
                <a:gridCol w="1492200"/>
                <a:gridCol w="2317680"/>
                <a:gridCol w="1992600"/>
                <a:gridCol w="25794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рточка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с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ания повышенной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ка за ур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7 правильных отв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льный ответ во всех пример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ка 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 ошиб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правильных отв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льно выполнен только 1 при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ка «4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олее 3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и менее правильных отв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кам 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639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cda9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хождение значений дробных выражений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0880" y="905040"/>
                <a:ext cx="6782040" cy="571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ример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Вычислим значение дроби  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пособ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пособ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9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39160" y="4419720"/>
            <a:ext cx="2004840" cy="221616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7772400" y="2971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7493"/>
                </a:moveTo>
                <a:lnTo>
                  <a:pt x="8202" y="7493"/>
                </a:lnTo>
                <a:lnTo>
                  <a:pt x="8202" y="12828"/>
                </a:lnTo>
                <a:cubicBezTo>
                  <a:pt x="8202" y="13751"/>
                  <a:pt x="9003" y="14482"/>
                  <a:pt x="10039" y="14482"/>
                </a:cubicBezTo>
                <a:lnTo>
                  <a:pt x="11701" y="14482"/>
                </a:lnTo>
                <a:cubicBezTo>
                  <a:pt x="12737" y="14482"/>
                  <a:pt x="13538" y="13751"/>
                  <a:pt x="13538" y="12828"/>
                </a:cubicBezTo>
                <a:lnTo>
                  <a:pt x="13538" y="7493"/>
                </a:lnTo>
                <a:lnTo>
                  <a:pt x="11701" y="7493"/>
                </a:lnTo>
                <a:lnTo>
                  <a:pt x="15209" y="3985"/>
                </a:lnTo>
                <a:lnTo>
                  <a:pt x="18882" y="7493"/>
                </a:lnTo>
                <a:lnTo>
                  <a:pt x="17045" y="7493"/>
                </a:lnTo>
                <a:lnTo>
                  <a:pt x="17045" y="12828"/>
                </a:lnTo>
                <a:cubicBezTo>
                  <a:pt x="17045" y="15596"/>
                  <a:pt x="14469" y="18155"/>
                  <a:pt x="11701" y="18155"/>
                </a:cubicBezTo>
                <a:lnTo>
                  <a:pt x="10039" y="18155"/>
                </a:lnTo>
                <a:cubicBezTo>
                  <a:pt x="7271" y="18155"/>
                  <a:pt x="4695" y="15596"/>
                  <a:pt x="4695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639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cda9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хождение значений дробных выражений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80880" y="792000"/>
                <a:ext cx="7925040" cy="519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ример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Вычислим значение дроби  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пособ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пособ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010280" y="4343400"/>
            <a:ext cx="1881360" cy="221616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rId2" action="ppaction://hlinksldjump"/>
          </p:cNvPr>
          <p:cNvSpPr/>
          <p:nvPr/>
        </p:nvSpPr>
        <p:spPr>
          <a:xfrm>
            <a:off x="7772400" y="167652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4566" y="7493"/>
                </a:moveTo>
                <a:lnTo>
                  <a:pt x="8074" y="7493"/>
                </a:lnTo>
                <a:lnTo>
                  <a:pt x="8074" y="12828"/>
                </a:lnTo>
                <a:cubicBezTo>
                  <a:pt x="8074" y="13751"/>
                  <a:pt x="8874" y="14482"/>
                  <a:pt x="9910" y="14482"/>
                </a:cubicBezTo>
                <a:lnTo>
                  <a:pt x="11572" y="14482"/>
                </a:lnTo>
                <a:cubicBezTo>
                  <a:pt x="12608" y="14482"/>
                  <a:pt x="13409" y="13751"/>
                  <a:pt x="13409" y="12828"/>
                </a:cubicBezTo>
                <a:lnTo>
                  <a:pt x="13409" y="7493"/>
                </a:lnTo>
                <a:lnTo>
                  <a:pt x="11572" y="7493"/>
                </a:lnTo>
                <a:lnTo>
                  <a:pt x="15080" y="3985"/>
                </a:lnTo>
                <a:lnTo>
                  <a:pt x="18753" y="7493"/>
                </a:lnTo>
                <a:lnTo>
                  <a:pt x="16917" y="7493"/>
                </a:lnTo>
                <a:lnTo>
                  <a:pt x="16917" y="12828"/>
                </a:lnTo>
                <a:cubicBezTo>
                  <a:pt x="16917" y="15596"/>
                  <a:pt x="14340" y="18155"/>
                  <a:pt x="11572" y="18155"/>
                </a:cubicBezTo>
                <a:lnTo>
                  <a:pt x="9910" y="18155"/>
                </a:lnTo>
                <a:cubicBezTo>
                  <a:pt x="7142" y="18155"/>
                  <a:pt x="4566" y="15596"/>
                  <a:pt x="4566" y="12828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Дайте название дробям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4038120"/>
            <a:ext cx="2286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быкновенна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авильн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0720" y="1981080"/>
                <a:ext cx="7619760" cy="203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438280" y="3962520"/>
            <a:ext cx="2438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быкно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еправи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39625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меша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396252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есятич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Дайте название: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15800" y="1447920"/>
                <a:ext cx="5338800" cy="15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,5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,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,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,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6019920" y="1447920"/>
            <a:ext cx="312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Определени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Частное двух чисел или выражений, в котором знак деления обозначен чертой, называют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дробным выраж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4197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к назвать такую дроб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057400" y="3429000"/>
                <a:ext cx="644400" cy="29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429000" y="3352680"/>
            <a:ext cx="2735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ahoma"/>
              </a:rPr>
              <a:t>В течение 2-3 минут выполнить действия:</a:t>
            </a:r>
            <a:endParaRPr b="0" lang="en-US" sz="4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52388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веты к карточк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221600" y="685800"/>
            <a:ext cx="1922400" cy="2362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04920" y="2133720"/>
                <a:ext cx="287172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80880" y="3381480"/>
                <a:ext cx="281952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80880" y="4803840"/>
                <a:ext cx="23623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8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57600" y="2362320"/>
                <a:ext cx="2286000" cy="12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,4</m:t>
                        </m:r>
                      </m:num>
                      <m:den>
                        <m:r>
                          <m:t xml:space="preserve">2,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581280" y="4191120"/>
                <a:ext cx="173520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400800" y="3306600"/>
                <a:ext cx="251460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400800" y="5208480"/>
                <a:ext cx="229248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5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cda9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Справочный материал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6553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выполнить примеры воспользуйтесь подсказк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239724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990720" y="2895480"/>
            <a:ext cx="4038480" cy="1067040"/>
          </a:xfrm>
          <a:custGeom>
            <a:avLst/>
            <a:gdLst>
              <a:gd name="textAreaLeft" fmla="*/ 69120 w 4038480"/>
              <a:gd name="textAreaRight" fmla="*/ 3969360 w 40384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1730" h="21600">
                <a:moveTo>
                  <a:pt x="0" y="0"/>
                </a:moveTo>
                <a:lnTo>
                  <a:pt x="81730" y="0"/>
                </a:lnTo>
                <a:lnTo>
                  <a:pt x="81730" y="21600"/>
                </a:lnTo>
                <a:lnTo>
                  <a:pt x="0" y="21600"/>
                </a:lnTo>
                <a:close/>
              </a:path>
              <a:path fill="lightenLess" w="81730" h="21600">
                <a:moveTo>
                  <a:pt x="0" y="0"/>
                </a:moveTo>
                <a:lnTo>
                  <a:pt x="81730" y="0"/>
                </a:lnTo>
                <a:lnTo>
                  <a:pt x="80330" y="1400"/>
                </a:lnTo>
                <a:lnTo>
                  <a:pt x="1400" y="1400"/>
                </a:lnTo>
                <a:close/>
              </a:path>
              <a:path fill="darken" w="81730" h="21600">
                <a:moveTo>
                  <a:pt x="81730" y="0"/>
                </a:moveTo>
                <a:lnTo>
                  <a:pt x="81730" y="21600"/>
                </a:lnTo>
                <a:lnTo>
                  <a:pt x="80330" y="20200"/>
                </a:lnTo>
                <a:lnTo>
                  <a:pt x="80330" y="1400"/>
                </a:lnTo>
                <a:close/>
              </a:path>
              <a:path fill="darkenLess" w="81730" h="21600">
                <a:moveTo>
                  <a:pt x="817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330" y="20200"/>
                </a:lnTo>
                <a:close/>
              </a:path>
              <a:path fill="lighten" w="817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81730" h="21600">
                <a:moveTo>
                  <a:pt x="35338" y="3985"/>
                </a:moveTo>
                <a:lnTo>
                  <a:pt x="42336" y="3985"/>
                </a:lnTo>
                <a:lnTo>
                  <a:pt x="46392" y="7484"/>
                </a:lnTo>
                <a:lnTo>
                  <a:pt x="46392" y="17615"/>
                </a:lnTo>
                <a:lnTo>
                  <a:pt x="35338" y="17615"/>
                </a:lnTo>
                <a:close/>
              </a:path>
              <a:path fill="darken" w="81730" h="21600">
                <a:moveTo>
                  <a:pt x="42336" y="3985"/>
                </a:moveTo>
                <a:lnTo>
                  <a:pt x="46392" y="7484"/>
                </a:lnTo>
                <a:lnTo>
                  <a:pt x="42336" y="748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32004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правк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4572000" y="4648320"/>
            <a:ext cx="3886200" cy="1143000"/>
          </a:xfrm>
          <a:custGeom>
            <a:avLst/>
            <a:gdLst>
              <a:gd name="textAreaLeft" fmla="*/ 73800 w 3886200"/>
              <a:gd name="textAreaRight" fmla="*/ 3812400 w 38862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3424" h="21600">
                <a:moveTo>
                  <a:pt x="0" y="0"/>
                </a:moveTo>
                <a:lnTo>
                  <a:pt x="73424" y="0"/>
                </a:lnTo>
                <a:lnTo>
                  <a:pt x="73424" y="21600"/>
                </a:lnTo>
                <a:lnTo>
                  <a:pt x="0" y="21600"/>
                </a:lnTo>
                <a:close/>
              </a:path>
              <a:path fill="lightenLess" w="73424" h="21600">
                <a:moveTo>
                  <a:pt x="0" y="0"/>
                </a:moveTo>
                <a:lnTo>
                  <a:pt x="73424" y="0"/>
                </a:lnTo>
                <a:lnTo>
                  <a:pt x="72024" y="1400"/>
                </a:lnTo>
                <a:lnTo>
                  <a:pt x="1400" y="1400"/>
                </a:lnTo>
                <a:close/>
              </a:path>
              <a:path fill="darken" w="73424" h="21600">
                <a:moveTo>
                  <a:pt x="73424" y="0"/>
                </a:moveTo>
                <a:lnTo>
                  <a:pt x="73424" y="21600"/>
                </a:lnTo>
                <a:lnTo>
                  <a:pt x="72024" y="20200"/>
                </a:lnTo>
                <a:lnTo>
                  <a:pt x="72024" y="1400"/>
                </a:lnTo>
                <a:close/>
              </a:path>
              <a:path fill="darkenLess" w="73424" h="21600">
                <a:moveTo>
                  <a:pt x="73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4" y="20200"/>
                </a:lnTo>
                <a:close/>
              </a:path>
              <a:path fill="lighten" w="73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73424" h="21600">
                <a:moveTo>
                  <a:pt x="31185" y="3985"/>
                </a:moveTo>
                <a:lnTo>
                  <a:pt x="38183" y="3985"/>
                </a:lnTo>
                <a:lnTo>
                  <a:pt x="42239" y="7484"/>
                </a:lnTo>
                <a:lnTo>
                  <a:pt x="42239" y="17615"/>
                </a:lnTo>
                <a:lnTo>
                  <a:pt x="31185" y="17615"/>
                </a:lnTo>
                <a:close/>
              </a:path>
              <a:path fill="darken" w="73424" h="21600">
                <a:moveTo>
                  <a:pt x="38183" y="3985"/>
                </a:moveTo>
                <a:lnTo>
                  <a:pt x="42239" y="7484"/>
                </a:lnTo>
                <a:lnTo>
                  <a:pt x="38183" y="7484"/>
                </a:lnTo>
                <a:close/>
              </a:path>
            </a:pathLst>
          </a:cu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49528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правк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85800" y="4038480"/>
            <a:ext cx="36576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Афиширование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правьте «ЭКСПЕРТА» в другую группу с решением карточки 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47610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Эксперты вперед!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09480" y="2286000"/>
                <a:ext cx="1424160" cy="32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209680" y="2209680"/>
                <a:ext cx="139248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886200" y="2057400"/>
                <a:ext cx="1447920" cy="32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715000" y="2133720"/>
                <a:ext cx="1230480" cy="31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7238880" y="2133720"/>
                <a:ext cx="139860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2011320" y="235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31800" y="2352600"/>
            <a:ext cx="121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31800" y="2352600"/>
            <a:ext cx="121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31800" y="2352600"/>
            <a:ext cx="121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1800" y="2352600"/>
            <a:ext cx="121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676520"/>
          <a:ext cx="8305920" cy="4418640"/>
        </p:xfrm>
        <a:graphic>
          <a:graphicData uri="http://schemas.openxmlformats.org/drawingml/2006/table">
            <a:tbl>
              <a:tblPr/>
              <a:tblGrid>
                <a:gridCol w="1660680"/>
                <a:gridCol w="1662120"/>
                <a:gridCol w="1660320"/>
                <a:gridCol w="1662120"/>
                <a:gridCol w="16606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чка 3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чка 3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чка 3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чка 3 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чка 3 (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500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85800" y="1523880"/>
                <a:ext cx="2006640" cy="464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343400" y="1447920"/>
                <a:ext cx="2205000" cy="51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838080" y="1523880"/>
                <a:ext cx="2212920" cy="50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57800" y="1523880"/>
                <a:ext cx="1981080" cy="50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№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17T11:44:5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