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CF6-B734-4B69-B3E6-411EC566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B2-59D2-4602-AC58-32612491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1E7-1277-47B3-B850-9FC06995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268-A455-4D4D-BE29-7CBB794E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90FC-2584-4AA1-BE17-34AD72B8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2F93-3E0C-4DB7-99B1-C6D28BE2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5AE3-77C6-444A-8ED8-624F72E3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330E-7BE5-487B-A071-209F82E5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C326-ECBE-4675-B3BA-53C9831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1498-A08D-4ECA-96BE-909858B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00F2-384E-4B18-938F-47B55E57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129-B40D-430A-B3A6-2206C5A5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63A-118A-4663-B11F-BCE6355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B46A-3C20-4369-868C-79B2CEA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D3E3-C5D0-45C5-BD7E-09300204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FA48-468A-441D-BFEA-A72B1FA6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373E-9801-446A-BF1F-A834DF05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26D-2072-4E1D-AA4D-AECFD7A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99C-4B6E-4A79-9D02-4CE5664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9B3-16E9-47DA-A4AA-152F7CAF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663-C617-410C-8776-4129C76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08A-0ECD-4963-9125-52F2E32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608-4DA8-493E-80FE-88B2E6B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D4F-42F5-4108-804A-56C001D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cda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373-9D3D-4454-BECE-20CE329092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cda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63C-3273-4679-99C2-6CC989CE2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ahoma"/>
              </a:rPr>
              <a:t>«Нахождение значений дробных выражений».</a:t>
            </a: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80988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математики в 6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10480" y="3429000"/>
            <a:ext cx="2333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143000" y="1371600"/>
                <a:ext cx="210024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Минутка отдыха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5181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жмите друг другу руки и похвалите за рабо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колько рукопожатий всего вы сделали в групп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9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Tahoma"/>
              </a:rPr>
              <a:t>Сложные задания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 1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1371600"/>
                <a:ext cx="7239240" cy="50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ычислите: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3675240"/>
            <a:ext cx="3276720" cy="31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Tahoma"/>
              </a:rPr>
              <a:t>Сложные задания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 2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3675240"/>
            <a:ext cx="3276720" cy="313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371600" y="1282680"/>
                <a:ext cx="6680160" cy="557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ычислите: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м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98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16 а)-г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Подведем итоги</a:t>
            </a:r>
            <a:endParaRPr b="0" lang="en-US" sz="40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019160"/>
          <a:ext cx="8381880" cy="4629240"/>
        </p:xfrm>
        <a:graphic>
          <a:graphicData uri="http://schemas.openxmlformats.org/drawingml/2006/table">
            <a:tbl>
              <a:tblPr/>
              <a:tblGrid>
                <a:gridCol w="1492200"/>
                <a:gridCol w="2317680"/>
                <a:gridCol w="1992600"/>
                <a:gridCol w="2579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очк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я повышенной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за у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7 правиль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ый ответ во всех приме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правиль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 выполнен только 1 при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ее 3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и менее правиль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м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хождение значений дробных выражений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905040"/>
                <a:ext cx="6782040" cy="57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мер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Вычислим значение дроби  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39160" y="4419720"/>
            <a:ext cx="2004840" cy="22161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7772400" y="2971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7493"/>
                </a:moveTo>
                <a:lnTo>
                  <a:pt x="8202" y="7493"/>
                </a:lnTo>
                <a:lnTo>
                  <a:pt x="8202" y="12828"/>
                </a:lnTo>
                <a:cubicBezTo>
                  <a:pt x="8202" y="13751"/>
                  <a:pt x="9003" y="14482"/>
                  <a:pt x="10039" y="14482"/>
                </a:cubicBezTo>
                <a:lnTo>
                  <a:pt x="11701" y="14482"/>
                </a:lnTo>
                <a:cubicBezTo>
                  <a:pt x="12737" y="14482"/>
                  <a:pt x="13538" y="13751"/>
                  <a:pt x="13538" y="12828"/>
                </a:cubicBezTo>
                <a:lnTo>
                  <a:pt x="13538" y="7493"/>
                </a:lnTo>
                <a:lnTo>
                  <a:pt x="11701" y="7493"/>
                </a:lnTo>
                <a:lnTo>
                  <a:pt x="15209" y="3985"/>
                </a:lnTo>
                <a:lnTo>
                  <a:pt x="18882" y="7493"/>
                </a:lnTo>
                <a:lnTo>
                  <a:pt x="17045" y="7493"/>
                </a:lnTo>
                <a:lnTo>
                  <a:pt x="17045" y="12828"/>
                </a:lnTo>
                <a:cubicBezTo>
                  <a:pt x="17045" y="15596"/>
                  <a:pt x="14469" y="18155"/>
                  <a:pt x="11701" y="18155"/>
                </a:cubicBezTo>
                <a:lnTo>
                  <a:pt x="10039" y="18155"/>
                </a:lnTo>
                <a:cubicBezTo>
                  <a:pt x="7271" y="18155"/>
                  <a:pt x="4695" y="15596"/>
                  <a:pt x="4695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хождение значений дробных выражений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792000"/>
                <a:ext cx="7925040" cy="519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мер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Вычислим значение дроби 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10280" y="4343400"/>
            <a:ext cx="1881360" cy="22161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7772400" y="16765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7493"/>
                </a:moveTo>
                <a:lnTo>
                  <a:pt x="8074" y="7493"/>
                </a:lnTo>
                <a:lnTo>
                  <a:pt x="8074" y="12828"/>
                </a:lnTo>
                <a:cubicBezTo>
                  <a:pt x="8074" y="13751"/>
                  <a:pt x="8874" y="14482"/>
                  <a:pt x="9910" y="14482"/>
                </a:cubicBezTo>
                <a:lnTo>
                  <a:pt x="11572" y="14482"/>
                </a:lnTo>
                <a:cubicBezTo>
                  <a:pt x="12608" y="14482"/>
                  <a:pt x="13409" y="13751"/>
                  <a:pt x="13409" y="12828"/>
                </a:cubicBezTo>
                <a:lnTo>
                  <a:pt x="13409" y="7493"/>
                </a:lnTo>
                <a:lnTo>
                  <a:pt x="11572" y="7493"/>
                </a:lnTo>
                <a:lnTo>
                  <a:pt x="15080" y="3985"/>
                </a:lnTo>
                <a:lnTo>
                  <a:pt x="18753" y="7493"/>
                </a:lnTo>
                <a:lnTo>
                  <a:pt x="16917" y="7493"/>
                </a:lnTo>
                <a:lnTo>
                  <a:pt x="16917" y="12828"/>
                </a:lnTo>
                <a:cubicBezTo>
                  <a:pt x="16917" y="15596"/>
                  <a:pt x="14340" y="18155"/>
                  <a:pt x="11572" y="18155"/>
                </a:cubicBezTo>
                <a:lnTo>
                  <a:pt x="9910" y="18155"/>
                </a:lnTo>
                <a:cubicBezTo>
                  <a:pt x="7142" y="18155"/>
                  <a:pt x="4566" y="15596"/>
                  <a:pt x="4566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Дайте название дробям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ыкновенна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авиль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1981080"/>
                <a:ext cx="7619760" cy="20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438280" y="39625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ык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прав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962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меш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39625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сяти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Дайте название: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5800" y="1447920"/>
                <a:ext cx="53388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,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,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019920" y="144792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О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Частное двух чисел или выражений, в котором знак деления обозначен чертой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робным выра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назвать такую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057400" y="3429000"/>
                <a:ext cx="64440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2735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В течение 2-3 минут выполнить действия:</a:t>
            </a:r>
            <a:endParaRPr b="0" lang="en-US" sz="4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38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ы к карточк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21600" y="685800"/>
            <a:ext cx="192240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920" y="2133720"/>
                <a:ext cx="287172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880" y="3381480"/>
                <a:ext cx="28195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0880" y="4803840"/>
                <a:ext cx="2362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2362320"/>
                <a:ext cx="22860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,4</m:t>
                        </m:r>
                      </m:num>
                      <m:den>
                        <m:r>
                          <m:t xml:space="preserve">2,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81280" y="4191120"/>
                <a:ext cx="173520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400800" y="3306600"/>
                <a:ext cx="25146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400800" y="5208480"/>
                <a:ext cx="229248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Справочный материал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ыполнить примеры воспользуйтесь подсказк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3972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990720" y="2895480"/>
            <a:ext cx="4038480" cy="1067040"/>
          </a:xfrm>
          <a:custGeom>
            <a:avLst/>
            <a:gdLst>
              <a:gd name="textAreaLeft" fmla="*/ 69120 w 4038480"/>
              <a:gd name="textAreaRight" fmla="*/ 3969360 w 40384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1730" h="21600">
                <a:moveTo>
                  <a:pt x="0" y="0"/>
                </a:moveTo>
                <a:lnTo>
                  <a:pt x="81730" y="0"/>
                </a:lnTo>
                <a:lnTo>
                  <a:pt x="81730" y="21600"/>
                </a:lnTo>
                <a:lnTo>
                  <a:pt x="0" y="21600"/>
                </a:lnTo>
                <a:close/>
              </a:path>
              <a:path fill="lightenLess" w="81730" h="21600">
                <a:moveTo>
                  <a:pt x="0" y="0"/>
                </a:moveTo>
                <a:lnTo>
                  <a:pt x="81730" y="0"/>
                </a:lnTo>
                <a:lnTo>
                  <a:pt x="80330" y="1400"/>
                </a:lnTo>
                <a:lnTo>
                  <a:pt x="1400" y="1400"/>
                </a:lnTo>
                <a:close/>
              </a:path>
              <a:path fill="darken" w="81730" h="21600">
                <a:moveTo>
                  <a:pt x="81730" y="0"/>
                </a:moveTo>
                <a:lnTo>
                  <a:pt x="81730" y="21600"/>
                </a:lnTo>
                <a:lnTo>
                  <a:pt x="80330" y="20200"/>
                </a:lnTo>
                <a:lnTo>
                  <a:pt x="80330" y="1400"/>
                </a:lnTo>
                <a:close/>
              </a:path>
              <a:path fill="darkenLess" w="81730" h="21600">
                <a:moveTo>
                  <a:pt x="81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330" y="20200"/>
                </a:lnTo>
                <a:close/>
              </a:path>
              <a:path fill="lighten" w="81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1730" h="21600">
                <a:moveTo>
                  <a:pt x="35338" y="3985"/>
                </a:moveTo>
                <a:lnTo>
                  <a:pt x="42336" y="3985"/>
                </a:lnTo>
                <a:lnTo>
                  <a:pt x="46392" y="7484"/>
                </a:lnTo>
                <a:lnTo>
                  <a:pt x="46392" y="17615"/>
                </a:lnTo>
                <a:lnTo>
                  <a:pt x="35338" y="17615"/>
                </a:lnTo>
                <a:close/>
              </a:path>
              <a:path fill="darken" w="81730" h="21600">
                <a:moveTo>
                  <a:pt x="42336" y="3985"/>
                </a:moveTo>
                <a:lnTo>
                  <a:pt x="46392" y="7484"/>
                </a:lnTo>
                <a:lnTo>
                  <a:pt x="42336" y="748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200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правк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4572000" y="4648320"/>
            <a:ext cx="3886200" cy="1143000"/>
          </a:xfrm>
          <a:custGeom>
            <a:avLst/>
            <a:gdLst>
              <a:gd name="textAreaLeft" fmla="*/ 73800 w 3886200"/>
              <a:gd name="textAreaRight" fmla="*/ 3812400 w 38862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3424" h="21600">
                <a:moveTo>
                  <a:pt x="0" y="0"/>
                </a:moveTo>
                <a:lnTo>
                  <a:pt x="73424" y="0"/>
                </a:lnTo>
                <a:lnTo>
                  <a:pt x="73424" y="21600"/>
                </a:lnTo>
                <a:lnTo>
                  <a:pt x="0" y="21600"/>
                </a:lnTo>
                <a:close/>
              </a:path>
              <a:path fill="lightenLess" w="73424" h="21600">
                <a:moveTo>
                  <a:pt x="0" y="0"/>
                </a:moveTo>
                <a:lnTo>
                  <a:pt x="73424" y="0"/>
                </a:lnTo>
                <a:lnTo>
                  <a:pt x="72024" y="1400"/>
                </a:lnTo>
                <a:lnTo>
                  <a:pt x="1400" y="1400"/>
                </a:lnTo>
                <a:close/>
              </a:path>
              <a:path fill="darken" w="73424" h="21600">
                <a:moveTo>
                  <a:pt x="73424" y="0"/>
                </a:moveTo>
                <a:lnTo>
                  <a:pt x="73424" y="21600"/>
                </a:lnTo>
                <a:lnTo>
                  <a:pt x="72024" y="20200"/>
                </a:lnTo>
                <a:lnTo>
                  <a:pt x="72024" y="1400"/>
                </a:lnTo>
                <a:close/>
              </a:path>
              <a:path fill="darkenLess" w="73424" h="21600">
                <a:moveTo>
                  <a:pt x="73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4" y="20200"/>
                </a:lnTo>
                <a:close/>
              </a:path>
              <a:path fill="lighten" w="73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3424" h="21600">
                <a:moveTo>
                  <a:pt x="31185" y="3985"/>
                </a:moveTo>
                <a:lnTo>
                  <a:pt x="38183" y="3985"/>
                </a:lnTo>
                <a:lnTo>
                  <a:pt x="42239" y="7484"/>
                </a:lnTo>
                <a:lnTo>
                  <a:pt x="42239" y="17615"/>
                </a:lnTo>
                <a:lnTo>
                  <a:pt x="31185" y="17615"/>
                </a:lnTo>
                <a:close/>
              </a:path>
              <a:path fill="darken" w="73424" h="21600">
                <a:moveTo>
                  <a:pt x="38183" y="3985"/>
                </a:moveTo>
                <a:lnTo>
                  <a:pt x="42239" y="7484"/>
                </a:lnTo>
                <a:lnTo>
                  <a:pt x="38183" y="7484"/>
                </a:lnTo>
                <a:close/>
              </a:path>
            </a:pathLst>
          </a:cu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9528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правк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5800" y="4038480"/>
            <a:ext cx="3657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Афиширование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правьте «ЭКСПЕРТА» в другую группу с решением карточки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761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Эксперты вперед!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80" y="2286000"/>
                <a:ext cx="142416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09680" y="2209680"/>
                <a:ext cx="139248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886200" y="2057400"/>
                <a:ext cx="144792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715000" y="2133720"/>
                <a:ext cx="123048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238880" y="2133720"/>
                <a:ext cx="139860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011320" y="235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76520"/>
          <a:ext cx="8305920" cy="44186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500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85800" y="1523880"/>
                <a:ext cx="2006640" cy="464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43400" y="1447920"/>
                <a:ext cx="2205000" cy="51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38080" y="1523880"/>
                <a:ext cx="221292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57800" y="1523880"/>
                <a:ext cx="198108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7T11:44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