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46D6-F81F-49A1-A513-2033597F33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B2FF-07B6-4831-85C9-F10AC3D695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860-6044-4AD6-93FC-27F87214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5FD2-C990-40F5-8D64-CBC42A9B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AD6D-C7CC-4ECE-81DC-6AAF5270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C97-A882-4D47-8A84-EBDBE833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FAE3-BDC7-4FA2-97C4-E48F9C1B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E8E4-2572-43B3-81CC-A2015C91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E5BA-ACA3-4043-B5BB-6C8615DC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5D19-28BC-4925-BCB0-E299B1C8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C4B4-0508-4F05-8949-7683B5DC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4544-646E-4A2F-AF7C-7D34632D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149E-0228-4672-9AA5-234DF213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42FA-9C77-4402-AF2E-41D7D3B7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766B-65DA-4C8E-8B9E-87A030AC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F63A-7CE9-4E07-AB30-200699A3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343C-6404-4265-AE80-15893230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BC57-17DE-4B5A-8DB6-7D4EC36F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623D-1985-46C1-9F0F-C74C60C7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0F60-EC92-421B-BA99-024E50E5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5C80-97F9-4DFA-816A-5C6362F5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0563-F791-4CEA-B995-69720EFA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274-2A6D-41B5-8472-C15AB01F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6132-FB37-425A-BEBC-287181D8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4A24-9607-4B86-9DD8-0CD0BE6A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41CC-F1B7-453E-9BDC-884AA7E5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ED8C-85B0-47FC-A5BF-C61D5FFCFD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2CAA-1C7D-461A-84E8-7148ED4323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89680" cy="29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Georgia"/>
              </a:rPr>
              <a:t>Внеклассное мероприятие по математик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http://www.mir-konkursov.ru/userfiles/ar130595746534229.jpg"/>
          <p:cNvPicPr/>
          <p:nvPr/>
        </p:nvPicPr>
        <p:blipFill>
          <a:blip r:embed="rId1"/>
          <a:stretch/>
        </p:blipFill>
        <p:spPr>
          <a:xfrm>
            <a:off x="7308720" y="115920"/>
            <a:ext cx="16272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для 1 команды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ройте точки с координатам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-3;-2), В (-3;-3), С (2;6), Д (7;3), Е (6;-3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те точки А и С; С и Е; Е и В; В и Д; Д и 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Прямая со стрелкой 6"/>
          <p:cNvCxnSpPr/>
          <p:nvPr/>
        </p:nvCxnSpPr>
        <p:spPr>
          <a:xfrm flipV="1">
            <a:off x="4566960" y="1196280"/>
            <a:ext cx="5400" cy="51123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0" name="Прямая со стрелкой 8"/>
          <p:cNvCxnSpPr/>
          <p:nvPr/>
        </p:nvCxnSpPr>
        <p:spPr>
          <a:xfrm>
            <a:off x="1476360" y="4292280"/>
            <a:ext cx="6625440" cy="108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1" name="TextBox 11"/>
          <p:cNvSpPr/>
          <p:nvPr/>
        </p:nvSpPr>
        <p:spPr>
          <a:xfrm>
            <a:off x="4356000" y="356076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4356000" y="296712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4351320" y="234936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4351320" y="177336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4292640" y="5381640"/>
            <a:ext cx="3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4284720" y="478620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4292640" y="5970600"/>
            <a:ext cx="3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2"/>
          <p:cNvSpPr/>
          <p:nvPr/>
        </p:nvSpPr>
        <p:spPr>
          <a:xfrm>
            <a:off x="5105520" y="40543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3"/>
          <p:cNvSpPr/>
          <p:nvPr/>
        </p:nvSpPr>
        <p:spPr>
          <a:xfrm>
            <a:off x="5791320" y="40464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34"/>
          <p:cNvSpPr/>
          <p:nvPr/>
        </p:nvSpPr>
        <p:spPr>
          <a:xfrm>
            <a:off x="6443640" y="405432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5"/>
          <p:cNvSpPr/>
          <p:nvPr/>
        </p:nvSpPr>
        <p:spPr>
          <a:xfrm>
            <a:off x="7164360" y="40622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6"/>
          <p:cNvSpPr/>
          <p:nvPr/>
        </p:nvSpPr>
        <p:spPr>
          <a:xfrm>
            <a:off x="1654200" y="4049640"/>
            <a:ext cx="35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37"/>
          <p:cNvSpPr/>
          <p:nvPr/>
        </p:nvSpPr>
        <p:spPr>
          <a:xfrm>
            <a:off x="2340000" y="4041720"/>
            <a:ext cx="35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8"/>
          <p:cNvSpPr/>
          <p:nvPr/>
        </p:nvSpPr>
        <p:spPr>
          <a:xfrm>
            <a:off x="2992320" y="4049640"/>
            <a:ext cx="3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39"/>
          <p:cNvSpPr/>
          <p:nvPr/>
        </p:nvSpPr>
        <p:spPr>
          <a:xfrm>
            <a:off x="3713040" y="4057560"/>
            <a:ext cx="35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40"/>
          <p:cNvSpPr/>
          <p:nvPr/>
        </p:nvSpPr>
        <p:spPr>
          <a:xfrm>
            <a:off x="4346640" y="4070520"/>
            <a:ext cx="3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1"/>
          <p:cNvSpPr/>
          <p:nvPr/>
        </p:nvSpPr>
        <p:spPr>
          <a:xfrm>
            <a:off x="7812000" y="43164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42"/>
          <p:cNvSpPr/>
          <p:nvPr/>
        </p:nvSpPr>
        <p:spPr>
          <a:xfrm>
            <a:off x="4067280" y="119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3"/>
          <p:cNvSpPr/>
          <p:nvPr/>
        </p:nvSpPr>
        <p:spPr>
          <a:xfrm>
            <a:off x="3348000" y="469908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Georg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4"/>
          <p:cNvSpPr/>
          <p:nvPr/>
        </p:nvSpPr>
        <p:spPr>
          <a:xfrm>
            <a:off x="3348000" y="502452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Georgi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5"/>
          <p:cNvSpPr/>
          <p:nvPr/>
        </p:nvSpPr>
        <p:spPr>
          <a:xfrm>
            <a:off x="5078520" y="228744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Georgia"/>
                <a:ea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6"/>
          <p:cNvSpPr/>
          <p:nvPr/>
        </p:nvSpPr>
        <p:spPr>
          <a:xfrm>
            <a:off x="6794640" y="32209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Georgia"/>
                <a:ea typeface="Times New Roman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7"/>
          <p:cNvSpPr/>
          <p:nvPr/>
        </p:nvSpPr>
        <p:spPr>
          <a:xfrm>
            <a:off x="6443640" y="5011560"/>
            <a:ext cx="3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Georgia"/>
                <a:ea typeface="Times New Roman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ая соединительная линия 54"/>
          <p:cNvSpPr/>
          <p:nvPr/>
        </p:nvSpPr>
        <p:spPr>
          <a:xfrm flipV="1">
            <a:off x="3546360" y="2471400"/>
            <a:ext cx="1697040" cy="2413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56"/>
          <p:cNvSpPr/>
          <p:nvPr/>
        </p:nvSpPr>
        <p:spPr>
          <a:xfrm>
            <a:off x="5243400" y="2471760"/>
            <a:ext cx="1366920" cy="2724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ая соединительная линия 58"/>
          <p:cNvSpPr/>
          <p:nvPr/>
        </p:nvSpPr>
        <p:spPr>
          <a:xfrm flipH="1">
            <a:off x="3546000" y="5195880"/>
            <a:ext cx="30639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ая соединительная линия 60"/>
          <p:cNvSpPr/>
          <p:nvPr/>
        </p:nvSpPr>
        <p:spPr>
          <a:xfrm flipV="1">
            <a:off x="3546360" y="3406320"/>
            <a:ext cx="3413160" cy="180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ая соединительная линия 62"/>
          <p:cNvSpPr/>
          <p:nvPr/>
        </p:nvSpPr>
        <p:spPr>
          <a:xfrm flipH="1">
            <a:off x="3546000" y="3406680"/>
            <a:ext cx="3413160" cy="1478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для 2 команды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ройте точки с координатам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-2;-2), В (-2;4), С (2;7), Д (6;4), Е (6;-2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те точки А и В; В и Д; Д и Е; Е и С ; С и 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Прямая со стрелкой 6"/>
          <p:cNvCxnSpPr/>
          <p:nvPr/>
        </p:nvCxnSpPr>
        <p:spPr>
          <a:xfrm flipV="1">
            <a:off x="4566960" y="1196280"/>
            <a:ext cx="5400" cy="51123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Прямая со стрелкой 8"/>
          <p:cNvCxnSpPr/>
          <p:nvPr/>
        </p:nvCxnSpPr>
        <p:spPr>
          <a:xfrm>
            <a:off x="1476360" y="4292280"/>
            <a:ext cx="6625440" cy="108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2" name="TextBox 11"/>
          <p:cNvSpPr/>
          <p:nvPr/>
        </p:nvSpPr>
        <p:spPr>
          <a:xfrm>
            <a:off x="4356000" y="356076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4356000" y="296712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4351320" y="234936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4351320" y="177336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5"/>
          <p:cNvSpPr/>
          <p:nvPr/>
        </p:nvSpPr>
        <p:spPr>
          <a:xfrm>
            <a:off x="4292640" y="5381640"/>
            <a:ext cx="3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6"/>
          <p:cNvSpPr/>
          <p:nvPr/>
        </p:nvSpPr>
        <p:spPr>
          <a:xfrm>
            <a:off x="4284720" y="478620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9"/>
          <p:cNvSpPr/>
          <p:nvPr/>
        </p:nvSpPr>
        <p:spPr>
          <a:xfrm>
            <a:off x="4292640" y="5970600"/>
            <a:ext cx="3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32"/>
          <p:cNvSpPr/>
          <p:nvPr/>
        </p:nvSpPr>
        <p:spPr>
          <a:xfrm>
            <a:off x="5105520" y="40543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33"/>
          <p:cNvSpPr/>
          <p:nvPr/>
        </p:nvSpPr>
        <p:spPr>
          <a:xfrm>
            <a:off x="5791320" y="40464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4"/>
          <p:cNvSpPr/>
          <p:nvPr/>
        </p:nvSpPr>
        <p:spPr>
          <a:xfrm>
            <a:off x="6443640" y="405432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5"/>
          <p:cNvSpPr/>
          <p:nvPr/>
        </p:nvSpPr>
        <p:spPr>
          <a:xfrm>
            <a:off x="7164360" y="40622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36"/>
          <p:cNvSpPr/>
          <p:nvPr/>
        </p:nvSpPr>
        <p:spPr>
          <a:xfrm>
            <a:off x="1654200" y="4049640"/>
            <a:ext cx="35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37"/>
          <p:cNvSpPr/>
          <p:nvPr/>
        </p:nvSpPr>
        <p:spPr>
          <a:xfrm>
            <a:off x="2340000" y="4041720"/>
            <a:ext cx="35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38"/>
          <p:cNvSpPr/>
          <p:nvPr/>
        </p:nvSpPr>
        <p:spPr>
          <a:xfrm>
            <a:off x="2992320" y="4049640"/>
            <a:ext cx="3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39"/>
          <p:cNvSpPr/>
          <p:nvPr/>
        </p:nvSpPr>
        <p:spPr>
          <a:xfrm>
            <a:off x="3713040" y="4057560"/>
            <a:ext cx="35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40"/>
          <p:cNvSpPr/>
          <p:nvPr/>
        </p:nvSpPr>
        <p:spPr>
          <a:xfrm>
            <a:off x="4346640" y="4070520"/>
            <a:ext cx="3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41"/>
          <p:cNvSpPr/>
          <p:nvPr/>
        </p:nvSpPr>
        <p:spPr>
          <a:xfrm>
            <a:off x="7812000" y="43164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42"/>
          <p:cNvSpPr/>
          <p:nvPr/>
        </p:nvSpPr>
        <p:spPr>
          <a:xfrm>
            <a:off x="4067280" y="119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3708360" y="473544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Georg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23"/>
          <p:cNvSpPr/>
          <p:nvPr/>
        </p:nvSpPr>
        <p:spPr>
          <a:xfrm>
            <a:off x="3719520" y="29052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Georgi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24"/>
          <p:cNvSpPr/>
          <p:nvPr/>
        </p:nvSpPr>
        <p:spPr>
          <a:xfrm>
            <a:off x="5105520" y="20178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Georgi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25"/>
          <p:cNvSpPr/>
          <p:nvPr/>
        </p:nvSpPr>
        <p:spPr>
          <a:xfrm>
            <a:off x="6443640" y="28843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Georgi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26"/>
          <p:cNvSpPr/>
          <p:nvPr/>
        </p:nvSpPr>
        <p:spPr>
          <a:xfrm>
            <a:off x="6443640" y="47242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Georg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ая соединительная линия 4"/>
          <p:cNvSpPr/>
          <p:nvPr/>
        </p:nvSpPr>
        <p:spPr>
          <a:xfrm flipV="1">
            <a:off x="3860640" y="3088800"/>
            <a:ext cx="0" cy="1830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ая соединительная линия 9"/>
          <p:cNvSpPr/>
          <p:nvPr/>
        </p:nvSpPr>
        <p:spPr>
          <a:xfrm>
            <a:off x="3860640" y="3089160"/>
            <a:ext cx="2724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ая соединительная линия 17"/>
          <p:cNvSpPr/>
          <p:nvPr/>
        </p:nvSpPr>
        <p:spPr>
          <a:xfrm>
            <a:off x="6585120" y="3089160"/>
            <a:ext cx="0" cy="181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ая соединительная линия 22"/>
          <p:cNvSpPr/>
          <p:nvPr/>
        </p:nvSpPr>
        <p:spPr>
          <a:xfrm flipH="1" flipV="1">
            <a:off x="5246640" y="2201400"/>
            <a:ext cx="1338480" cy="2706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ая соединительная линия 28"/>
          <p:cNvSpPr/>
          <p:nvPr/>
        </p:nvSpPr>
        <p:spPr>
          <a:xfrm flipH="1">
            <a:off x="3860640" y="2201760"/>
            <a:ext cx="1386000" cy="2706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912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Georgia"/>
              </a:rPr>
              <a:t>5 конкурс «Шифров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ния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отгадать ключевое слово нашей игры. Записать  первые буквы следующих названий  и  сложить из них слово-ключ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Georgia"/>
              </a:rPr>
              <a:t>«Шифров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натурального числа, которое делится  на данное  без остат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, который содержит пропорции. Равенство, содержащее переменну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й цвет радуг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е У составляет  3/7  от Х – знак  сравнения  между Х и 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ица  математи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9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2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5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1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99"/>
                </a:solidFill>
                <a:latin typeface="Georgia"/>
              </a:rPr>
              <a:t>Ключевое слово нашей игр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3371760" y="504360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Georgia"/>
              </a:rPr>
              <a:t>Б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льш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3409920" y="1143000"/>
            <a:ext cx="23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Georgia"/>
              </a:rPr>
              <a:t>Р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ав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5"/>
          <p:cNvSpPr/>
          <p:nvPr/>
        </p:nvSpPr>
        <p:spPr>
          <a:xfrm rot="1045800">
            <a:off x="5808600" y="1693800"/>
            <a:ext cx="29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Georgia"/>
              </a:rPr>
              <a:t>У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равн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6"/>
          <p:cNvSpPr/>
          <p:nvPr/>
        </p:nvSpPr>
        <p:spPr>
          <a:xfrm rot="1673400">
            <a:off x="481680" y="4022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Ж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елт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7"/>
          <p:cNvSpPr/>
          <p:nvPr/>
        </p:nvSpPr>
        <p:spPr>
          <a:xfrm rot="20350200">
            <a:off x="545040" y="1628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Д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елимо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8"/>
          <p:cNvSpPr/>
          <p:nvPr/>
        </p:nvSpPr>
        <p:spPr>
          <a:xfrm rot="20455800">
            <a:off x="5606280" y="41990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Georgia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рифмет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9"/>
          <p:cNvSpPr/>
          <p:nvPr/>
        </p:nvSpPr>
        <p:spPr>
          <a:xfrm>
            <a:off x="1746360" y="2406600"/>
            <a:ext cx="534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Monotype Corsiva"/>
              </a:rPr>
              <a:t>Дружба!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45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Georgia"/>
              </a:rPr>
              <a:t>Благодарим за ВНИМАНИ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122 -0.04647 L -0.00122 -0.11861 E">
                                      <p:cBhvr>
                                        <p:cTn id="7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Georgia"/>
              </a:rPr>
              <a:t>1 конкурс «Размин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395280" y="1411200"/>
            <a:ext cx="84978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eorgia"/>
              </a:rPr>
              <a:t>Число – как много в этом слов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eorgia"/>
              </a:rPr>
              <a:t>Для математики, друзь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eorgia"/>
              </a:rPr>
              <a:t>Но и в простой, обычной жиз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eorgia"/>
              </a:rPr>
              <a:t>Без чисел нам никак нельз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5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73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3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31">
                                          <p:stCondLst>
                                            <p:cond delay="631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15">
                                          <p:stCondLst>
                                            <p:cond delay="125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6">
                                          <p:stCondLst>
                                            <p:cond delay="1573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5" fill="hold">
                                          <p:stCondLst>
                                            <p:cond delay="617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58" fill="hold">
                                          <p:stCondLst>
                                            <p:cond delay="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5" fill="hold">
                                          <p:stCondLst>
                                            <p:cond delay="124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58" fill="hold">
                                          <p:stCondLst>
                                            <p:cond delay="1271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5" fill="hold">
                                          <p:stCondLst>
                                            <p:cond delay="156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58" fill="hold">
                                          <p:stCondLst>
                                            <p:cond delay="15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5" fill="hold">
                                          <p:stCondLst>
                                            <p:cond delay="171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58" fill="hold">
                                          <p:stCondLst>
                                            <p:cond delay="17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112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ь строки из песен, пословиц, название произведений, где встречаются числ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имер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примеры использовать в качестве ответов за задание НЕЛЬЗЯ!!!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ин — за всех, все — за одног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сятая вода на кисел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ыполнение задания 5 мину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ждый пример 0,5 балл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Georgia"/>
              </a:rPr>
              <a:t>1 конкурс «Размин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Georgia"/>
              </a:rPr>
              <a:t>2 конкурс   </a:t>
            </a:r>
            <a:br>
              <a:rPr sz="4000"/>
            </a:br>
            <a:r>
              <a:rPr b="1" i="1" lang="ru-RU" sz="4000" spc="-1" strike="noStrike">
                <a:solidFill>
                  <a:srgbClr val="cc3399"/>
                </a:solidFill>
                <a:latin typeface="Georgia"/>
              </a:rPr>
              <a:t>«Умей считать!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8920" y="1052280"/>
            <a:ext cx="8713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тройками расставить скобки, знаки умножения, деления, сложения и вычитания, чтобы получился правильный прим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       3     3      3    3      = 0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       3     3      3     3    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       3     3      3     3    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        3      3     3     3    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        3      3     3     3     =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        3      3     3     3     =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        3      3     3     3    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        3     3      3     3     =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        3      3     3     3     = 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ыполнение задания 10 мину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ждый правильный пример 1 ба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Georgia"/>
              </a:rPr>
              <a:t>3 конкурс </a:t>
            </a:r>
            <a:br>
              <a:rPr sz="4000"/>
            </a:br>
            <a:r>
              <a:rPr b="1" i="1" lang="ru-RU" sz="4000" spc="-1" strike="noStrike">
                <a:solidFill>
                  <a:srgbClr val="cc3399"/>
                </a:solidFill>
                <a:latin typeface="Georgia"/>
              </a:rPr>
              <a:t>«Математические вопрос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341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ния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конкурс – капитанов, задача каждого капитана ответить на вопросы как можно быстрее и правильне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Georgia"/>
              </a:rPr>
              <a:t>«Математические вопросы»</a:t>
            </a:r>
            <a:br>
              <a:rPr sz="4000"/>
            </a:br>
            <a:r>
              <a:rPr b="1" i="1" lang="ru-RU" sz="4000" spc="-1" strike="noStrike">
                <a:solidFill>
                  <a:srgbClr val="cc3399"/>
                </a:solidFill>
                <a:latin typeface="Georgia"/>
              </a:rPr>
              <a:t>для первой команд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сложения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цифр вы знает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ьшее трехзначное число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ая часть числа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измерения углов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ьшее простое числ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произведение равно 0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, принимаемое без доказатель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больше 2 м или 199см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 окружности 6см. Диаметр равен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Georgia"/>
              </a:rPr>
              <a:t>«Математические вопросы»</a:t>
            </a:r>
            <a:br>
              <a:rPr sz="4000"/>
            </a:br>
            <a:r>
              <a:rPr b="1" i="1" lang="ru-RU" sz="4000" spc="-1" strike="noStrike">
                <a:solidFill>
                  <a:srgbClr val="cc3399"/>
                </a:solidFill>
                <a:latin typeface="Georgia"/>
              </a:rPr>
              <a:t>для второй команд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дел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нулей в записи числа миллион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прямого угла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еньше: 2/5 или 0,5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ик, у которого все стороны равны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, требующее доказательства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ок, соединяющий точку окружности с ее центром? Какую часть часа составляют 20 мин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прямой, ограниченная с одной сторо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 лет  в одном век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512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Georgia"/>
              </a:rPr>
              <a:t>4 конкурс «Художник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ния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полнения задания требуется доброволец от коман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ске, с уже нарисованной системой координат, необходимо построить точки с координатами и выполнить зада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556000" y="2852640"/>
            <a:ext cx="482436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Georgia"/>
              </a:rPr>
              <a:t>4 конкурс «Художник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для 1 команды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ройте точки с координата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-3;-2), В (-3;-3), С (2;6), Д (7;3), Е (6;-3). Соедините точки А и С; С и Е; Е и В; В и Д; Д и 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для 2 команды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ройте точки с координата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-2;-2), В (-2;4), С (2;7), Д (6;4), Е (6;-2). Соедините точки А и В; В и Д; Д и Е; Е и С ; С и 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ервый  выполнит задание, получает 10 баллов,                 второй – 7 балл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7:17:05Z</dcterms:created>
  <dc:creator>Ольга</dc:creator>
  <dc:description/>
  <dc:language>en-US</dc:language>
  <cp:lastModifiedBy>Ольга</cp:lastModifiedBy>
  <dcterms:modified xsi:type="dcterms:W3CDTF">2012-03-15T13:38:14Z</dcterms:modified>
  <cp:revision>14</cp:revision>
  <dc:subject/>
  <dc:title>Внеклассное мероприятие по математи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09991</vt:lpwstr>
  </property>
</Properties>
</file>