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D05E-7A6D-4382-ACFF-4B8EA89C53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D4C1-D073-4A27-962E-5762249A29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3AE6-CEA5-4F78-993F-6C512722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B3E-F432-4DB9-B55D-45165DCA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69A7-7DA8-49DB-BE34-BBB31418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3E2B-B3D6-4E60-9AA4-A027D4B7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7BAA-0E8C-47AD-9F32-90919AF2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23F8-E7FF-402E-9DF6-BB173596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8063-7728-466E-92F7-6B7496D2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76C6-4C92-4BC7-BFA1-43560A63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35D5-AE7C-45AC-B679-1CF8F103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E137-D08A-427B-8446-1F430B4C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8FE4-28AA-406C-B158-05675534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4D21-0D75-445E-8A6A-D2496388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25F4-5DEF-43C4-B3E3-C83A7C56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57D8-2EC0-4374-8627-32B84502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209E-27C6-4639-AB3C-BCA9B885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9BDB-2829-4B83-93BE-4A09B27C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23BA-BA1E-44C4-A1AC-03EFE0D4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44B9-E401-40D0-AA17-3366BC40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F40-9798-4289-B547-287AE430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B65-980E-4E43-BB05-19FD83BA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AA9-EF88-495F-B982-169DF1D7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7A3-DC0D-4F84-9D68-D988F0B6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881-ACFE-4E0F-9357-5C68BF34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013-3C1A-4DB7-BBF6-9F9EC696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8885-CDD8-4C65-8B42-A36728B1E1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6871-3C3C-474A-85F5-968282093D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89680" cy="29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Georgia"/>
              </a:rPr>
              <a:t>Внеклассное мероприятие по математик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http://www.mir-konkursov.ru/userfiles/ar130595746534229.jpg"/>
          <p:cNvPicPr/>
          <p:nvPr/>
        </p:nvPicPr>
        <p:blipFill>
          <a:blip r:embed="rId1"/>
          <a:stretch/>
        </p:blipFill>
        <p:spPr>
          <a:xfrm>
            <a:off x="7308720" y="115920"/>
            <a:ext cx="16272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для 1 команды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ройте точки с координатам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-3;-2), В (-3;-3), С (2;6), Д (7;3), Е (6;-3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те точки А и С; С и Е; Е и В; В и Д; Д и 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Прямая со стрелкой 6"/>
          <p:cNvCxnSpPr/>
          <p:nvPr/>
        </p:nvCxnSpPr>
        <p:spPr>
          <a:xfrm flipV="1">
            <a:off x="4566960" y="1196280"/>
            <a:ext cx="5400" cy="51123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0" name="Прямая со стрелкой 8"/>
          <p:cNvCxnSpPr/>
          <p:nvPr/>
        </p:nvCxnSpPr>
        <p:spPr>
          <a:xfrm>
            <a:off x="1476360" y="4292280"/>
            <a:ext cx="6625440" cy="108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1" name="TextBox 11"/>
          <p:cNvSpPr/>
          <p:nvPr/>
        </p:nvSpPr>
        <p:spPr>
          <a:xfrm>
            <a:off x="4356000" y="356076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4356000" y="296712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4351320" y="234936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4351320" y="177336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4292640" y="5381640"/>
            <a:ext cx="3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284720" y="478620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4292640" y="5970600"/>
            <a:ext cx="3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2"/>
          <p:cNvSpPr/>
          <p:nvPr/>
        </p:nvSpPr>
        <p:spPr>
          <a:xfrm>
            <a:off x="5105520" y="40543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3"/>
          <p:cNvSpPr/>
          <p:nvPr/>
        </p:nvSpPr>
        <p:spPr>
          <a:xfrm>
            <a:off x="5791320" y="40464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4"/>
          <p:cNvSpPr/>
          <p:nvPr/>
        </p:nvSpPr>
        <p:spPr>
          <a:xfrm>
            <a:off x="6443640" y="405432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5"/>
          <p:cNvSpPr/>
          <p:nvPr/>
        </p:nvSpPr>
        <p:spPr>
          <a:xfrm>
            <a:off x="7164360" y="40622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6"/>
          <p:cNvSpPr/>
          <p:nvPr/>
        </p:nvSpPr>
        <p:spPr>
          <a:xfrm>
            <a:off x="1654200" y="4049640"/>
            <a:ext cx="35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37"/>
          <p:cNvSpPr/>
          <p:nvPr/>
        </p:nvSpPr>
        <p:spPr>
          <a:xfrm>
            <a:off x="2340000" y="4041720"/>
            <a:ext cx="35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8"/>
          <p:cNvSpPr/>
          <p:nvPr/>
        </p:nvSpPr>
        <p:spPr>
          <a:xfrm>
            <a:off x="2992320" y="4049640"/>
            <a:ext cx="3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39"/>
          <p:cNvSpPr/>
          <p:nvPr/>
        </p:nvSpPr>
        <p:spPr>
          <a:xfrm>
            <a:off x="3713040" y="4057560"/>
            <a:ext cx="35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40"/>
          <p:cNvSpPr/>
          <p:nvPr/>
        </p:nvSpPr>
        <p:spPr>
          <a:xfrm>
            <a:off x="4346640" y="4070520"/>
            <a:ext cx="3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1"/>
          <p:cNvSpPr/>
          <p:nvPr/>
        </p:nvSpPr>
        <p:spPr>
          <a:xfrm>
            <a:off x="7812000" y="43164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2"/>
          <p:cNvSpPr/>
          <p:nvPr/>
        </p:nvSpPr>
        <p:spPr>
          <a:xfrm>
            <a:off x="4067280" y="119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3"/>
          <p:cNvSpPr/>
          <p:nvPr/>
        </p:nvSpPr>
        <p:spPr>
          <a:xfrm>
            <a:off x="3348000" y="469908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4"/>
          <p:cNvSpPr/>
          <p:nvPr/>
        </p:nvSpPr>
        <p:spPr>
          <a:xfrm>
            <a:off x="3348000" y="502452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Georgi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5"/>
          <p:cNvSpPr/>
          <p:nvPr/>
        </p:nvSpPr>
        <p:spPr>
          <a:xfrm>
            <a:off x="5078520" y="228744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Georgia"/>
                <a:ea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6"/>
          <p:cNvSpPr/>
          <p:nvPr/>
        </p:nvSpPr>
        <p:spPr>
          <a:xfrm>
            <a:off x="6794640" y="32209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Georgia"/>
                <a:ea typeface="Times New Roman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7"/>
          <p:cNvSpPr/>
          <p:nvPr/>
        </p:nvSpPr>
        <p:spPr>
          <a:xfrm>
            <a:off x="6443640" y="5011560"/>
            <a:ext cx="3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Georgia"/>
                <a:ea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ая соединительная линия 54"/>
          <p:cNvSpPr/>
          <p:nvPr/>
        </p:nvSpPr>
        <p:spPr>
          <a:xfrm flipV="1">
            <a:off x="3546360" y="2471400"/>
            <a:ext cx="1697040" cy="2413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56"/>
          <p:cNvSpPr/>
          <p:nvPr/>
        </p:nvSpPr>
        <p:spPr>
          <a:xfrm>
            <a:off x="5243400" y="2471760"/>
            <a:ext cx="1366920" cy="272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ая соединительная линия 58"/>
          <p:cNvSpPr/>
          <p:nvPr/>
        </p:nvSpPr>
        <p:spPr>
          <a:xfrm flipH="1">
            <a:off x="3546000" y="5195880"/>
            <a:ext cx="30639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ая соединительная линия 60"/>
          <p:cNvSpPr/>
          <p:nvPr/>
        </p:nvSpPr>
        <p:spPr>
          <a:xfrm flipV="1">
            <a:off x="3546360" y="3406320"/>
            <a:ext cx="3413160" cy="180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ая соединительная линия 62"/>
          <p:cNvSpPr/>
          <p:nvPr/>
        </p:nvSpPr>
        <p:spPr>
          <a:xfrm flipH="1">
            <a:off x="3546000" y="3406680"/>
            <a:ext cx="3413160" cy="1478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для 2 команды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ройте точки с координатам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-2;-2), В (-2;4), С (2;7), Д (6;4), Е (6;-2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те точки А и В; В и Д; Д и Е; Е и С ; С и 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Прямая со стрелкой 6"/>
          <p:cNvCxnSpPr/>
          <p:nvPr/>
        </p:nvCxnSpPr>
        <p:spPr>
          <a:xfrm flipV="1">
            <a:off x="4566960" y="1196280"/>
            <a:ext cx="5400" cy="51123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Прямая со стрелкой 8"/>
          <p:cNvCxnSpPr/>
          <p:nvPr/>
        </p:nvCxnSpPr>
        <p:spPr>
          <a:xfrm>
            <a:off x="1476360" y="4292280"/>
            <a:ext cx="6625440" cy="108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2" name="TextBox 11"/>
          <p:cNvSpPr/>
          <p:nvPr/>
        </p:nvSpPr>
        <p:spPr>
          <a:xfrm>
            <a:off x="4356000" y="356076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4356000" y="296712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4351320" y="234936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4351320" y="177336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4292640" y="5381640"/>
            <a:ext cx="3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4284720" y="478620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9"/>
          <p:cNvSpPr/>
          <p:nvPr/>
        </p:nvSpPr>
        <p:spPr>
          <a:xfrm>
            <a:off x="4292640" y="5970600"/>
            <a:ext cx="3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32"/>
          <p:cNvSpPr/>
          <p:nvPr/>
        </p:nvSpPr>
        <p:spPr>
          <a:xfrm>
            <a:off x="5105520" y="40543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3"/>
          <p:cNvSpPr/>
          <p:nvPr/>
        </p:nvSpPr>
        <p:spPr>
          <a:xfrm>
            <a:off x="5791320" y="40464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4"/>
          <p:cNvSpPr/>
          <p:nvPr/>
        </p:nvSpPr>
        <p:spPr>
          <a:xfrm>
            <a:off x="6443640" y="405432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5"/>
          <p:cNvSpPr/>
          <p:nvPr/>
        </p:nvSpPr>
        <p:spPr>
          <a:xfrm>
            <a:off x="7164360" y="40622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36"/>
          <p:cNvSpPr/>
          <p:nvPr/>
        </p:nvSpPr>
        <p:spPr>
          <a:xfrm>
            <a:off x="1654200" y="4049640"/>
            <a:ext cx="35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7"/>
          <p:cNvSpPr/>
          <p:nvPr/>
        </p:nvSpPr>
        <p:spPr>
          <a:xfrm>
            <a:off x="2340000" y="4041720"/>
            <a:ext cx="35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38"/>
          <p:cNvSpPr/>
          <p:nvPr/>
        </p:nvSpPr>
        <p:spPr>
          <a:xfrm>
            <a:off x="2992320" y="4049640"/>
            <a:ext cx="3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39"/>
          <p:cNvSpPr/>
          <p:nvPr/>
        </p:nvSpPr>
        <p:spPr>
          <a:xfrm>
            <a:off x="3713040" y="4057560"/>
            <a:ext cx="35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40"/>
          <p:cNvSpPr/>
          <p:nvPr/>
        </p:nvSpPr>
        <p:spPr>
          <a:xfrm>
            <a:off x="4346640" y="4070520"/>
            <a:ext cx="3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41"/>
          <p:cNvSpPr/>
          <p:nvPr/>
        </p:nvSpPr>
        <p:spPr>
          <a:xfrm>
            <a:off x="7812000" y="43164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2"/>
          <p:cNvSpPr/>
          <p:nvPr/>
        </p:nvSpPr>
        <p:spPr>
          <a:xfrm>
            <a:off x="4067280" y="119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3708360" y="473544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23"/>
          <p:cNvSpPr/>
          <p:nvPr/>
        </p:nvSpPr>
        <p:spPr>
          <a:xfrm>
            <a:off x="3719520" y="29052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Georgi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24"/>
          <p:cNvSpPr/>
          <p:nvPr/>
        </p:nvSpPr>
        <p:spPr>
          <a:xfrm>
            <a:off x="5105520" y="20178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Georg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25"/>
          <p:cNvSpPr/>
          <p:nvPr/>
        </p:nvSpPr>
        <p:spPr>
          <a:xfrm>
            <a:off x="6443640" y="2884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Georgi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26"/>
          <p:cNvSpPr/>
          <p:nvPr/>
        </p:nvSpPr>
        <p:spPr>
          <a:xfrm>
            <a:off x="6443640" y="47242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ая соединительная линия 4"/>
          <p:cNvSpPr/>
          <p:nvPr/>
        </p:nvSpPr>
        <p:spPr>
          <a:xfrm flipV="1">
            <a:off x="3860640" y="3088800"/>
            <a:ext cx="0" cy="1830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9"/>
          <p:cNvSpPr/>
          <p:nvPr/>
        </p:nvSpPr>
        <p:spPr>
          <a:xfrm>
            <a:off x="3860640" y="3089160"/>
            <a:ext cx="2724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ая соединительная линия 17"/>
          <p:cNvSpPr/>
          <p:nvPr/>
        </p:nvSpPr>
        <p:spPr>
          <a:xfrm>
            <a:off x="6585120" y="3089160"/>
            <a:ext cx="0" cy="181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ая соединительная линия 22"/>
          <p:cNvSpPr/>
          <p:nvPr/>
        </p:nvSpPr>
        <p:spPr>
          <a:xfrm flipH="1" flipV="1">
            <a:off x="5246640" y="2201400"/>
            <a:ext cx="1338480" cy="2706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ая соединительная линия 28"/>
          <p:cNvSpPr/>
          <p:nvPr/>
        </p:nvSpPr>
        <p:spPr>
          <a:xfrm flipH="1">
            <a:off x="3860640" y="2201760"/>
            <a:ext cx="1386000" cy="2706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5 конкурс «Шифров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ния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отгадать ключевое слово нашей игры. Записать  первые буквы следующих названий  и  сложить из них слово-клю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Georgia"/>
              </a:rPr>
              <a:t>«Шифров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натурального числа, которое делится  на данное  без остат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, который содержит пропорции. Равенство, содержащее переменну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цвет раду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е У составляет  3/7  от Х – знак  сравнения  между Х и 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ица  математи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9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2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1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99"/>
                </a:solidFill>
                <a:latin typeface="Georgia"/>
              </a:rPr>
              <a:t>Ключевое слово нашей игр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3371760" y="504360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Georgia"/>
              </a:rPr>
              <a:t>Б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льш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3409920" y="1143000"/>
            <a:ext cx="23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Georgia"/>
              </a:rPr>
              <a:t>Р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ав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5"/>
          <p:cNvSpPr/>
          <p:nvPr/>
        </p:nvSpPr>
        <p:spPr>
          <a:xfrm rot="1045800">
            <a:off x="5808600" y="1693800"/>
            <a:ext cx="29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Georgia"/>
              </a:rPr>
              <a:t>У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равн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6"/>
          <p:cNvSpPr/>
          <p:nvPr/>
        </p:nvSpPr>
        <p:spPr>
          <a:xfrm rot="1673400">
            <a:off x="481680" y="4022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Ж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елт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7"/>
          <p:cNvSpPr/>
          <p:nvPr/>
        </p:nvSpPr>
        <p:spPr>
          <a:xfrm rot="20350200">
            <a:off x="545040" y="1628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Д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елимо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8"/>
          <p:cNvSpPr/>
          <p:nvPr/>
        </p:nvSpPr>
        <p:spPr>
          <a:xfrm rot="20455800">
            <a:off x="5606280" y="41990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Georgia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рифмет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1746360" y="2406600"/>
            <a:ext cx="534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Monotype Corsiva"/>
              </a:rPr>
              <a:t>Дружба!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45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Georgia"/>
              </a:rPr>
              <a:t>Благодарим 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122 -0.04647 L -0.00122 -0.11861 E">
                                      <p:cBhvr>
                                        <p:cTn id="7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1 конкурс «Размин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395280" y="1411200"/>
            <a:ext cx="84978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eorgia"/>
              </a:rPr>
              <a:t>Число – как много в этом слов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eorgia"/>
              </a:rPr>
              <a:t>Для математики, друзь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eorgia"/>
              </a:rPr>
              <a:t>Но и в простой, обычной жиз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eorgia"/>
              </a:rPr>
              <a:t>Без чисел нам никак нельз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5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73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3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31">
                                          <p:stCondLst>
                                            <p:cond delay="631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15">
                                          <p:stCondLst>
                                            <p:cond delay="125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6">
                                          <p:stCondLst>
                                            <p:cond delay="1573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5" fill="hold">
                                          <p:stCondLst>
                                            <p:cond delay="61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58" fill="hold">
                                          <p:stCondLst>
                                            <p:cond delay="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5" fill="hold">
                                          <p:stCondLst>
                                            <p:cond delay="124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58" fill="hold">
                                          <p:stCondLst>
                                            <p:cond delay="1271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5" fill="hold">
                                          <p:stCondLst>
                                            <p:cond delay="156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58" fill="hold">
                                          <p:stCondLst>
                                            <p:cond delay="15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5" fill="hold">
                                          <p:stCondLst>
                                            <p:cond delay="171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58" fill="hold">
                                          <p:stCondLst>
                                            <p:cond delay="17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112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ь строки из песен, пословиц, название произведений, где встречаются числ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имер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примеры использовать в качестве ответов за задание НЕЛЬЗЯ!!!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ин — за всех, все — за одног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сятая вода на кисел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ыполнение задания 5 мину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ждый пример 0,5 балл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1 конкурс «Размин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2 конкурс   </a:t>
            </a:r>
            <a:br>
              <a:rPr sz="4000"/>
            </a:b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«Умей считать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8920" y="105228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тройками расставить скобки, знаки умножения, деления, сложения и вычитания, чтобы получился правильный прим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      3     3      3    3      = 0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       3     3      3     3    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      3     3      3     3    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        3      3     3     3    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        3      3     3     3     =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        3      3     3     3     =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        3      3     3     3    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        3     3      3     3     =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        3      3     3     3     = 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ыполнение задания 10 мину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ждый правильный пример 1 ба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3 конкурс </a:t>
            </a:r>
            <a:br>
              <a:rPr sz="4000"/>
            </a:b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«Математические вопрос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41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ния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конкурс – капитанов, задача каждого капитана ответить на вопросы как можно быстрее и правильне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«Математические вопросы»</a:t>
            </a:r>
            <a:br>
              <a:rPr sz="4000"/>
            </a:b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для первой команд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сложения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цифр вы знает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ьшее трехзначное число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ая часть числ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измерения углов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ьшее простое числ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произведение равно 0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, принимаемое без доказатель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больше 2 м или 199см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окружности 6см. Диаметр равен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«Математические вопросы»</a:t>
            </a:r>
            <a:br>
              <a:rPr sz="4000"/>
            </a:b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для второй команд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дел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нулей в записи числа миллион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прямого угл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еньше: 2/5 или 0,5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ик, у которого все стороны равны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, требующее доказательств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ок, соединяющий точку окружности с ее центром? Какую часть часа составляют 20 мин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рямой, ограниченная с одной сторо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 лет  в одном век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512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4 конкурс «Художни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ния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полнения задания требуется доброволец от коман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ске, с уже нарисованной системой координат, необходимо построить точки с координатами и выполнить зада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556000" y="2852640"/>
            <a:ext cx="482436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Georgia"/>
              </a:rPr>
              <a:t>4 конкурс «Художни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для 1 команды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ройте точки с координат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-3;-2), В (-3;-3), С (2;6), Д (7;3), Е (6;-3). Соедините точки А и С; С и Е; Е и В; В и Д; Д и 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для 2 команды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ройте точки с координат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-2;-2), В (-2;4), С (2;7), Д (6;4), Е (6;-2). Соедините точки А и В; В и Д; Д и Е; Е и С ; С и 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ервый  выполнит задание, получает 10 баллов,                 второй – 7 балл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7:17:05Z</dcterms:created>
  <dc:creator>Ольга</dc:creator>
  <dc:description/>
  <dc:language>en-US</dc:language>
  <cp:lastModifiedBy>Ольга</cp:lastModifiedBy>
  <dcterms:modified xsi:type="dcterms:W3CDTF">2012-03-15T13:38:14Z</dcterms:modified>
  <cp:revision>14</cp:revision>
  <dc:subject/>
  <dc:title>Внеклассное мероприятие по математи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09991</vt:lpwstr>
  </property>
</Properties>
</file>