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5F6-9670-4ACF-A080-91A866D8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297-9041-4A79-9D08-708CDA47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1F7-DEE8-4637-B981-FF8FA625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C8D-AA22-4FDD-A07E-11174F6C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28B26-FE51-4F87-93B0-7DF4F85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87800-F815-463E-8194-2EF3B74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C1BB-3EFB-4404-AD8F-2865430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EE747-4A3C-40F3-8AB8-1784D94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5D30-9E88-4BBD-BEB6-7D1EC26A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00FA-3BE2-4836-84CE-4AF4212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A014-1245-4747-9E41-9074EF5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96F-F3A6-4D81-A2D0-A0570C4B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D3642-48E5-4341-A0FC-D0FF6A9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43DF-48B2-4834-9B07-830D403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62F3D-C12F-4F2D-9322-8F2EF01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71769-AE85-4A36-B39C-5B1ADB4A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EF37-62A2-4EB2-8E9F-64CA7065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351-EB8C-4DF4-A7CA-265074C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C77-81E9-47A7-99AB-4F47F8F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2C5-D81C-4217-BE63-1999E3BD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A04-6FCA-4EA9-A267-9FBC246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63F-DA67-4B46-8116-BC397F2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CA0-CBA6-4EDA-8C72-7854E41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F4F-3820-4AF1-B627-4735D36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2F39-5802-46FC-9950-BD3B2B3E4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F916-ACDF-4595-B4A8-1D258C6CBB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79280" y="2349360"/>
            <a:ext cx="856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ы суши. Подземные вод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ссейн реки и водоразд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ница, разделяющая соседние речные бассейны, называется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раздел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ок земной поверхности, с которого вся вода стекает в реку ,называется водосборным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бассейн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й ре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ание и режим р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ной в реки стекают талы снеговые воды. Они переполняют русло и заливают дно долин. Такой ежегодныё продолжительный подъём уровня реки называют-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весенним половодье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ь дна речной долины , затопляемая во время разлива реки , называется -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пойм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ые дожди могут сопровождаться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паводк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ратковременными подъёмами уровн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135-3557_c"/>
          <p:cNvPicPr/>
          <p:nvPr/>
        </p:nvPicPr>
        <p:blipFill>
          <a:blip r:embed="rId1"/>
          <a:stretch/>
        </p:blipFill>
        <p:spPr>
          <a:xfrm>
            <a:off x="468360" y="2421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113-1353_c"/>
          <p:cNvPicPr/>
          <p:nvPr/>
        </p:nvPicPr>
        <p:blipFill>
          <a:blip r:embed="rId2"/>
          <a:stretch/>
        </p:blipFill>
        <p:spPr>
          <a:xfrm>
            <a:off x="4643280" y="2421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4"/>
          <p:cNvSpPr txBox="1"/>
          <p:nvPr/>
        </p:nvSpPr>
        <p:spPr>
          <a:xfrm>
            <a:off x="1692360" y="1052640"/>
            <a:ext cx="49672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ВНИННЫЕ РЕ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900000" y="558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Вол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21964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Д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75"/>
          <p:cNvPicPr/>
          <p:nvPr/>
        </p:nvPicPr>
        <p:blipFill>
          <a:blip r:embed="rId1"/>
          <a:stretch/>
        </p:blipFill>
        <p:spPr>
          <a:xfrm>
            <a:off x="915840" y="279072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74"/>
          <p:cNvPicPr/>
          <p:nvPr/>
        </p:nvPicPr>
        <p:blipFill>
          <a:blip r:embed="rId2"/>
          <a:stretch/>
        </p:blipFill>
        <p:spPr>
          <a:xfrm>
            <a:off x="5106960" y="2790720"/>
            <a:ext cx="3121200" cy="23418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8"/>
          <p:cNvSpPr txBox="1"/>
          <p:nvPr/>
        </p:nvSpPr>
        <p:spPr>
          <a:xfrm>
            <a:off x="1619280" y="549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рные реки. Поро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59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70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-396720" y="333360"/>
            <a:ext cx="6408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п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узнали , что такое воды суши и реки;  Реки -э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дный поток , текущий и выработанном им углубле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земные воды – э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да находящейся в земной кор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знали какие бывают виды рек : горные и равни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узнали как питаются ре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-2557440" y="333360"/>
            <a:ext cx="9001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графия начальный курс авторы: Т.П. Герасимова, Н.П. Нек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амендовано Министром образования и науки Российской Федерации. 8-е издание, стереотипное 6 класс .Москва 20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энциклопедия  «Кирилл и Мефод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графическая энциклопедия               Москва 200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1books4-thumb"/>
          <p:cNvPicPr/>
          <p:nvPr/>
        </p:nvPicPr>
        <p:blipFill>
          <a:blip r:embed="rId1"/>
          <a:stretch/>
        </p:blipFill>
        <p:spPr>
          <a:xfrm>
            <a:off x="6516720" y="5445000"/>
            <a:ext cx="1485720" cy="1224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-1476360" y="260280"/>
            <a:ext cx="874872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6"/>
          <p:cNvSpPr txBox="1"/>
          <p:nvPr/>
        </p:nvSpPr>
        <p:spPr>
          <a:xfrm>
            <a:off x="1908000" y="2276640"/>
            <a:ext cx="583416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яснить что такое воды суши и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ать какие бывают виды суш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какие бывают горные пород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ь различие между горной и равниной ре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Diagram 5"/>
          <p:cNvGrpSpPr/>
          <p:nvPr/>
        </p:nvGrpSpPr>
        <p:grpSpPr>
          <a:xfrm>
            <a:off x="2428920" y="74520"/>
            <a:ext cx="4502880" cy="6705360"/>
            <a:chOff x="2428920" y="74520"/>
            <a:chExt cx="4502880" cy="6705360"/>
          </a:xfrm>
        </p:grpSpPr>
        <p:sp>
          <p:nvSpPr>
            <p:cNvPr id="88" name="_s1028"/>
            <p:cNvSpPr/>
            <p:nvPr/>
          </p:nvSpPr>
          <p:spPr>
            <a:xfrm flipH="1" flipV="1">
              <a:off x="3597120" y="2587320"/>
              <a:ext cx="540720" cy="421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1029"/>
            <p:cNvSpPr/>
            <p:nvPr/>
          </p:nvSpPr>
          <p:spPr>
            <a:xfrm>
              <a:off x="2428920" y="1332720"/>
              <a:ext cx="1251360" cy="1676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ОЗЁ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0"/>
            <p:cNvSpPr/>
            <p:nvPr/>
          </p:nvSpPr>
          <p:spPr>
            <a:xfrm flipH="1">
              <a:off x="3597120" y="3848040"/>
              <a:ext cx="542160" cy="4165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31"/>
            <p:cNvSpPr/>
            <p:nvPr/>
          </p:nvSpPr>
          <p:spPr>
            <a:xfrm>
              <a:off x="2431080" y="3848040"/>
              <a:ext cx="1250640" cy="1676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ПОДЗЕМ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ВОДОЁМ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4680360" y="4264560"/>
              <a:ext cx="1440" cy="8384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3"/>
            <p:cNvSpPr/>
            <p:nvPr/>
          </p:nvSpPr>
          <p:spPr>
            <a:xfrm>
              <a:off x="4056840" y="5103360"/>
              <a:ext cx="1250640" cy="1676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РЕ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5222880" y="3842640"/>
              <a:ext cx="540720" cy="421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5"/>
            <p:cNvSpPr/>
            <p:nvPr/>
          </p:nvSpPr>
          <p:spPr>
            <a:xfrm>
              <a:off x="5680440" y="3842640"/>
              <a:ext cx="1251360" cy="1676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БОЛОТ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6"/>
            <p:cNvSpPr/>
            <p:nvPr/>
          </p:nvSpPr>
          <p:spPr>
            <a:xfrm flipV="1">
              <a:off x="5221080" y="2586960"/>
              <a:ext cx="542160" cy="4194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5678640" y="1329840"/>
              <a:ext cx="1250640" cy="1677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ЛЕДНИ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 flipV="1">
              <a:off x="4680360" y="1751400"/>
              <a:ext cx="0" cy="8384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9"/>
            <p:cNvSpPr/>
            <p:nvPr/>
          </p:nvSpPr>
          <p:spPr>
            <a:xfrm>
              <a:off x="4054680" y="74520"/>
              <a:ext cx="1251360" cy="16772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ИСКУСТВЕН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ВОДОЁМ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>
              <a:off x="4054680" y="2590200"/>
              <a:ext cx="1251360" cy="1676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cc00"/>
                  </a:solidFill>
                  <a:uFillTx/>
                  <a:latin typeface="Tahoma"/>
                </a:rPr>
                <a:t>ВОДЫ</a:t>
              </a:r>
              <a:r>
                <a:rPr b="0" lang="en-US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i="1" lang="en-US" sz="2200" spc="-1" strike="noStrike" u="sng">
                  <a:solidFill>
                    <a:srgbClr val="ffcc00"/>
                  </a:solidFill>
                  <a:uFillTx/>
                  <a:latin typeface="Tahoma"/>
                </a:rPr>
                <a:t>СУШИ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рные пор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ные породы , пропускающие воду, называются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проницаемы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не пропускающие её 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упорны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ёгко растворимых породах (например, солях, гипсе, известняках) вода вымывает пустоты –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пеще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В крупных пещерах иногда образуется  подземные  озёра и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>
            <a:off x="1547640" y="260280"/>
            <a:ext cx="56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щ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рунтовые и межпластовы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м себе , что какая-то местность с поверхности сложена           крупнозернистым песком, который лежит на слое плотной водоупорной глины. Когда в этой местности выпадают осадки , вода быстро просачивается через песок. Образуется слой, насыщенный водой , 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носный сл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569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ы содержащиеся в водоносном слое, не прикрытом сверху водоупорными породами, называется-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грунтовыми водами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ной, после таянья снега , он повышается , а в конце сухого лета – пониж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нтовые воды медленно перемещаются, перетекают по порам водоносного слоя  в сторону  уклона водоупорного слоя. На склонах, в оврагах, речных долинах они выходят на поверхность, образуя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источники (родник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одоупорный слой  оказывается между  двумя водоупорными слоями , образуется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 межпластовые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дный поток , текущий и выработанном им углублении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усле  ре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русло реки  расположено на дне  более широкого углубления, называемого -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чной доли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течёт по углублению земной поверхности: её начало всегда расположено выше, чем окончание. Начало реки – это  её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ист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то , где река впадает в другую реку, или море , называется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устье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ая река со всеми притоками образует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чную систем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050920" y="260280"/>
            <a:ext cx="403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р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beach_rocks"/>
          <p:cNvPicPr/>
          <p:nvPr/>
        </p:nvPicPr>
        <p:blipFill>
          <a:blip r:embed="rId1"/>
          <a:stretch/>
        </p:blipFill>
        <p:spPr>
          <a:xfrm>
            <a:off x="457200" y="2346480"/>
            <a:ext cx="4038480" cy="3230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1116000" y="148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ная река Тер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2" descr="stream1"/>
          <p:cNvPicPr/>
          <p:nvPr/>
        </p:nvPicPr>
        <p:blipFill>
          <a:blip r:embed="rId2"/>
          <a:stretch/>
        </p:blipFill>
        <p:spPr>
          <a:xfrm>
            <a:off x="4716360" y="227664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5364000" y="1484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нинная река Печ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51:57Z</dcterms:created>
  <dc:creator>Admin</dc:creator>
  <dc:description/>
  <dc:language>en-US</dc:language>
  <cp:lastModifiedBy>1</cp:lastModifiedBy>
  <dcterms:modified xsi:type="dcterms:W3CDTF">2012-01-23T05:48:32Z</dcterms:modified>
  <cp:revision>9</cp:revision>
  <dc:subject/>
  <dc:title>Воды суши. Подземные воды </dc:title>
</cp:coreProperties>
</file>