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17E-2549-4BF8-A766-D28D827C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509-9151-4BED-AB72-6E711B5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A08-E52E-4ADA-92FC-84AB9D53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6A2-9B1A-4146-B39D-6919A150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34AF7-10F2-4230-9D1E-698423D3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F8E60-0880-4454-A09D-CBFD11AD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19C9-365C-44F5-88CA-13E9C83C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BB7E3-039D-472E-A4BD-28750AA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8B00-F7DC-4A30-82ED-252DCCD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A49C-FC4A-445C-9AC0-F79957A6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C3148-2B72-4689-A0BC-5F696A7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EE7-57AA-4CD0-97E1-EBE3C19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D8DCE-2567-4DBA-8179-B44C71D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7037F-322D-416B-B986-F891AD8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EE95A-16F0-4218-8A73-FC9BDE45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BD3C6-9AD3-48FB-980E-AF265CF5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B8665-D007-4BAF-A34B-39CB4D8F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6F9-C6A7-4057-BA5B-AC9BE5BA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75F-43B9-4030-AF2C-08665DDE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097-DD0C-448A-B63F-FC28CF0C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4DF-E4FC-4674-B553-7AA93C9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5BB-120D-466A-85C9-1FD4A3E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72B-8D4A-446D-B7B6-329C4D12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47D-B8DA-4EC0-B1F2-BC8E072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96E8-0AEA-4B56-83EC-2847BACE8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AD9-7BF5-4E5A-8A65-0EDA310DC6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79280" y="2349360"/>
            <a:ext cx="856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ы суши. Подземные вод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ассейн реки и водоразд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ница, разделяющая соседние речные бассейны, называется-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раздел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ок земной поверхности, с которого вся вода стекает в реку ,называется водосборным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бассейн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й ре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ание и режим р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ной в реки стекают талы снеговые воды. Они переполняют русло и заливают дно долин. Такой ежегодныё продолжительный подъём уровня реки называют-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весенним половодье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ь дна речной долины , затопляемая во время разлива реки , называется -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пойм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ые дожди могут сопровождаться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паводк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ратковременными подъёмами уровн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135-3557_c"/>
          <p:cNvPicPr/>
          <p:nvPr/>
        </p:nvPicPr>
        <p:blipFill>
          <a:blip r:embed="rId1"/>
          <a:stretch/>
        </p:blipFill>
        <p:spPr>
          <a:xfrm>
            <a:off x="468360" y="2421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113-1353_c"/>
          <p:cNvPicPr/>
          <p:nvPr/>
        </p:nvPicPr>
        <p:blipFill>
          <a:blip r:embed="rId2"/>
          <a:stretch/>
        </p:blipFill>
        <p:spPr>
          <a:xfrm>
            <a:off x="4643280" y="2421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4"/>
          <p:cNvSpPr txBox="1"/>
          <p:nvPr/>
        </p:nvSpPr>
        <p:spPr>
          <a:xfrm>
            <a:off x="1692360" y="1052640"/>
            <a:ext cx="49672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ВНИННЫЕ РЕ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900000" y="558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Вол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521964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Д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75"/>
          <p:cNvPicPr/>
          <p:nvPr/>
        </p:nvPicPr>
        <p:blipFill>
          <a:blip r:embed="rId1"/>
          <a:stretch/>
        </p:blipFill>
        <p:spPr>
          <a:xfrm>
            <a:off x="915840" y="279072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74"/>
          <p:cNvPicPr/>
          <p:nvPr/>
        </p:nvPicPr>
        <p:blipFill>
          <a:blip r:embed="rId2"/>
          <a:stretch/>
        </p:blipFill>
        <p:spPr>
          <a:xfrm>
            <a:off x="5106960" y="2790720"/>
            <a:ext cx="3121200" cy="23418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8"/>
          <p:cNvSpPr txBox="1"/>
          <p:nvPr/>
        </p:nvSpPr>
        <p:spPr>
          <a:xfrm>
            <a:off x="1619280" y="549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орные реки. Порог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59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70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-396720" y="333360"/>
            <a:ext cx="6408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п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и узнали , что такое воды суши и реки;  Реки -э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дный поток , текущий и выработанном им углублен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земные воды – э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да находящейся в земной кор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знали какие бывают виды рек : горные и равни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 узнали как питаются ре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-2557440" y="333360"/>
            <a:ext cx="9001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графия начальный курс авторы: Т.П. Герасимова, Н.П. Нек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амендовано Министром образования и науки Российской Федерации. 8-е издание, стереотипное 6 класс .Москва 200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энциклопедия  «Кирилл и Мефод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графическая энциклопедия               Москва 200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1books4-thumb"/>
          <p:cNvPicPr/>
          <p:nvPr/>
        </p:nvPicPr>
        <p:blipFill>
          <a:blip r:embed="rId1"/>
          <a:stretch/>
        </p:blipFill>
        <p:spPr>
          <a:xfrm>
            <a:off x="6516720" y="5445000"/>
            <a:ext cx="1485720" cy="1224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-1476360" y="260280"/>
            <a:ext cx="874872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6"/>
          <p:cNvSpPr txBox="1"/>
          <p:nvPr/>
        </p:nvSpPr>
        <p:spPr>
          <a:xfrm>
            <a:off x="1908000" y="2276640"/>
            <a:ext cx="583416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яснить что такое воды суши и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ать какие бывают виды суш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знать какие бывают горные пород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ь различие между горной и равниной ре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Diagram 5"/>
          <p:cNvGrpSpPr/>
          <p:nvPr/>
        </p:nvGrpSpPr>
        <p:grpSpPr>
          <a:xfrm>
            <a:off x="2428920" y="74520"/>
            <a:ext cx="4502880" cy="6705360"/>
            <a:chOff x="2428920" y="74520"/>
            <a:chExt cx="4502880" cy="6705360"/>
          </a:xfrm>
        </p:grpSpPr>
        <p:sp>
          <p:nvSpPr>
            <p:cNvPr id="88" name="_s1028"/>
            <p:cNvSpPr/>
            <p:nvPr/>
          </p:nvSpPr>
          <p:spPr>
            <a:xfrm flipH="1" flipV="1">
              <a:off x="3597120" y="2587320"/>
              <a:ext cx="540720" cy="421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1029"/>
            <p:cNvSpPr/>
            <p:nvPr/>
          </p:nvSpPr>
          <p:spPr>
            <a:xfrm>
              <a:off x="2428920" y="1332720"/>
              <a:ext cx="1251360" cy="1676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ОЗЁ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1030"/>
            <p:cNvSpPr/>
            <p:nvPr/>
          </p:nvSpPr>
          <p:spPr>
            <a:xfrm flipH="1">
              <a:off x="3597120" y="3848040"/>
              <a:ext cx="542160" cy="4165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_s1031"/>
            <p:cNvSpPr/>
            <p:nvPr/>
          </p:nvSpPr>
          <p:spPr>
            <a:xfrm>
              <a:off x="2431080" y="3848040"/>
              <a:ext cx="1250640" cy="1676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ПОДЗЕМ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ВОДОЁМ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2"/>
            <p:cNvSpPr/>
            <p:nvPr/>
          </p:nvSpPr>
          <p:spPr>
            <a:xfrm>
              <a:off x="4680360" y="4264560"/>
              <a:ext cx="1440" cy="8384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33"/>
            <p:cNvSpPr/>
            <p:nvPr/>
          </p:nvSpPr>
          <p:spPr>
            <a:xfrm>
              <a:off x="4056840" y="5103360"/>
              <a:ext cx="1250640" cy="1676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РЕК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4"/>
            <p:cNvSpPr/>
            <p:nvPr/>
          </p:nvSpPr>
          <p:spPr>
            <a:xfrm>
              <a:off x="5222880" y="3842640"/>
              <a:ext cx="540720" cy="421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5"/>
            <p:cNvSpPr/>
            <p:nvPr/>
          </p:nvSpPr>
          <p:spPr>
            <a:xfrm>
              <a:off x="5680440" y="3842640"/>
              <a:ext cx="1251360" cy="1676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БОЛОТ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6"/>
            <p:cNvSpPr/>
            <p:nvPr/>
          </p:nvSpPr>
          <p:spPr>
            <a:xfrm flipV="1">
              <a:off x="5221080" y="2586960"/>
              <a:ext cx="542160" cy="4194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7"/>
            <p:cNvSpPr/>
            <p:nvPr/>
          </p:nvSpPr>
          <p:spPr>
            <a:xfrm>
              <a:off x="5678640" y="1329840"/>
              <a:ext cx="1250640" cy="1677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ЛЕДНИК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 flipV="1">
              <a:off x="4680360" y="1751400"/>
              <a:ext cx="0" cy="8384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9"/>
            <p:cNvSpPr/>
            <p:nvPr/>
          </p:nvSpPr>
          <p:spPr>
            <a:xfrm>
              <a:off x="4054680" y="74520"/>
              <a:ext cx="1251360" cy="16772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ИСКУСТВЕН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ahoma"/>
                </a:rPr>
                <a:t>ВОДОЁМ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40"/>
            <p:cNvSpPr/>
            <p:nvPr/>
          </p:nvSpPr>
          <p:spPr>
            <a:xfrm>
              <a:off x="4054680" y="2590200"/>
              <a:ext cx="1251360" cy="1676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 u="sng">
                  <a:solidFill>
                    <a:srgbClr val="ffcc00"/>
                  </a:solidFill>
                  <a:uFillTx/>
                  <a:latin typeface="Tahoma"/>
                </a:rPr>
                <a:t>ВОДЫ</a:t>
              </a:r>
              <a:r>
                <a:rPr b="0" lang="en-US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i="1" lang="en-US" sz="2200" spc="-1" strike="noStrike" u="sng">
                  <a:solidFill>
                    <a:srgbClr val="ffcc00"/>
                  </a:solidFill>
                  <a:uFillTx/>
                  <a:latin typeface="Tahoma"/>
                </a:rPr>
                <a:t>СУШИ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рные пор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ные породы , пропускающие воду, называются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проницаемы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не пропускающие её -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упорны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ёгко растворимых породах (например, солях, гипсе, известняках) вода вымывает пустоты –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пеще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В крупных пещерах иногда образуется  подземные  озёра и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6"/>
          <p:cNvSpPr txBox="1"/>
          <p:nvPr/>
        </p:nvSpPr>
        <p:spPr>
          <a:xfrm>
            <a:off x="1547640" y="260280"/>
            <a:ext cx="56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щ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рунтовые и межпластовы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м себе , что какая-то местность с поверхности сложена           крупнозернистым песком, который лежит на слое плотной водоупорной глины. Когда в этой местности выпадают осадки , вода быстро просачивается через песок. Образуется слой, насыщенный водой , - </a:t>
            </a: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одоносный сл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569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ы содержащиеся в водоносном слое, не прикрытом сверху водоупорными породами, называется-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грунтовыми водами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ной, после таянья снега , он повышается , а в конце сухого лета – пониж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нтовые воды медленно перемещаются, перетекают по порам водоносного слоя  в сторону  уклона водоупорного слоя. На склонах, в оврагах, речных долинах они выходят на поверхность, образуя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источники (родник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одоупорный слой  оказывается между  двумя водоупорными слоями , образуется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 межпластовые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е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дный поток , текущий и выработанном им углублении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усле  ре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о русло реки  расположено на дне  более широкого углубления, называемого -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ечной доли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течёт по углублению земной поверхности: её начало всегда расположено выше, чем окончание. Начало реки – это  её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ист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то , где река впадает в другую реку, или море , называется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устье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ая река со всеми притоками образует </a:t>
            </a: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речную систем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050920" y="260280"/>
            <a:ext cx="403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р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beach_rocks"/>
          <p:cNvPicPr/>
          <p:nvPr/>
        </p:nvPicPr>
        <p:blipFill>
          <a:blip r:embed="rId1"/>
          <a:stretch/>
        </p:blipFill>
        <p:spPr>
          <a:xfrm>
            <a:off x="457200" y="2346480"/>
            <a:ext cx="4038480" cy="3230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1116000" y="148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ная река Тер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2" descr="stream1"/>
          <p:cNvPicPr/>
          <p:nvPr/>
        </p:nvPicPr>
        <p:blipFill>
          <a:blip r:embed="rId2"/>
          <a:stretch/>
        </p:blipFill>
        <p:spPr>
          <a:xfrm>
            <a:off x="4716360" y="227664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5364000" y="1484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нинная река Печ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51:57Z</dcterms:created>
  <dc:creator>Admin</dc:creator>
  <dc:description/>
  <dc:language>en-US</dc:language>
  <cp:lastModifiedBy>1</cp:lastModifiedBy>
  <dcterms:modified xsi:type="dcterms:W3CDTF">2012-01-23T05:48:32Z</dcterms:modified>
  <cp:revision>9</cp:revision>
  <dc:subject/>
  <dc:title>Воды суши. Подземные воды </dc:title>
</cp:coreProperties>
</file>