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4C51-9002-4FE2-8300-55177E70B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3AAA-EBCD-4167-A810-974253BCB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7BFF-3691-452F-B8A1-28A3D6DD5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2D5D-BD5D-48CC-93B6-4BA6FF2EE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C9DB-E1A0-45D4-B53C-DE9D20586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4157-4C38-4F33-9354-36DB49698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5B99-A1B6-4478-BEE5-F2228458B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E7CB-E959-42E7-96EF-0379CCF44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6EAB-ACC7-4D43-AFD9-6E61C7377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1A1B-2C83-4BF5-B560-FBE28C185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6C11-7892-433C-991E-1F6E83518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010E-FCB7-4644-AB58-B59C258C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8283D-37EF-42EE-8B33-03D182DB33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КРЫТЫЕ ТРАВМЫ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9.Что необходимо сделать сразу же после извлечения из под обломков или завалов сдавленной конечности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28400" y="2642760"/>
            <a:ext cx="825804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) Дать пострадавшему обезболивающее средство (анальгин, панадол)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Б) Как можно быстрее доставить пострадавшего в медицинское учреждение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) Напоить пострадавшего горячим чаем или кофе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Г) Наложить на сдавленную конечность ближе к ее основанию жгут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0.Как можно произвести иммобилизацию конечности при ее переломе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99680" y="1999800"/>
            <a:ext cx="818676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) Используя специальные медицинские шины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Б) Используя любой подручный материал (дощечки, ветки, лыжные палки и т.п.)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) Прибинтовывая сломанную ногу к здоровой, сломанную руку к туловищу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Г) Это зависит от того, что имеется у нас под руками для оказания помощи пострадавшему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. К закрытым травмам не относятся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142640" y="2356920"/>
            <a:ext cx="75438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Растяжения и разрывы связок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Вывих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Переломы и сдавлен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Ссадины и порез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2. Что не является признаком ушиб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714320" y="2214360"/>
            <a:ext cx="697212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Боль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Припухлость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Кровь, вытекающая из раны имеет темно – вишневый цвет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Кровоподтек (синяк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3.Что необходимо сделать сразу же при оказании первой помощи пострадавшему при ушиб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071360" y="2642760"/>
            <a:ext cx="761508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Остановить кровотечен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Приложить холод на место ушиб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Приложить на место ушиба сухое тепло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Сделать легкий массаж места ушиб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4.Чем опасны ушибы груди и живот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Разрывами внутренних органов с последующими внутренними кровотечениям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Сильными кровотечениями при повреждении артери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Растяжениями связок в плечевом и локтевом суставах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Вывихами в коленном или голеностопном сустав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5.Через какое время на место ушиба можно прикладывать тепло,  делать согревающие ванны и легкий массаж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28400" y="2714760"/>
            <a:ext cx="825804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Сразу же после получения ушиб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Через 2 – 3 часа после получения ушиб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Через двое суток после получения ушиб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Сразу же после того, как пройдет опухоль на месте ушиб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6. При вывихах, переломах конечностей производят их иммобилизацию. Это необходимо для того чтобы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99680" y="2786040"/>
            <a:ext cx="818676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Предотвратить внутреннее кровотечен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Обеспечить неподвижность  конечност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Предотвратить венозное и артериальное кровотечен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Предотвратить растяжение или надрыв связок в суставах конеч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7. Резкая боль, невозможность движения в суставе, деформация (западание) области сустава, изменение длины сустава – все это признаки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42960" y="3357720"/>
            <a:ext cx="804384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Растяжения или разрыва связок сустав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Вывиха сустав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Закрытого перелом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Сдавления конеч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8. Можно ли вправлять вывихнутый сустав самостоятельно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Да, можно, если знаешь как это следует выполнять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Да, можно если пострадавший достиг 14-ти летнего возраст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Самостоятельно можно вправлять только вывихи в коленном и плечевом суставах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Вправление вывиха могут производить только в медицинском учрежден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6T16:04:09Z</dcterms:created>
  <dc:creator>Admin</dc:creator>
  <dc:description/>
  <dc:language>en-US</dc:language>
  <cp:lastModifiedBy>Admin</cp:lastModifiedBy>
  <dcterms:modified xsi:type="dcterms:W3CDTF">2012-03-06T17:09:37Z</dcterms:modified>
  <cp:revision>7</cp:revision>
  <dc:subject/>
  <dc:title>ЗАКРЫТЫЕ ТРАВМЫ.</dc:title>
</cp:coreProperties>
</file>