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473-AEDD-4B19-B3AB-34F04A2D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B8D-810F-4433-9227-BA0B78EC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096-BFD1-4459-9A23-B177DF58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E2E-8A99-42F3-8B49-2AC7A3E9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3BA-3ECC-467B-9390-1FC3E8D7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486-A920-4142-8987-4438530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BEA-2BA9-47FA-B82B-2FF330DB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F83-8BBC-4638-AB8F-9AC266E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E5F-7E9D-4588-BE29-7B0AA0D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7DC-0C6B-40B2-82F9-2CC70C84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BB7-D02F-4001-8BCF-6F997F52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718-317D-4DEF-AA5E-AF21A7E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BAF2-3AF7-48B5-8C32-ED6BB1C99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ЫТЫЕ ТРАВ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Что необходимо сделать сразу же после извлечения из под обломков или завалов сдавленной конечности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2642760"/>
            <a:ext cx="82580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Дать пострадавшему обезболивающее средство (анальгин, панадол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Как можно быстрее доставить пострадавшего в медицинское учрежден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Напоить пострадавшего горячим чаем или коф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аложить на сдавленную конечность ближе к ее основанию жгут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Как можно произвести иммобилизацию конечности при ее перелом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1999800"/>
            <a:ext cx="8186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Используя специальные медицинские шин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Используя любой подручный материал (дощечки, ветки, лыжные палки и т.п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рибинтовывая сломанную ногу к здоровой, сломанную руку к туловищ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Это зависит от того, что имеется у нас под руками для оказания помощи пострадавше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К закрытым травмам не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2640" y="2356920"/>
            <a:ext cx="7543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Растяжения и разрывы связ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ывих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ереломы и сдав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садины и поре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Что не является признаком ушиб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14320" y="2214360"/>
            <a:ext cx="6972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Бол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пухл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Кровь, вытекающая из раны имеет темно – вишневый цв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Кровоподтек (синя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Что необходимо сделать сразу же при оказании первой помощи пострадавшему при ушиб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71360" y="2642760"/>
            <a:ext cx="76150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Остановить кровоте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ложить холод на место уши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иложить на место ушиба сухое тепл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делать легкий массаж места уши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Чем опасны ушибы груди и живо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Разрывами внутренних органов с последующими внутренними кровотечени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ильными кровотечениями при повреждении артер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Растяжениями связок в плечевом и локтевом сустав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Вывихами в коленном или голеностопном суста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Через какое время на место ушиба можно прикладывать тепло,  делать согревающие ванны и легкий массаж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400" y="2714760"/>
            <a:ext cx="825804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разу же после получения уши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Через 2 – 3 часа после получения уши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Через двое суток после получения уши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разу же после того, как пройдет опухоль на месте уши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При вывихах, переломах конечностей производят их иммобилизацию. Это необходимо для того чтоб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9680" y="2786040"/>
            <a:ext cx="81867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едотвратить внутреннее кровоте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еспечить неподвижность  конеч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едотвратить венозное и артериальное кровоте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Предотвратить растяжение или надрыв связок в суставах коне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Резкая боль, невозможность движения в суставе, деформация (западание) области сустава, изменение длины сустава – все это призна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42960" y="3357720"/>
            <a:ext cx="804384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Растяжения или разрыва связок суста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ывиха суста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Закрытого перело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давления коне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Можно ли вправлять вывихнутый сустав самостоятель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Да, можно, если знаешь как это следует выполня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а, можно если пострадавший достиг 14-ти летнего возра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амостоятельно можно вправлять только вывихи в коленном и плечевом сустав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Вправление вывиха могут производить только в медицинском учреж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6:04:09Z</dcterms:created>
  <dc:creator>Admin</dc:creator>
  <dc:description/>
  <dc:language>en-US</dc:language>
  <cp:lastModifiedBy>Admin</cp:lastModifiedBy>
  <dcterms:modified xsi:type="dcterms:W3CDTF">2012-03-06T17:09:37Z</dcterms:modified>
  <cp:revision>7</cp:revision>
  <dc:subject/>
  <dc:title>ЗАКРЫТЫЕ ТРАВМЫ.</dc:title>
</cp:coreProperties>
</file>