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8EE-3021-4252-A724-D1870412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EDC-E593-4FD5-A392-6707D7E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A63-688C-41D4-AB70-61599A58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2BE-5726-4563-A394-3DC6D91E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7EF-116E-4B84-8A58-EE529D23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6A6-5387-47FB-8A8F-297BDA02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C42-6B6B-4137-BB24-E2B884FC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C18-BD3A-41A9-A642-3E80493C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6CA-789C-43E3-98E6-7AA6D66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C45-A6BD-4CCA-B97E-76CCA21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9FE-D902-48C9-9406-C9A852E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289-8A49-48D8-9291-F7865D9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4AC-2F84-4265-AFFA-4C07F3923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" Target="slide22.xml"/><Relationship Id="rId5" Type="http://schemas.openxmlformats.org/officeDocument/2006/relationships/image" Target="../media/image3.wmf"/><Relationship Id="rId6" Type="http://schemas.openxmlformats.org/officeDocument/2006/relationships/slide" Target="slide13.xml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" Target="slide2.xml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slide" Target="slide13.xml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BS00554_"/>
          <p:cNvPicPr/>
          <p:nvPr/>
        </p:nvPicPr>
        <p:blipFill>
          <a:blip r:embed="rId1"/>
          <a:stretch/>
        </p:blipFill>
        <p:spPr>
          <a:xfrm>
            <a:off x="1219320" y="533520"/>
            <a:ext cx="6788160" cy="5922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4"/>
          <p:cNvSpPr/>
          <p:nvPr/>
        </p:nvSpPr>
        <p:spPr>
          <a:xfrm>
            <a:off x="57240" y="2438280"/>
            <a:ext cx="9010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о химическим уравнениям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5" descr="BD0002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149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pcs_popular_16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5151600"/>
            <a:ext cx="182880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C:\WINDOWS\Application Data\Microsoft\Media Catalog\pcs_popular_14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6291360"/>
            <a:ext cx="1676520" cy="56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Рассчитать объём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ислорода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m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1,12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2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4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6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9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0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2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4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4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5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6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87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88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9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0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1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2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3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98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ff9900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ff9900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9"/>
          <p:cNvSpPr/>
          <p:nvPr/>
        </p:nvSpPr>
        <p:spPr>
          <a:xfrm>
            <a:off x="7042320" y="44956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=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Times New Roman"/>
              </a:rPr>
              <a:t>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00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Записать пол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7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9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1,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1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3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4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5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6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7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8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9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0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1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2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3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4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75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76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7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8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9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0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1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82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3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8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8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9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90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1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2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3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4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5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6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3333cc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7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98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22860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твет: в реакцию вступит 1,12 л кисл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7239960" y="6858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реше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7240320" y="76320"/>
            <a:ext cx="16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6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1523880"/>
            <a:ext cx="755640" cy="16002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7"/>
          <p:cNvSpPr/>
          <p:nvPr/>
        </p:nvSpPr>
        <p:spPr>
          <a:xfrm>
            <a:off x="227160" y="5334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8"/>
          <p:cNvSpPr/>
          <p:nvPr/>
        </p:nvSpPr>
        <p:spPr>
          <a:xfrm>
            <a:off x="2147040" y="5410080"/>
            <a:ext cx="216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39"/>
          <p:cNvSpPr/>
          <p:nvPr/>
        </p:nvSpPr>
        <p:spPr>
          <a:xfrm>
            <a:off x="7467480" y="5410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1,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40"/>
          <p:cNvSpPr/>
          <p:nvPr/>
        </p:nvSpPr>
        <p:spPr>
          <a:xfrm>
            <a:off x="4455000" y="5410080"/>
            <a:ext cx="1662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41"/>
          <p:cNvSpPr/>
          <p:nvPr/>
        </p:nvSpPr>
        <p:spPr>
          <a:xfrm>
            <a:off x="5946120" y="54100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2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 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3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44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45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6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47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48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9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0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1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2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3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4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55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6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7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58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59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60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61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62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3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64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5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6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67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68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69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70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1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72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3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Vm =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22,4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3333cc"/>
                </a:solidFill>
                <a:uFillTx/>
                <a:latin typeface="Times New Roman"/>
              </a:rPr>
              <a:t>л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4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75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76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0" y="623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Уравнение Химической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-3600" y="928800"/>
            <a:ext cx="68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равнении подчеркнуть формул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-1440" y="176688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д формулами соответствующих 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известные по условию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-4320" y="2300400"/>
            <a:ext cx="7014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веществ записа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ую масс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рассчитываемую по относитель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й массе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Массу вещества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, равну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7360" y="4038480"/>
            <a:ext cx="689220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газов запис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ый объё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газов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ормальных условиях (н.у.) составляющи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моль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Объём вещества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, рав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Vm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0" y="5867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и решить пропорцию в граммах или лит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0" y="6172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полный от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3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C:\Program Files\Common Files\Microsoft Shared\Clipart\cagcat50\BD00028_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388620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6"/>
          <p:cNvSpPr/>
          <p:nvPr/>
        </p:nvSpPr>
        <p:spPr>
          <a:xfrm>
            <a:off x="152280" y="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7" descr="C:\WINDOWS\Application Data\Microsoft\Media Catalog\pcs_popular_142.wmf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391520" y="76320"/>
            <a:ext cx="1676160" cy="566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8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9840" y="1447920"/>
            <a:ext cx="1389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147400" y="1447920"/>
            <a:ext cx="694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0" lang="ru-RU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2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3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8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12800" y="1447920"/>
            <a:ext cx="215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976560" y="144792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04920" y="1447920"/>
            <a:ext cx="37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2   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3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и веществ, массы или объёмы которых необходимо найт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21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2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9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228600" y="5791320"/>
            <a:ext cx="8763120" cy="8254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д формулами соответствующих веще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известные по условию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23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4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3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251640" y="4146480"/>
            <a:ext cx="8702640" cy="22885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1 Под формулами соответствующих веществ записать: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457200" y="4572000"/>
            <a:ext cx="78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458280" y="5334120"/>
            <a:ext cx="83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ую массу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ссчитываемую по относите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екулярной массе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35680" y="5867280"/>
            <a:ext cx="67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ассу вещества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вную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= 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40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27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8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0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251280" y="4114800"/>
            <a:ext cx="8699760" cy="22885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2 Под формулами соответствующих газов записать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33520" y="4572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572760" y="5334120"/>
            <a:ext cx="801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ый объём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газов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ормальных условиях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н.у.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ющи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2.4 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моль</a:t>
            </a:r>
            <a:r>
              <a:rPr b="0" lang="en-US" sz="2400" spc="-1" strike="noStrike" baseline="-25000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538920" y="5943600"/>
            <a:ext cx="70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Объём вещества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вны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= V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40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2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3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4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25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457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уравнение химической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-3600" y="762120"/>
            <a:ext cx="68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равнении подчеркнуть формул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-1440" y="160020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д формулами соответствующих 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известные по условию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-4320" y="2195640"/>
            <a:ext cx="70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веществ записа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ую масс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, рассчитываемую по относитель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й масс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7000" y="3567240"/>
            <a:ext cx="68738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формулами соответствующих газов запис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Количество веще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Молярный объё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газов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ормальных условиях (н.у.) составляющи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моль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5548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ть пропорцию в молях  и  решить её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64911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исать полный от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2280" y="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задач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93884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йти  количество веществ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ля веществ, участвующих в реак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m / M ; n = V / Vm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0" y="58672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 найденному количеству веществ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йти массу или объём д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омых в задаче веществ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 ; V = V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3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C:\Program Files\Common Files\Microsoft Shared\Clipart\cagcat50\BD00028_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388620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WINDOWS\Application Data\Microsoft\Media Catalog\pcs_popular_142.wmf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391520" y="76320"/>
            <a:ext cx="1676160" cy="56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7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6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Составить и решить пропор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685800" y="358128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533160" y="41148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160128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2211120" y="358128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6"/>
          <p:cNvSpPr/>
          <p:nvPr/>
        </p:nvSpPr>
        <p:spPr>
          <a:xfrm>
            <a:off x="2133720" y="4137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1981080" y="4114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8"/>
          <p:cNvSpPr/>
          <p:nvPr/>
        </p:nvSpPr>
        <p:spPr>
          <a:xfrm>
            <a:off x="609480" y="4137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4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5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6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m = 128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7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 = 22.4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9"/>
          <p:cNvSpPr/>
          <p:nvPr/>
        </p:nvSpPr>
        <p:spPr>
          <a:xfrm>
            <a:off x="3275280" y="3809880"/>
            <a:ext cx="16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 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80"/>
          <p:cNvSpPr/>
          <p:nvPr/>
        </p:nvSpPr>
        <p:spPr>
          <a:xfrm>
            <a:off x="4892760" y="40957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81"/>
          <p:cNvSpPr/>
          <p:nvPr/>
        </p:nvSpPr>
        <p:spPr>
          <a:xfrm>
            <a:off x="4800240" y="3505320"/>
            <a:ext cx="13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82"/>
          <p:cNvSpPr/>
          <p:nvPr/>
        </p:nvSpPr>
        <p:spPr>
          <a:xfrm>
            <a:off x="5501880" y="4095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3"/>
          <p:cNvSpPr/>
          <p:nvPr/>
        </p:nvSpPr>
        <p:spPr>
          <a:xfrm>
            <a:off x="7103160" y="37908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4"/>
          <p:cNvSpPr/>
          <p:nvPr/>
        </p:nvSpPr>
        <p:spPr>
          <a:xfrm>
            <a:off x="7407360" y="3790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,12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85"/>
          <p:cNvSpPr/>
          <p:nvPr/>
        </p:nvSpPr>
        <p:spPr>
          <a:xfrm>
            <a:off x="6019920" y="35053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86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87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88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77320" y="1066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9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3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2878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1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016000" y="2590920"/>
            <a:ext cx="21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22.4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29320" y="2971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 = 12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221148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 = 22.4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228600" y="6172200"/>
            <a:ext cx="777240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Записать пол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85800" y="358128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533160" y="41148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60128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211120" y="358128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33720" y="41371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81080" y="4114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3"/>
          <p:cNvSpPr/>
          <p:nvPr/>
        </p:nvSpPr>
        <p:spPr>
          <a:xfrm>
            <a:off x="609480" y="41371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232200" y="495288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твет: в реакцию вступит 1,12 л кисл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4"/>
          <p:cNvSpPr/>
          <p:nvPr/>
        </p:nvSpPr>
        <p:spPr>
          <a:xfrm>
            <a:off x="7088040" y="228600"/>
            <a:ext cx="16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5"/>
          <p:cNvSpPr/>
          <p:nvPr/>
        </p:nvSpPr>
        <p:spPr>
          <a:xfrm>
            <a:off x="3275640" y="38098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.е.  Х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6"/>
          <p:cNvSpPr/>
          <p:nvPr/>
        </p:nvSpPr>
        <p:spPr>
          <a:xfrm>
            <a:off x="4892760" y="409572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4799880" y="350532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,4 г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5501880" y="4095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28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103160" y="37908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407360" y="3790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,12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6019920" y="35053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2,4 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089120" y="76212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реше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3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4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5" descr="SY01265_"/>
          <p:cNvPicPr/>
          <p:nvPr/>
        </p:nvPicPr>
        <p:blipFill>
          <a:blip r:embed="rId2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6"/>
          <p:cNvSpPr/>
          <p:nvPr/>
        </p:nvSpPr>
        <p:spPr>
          <a:xfrm>
            <a:off x="180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-297000" y="68580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объём соляной кислоты образу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взаимодействии с хлором 2-х литров водорода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о химическим урав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5520" y="1523880"/>
            <a:ext cx="81374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Чему равен объём углекислого газа (н.у.), получ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сжигании 10 л метана по уравнению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52280" y="3733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йдите объём водорода (н.у.), выделившийся при взаимодействии с серной кислотой 270 граммов алюминия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9120" y="2819520"/>
            <a:ext cx="84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ой объём кислорода (н.у.) нужен для взаимо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700 г железа, содержащего 20 % примесей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155520" y="4572000"/>
            <a:ext cx="78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5. Какой объём водорода (н.у.) потребуется д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заимодействия с оксидом железа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 массой 1400 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одержащего 20% примесей ? 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олей воды при этом образует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9" descr="SY01265_"/>
          <p:cNvPicPr/>
          <p:nvPr/>
        </p:nvPicPr>
        <p:blipFill>
          <a:blip r:embed="rId2"/>
          <a:stretch/>
        </p:blipFill>
        <p:spPr>
          <a:xfrm>
            <a:off x="8229600" y="51055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pcs_popular_129"/>
          <p:cNvPicPr/>
          <p:nvPr/>
        </p:nvPicPr>
        <p:blipFill>
          <a:blip r:embed="rId3"/>
          <a:stretch/>
        </p:blipFill>
        <p:spPr>
          <a:xfrm>
            <a:off x="6629400" y="5715000"/>
            <a:ext cx="1219320" cy="973080"/>
          </a:xfrm>
          <a:prstGeom prst="rect">
            <a:avLst/>
          </a:prstGeom>
          <a:ln w="0">
            <a:noFill/>
          </a:ln>
        </p:spPr>
      </p:pic>
      <p:sp>
        <p:nvSpPr>
          <p:cNvPr id="526" name="Line 11"/>
          <p:cNvSpPr/>
          <p:nvPr/>
        </p:nvSpPr>
        <p:spPr>
          <a:xfrm>
            <a:off x="2590920" y="259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99840" y="1447920"/>
            <a:ext cx="1389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47400" y="1447920"/>
            <a:ext cx="694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0" lang="ru-RU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оставить Уравнение Химической Реа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12800" y="1447920"/>
            <a:ext cx="215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76560" y="144792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4920" y="1447920"/>
            <a:ext cx="37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2   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ществ, массы или объёмы которых необходимо най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уравнении подчеркнуть форму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, массы или объёмы которых указ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и веществ, массы или объёмы которых необходимо найт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6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Мои документы\Scanner\back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8600" y="5791320"/>
            <a:ext cx="8763120" cy="8254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д формулами соответствующих веще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известные по условию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оксидом серы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IV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Какой объем кисло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088400" y="2286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6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ck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28600" y="3733920"/>
            <a:ext cx="8763120" cy="26542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д формулами соответствующих веществ записать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ff99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ff9900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33520" y="419112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оличество вещества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мое по коэффициентам в уравнении реак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34600" y="4952880"/>
            <a:ext cx="82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Молярную массу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ассчитываемую по относите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екулярной массе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572760" y="5715000"/>
            <a:ext cx="801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олярный объём</a:t>
            </a:r>
            <a:r>
              <a:rPr b="0" lang="en-US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газов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ормальных условиях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н.у.)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ющий</a:t>
            </a:r>
            <a:r>
              <a:rPr b="0" lang="ru-RU" sz="2400" spc="-1" strike="noStrike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2.4 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моль</a:t>
            </a:r>
            <a:r>
              <a:rPr b="0" lang="en-US" sz="2400" spc="-1" strike="noStrike" baseline="-25000">
                <a:solidFill>
                  <a:srgbClr val="5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1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Рассчитать количество вещества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ксида серы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 / 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ff0066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0,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1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2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М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=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64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 baseline="30000">
                <a:solidFill>
                  <a:srgbClr val="ff0066"/>
                </a:solidFill>
                <a:uFillTx/>
                <a:latin typeface="Times New Roman"/>
              </a:rPr>
              <a:t>г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/</a:t>
            </a:r>
            <a:r>
              <a:rPr b="0" lang="ru-RU" sz="2400" spc="-1" strike="noStrike" u="sng" baseline="-25000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4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ack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28600" y="6172200"/>
            <a:ext cx="8763120" cy="4597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Составить пропорцию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мол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решить 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240680" y="7632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99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80680" y="4495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4616280" y="4723920"/>
            <a:ext cx="26514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527360" y="4267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0,1 мо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213160" y="47242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7042680" y="44956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0,05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5899680" y="42670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55160" y="42670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0,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55520" y="472428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602000" y="4495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061000" y="4267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Х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908360" y="4724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1 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1981080" y="4800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6"/>
          <p:cNvSpPr/>
          <p:nvPr/>
        </p:nvSpPr>
        <p:spPr>
          <a:xfrm>
            <a:off x="231120" y="228600"/>
            <a:ext cx="65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объем кислорода (н.у.) вступит в реак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сидом сер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массой = 6,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7"/>
          <p:cNvSpPr/>
          <p:nvPr/>
        </p:nvSpPr>
        <p:spPr>
          <a:xfrm>
            <a:off x="227880" y="327672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 /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8"/>
          <p:cNvSpPr/>
          <p:nvPr/>
        </p:nvSpPr>
        <p:spPr>
          <a:xfrm>
            <a:off x="2145960" y="3276720"/>
            <a:ext cx="219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.е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9"/>
          <p:cNvSpPr/>
          <p:nvPr/>
        </p:nvSpPr>
        <p:spPr>
          <a:xfrm>
            <a:off x="4343400" y="353376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0"/>
          <p:cNvSpPr/>
          <p:nvPr/>
        </p:nvSpPr>
        <p:spPr>
          <a:xfrm>
            <a:off x="4465080" y="3505320"/>
            <a:ext cx="132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4 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1"/>
          <p:cNvSpPr/>
          <p:nvPr/>
        </p:nvSpPr>
        <p:spPr>
          <a:xfrm>
            <a:off x="4650120" y="29718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2"/>
          <p:cNvSpPr/>
          <p:nvPr/>
        </p:nvSpPr>
        <p:spPr>
          <a:xfrm>
            <a:off x="5946840" y="3276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  0,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3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0,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331560" y="1447920"/>
            <a:ext cx="253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3595680" y="1447920"/>
            <a:ext cx="135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67"/>
          <p:cNvSpPr/>
          <p:nvPr/>
        </p:nvSpPr>
        <p:spPr>
          <a:xfrm>
            <a:off x="685800" y="220968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8"/>
          <p:cNvSpPr/>
          <p:nvPr/>
        </p:nvSpPr>
        <p:spPr>
          <a:xfrm>
            <a:off x="2133720" y="220968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839880" y="1143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,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0"/>
          <p:cNvSpPr/>
          <p:nvPr/>
        </p:nvSpPr>
        <p:spPr>
          <a:xfrm>
            <a:off x="2211840" y="1143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1"/>
          <p:cNvSpPr/>
          <p:nvPr/>
        </p:nvSpPr>
        <p:spPr>
          <a:xfrm>
            <a:off x="2971800" y="18288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2"/>
          <p:cNvSpPr/>
          <p:nvPr/>
        </p:nvSpPr>
        <p:spPr>
          <a:xfrm>
            <a:off x="2971800" y="19810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3"/>
          <p:cNvSpPr/>
          <p:nvPr/>
        </p:nvSpPr>
        <p:spPr>
          <a:xfrm>
            <a:off x="186120" y="2590920"/>
            <a:ext cx="168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4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5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1939680" y="2590920"/>
            <a:ext cx="21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m =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2,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3333cc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9"/>
          <p:cNvSpPr/>
          <p:nvPr/>
        </p:nvSpPr>
        <p:spPr>
          <a:xfrm>
            <a:off x="609120" y="9144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0,1</a:t>
            </a:r>
            <a:r>
              <a:rPr b="0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230400" y="220968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n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=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1"/>
          <p:cNvSpPr/>
          <p:nvPr/>
        </p:nvSpPr>
        <p:spPr>
          <a:xfrm>
            <a:off x="2134080" y="9144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Times New Roman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2"/>
          <p:cNvSpPr/>
          <p:nvPr/>
        </p:nvSpPr>
        <p:spPr>
          <a:xfrm>
            <a:off x="2059200" y="22096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n =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Times New Roman"/>
              </a:rPr>
              <a:t>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83" descr="C:\Program Files\Common Files\Microsoft Shared\Clipart\cagcat50\BD00028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91440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0:21:13Z</dcterms:created>
  <dc:creator>Дмитрий Девятников</dc:creator>
  <dc:description/>
  <dc:language>en-US</dc:language>
  <cp:lastModifiedBy>мишаня</cp:lastModifiedBy>
  <dcterms:modified xsi:type="dcterms:W3CDTF">2013-01-17T20:20:57Z</dcterms:modified>
  <cp:revision>72</cp:revision>
  <dc:subject/>
  <dc:title>Презентация PowerPoint</dc:title>
</cp:coreProperties>
</file>