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5BC-9E7E-4FF0-922E-5499ADD1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F99-2536-4392-9CB5-63B4966D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54A-B390-4AB9-884B-41A1C89A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75E-B2B3-459E-A978-6612EE3F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EF2-47B2-4CB6-9106-2886CD63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B1A-4E66-49C8-B529-4A340A83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D5A-A026-4A4A-8CFD-AA34A327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14D-72E8-4876-B49C-5B0AABC1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A48-8987-46B2-80BD-8628D971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7DB-F8E3-427F-A36D-172058F0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5E2-C5E8-4454-A4CB-19A7C37C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1E3-1C66-427E-8519-F583BF8E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25B6-C117-4AF9-AD03-7CCEE9643F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" Target="slide22.xml"/><Relationship Id="rId5" Type="http://schemas.openxmlformats.org/officeDocument/2006/relationships/image" Target="../media/image3.wmf"/><Relationship Id="rId6" Type="http://schemas.openxmlformats.org/officeDocument/2006/relationships/slide" Target="slide13.xml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6.wmf"/><Relationship Id="rId4" Type="http://schemas.openxmlformats.org/officeDocument/2006/relationships/slide" Target="slide2.xml"/><Relationship Id="rId5" Type="http://schemas.openxmlformats.org/officeDocument/2006/relationships/image" Target="../media/image2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6.wmf"/><Relationship Id="rId4" Type="http://schemas.openxmlformats.org/officeDocument/2006/relationships/slide" Target="slide13.xml"/><Relationship Id="rId5" Type="http://schemas.openxmlformats.org/officeDocument/2006/relationships/image" Target="../media/image2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BS00554_"/>
          <p:cNvPicPr/>
          <p:nvPr/>
        </p:nvPicPr>
        <p:blipFill>
          <a:blip r:embed="rId1"/>
          <a:stretch/>
        </p:blipFill>
        <p:spPr>
          <a:xfrm>
            <a:off x="1219320" y="533520"/>
            <a:ext cx="6788160" cy="5922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4"/>
          <p:cNvSpPr/>
          <p:nvPr/>
        </p:nvSpPr>
        <p:spPr>
          <a:xfrm>
            <a:off x="57240" y="2438280"/>
            <a:ext cx="901044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 задач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по химическим уравнениям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5" descr="BD00028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4800600"/>
            <a:ext cx="1523880" cy="1492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pcs_popular_16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280" y="5151600"/>
            <a:ext cx="1828800" cy="155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C:\WINDOWS\Application Data\Microsoft\Media Catalog\pcs_popular_14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6291360"/>
            <a:ext cx="1676520" cy="566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back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Рассчитать объём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ислорода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Vm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7240680" y="7632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27160" y="53341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Vm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147040" y="5410080"/>
            <a:ext cx="216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.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467480" y="5410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1,12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455000" y="5410080"/>
            <a:ext cx="16624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 </a:t>
            </a:r>
            <a:r>
              <a:rPr b="0" lang="ru-RU" sz="2400" spc="-1" strike="noStrike" baseline="30000">
                <a:solidFill>
                  <a:srgbClr val="ff99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ff9900"/>
                </a:solidFill>
                <a:latin typeface="Times New Roman"/>
              </a:rPr>
              <a:t>мол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5946120" y="5410080"/>
            <a:ext cx="16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05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0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61"/>
          <p:cNvSpPr/>
          <p:nvPr/>
        </p:nvSpPr>
        <p:spPr>
          <a:xfrm>
            <a:off x="3280680" y="449568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 Х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2"/>
          <p:cNvSpPr/>
          <p:nvPr/>
        </p:nvSpPr>
        <p:spPr>
          <a:xfrm flipV="1">
            <a:off x="4616280" y="4723920"/>
            <a:ext cx="2651400" cy="9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4527360" y="426708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0,1 моль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4"/>
          <p:cNvSpPr/>
          <p:nvPr/>
        </p:nvSpPr>
        <p:spPr>
          <a:xfrm>
            <a:off x="5213160" y="472428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5"/>
          <p:cNvSpPr/>
          <p:nvPr/>
        </p:nvSpPr>
        <p:spPr>
          <a:xfrm>
            <a:off x="7042680" y="44956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0,05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66"/>
          <p:cNvSpPr/>
          <p:nvPr/>
        </p:nvSpPr>
        <p:spPr>
          <a:xfrm>
            <a:off x="5899680" y="426708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7"/>
          <p:cNvSpPr/>
          <p:nvPr/>
        </p:nvSpPr>
        <p:spPr>
          <a:xfrm>
            <a:off x="155160" y="426708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0,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8"/>
          <p:cNvSpPr/>
          <p:nvPr/>
        </p:nvSpPr>
        <p:spPr>
          <a:xfrm>
            <a:off x="155520" y="4724280"/>
            <a:ext cx="13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9"/>
          <p:cNvSpPr/>
          <p:nvPr/>
        </p:nvSpPr>
        <p:spPr>
          <a:xfrm>
            <a:off x="1602000" y="44956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0"/>
          <p:cNvSpPr/>
          <p:nvPr/>
        </p:nvSpPr>
        <p:spPr>
          <a:xfrm>
            <a:off x="2061000" y="4267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Х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1"/>
          <p:cNvSpPr/>
          <p:nvPr/>
        </p:nvSpPr>
        <p:spPr>
          <a:xfrm>
            <a:off x="1908360" y="4724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2"/>
          <p:cNvSpPr/>
          <p:nvPr/>
        </p:nvSpPr>
        <p:spPr>
          <a:xfrm>
            <a:off x="228600" y="4800600"/>
            <a:ext cx="1371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981080" y="4800600"/>
            <a:ext cx="1371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4"/>
          <p:cNvSpPr/>
          <p:nvPr/>
        </p:nvSpPr>
        <p:spPr>
          <a:xfrm>
            <a:off x="227880" y="327672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 /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5"/>
          <p:cNvSpPr/>
          <p:nvPr/>
        </p:nvSpPr>
        <p:spPr>
          <a:xfrm>
            <a:off x="2145960" y="3276720"/>
            <a:ext cx="219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4343400" y="3533760"/>
            <a:ext cx="152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4465080" y="3505320"/>
            <a:ext cx="132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4 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4650120" y="297180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5946840" y="32767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 0,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80"/>
          <p:cNvSpPr/>
          <p:nvPr/>
        </p:nvSpPr>
        <p:spPr>
          <a:xfrm>
            <a:off x="609120" y="9144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0,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1"/>
          <p:cNvSpPr/>
          <p:nvPr/>
        </p:nvSpPr>
        <p:spPr>
          <a:xfrm>
            <a:off x="2134080" y="9144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Х 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2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3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84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5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86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87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88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89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90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1"/>
          <p:cNvSpPr/>
          <p:nvPr/>
        </p:nvSpPr>
        <p:spPr>
          <a:xfrm>
            <a:off x="20592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2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93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m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2,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98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Vm = </a:t>
            </a: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22,4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 baseline="30000">
                <a:solidFill>
                  <a:srgbClr val="ff9900"/>
                </a:solidFill>
                <a:uFillTx/>
                <a:latin typeface="Times New Roman"/>
              </a:rPr>
              <a:t>л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/</a:t>
            </a:r>
            <a:r>
              <a:rPr b="0" lang="ru-RU" sz="2400" spc="-1" strike="noStrike" u="sng" baseline="-25000">
                <a:solidFill>
                  <a:srgbClr val="ff9900"/>
                </a:solidFill>
                <a:uFillTx/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99"/>
          <p:cNvSpPr/>
          <p:nvPr/>
        </p:nvSpPr>
        <p:spPr>
          <a:xfrm>
            <a:off x="7042320" y="44956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Times New Roman"/>
              </a:rPr>
              <a:t> 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=</a:t>
            </a:r>
            <a:r>
              <a:rPr b="0" lang="ru-RU" sz="2800" spc="-1" strike="noStrike" u="sng">
                <a:solidFill>
                  <a:srgbClr val="ff9900"/>
                </a:solidFill>
                <a:uFillTx/>
                <a:latin typeface="Times New Roman"/>
              </a:rPr>
              <a:t> 0,05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100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back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"/>
          <p:cNvSpPr/>
          <p:nvPr/>
        </p:nvSpPr>
        <p:spPr>
          <a:xfrm>
            <a:off x="228600" y="6172200"/>
            <a:ext cx="876312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Записать полный отв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7240680" y="7632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57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8"/>
          <p:cNvSpPr/>
          <p:nvPr/>
        </p:nvSpPr>
        <p:spPr>
          <a:xfrm>
            <a:off x="227160" y="53341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9"/>
          <p:cNvSpPr/>
          <p:nvPr/>
        </p:nvSpPr>
        <p:spPr>
          <a:xfrm>
            <a:off x="2147040" y="5410080"/>
            <a:ext cx="216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V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0"/>
          <p:cNvSpPr/>
          <p:nvPr/>
        </p:nvSpPr>
        <p:spPr>
          <a:xfrm>
            <a:off x="7467480" y="5410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 1,1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61"/>
          <p:cNvSpPr/>
          <p:nvPr/>
        </p:nvSpPr>
        <p:spPr>
          <a:xfrm>
            <a:off x="4455000" y="5410080"/>
            <a:ext cx="16624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2"/>
          <p:cNvSpPr/>
          <p:nvPr/>
        </p:nvSpPr>
        <p:spPr>
          <a:xfrm>
            <a:off x="5946120" y="5410080"/>
            <a:ext cx="16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3"/>
          <p:cNvSpPr/>
          <p:nvPr/>
        </p:nvSpPr>
        <p:spPr>
          <a:xfrm>
            <a:off x="3280680" y="449568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 Х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64"/>
          <p:cNvSpPr/>
          <p:nvPr/>
        </p:nvSpPr>
        <p:spPr>
          <a:xfrm flipV="1">
            <a:off x="4616280" y="4723920"/>
            <a:ext cx="2651400" cy="9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65"/>
          <p:cNvSpPr/>
          <p:nvPr/>
        </p:nvSpPr>
        <p:spPr>
          <a:xfrm>
            <a:off x="4527360" y="426708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0,1 моль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66"/>
          <p:cNvSpPr/>
          <p:nvPr/>
        </p:nvSpPr>
        <p:spPr>
          <a:xfrm>
            <a:off x="5213160" y="472428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7"/>
          <p:cNvSpPr/>
          <p:nvPr/>
        </p:nvSpPr>
        <p:spPr>
          <a:xfrm>
            <a:off x="7042680" y="44956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0,05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8"/>
          <p:cNvSpPr/>
          <p:nvPr/>
        </p:nvSpPr>
        <p:spPr>
          <a:xfrm>
            <a:off x="5899680" y="426708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69"/>
          <p:cNvSpPr/>
          <p:nvPr/>
        </p:nvSpPr>
        <p:spPr>
          <a:xfrm>
            <a:off x="155160" y="426708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0,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0"/>
          <p:cNvSpPr/>
          <p:nvPr/>
        </p:nvSpPr>
        <p:spPr>
          <a:xfrm>
            <a:off x="155520" y="4724280"/>
            <a:ext cx="13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71"/>
          <p:cNvSpPr/>
          <p:nvPr/>
        </p:nvSpPr>
        <p:spPr>
          <a:xfrm>
            <a:off x="1602000" y="44956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2"/>
          <p:cNvSpPr/>
          <p:nvPr/>
        </p:nvSpPr>
        <p:spPr>
          <a:xfrm>
            <a:off x="2061000" y="4267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Х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3"/>
          <p:cNvSpPr/>
          <p:nvPr/>
        </p:nvSpPr>
        <p:spPr>
          <a:xfrm>
            <a:off x="1908360" y="4724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74"/>
          <p:cNvSpPr/>
          <p:nvPr/>
        </p:nvSpPr>
        <p:spPr>
          <a:xfrm>
            <a:off x="228600" y="4800600"/>
            <a:ext cx="1371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75"/>
          <p:cNvSpPr/>
          <p:nvPr/>
        </p:nvSpPr>
        <p:spPr>
          <a:xfrm>
            <a:off x="1981080" y="4800600"/>
            <a:ext cx="1371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76"/>
          <p:cNvSpPr/>
          <p:nvPr/>
        </p:nvSpPr>
        <p:spPr>
          <a:xfrm>
            <a:off x="227880" y="327672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 /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77"/>
          <p:cNvSpPr/>
          <p:nvPr/>
        </p:nvSpPr>
        <p:spPr>
          <a:xfrm>
            <a:off x="2145960" y="3276720"/>
            <a:ext cx="219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8"/>
          <p:cNvSpPr/>
          <p:nvPr/>
        </p:nvSpPr>
        <p:spPr>
          <a:xfrm>
            <a:off x="4343400" y="3533760"/>
            <a:ext cx="152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79"/>
          <p:cNvSpPr/>
          <p:nvPr/>
        </p:nvSpPr>
        <p:spPr>
          <a:xfrm>
            <a:off x="4465080" y="3505320"/>
            <a:ext cx="132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4 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80"/>
          <p:cNvSpPr/>
          <p:nvPr/>
        </p:nvSpPr>
        <p:spPr>
          <a:xfrm>
            <a:off x="4650120" y="297180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81"/>
          <p:cNvSpPr/>
          <p:nvPr/>
        </p:nvSpPr>
        <p:spPr>
          <a:xfrm>
            <a:off x="5946840" y="32767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 0,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82"/>
          <p:cNvSpPr/>
          <p:nvPr/>
        </p:nvSpPr>
        <p:spPr>
          <a:xfrm>
            <a:off x="609120" y="9144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0,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83"/>
          <p:cNvSpPr/>
          <p:nvPr/>
        </p:nvSpPr>
        <p:spPr>
          <a:xfrm>
            <a:off x="2134080" y="9144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Х 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84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5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86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87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88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89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90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91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2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3"/>
          <p:cNvSpPr/>
          <p:nvPr/>
        </p:nvSpPr>
        <p:spPr>
          <a:xfrm>
            <a:off x="20592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94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5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m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2,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96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Vm =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22,4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 baseline="30000">
                <a:solidFill>
                  <a:srgbClr val="3333cc"/>
                </a:solidFill>
                <a:uFillTx/>
                <a:latin typeface="Times New Roman"/>
              </a:rPr>
              <a:t>л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/</a:t>
            </a:r>
            <a:r>
              <a:rPr b="0" lang="ru-RU" sz="2400" spc="-1" strike="noStrike" u="sng" baseline="-25000">
                <a:solidFill>
                  <a:srgbClr val="3333cc"/>
                </a:solidFill>
                <a:uFillTx/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97"/>
          <p:cNvSpPr/>
          <p:nvPr/>
        </p:nvSpPr>
        <p:spPr>
          <a:xfrm>
            <a:off x="7042680" y="44956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0,05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98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back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4"/>
          <p:cNvSpPr/>
          <p:nvPr/>
        </p:nvSpPr>
        <p:spPr>
          <a:xfrm>
            <a:off x="228600" y="6095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твет: в реакцию вступит 1,12 л кисло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7239960" y="685800"/>
            <a:ext cx="19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решен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7240320" y="76320"/>
            <a:ext cx="169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46" descr="SY012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1523880"/>
            <a:ext cx="755640" cy="16002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59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7"/>
          <p:cNvSpPr/>
          <p:nvPr/>
        </p:nvSpPr>
        <p:spPr>
          <a:xfrm>
            <a:off x="227160" y="53341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38"/>
          <p:cNvSpPr/>
          <p:nvPr/>
        </p:nvSpPr>
        <p:spPr>
          <a:xfrm>
            <a:off x="2147040" y="5410080"/>
            <a:ext cx="216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V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39"/>
          <p:cNvSpPr/>
          <p:nvPr/>
        </p:nvSpPr>
        <p:spPr>
          <a:xfrm>
            <a:off x="7467480" y="5410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 1,1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40"/>
          <p:cNvSpPr/>
          <p:nvPr/>
        </p:nvSpPr>
        <p:spPr>
          <a:xfrm>
            <a:off x="4455000" y="5410080"/>
            <a:ext cx="16624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41"/>
          <p:cNvSpPr/>
          <p:nvPr/>
        </p:nvSpPr>
        <p:spPr>
          <a:xfrm>
            <a:off x="5946120" y="5410080"/>
            <a:ext cx="16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42"/>
          <p:cNvSpPr/>
          <p:nvPr/>
        </p:nvSpPr>
        <p:spPr>
          <a:xfrm>
            <a:off x="3280680" y="449568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 Х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43"/>
          <p:cNvSpPr/>
          <p:nvPr/>
        </p:nvSpPr>
        <p:spPr>
          <a:xfrm flipV="1">
            <a:off x="4616280" y="4723920"/>
            <a:ext cx="2651400" cy="9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44"/>
          <p:cNvSpPr/>
          <p:nvPr/>
        </p:nvSpPr>
        <p:spPr>
          <a:xfrm>
            <a:off x="4527360" y="426708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0,1 моль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45"/>
          <p:cNvSpPr/>
          <p:nvPr/>
        </p:nvSpPr>
        <p:spPr>
          <a:xfrm>
            <a:off x="5213160" y="472428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46"/>
          <p:cNvSpPr/>
          <p:nvPr/>
        </p:nvSpPr>
        <p:spPr>
          <a:xfrm>
            <a:off x="7042680" y="44956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0,05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47"/>
          <p:cNvSpPr/>
          <p:nvPr/>
        </p:nvSpPr>
        <p:spPr>
          <a:xfrm>
            <a:off x="5899680" y="426708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48"/>
          <p:cNvSpPr/>
          <p:nvPr/>
        </p:nvSpPr>
        <p:spPr>
          <a:xfrm>
            <a:off x="155160" y="426708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0,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9"/>
          <p:cNvSpPr/>
          <p:nvPr/>
        </p:nvSpPr>
        <p:spPr>
          <a:xfrm>
            <a:off x="155520" y="4724280"/>
            <a:ext cx="13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0"/>
          <p:cNvSpPr/>
          <p:nvPr/>
        </p:nvSpPr>
        <p:spPr>
          <a:xfrm>
            <a:off x="1602000" y="44956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51"/>
          <p:cNvSpPr/>
          <p:nvPr/>
        </p:nvSpPr>
        <p:spPr>
          <a:xfrm>
            <a:off x="2061000" y="4267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Х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52"/>
          <p:cNvSpPr/>
          <p:nvPr/>
        </p:nvSpPr>
        <p:spPr>
          <a:xfrm>
            <a:off x="1908360" y="4724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53"/>
          <p:cNvSpPr/>
          <p:nvPr/>
        </p:nvSpPr>
        <p:spPr>
          <a:xfrm>
            <a:off x="228600" y="4800600"/>
            <a:ext cx="1371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54"/>
          <p:cNvSpPr/>
          <p:nvPr/>
        </p:nvSpPr>
        <p:spPr>
          <a:xfrm>
            <a:off x="1981080" y="4800600"/>
            <a:ext cx="1371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55"/>
          <p:cNvSpPr/>
          <p:nvPr/>
        </p:nvSpPr>
        <p:spPr>
          <a:xfrm>
            <a:off x="227880" y="327672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 /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56"/>
          <p:cNvSpPr/>
          <p:nvPr/>
        </p:nvSpPr>
        <p:spPr>
          <a:xfrm>
            <a:off x="2145960" y="3276720"/>
            <a:ext cx="219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57"/>
          <p:cNvSpPr/>
          <p:nvPr/>
        </p:nvSpPr>
        <p:spPr>
          <a:xfrm>
            <a:off x="4343400" y="3533760"/>
            <a:ext cx="152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58"/>
          <p:cNvSpPr/>
          <p:nvPr/>
        </p:nvSpPr>
        <p:spPr>
          <a:xfrm>
            <a:off x="4465080" y="3505320"/>
            <a:ext cx="132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4 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59"/>
          <p:cNvSpPr/>
          <p:nvPr/>
        </p:nvSpPr>
        <p:spPr>
          <a:xfrm>
            <a:off x="4650120" y="297180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60"/>
          <p:cNvSpPr/>
          <p:nvPr/>
        </p:nvSpPr>
        <p:spPr>
          <a:xfrm>
            <a:off x="5946840" y="32767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 0,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61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62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63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64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65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66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67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68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69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70"/>
          <p:cNvSpPr/>
          <p:nvPr/>
        </p:nvSpPr>
        <p:spPr>
          <a:xfrm>
            <a:off x="20592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71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72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m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2,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73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Vm =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22,4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 baseline="30000">
                <a:solidFill>
                  <a:srgbClr val="3333cc"/>
                </a:solidFill>
                <a:uFillTx/>
                <a:latin typeface="Times New Roman"/>
              </a:rPr>
              <a:t>л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/</a:t>
            </a:r>
            <a:r>
              <a:rPr b="0" lang="ru-RU" sz="2400" spc="-1" strike="noStrike" u="sng" baseline="-25000">
                <a:solidFill>
                  <a:srgbClr val="3333cc"/>
                </a:solidFill>
                <a:uFillTx/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74"/>
          <p:cNvSpPr/>
          <p:nvPr/>
        </p:nvSpPr>
        <p:spPr>
          <a:xfrm>
            <a:off x="7042680" y="44956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0,05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75"/>
          <p:cNvSpPr/>
          <p:nvPr/>
        </p:nvSpPr>
        <p:spPr>
          <a:xfrm>
            <a:off x="609120" y="9144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0,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76"/>
          <p:cNvSpPr/>
          <p:nvPr/>
        </p:nvSpPr>
        <p:spPr>
          <a:xfrm>
            <a:off x="2134080" y="9144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Х 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0" y="6238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ить Уравнение Химической Реак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-3600" y="928800"/>
            <a:ext cx="688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уравнении подчеркнуть формул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ществ, массы или объёмы которых указан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веществ, массы или объёмы которых необходимо най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-1440" y="1766880"/>
            <a:ext cx="51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д формулами соответствующих вещест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писать известные по условию дан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-4320" y="2300400"/>
            <a:ext cx="70146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1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 формулами соответствующих веществ записать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Количество вещест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яемое по коэффициентам в уравнении реак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Молярную масс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, рассчитываемую по относитель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ярной массе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Массу вещества (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, равну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M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7360" y="4038480"/>
            <a:ext cx="689220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 формулами соответствующих газов запис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Количество вещест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яемое по коэффициентам в уравнении реак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Молярный объё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для газов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нормальных условиях (н.у.) составляющи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2.4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моль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Объём вещества (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, равн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Vm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0" y="58672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ить и решить пропорцию в граммах или лит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0" y="61722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писать полный отв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3" descr="SY012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5105520"/>
            <a:ext cx="755640" cy="1600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4" descr="C:\Program Files\Common Files\Microsoft Shared\Clipart\cagcat50\BD00028_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53280" y="3886200"/>
            <a:ext cx="862200" cy="84456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6"/>
          <p:cNvSpPr/>
          <p:nvPr/>
        </p:nvSpPr>
        <p:spPr>
          <a:xfrm>
            <a:off x="152280" y="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 задач по химическим уравнения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7" descr="C:\WINDOWS\Application Data\Microsoft\Media Catalog\pcs_popular_142.wmf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391520" y="76320"/>
            <a:ext cx="1676160" cy="5666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8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228600" y="6172200"/>
            <a:ext cx="876312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Составить Уравнение Химической Реа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699840" y="1447920"/>
            <a:ext cx="1389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147400" y="1447920"/>
            <a:ext cx="694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imes New Roman"/>
              </a:rPr>
              <a:t>О</a:t>
            </a:r>
            <a:r>
              <a:rPr b="0" lang="ru-RU" sz="40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оксидом серы (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IV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Какой объем кисло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12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77320" y="1066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3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8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2"/>
          <p:cNvSpPr/>
          <p:nvPr/>
        </p:nvSpPr>
        <p:spPr>
          <a:xfrm>
            <a:off x="228600" y="6172200"/>
            <a:ext cx="876312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Составить Уравнение Химической Реа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712800" y="1447920"/>
            <a:ext cx="2155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3976560" y="1447920"/>
            <a:ext cx="976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304920" y="1447920"/>
            <a:ext cx="374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99"/>
                </a:solidFill>
                <a:latin typeface="Times New Roman"/>
              </a:rPr>
              <a:t>2                       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1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2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3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77320" y="1066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4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7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2"/>
          <p:cNvSpPr/>
          <p:nvPr/>
        </p:nvSpPr>
        <p:spPr>
          <a:xfrm>
            <a:off x="228600" y="5486400"/>
            <a:ext cx="8763120" cy="119124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 уравнении подчеркнуть форму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ществ, массы или объёмы которых указ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еществ, массы или объёмы которых необходимо най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9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228600" y="5486400"/>
            <a:ext cx="8763120" cy="119124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 уравнении подчеркнуть форму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еществ, массы или объёмы которых указ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еществ, массы или объёмы которых необходимо най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228600" y="5486400"/>
            <a:ext cx="8763120" cy="119124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 уравнении подчеркнуть форму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ществ, массы или объёмы которых указ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и веществ, массы или объёмы которых необходимо найти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оксидом серы (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IV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Какой объем кисло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9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21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77320" y="1066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2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9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6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1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228600" y="5791320"/>
            <a:ext cx="8763120" cy="8254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Над формулами соответствующих вещест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известные по условию данн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оксидом серы (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IV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6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Какой объем кисло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21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2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23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77320" y="1066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24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3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2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7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251640" y="4146480"/>
            <a:ext cx="8702640" cy="22885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1 Под формулами соответствующих веществ записать:</a:t>
            </a:r>
            <a:r>
              <a:rPr b="0" lang="en-US" sz="2400" spc="-1" strike="noStrike">
                <a:solidFill>
                  <a:srgbClr val="5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ff0066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ff0066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5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= 2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229320" y="2971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m = 128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457200" y="4572000"/>
            <a:ext cx="78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Количество вещества</a:t>
            </a:r>
            <a:r>
              <a:rPr b="0" lang="en-US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яемое по коэффициентам в уравнении реак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21"/>
          <p:cNvSpPr/>
          <p:nvPr/>
        </p:nvSpPr>
        <p:spPr>
          <a:xfrm>
            <a:off x="458280" y="5334120"/>
            <a:ext cx="837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Молярную массу</a:t>
            </a:r>
            <a:r>
              <a:rPr b="0" lang="en-US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рассчитываемую по относитель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лекулярной массе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35680" y="5867280"/>
            <a:ext cx="675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Массу вещества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равную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0" lang="ru-RU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= M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40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4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25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26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27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77320" y="1066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28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0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2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251280" y="4114800"/>
            <a:ext cx="8699760" cy="22885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2 Под формулами соответствующих газов записать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2"/>
          <p:cNvSpPr/>
          <p:nvPr/>
        </p:nvSpPr>
        <p:spPr>
          <a:xfrm>
            <a:off x="22878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 = 1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3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2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2016000" y="2590920"/>
            <a:ext cx="211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Vm = 22.4 </a:t>
            </a:r>
            <a:r>
              <a:rPr b="0" lang="ru-RU" sz="2400" spc="-1" strike="noStrike" baseline="30000">
                <a:solidFill>
                  <a:srgbClr val="ff99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ff9900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229320" y="2971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 = 128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221148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V = 22.4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533520" y="4572000"/>
            <a:ext cx="772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Количество вещества</a:t>
            </a:r>
            <a:r>
              <a:rPr b="0" lang="en-US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яемое по коэффициентам в уравнении реак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572760" y="5334120"/>
            <a:ext cx="8014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Молярный объём</a:t>
            </a:r>
            <a:r>
              <a:rPr b="0" lang="en-US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Vm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газов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нормальных условиях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н.у.)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ляющий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22.4 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моль</a:t>
            </a:r>
            <a:r>
              <a:rPr b="0" lang="en-US" sz="2400" spc="-1" strike="noStrike" baseline="-25000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538920" y="5943600"/>
            <a:ext cx="70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Объём вещества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V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равный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V</a:t>
            </a:r>
            <a:r>
              <a:rPr b="0" lang="ru-RU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= Vm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40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22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23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24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77320" y="1066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25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0" y="457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ить уравнение химической реак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-3600" y="762120"/>
            <a:ext cx="688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уравнении подчеркнуть формул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ществ, массы или объёмы которых указан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веществ, массы или объёмы которых необходимо най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-1440" y="1600200"/>
            <a:ext cx="51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д формулами соответствующих вещест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писать известные по условию дан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-4320" y="2195640"/>
            <a:ext cx="70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1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 формулами соответствующих веществ записать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Количество вещест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яемое по коэффициентам в уравнении реак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Молярную масс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, рассчитываемую по относитель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ярной масс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7000" y="3567240"/>
            <a:ext cx="687384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 формулами соответствующих газов запис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Количество вещест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яемое по коэффициентам в уравнении реак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Молярный объё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для газов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нормальных условиях (н.у.) составляющи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2.4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моль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0" y="55483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ить пропорцию в молях  и  решить её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0" y="649116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писать полный отв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52280" y="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 задач по химическим уравнения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0" y="493884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Найти  количество веществ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для веществ, участвующих в реакци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= m / M ; n = V / Vm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0" y="586728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о найденному количеству веществ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найти массу или объём дл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комых в задаче веществ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= 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 ; V = V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3" descr="SY012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5105520"/>
            <a:ext cx="75564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C:\Program Files\Common Files\Microsoft Shared\Clipart\cagcat50\BD00028_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53280" y="3886200"/>
            <a:ext cx="862200" cy="84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C:\WINDOWS\Application Data\Microsoft\Media Catalog\pcs_popular_142.wmf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391520" y="76320"/>
            <a:ext cx="1676160" cy="566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77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3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22878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= 1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2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2016000" y="2590920"/>
            <a:ext cx="211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m = 22.4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6"/>
          <p:cNvSpPr/>
          <p:nvPr/>
        </p:nvSpPr>
        <p:spPr>
          <a:xfrm>
            <a:off x="229320" y="2971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 = 128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221148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 = 22.4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228600" y="6172200"/>
            <a:ext cx="876312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Составить и решить пропорц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685800" y="3581280"/>
            <a:ext cx="9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6,4 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23"/>
          <p:cNvSpPr/>
          <p:nvPr/>
        </p:nvSpPr>
        <p:spPr>
          <a:xfrm>
            <a:off x="533160" y="411480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128 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4"/>
          <p:cNvSpPr/>
          <p:nvPr/>
        </p:nvSpPr>
        <p:spPr>
          <a:xfrm>
            <a:off x="1601280" y="38098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5"/>
          <p:cNvSpPr/>
          <p:nvPr/>
        </p:nvSpPr>
        <p:spPr>
          <a:xfrm>
            <a:off x="2211120" y="358128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Х 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26"/>
          <p:cNvSpPr/>
          <p:nvPr/>
        </p:nvSpPr>
        <p:spPr>
          <a:xfrm>
            <a:off x="2133720" y="4137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7"/>
          <p:cNvSpPr/>
          <p:nvPr/>
        </p:nvSpPr>
        <p:spPr>
          <a:xfrm>
            <a:off x="1981080" y="411480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22,4 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28"/>
          <p:cNvSpPr/>
          <p:nvPr/>
        </p:nvSpPr>
        <p:spPr>
          <a:xfrm>
            <a:off x="609480" y="4137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64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65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66"/>
          <p:cNvSpPr/>
          <p:nvPr/>
        </p:nvSpPr>
        <p:spPr>
          <a:xfrm>
            <a:off x="229320" y="2971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m = 128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67"/>
          <p:cNvSpPr/>
          <p:nvPr/>
        </p:nvSpPr>
        <p:spPr>
          <a:xfrm>
            <a:off x="221148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V = 22.4</a:t>
            </a: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78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9"/>
          <p:cNvSpPr/>
          <p:nvPr/>
        </p:nvSpPr>
        <p:spPr>
          <a:xfrm>
            <a:off x="3275280" y="3809880"/>
            <a:ext cx="16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.е.  </a:t>
            </a: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80"/>
          <p:cNvSpPr/>
          <p:nvPr/>
        </p:nvSpPr>
        <p:spPr>
          <a:xfrm>
            <a:off x="4892760" y="409572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81"/>
          <p:cNvSpPr/>
          <p:nvPr/>
        </p:nvSpPr>
        <p:spPr>
          <a:xfrm>
            <a:off x="4800240" y="3505320"/>
            <a:ext cx="13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6,4 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82"/>
          <p:cNvSpPr/>
          <p:nvPr/>
        </p:nvSpPr>
        <p:spPr>
          <a:xfrm>
            <a:off x="5501880" y="409572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128 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3"/>
          <p:cNvSpPr/>
          <p:nvPr/>
        </p:nvSpPr>
        <p:spPr>
          <a:xfrm>
            <a:off x="7103160" y="3790800"/>
            <a:ext cx="5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84"/>
          <p:cNvSpPr/>
          <p:nvPr/>
        </p:nvSpPr>
        <p:spPr>
          <a:xfrm>
            <a:off x="7407360" y="379080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1,12 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85"/>
          <p:cNvSpPr/>
          <p:nvPr/>
        </p:nvSpPr>
        <p:spPr>
          <a:xfrm>
            <a:off x="6019920" y="350532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22,4 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86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87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88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77320" y="1066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89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3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7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22878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= 1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2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2016000" y="2590920"/>
            <a:ext cx="211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m = 22.4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229320" y="2971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 = 128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221148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 = 22.4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228600" y="6172200"/>
            <a:ext cx="777240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Записать полный отв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85800" y="3581280"/>
            <a:ext cx="9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533160" y="411480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128 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9"/>
          <p:cNvSpPr/>
          <p:nvPr/>
        </p:nvSpPr>
        <p:spPr>
          <a:xfrm>
            <a:off x="1601280" y="38098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2211120" y="358128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2133720" y="41371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2"/>
          <p:cNvSpPr/>
          <p:nvPr/>
        </p:nvSpPr>
        <p:spPr>
          <a:xfrm>
            <a:off x="1981080" y="411480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22,4 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23"/>
          <p:cNvSpPr/>
          <p:nvPr/>
        </p:nvSpPr>
        <p:spPr>
          <a:xfrm>
            <a:off x="609480" y="41371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232200" y="495288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твет: в реакцию вступит 1,12 л кисло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4"/>
          <p:cNvSpPr/>
          <p:nvPr/>
        </p:nvSpPr>
        <p:spPr>
          <a:xfrm>
            <a:off x="7088040" y="228600"/>
            <a:ext cx="169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5"/>
          <p:cNvSpPr/>
          <p:nvPr/>
        </p:nvSpPr>
        <p:spPr>
          <a:xfrm>
            <a:off x="3275640" y="380988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.е.  Х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36"/>
          <p:cNvSpPr/>
          <p:nvPr/>
        </p:nvSpPr>
        <p:spPr>
          <a:xfrm>
            <a:off x="4892760" y="4095720"/>
            <a:ext cx="2209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7"/>
          <p:cNvSpPr/>
          <p:nvPr/>
        </p:nvSpPr>
        <p:spPr>
          <a:xfrm>
            <a:off x="4799880" y="350532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6,4 г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8"/>
          <p:cNvSpPr/>
          <p:nvPr/>
        </p:nvSpPr>
        <p:spPr>
          <a:xfrm>
            <a:off x="5501880" y="409572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128 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9"/>
          <p:cNvSpPr/>
          <p:nvPr/>
        </p:nvSpPr>
        <p:spPr>
          <a:xfrm>
            <a:off x="7103160" y="3790800"/>
            <a:ext cx="5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0"/>
          <p:cNvSpPr/>
          <p:nvPr/>
        </p:nvSpPr>
        <p:spPr>
          <a:xfrm>
            <a:off x="7407360" y="379080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1,12 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1"/>
          <p:cNvSpPr/>
          <p:nvPr/>
        </p:nvSpPr>
        <p:spPr>
          <a:xfrm>
            <a:off x="6019920" y="350532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22,4 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2"/>
          <p:cNvSpPr/>
          <p:nvPr/>
        </p:nvSpPr>
        <p:spPr>
          <a:xfrm>
            <a:off x="7089120" y="762120"/>
            <a:ext cx="19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решен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43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44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5" descr="SY01265_"/>
          <p:cNvPicPr/>
          <p:nvPr/>
        </p:nvPicPr>
        <p:blipFill>
          <a:blip r:embed="rId2"/>
          <a:stretch/>
        </p:blipFill>
        <p:spPr>
          <a:xfrm>
            <a:off x="8229600" y="5105520"/>
            <a:ext cx="755640" cy="16002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6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-297000" y="685800"/>
            <a:ext cx="877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ой объём соляной кислоты образу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взаимодействии с хлором 2-х литров водорода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52280" y="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по химическим уравнения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55520" y="1523880"/>
            <a:ext cx="81374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Чему равен объём углекислого газа (н.у.), получ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сжигании 10 л метана по уравнению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152280" y="37339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66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айдите объём водорода (н.у.), выделившийся при взаимодействии с серной кислотой 270 граммов алюминия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159120" y="2819520"/>
            <a:ext cx="84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Какой объём кислорода (н.у.) нужен для взаимодейств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700 г железа, содержащего 20 % примесей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155520" y="4572000"/>
            <a:ext cx="781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5. Какой объём водорода (н.у.) потребуется д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заимодействия с оксидом железа (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II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) массой 1400 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содержащего 20% примесей ? Сколь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молей воды при этом образуется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9" descr="SY01265_"/>
          <p:cNvPicPr/>
          <p:nvPr/>
        </p:nvPicPr>
        <p:blipFill>
          <a:blip r:embed="rId2"/>
          <a:stretch/>
        </p:blipFill>
        <p:spPr>
          <a:xfrm>
            <a:off x="8229600" y="5105520"/>
            <a:ext cx="755640" cy="16002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pcs_popular_129"/>
          <p:cNvPicPr/>
          <p:nvPr/>
        </p:nvPicPr>
        <p:blipFill>
          <a:blip r:embed="rId3"/>
          <a:stretch/>
        </p:blipFill>
        <p:spPr>
          <a:xfrm>
            <a:off x="6629400" y="5715000"/>
            <a:ext cx="1219320" cy="973080"/>
          </a:xfrm>
          <a:prstGeom prst="rect">
            <a:avLst/>
          </a:prstGeom>
          <a:ln w="0">
            <a:noFill/>
          </a:ln>
        </p:spPr>
      </p:pic>
      <p:sp>
        <p:nvSpPr>
          <p:cNvPr id="526" name="Line 11"/>
          <p:cNvSpPr/>
          <p:nvPr/>
        </p:nvSpPr>
        <p:spPr>
          <a:xfrm>
            <a:off x="2590920" y="2590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28600" y="6172200"/>
            <a:ext cx="876312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Составить Уравнение Химической Реа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99840" y="1447920"/>
            <a:ext cx="1389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147400" y="1447920"/>
            <a:ext cx="694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imes New Roman"/>
              </a:rPr>
              <a:t>О</a:t>
            </a:r>
            <a:r>
              <a:rPr b="0" lang="ru-RU" sz="40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оксидом серы (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IV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Какой объем кисло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28600" y="6172200"/>
            <a:ext cx="876312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Составить Уравнение Химической Реа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712800" y="1447920"/>
            <a:ext cx="2155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76560" y="1447920"/>
            <a:ext cx="976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04920" y="1447920"/>
            <a:ext cx="374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99"/>
                </a:solidFill>
                <a:latin typeface="Times New Roman"/>
              </a:rPr>
              <a:t>2                       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9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228600" y="5486400"/>
            <a:ext cx="8763120" cy="119124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 уравнении подчеркнуть форму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ществ, массы или объёмы которых указ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еществ, массы или объёмы которых необходимо най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7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28600" y="5486400"/>
            <a:ext cx="8763120" cy="119124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 уравнении подчеркнуть форму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еществ, массы или объёмы которых указ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еществ, массы или объёмы которых необходимо най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28600" y="5486400"/>
            <a:ext cx="8763120" cy="119124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 уравнении подчеркнуть форму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ществ, массы или объёмы которых указ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и веществ, массы или объёмы которых необходимо найти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оксидом серы (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IV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Какой объем кисло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6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28600" y="5791320"/>
            <a:ext cx="8763120" cy="8254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Над формулами соответствующих вещест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известные по условию данн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оксидом серы (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IV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Какой объем кисло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6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back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228600" y="3733920"/>
            <a:ext cx="8763120" cy="26542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Под формулами соответствующих веществ записать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ff0066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ff0066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592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 =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=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Vm =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22,4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ff99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ff9900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33520" y="4191120"/>
            <a:ext cx="772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Количество вещества</a:t>
            </a:r>
            <a:r>
              <a:rPr b="0" lang="en-US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яемое по коэффициентам в уравнении реак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34600" y="4952880"/>
            <a:ext cx="82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Молярную массу</a:t>
            </a:r>
            <a:r>
              <a:rPr b="0" lang="en-US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рассчитываемую по относитель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лекулярной массе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7240680" y="7632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4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572760" y="5715000"/>
            <a:ext cx="8014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Молярный объём</a:t>
            </a:r>
            <a:r>
              <a:rPr b="0" lang="en-US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Vm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газов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нормальных условиях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н.у.)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ляющий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22.4 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моль</a:t>
            </a:r>
            <a:r>
              <a:rPr b="0" lang="en-US" sz="2400" spc="-1" strike="noStrike" baseline="-25000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1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back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Рассчитать количество вещества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ксида серы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 / 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240680" y="7632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7880" y="327672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m /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145960" y="3276720"/>
            <a:ext cx="219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.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4343400" y="35337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465080" y="3505320"/>
            <a:ext cx="132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64 </a:t>
            </a:r>
            <a:r>
              <a:rPr b="0" lang="ru-RU" sz="2800" spc="-1" strike="noStrike" baseline="30000">
                <a:solidFill>
                  <a:srgbClr val="ff0066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0" lang="ru-RU" sz="2800" spc="-1" strike="noStrike" baseline="-25000">
                <a:solidFill>
                  <a:srgbClr val="ff0066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650120" y="297180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6,4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946840" y="32767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0,1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609120" y="9144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0,1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8"/>
          <p:cNvSpPr/>
          <p:nvPr/>
        </p:nvSpPr>
        <p:spPr>
          <a:xfrm>
            <a:off x="2134080" y="9144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Х 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9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0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1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2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45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6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7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8"/>
          <p:cNvSpPr/>
          <p:nvPr/>
        </p:nvSpPr>
        <p:spPr>
          <a:xfrm>
            <a:off x="20592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9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m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2,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2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3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М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 =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64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 baseline="30000">
                <a:solidFill>
                  <a:srgbClr val="ff0066"/>
                </a:solidFill>
                <a:uFillTx/>
                <a:latin typeface="Times New Roman"/>
              </a:rPr>
              <a:t>г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/</a:t>
            </a:r>
            <a:r>
              <a:rPr b="0" lang="ru-RU" sz="2400" spc="-1" strike="noStrike" u="sng" baseline="-25000">
                <a:solidFill>
                  <a:srgbClr val="ff0066"/>
                </a:solidFill>
                <a:uFillTx/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4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back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28600" y="6172200"/>
            <a:ext cx="876312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Составить пропорцию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моля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решить её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7240680" y="7632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280680" y="449568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.е.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 flipV="1">
            <a:off x="4616280" y="4723920"/>
            <a:ext cx="26514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527360" y="426708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0,1 мо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213160" y="472428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2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7042680" y="44956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0,05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5899680" y="426708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155160" y="426708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0,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55520" y="4724280"/>
            <a:ext cx="13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2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1602000" y="44956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2061000" y="4267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Х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1908360" y="4724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9"/>
          <p:cNvSpPr/>
          <p:nvPr/>
        </p:nvSpPr>
        <p:spPr>
          <a:xfrm>
            <a:off x="228600" y="48006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1981080" y="48006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6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7"/>
          <p:cNvSpPr/>
          <p:nvPr/>
        </p:nvSpPr>
        <p:spPr>
          <a:xfrm>
            <a:off x="227880" y="327672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 /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8"/>
          <p:cNvSpPr/>
          <p:nvPr/>
        </p:nvSpPr>
        <p:spPr>
          <a:xfrm>
            <a:off x="2145960" y="3276720"/>
            <a:ext cx="219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9"/>
          <p:cNvSpPr/>
          <p:nvPr/>
        </p:nvSpPr>
        <p:spPr>
          <a:xfrm>
            <a:off x="4343400" y="3533760"/>
            <a:ext cx="152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0"/>
          <p:cNvSpPr/>
          <p:nvPr/>
        </p:nvSpPr>
        <p:spPr>
          <a:xfrm>
            <a:off x="4465080" y="3505320"/>
            <a:ext cx="132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4 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1"/>
          <p:cNvSpPr/>
          <p:nvPr/>
        </p:nvSpPr>
        <p:spPr>
          <a:xfrm>
            <a:off x="4650120" y="297180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2"/>
          <p:cNvSpPr/>
          <p:nvPr/>
        </p:nvSpPr>
        <p:spPr>
          <a:xfrm>
            <a:off x="5946840" y="32767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 0,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3"/>
          <p:cNvSpPr/>
          <p:nvPr/>
        </p:nvSpPr>
        <p:spPr>
          <a:xfrm>
            <a:off x="609120" y="9144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0,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4"/>
          <p:cNvSpPr/>
          <p:nvPr/>
        </p:nvSpPr>
        <p:spPr>
          <a:xfrm>
            <a:off x="2134080" y="9144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Х 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5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6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67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8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9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0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71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72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3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4"/>
          <p:cNvSpPr/>
          <p:nvPr/>
        </p:nvSpPr>
        <p:spPr>
          <a:xfrm>
            <a:off x="20592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5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76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m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2,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9"/>
          <p:cNvSpPr/>
          <p:nvPr/>
        </p:nvSpPr>
        <p:spPr>
          <a:xfrm>
            <a:off x="609120" y="9144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Times New Roman"/>
              </a:rPr>
              <a:t>0,1</a:t>
            </a:r>
            <a:r>
              <a:rPr b="0" lang="en-US" sz="2000" spc="-1" strike="noStrike" u="sng">
                <a:solidFill>
                  <a:srgbClr val="ff0066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0066"/>
                </a:solidFill>
                <a:uFillTx/>
                <a:latin typeface="Times New Roman"/>
              </a:rPr>
              <a:t>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0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n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=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2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1"/>
          <p:cNvSpPr/>
          <p:nvPr/>
        </p:nvSpPr>
        <p:spPr>
          <a:xfrm>
            <a:off x="2134080" y="9144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Times New Roman"/>
              </a:rPr>
              <a:t>Х 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2"/>
          <p:cNvSpPr/>
          <p:nvPr/>
        </p:nvSpPr>
        <p:spPr>
          <a:xfrm>
            <a:off x="20592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n = </a:t>
            </a: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1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83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8T10:21:13Z</dcterms:created>
  <dc:creator>Дмитрий Девятников</dc:creator>
  <dc:description/>
  <dc:language>en-US</dc:language>
  <cp:lastModifiedBy>мишаня</cp:lastModifiedBy>
  <dcterms:modified xsi:type="dcterms:W3CDTF">2013-01-17T20:20:57Z</dcterms:modified>
  <cp:revision>72</cp:revision>
  <dc:subject/>
  <dc:title>Презентация PowerPoint</dc:title>
</cp:coreProperties>
</file>