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14.jpeg" ContentType="image/jpe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804F-9952-4B2B-B53B-94FE178B5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D363-BA47-4704-94A5-8DA9C774E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2D99-C45C-450A-B067-EEC96D702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08A9-AFC5-4FDD-BC43-46E986CDD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282F6-1F2C-488E-B68A-D453E0BE0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E66E5-6BF1-4AC0-829B-90E428863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34003-F46D-4676-B72B-69001EB18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0D3EB-81E1-41D3-9913-DF3C8001E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A4F1B-6479-44DA-B3FD-6CE91EA8F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FC1B2-1C4A-40E7-8092-226BB99DD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513F9-8155-4265-8DBB-4E9FB4ECF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1E60-BD71-4D85-866F-2D3EDF3AA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BC404-6FA3-4E59-A975-A93F472E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BE490-4414-4A99-BA95-EE8821414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B9D04-DAA3-431A-9E55-3E2812551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CD53D-C24E-427F-A5E5-ED212AFD6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70A9C-1BF0-46DC-87FF-2D0783AA6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BBB86-5F9A-4772-8253-03079935F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403DF-A850-497F-B6B2-5CF9621DF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4AE9E-E05E-4B4F-935A-D712B784E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A15C9-6D61-4206-9406-CC91F6B20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50AE7-BFC7-40FF-8B87-12B6350F5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B3F7-997F-4785-8E71-F370700F0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CB23F-18AB-4BD7-ACA2-7217AAEDC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F8802-C805-4949-98F1-7110955B6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59EFA-CD2D-4FC6-8E77-E999F5690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68CA6-F0B7-41BC-9BF5-D44D1F350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CCCD6-7421-46C0-8ACA-024A28F91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9D7C6-AF7D-4328-A7B2-E9A54427B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9C868-913A-40D9-A52B-011B3A569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01D7-37B6-48FB-B5DC-EE92894F6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148E-17E5-47F3-B2B1-7A9245A7E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BA8B-C99D-4BF1-A67D-711F86663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4894-8804-40CD-9A5A-1614FEE6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CE7E-508C-4E59-AA1E-3A01FA7B2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0385-C46E-4D76-98BD-FE24B612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F8857-2BDA-4083-94AC-EA8E0CF724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42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3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6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9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52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56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57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60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63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66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69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72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75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78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17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1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25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28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31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34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37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40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43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52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4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6E9A6-7020-4532-A40C-C069EF6A8031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218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19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222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23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27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28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3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34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6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37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2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43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5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46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4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85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7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88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0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92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93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5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96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99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02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05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08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0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11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3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14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6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17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9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320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2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23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25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326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327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4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5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336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E3010-DD5B-4D57-8231-D9958B48C132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-181440" y="3500280"/>
            <a:ext cx="65818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Выполнили: Талайло Д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Юсупова Э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1908000" y="333360"/>
            <a:ext cx="4962600" cy="199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сновные этапы</a:t>
            </a:r>
            <a:endParaRPr b="0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эволюции человека</a:t>
            </a:r>
            <a:endParaRPr b="0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>
            <a:off x="1187280" y="2637000"/>
            <a:ext cx="7129800" cy="2016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" descr=""/>
          <p:cNvPicPr/>
          <p:nvPr/>
        </p:nvPicPr>
        <p:blipFill>
          <a:blip r:embed="rId2"/>
          <a:stretch/>
        </p:blipFill>
        <p:spPr>
          <a:xfrm>
            <a:off x="5219640" y="476280"/>
            <a:ext cx="952560" cy="83808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324000" y="690480"/>
            <a:ext cx="47512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На смену рамапитеку пришли другие гоминиды, из них лучше всего изучены австралопитеки. Многочисленные их остатки найдены на территории Южной и Восточной Африки. Возраст остатков австралопитеков колеблется от 5,5 до 1 млн лет. Австралопитеки были значительно больше похожи на человека, чем их предшественники. Это были небольшие, прямоходящие существа (рост 120—130см, масса 25—45 кг), с плоским лицом и объемом мозга, равным в среднем 530 см3 (что несколько больше, чем у современных человеко - образны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580000" y="1844640"/>
            <a:ext cx="32400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обезьян). Однако считать австралопитека предком человека нельзя, поскольку никаких, даже примитивных, орудий, которыми он пользовался, не найдено (ведь известно, что изготовление и использование орудий труда — один из основных признаков человека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1692360" y="476280"/>
            <a:ext cx="2104920" cy="6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Австралопитек.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" descr=""/>
          <p:cNvPicPr/>
          <p:nvPr/>
        </p:nvPicPr>
        <p:blipFill>
          <a:blip r:embed="rId2"/>
          <a:stretch/>
        </p:blipFill>
        <p:spPr>
          <a:xfrm>
            <a:off x="4427640" y="260280"/>
            <a:ext cx="904680" cy="84780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/>
          <p:nvPr/>
        </p:nvSpPr>
        <p:spPr>
          <a:xfrm>
            <a:off x="4211640" y="862560"/>
            <a:ext cx="46083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В этот же исторический период существовало животное, внешне очень входное с австралопитеком. Объем его головного мозга был значительно больше — до 650— 1100см3. Стопа, как и у современного человека, имела свод, т. е. он свободно ходил на двух ногах. Кисти этого гоминида были более совершенны, большой палец был противопоставлен указательному. Значит, он мог держать в руках каменные орудия и использовать их в работе. Действительно, ученым удалось обнаружить несколько примитивных инструментов из камня на месте их стоянок. Ученые дали этому гоминиду название Человек умелый. Полагают, что именно он является первым представителем самых древних людей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3"/>
          <a:stretch/>
        </p:blipFill>
        <p:spPr>
          <a:xfrm>
            <a:off x="755640" y="1052640"/>
            <a:ext cx="3029040" cy="504036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 txBox="1"/>
          <p:nvPr/>
        </p:nvSpPr>
        <p:spPr>
          <a:xfrm>
            <a:off x="5580000" y="333360"/>
            <a:ext cx="221004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Человек умелый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" descr=""/>
          <p:cNvPicPr/>
          <p:nvPr/>
        </p:nvPicPr>
        <p:blipFill>
          <a:blip r:embed="rId2"/>
          <a:stretch/>
        </p:blipFill>
        <p:spPr>
          <a:xfrm>
            <a:off x="4140360" y="0"/>
            <a:ext cx="904680" cy="81900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4211640" y="543600"/>
            <a:ext cx="46083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Остатки древнейших людей найдены в Азии, Европе, Африке.. Они жили от 1 млн до 300 тыс. лет тому назад. Это было существо среднего роста (160 см) с объемом головного мозга до 1100 см3. Тело человека прямоходящего мало чем отличалось от тела современного человека. Древнейшие люди вели активный образ жизни: охотились, изготавливали примитивные орудия, помогающие им резать растения, мясо. Жили они группами — так легче было защищаться от врагов, находить пищу, охотиться, строить жилища. древнейшие люди могли пользоваться и огнем.</a:t>
            </a:r>
            <a:br>
              <a:rPr sz="1800"/>
            </a:b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Основными эволюционными приобретениями человека прямоходящего были изготовление каменных орудий, появление абстрактного мышления и речи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3"/>
          <a:stretch/>
        </p:blipFill>
        <p:spPr>
          <a:xfrm>
            <a:off x="684360" y="1268280"/>
            <a:ext cx="3240000" cy="496908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 txBox="1"/>
          <p:nvPr/>
        </p:nvSpPr>
        <p:spPr>
          <a:xfrm>
            <a:off x="5148360" y="189000"/>
            <a:ext cx="3247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Человек прямоходящий.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800280" cy="85716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4356000" y="838800"/>
            <a:ext cx="46087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Стадия древних людей пред-ставлена большим числом находок (свыше 100) в Европе, Азии, Африке. Жили древние люди 300—400 тыс. лет тому назад. Все они относились к одному виду — Человек неандертальский, названному так в честь долины Неандерталь (Германия). Череп неандертальца был более куполообразным и вмещал мозг объемом до 1600 см3. Несмотря на это, во внешнем облике неандертальца было еще много примитивных черт.. Рост неандертальцев достигал 1м 70 см; они имели крепкое телосложение, обладали развитой мускулатурой, недюжинной физической силой. Неандертальцам выпало жить на Земле в суровое время — в ледниковый период. Спасаясь от холода, они научились добывать и поддерживать огонь, шить из шкур примитивную одежд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3"/>
          <a:stretch/>
        </p:blipFill>
        <p:spPr>
          <a:xfrm>
            <a:off x="684360" y="1052640"/>
            <a:ext cx="3166920" cy="475272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 txBox="1"/>
          <p:nvPr/>
        </p:nvSpPr>
        <p:spPr>
          <a:xfrm>
            <a:off x="5796000" y="333360"/>
            <a:ext cx="1876320" cy="48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Неандерталец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" descr=""/>
          <p:cNvPicPr/>
          <p:nvPr/>
        </p:nvPicPr>
        <p:blipFill>
          <a:blip r:embed="rId2"/>
          <a:stretch/>
        </p:blipFill>
        <p:spPr>
          <a:xfrm>
            <a:off x="4788000" y="333360"/>
            <a:ext cx="904680" cy="91440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4643280" y="909360"/>
            <a:ext cx="3961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Ископаемых людей современного типа называют кроманьонцами (в честь местности Кро-Маньон, Франция). Это были высокие, рослые люди (до 180см), объем их мозга достигал 1800см3. Кроманьонцы обла-дали всеми признаками современного человека: высокий свод черепа, развитый подбородочный выступ. За последние 40 тыс. лет внешний облик человека почти не изменился. Всех ископаемых людей современного типа относят к одному виду - Человек разум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3"/>
          <a:stretch/>
        </p:blipFill>
        <p:spPr>
          <a:xfrm>
            <a:off x="900000" y="1052640"/>
            <a:ext cx="2880000" cy="496872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 txBox="1"/>
          <p:nvPr/>
        </p:nvSpPr>
        <p:spPr>
          <a:xfrm>
            <a:off x="5940360" y="620640"/>
            <a:ext cx="18954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Кроманьонец.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1795320" y="1309680"/>
            <a:ext cx="5553360" cy="42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1476360" y="1773360"/>
            <a:ext cx="6429240" cy="414324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 txBox="1"/>
          <p:nvPr/>
        </p:nvSpPr>
        <p:spPr>
          <a:xfrm>
            <a:off x="1547640" y="0"/>
            <a:ext cx="6048720" cy="14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Эволюционное древо гоминид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3"/>
          <a:stretch/>
        </p:blipFill>
        <p:spPr>
          <a:xfrm>
            <a:off x="1908000" y="1557360"/>
            <a:ext cx="5472360" cy="453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16000" y="1197000"/>
            <a:ext cx="403884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45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Схематическое изображение дифференциально окрашеных хромосом человека и шимпанзе (расположены попарно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45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в каждой паре слева - хромосома человека, справа - гомологичная ей хромосома шимпанз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45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Обратите внимание на пару2: видно, что человеческая хромосома - продукт слияния двух обезьяньих и поперечная исчерченность всех хромосом у обоих видов очень близка. Такие ничтожные различия в структуре кариотипа обычно характеризуют чрезвычайно близкие виды-двойн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971640" y="1197000"/>
            <a:ext cx="3438360" cy="47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42480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Можно оценить генетическую близость человека и, например, шимпанзе количественно. Для этого нужно определить так называемое генетическое сходство и генетическое расстояние (дистан­цию) .</a:t>
            </a:r>
            <a:br>
              <a:rPr sz="2000"/>
            </a:b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Допустим, имеются две генетические группировки (популяции, близкие виды) А и В. В обеих имеется ген, представленный несколькими аллелями,— соответственно частоты аллелей у А и В обозначим как а1, а2, а3... и b1, b2, Ь3... Тогда генетическое сходств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5580000" y="1557360"/>
            <a:ext cx="2057400" cy="129528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 flipV="1" rot="10800000">
            <a:off x="4819320" y="3139920"/>
            <a:ext cx="385596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Обычно считают по нескольким (чем больше, тем лучше) генам и получают среднее значение. Натуральный логарифм J , взятый с обратным знаком, дает нам генетическое расстояние (дистанцию) D:</a:t>
            </a:r>
            <a:br>
              <a:rPr sz="2000"/>
            </a:b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Как видно из этого рисунка люди делятся 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Пралюдей (австролопитеки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Древнейших людей (питекантроп, синантроп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Древних людей (неандертальцы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Люди современного типа (homo sapien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403236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-181080" y="4594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2"/>
          <a:stretch/>
        </p:blipFill>
        <p:spPr>
          <a:xfrm>
            <a:off x="0" y="1197000"/>
            <a:ext cx="8964720" cy="331164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8109360" y="4508640"/>
            <a:ext cx="103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99"/>
                </a:solidFill>
                <a:latin typeface="Arial"/>
              </a:rPr>
              <a:t>Кроманьонец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805440" y="4508640"/>
            <a:ext cx="107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99"/>
                </a:solidFill>
                <a:latin typeface="Arial"/>
              </a:rPr>
              <a:t>Неандерталец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867280" y="4365720"/>
            <a:ext cx="936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3399"/>
                </a:solidFill>
                <a:latin typeface="Arial"/>
              </a:rPr>
              <a:t>прямоходящий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0" y="4508640"/>
            <a:ext cx="122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3399"/>
                </a:solidFill>
                <a:latin typeface="Arial"/>
              </a:rPr>
              <a:t>АфараАвстролопитек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187280" y="4507920"/>
            <a:ext cx="115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3399"/>
                </a:solidFill>
                <a:latin typeface="Arial"/>
              </a:rPr>
              <a:t>Австролопитек африканский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268360" y="4507920"/>
            <a:ext cx="122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3399"/>
                </a:solidFill>
                <a:latin typeface="Arial"/>
              </a:rPr>
              <a:t>Австролопитек могучий</a:t>
            </a:r>
            <a:r>
              <a:rPr b="0" lang="ru-RU" sz="1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348000" y="4507920"/>
            <a:ext cx="115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3399"/>
                </a:solidFill>
                <a:latin typeface="Arial"/>
              </a:rPr>
              <a:t>Автролопитек Бойса</a:t>
            </a:r>
            <a:r>
              <a:rPr b="0" lang="ru-RU" sz="1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502160" y="4580640"/>
            <a:ext cx="127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99"/>
                </a:solidFill>
                <a:latin typeface="Arial"/>
              </a:rPr>
              <a:t>Человек умелый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1908000" y="-171360"/>
            <a:ext cx="4934160" cy="139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Этапы развития челове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4643280" y="0"/>
            <a:ext cx="905040" cy="74304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4067280" y="480240"/>
            <a:ext cx="46814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Ряд ученых полагают, что только 14 млн лет назад на нашей планете появилась обезьяна, которую можно отнести к семейству гоминид. Это рамапитек. Обитал он на территории современных Индии, Восточ-ной Европы, России. В отличие от первых человекообразных обезьян, задние зубы рамапитека были более широкими и плоскими, а между задними и передними зубами появились клыки. Питались рамапитеки растительной пищей: семенами злаков, кореньями, листьями и стеблями растений. Их необходимо было искать, срывать или выкапывать, подносить ко рту, совершая при этом множество движений передними конечностями, постоянно наклоняясь, разгибая и выпрямляя спину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3"/>
          <a:stretch/>
        </p:blipFill>
        <p:spPr>
          <a:xfrm>
            <a:off x="539640" y="765000"/>
            <a:ext cx="3311640" cy="532800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5940360" y="333360"/>
            <a:ext cx="1524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Рамапитек.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9T13:59:39Z</dcterms:created>
  <dc:creator>Maestro</dc:creator>
  <dc:description/>
  <dc:language>en-US</dc:language>
  <cp:lastModifiedBy>Maestro</cp:lastModifiedBy>
  <dcterms:modified xsi:type="dcterms:W3CDTF">2007-02-19T16:17:50Z</dcterms:modified>
  <cp:revision>2</cp:revision>
  <dc:subject/>
  <dc:title>Слайд 1</dc:title>
</cp:coreProperties>
</file>