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A8F-F6C2-4C2F-8898-21349B98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450-AF78-41C2-A19F-BF0F2424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67C-D7CA-4AE1-B46C-FF38FBB0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F2-6134-4A7A-85C5-70C48D70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A1EB-9E06-4A6D-8FBC-C8E9B3A7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7382-6563-46AE-8FFC-B4CC72A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E892-F1BC-40B0-B1FA-6EC3C20E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11CF-9B53-413A-8D65-6191A5B6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594A-D22A-4C5B-AB05-3231B3B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59BE-B764-4AF9-8FA1-156F88E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44DF-5419-47EF-996C-EB53260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8F7-8F2D-4CBE-B152-E67B6D38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F770-B307-42E7-9D86-395AAF7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2BB-B47A-483A-91BA-5C4044C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011-D016-45F6-AA4E-82D1BB7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2A9F-36EB-42E6-8454-EC1F42D8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888-2992-4396-93F1-EE88A72C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5A19-5328-4989-8097-6C77A6F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6E31-C290-417A-A8BD-EE486D0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295E-47C0-4FC2-8080-2714F48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B4D0-F964-411B-8415-E4DEDF2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3B60-B4E4-4D03-9FC7-1D973D7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875-C669-426B-AAF3-5095A5C1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6AE3-7BB8-4CDB-974E-5BCB3669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A9BA-43E2-4BAE-86D4-A0A757A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776A-C306-45AC-B491-98ECA65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3B58-BE86-4F2C-B623-E8F89861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7410-BCCC-4618-BB61-8698EB9F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52A2-EE0B-46C1-AD36-0A319E6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E74A-7CED-4260-AF89-C8EAE061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F2D-62A7-47E2-AF9C-ACFFCBD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4F8-E244-4F41-B43A-E2A0394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048-08FA-4BCF-9AFF-5047233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F1E-C4C3-4051-BE01-4F7A904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64C-A9B8-4D85-9F71-2CED444B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FA8-F70E-4A69-90F3-2145179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E53-8407-4E52-B01F-CDB9FA737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BE9-8167-4426-8A05-9AFEEDEE21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C5E-A6DD-4F22-B173-73E69D15A1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-181440" y="3500280"/>
            <a:ext cx="6581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ыполнили: Талайло Д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Юсупова Э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8000" y="333360"/>
            <a:ext cx="496260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этап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волюции челове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12980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952560" cy="838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24000" y="690480"/>
            <a:ext cx="475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 смену рамапитеку пришли другие гоминиды, из них лучше всего изучены австралопитеки. Многочисленные их остатки найдены на территории Южной и Восточной Африки. Возраст остатков австралопитеков колеблется от 5,5 до 1 млн лет. Австралопитеки были значительно больше похожи на человека, чем их предшественники. Это были небольшие, прямоходящие существа (рост 120—130см, масса 25—45 кг), с плоским лицом и объемом мозга, равным в среднем 530 см3 (что несколько больше, чем у современных человеко - образ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1844640"/>
            <a:ext cx="324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безьян). Однако считать австралопитека предком человека нельзя, поскольку никаких, даже примитивных, орудий, которыми он пользовался, не найдено (ведь известно, что изготовление и использование орудий труда — один из основных признаков челове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92360" y="476280"/>
            <a:ext cx="21049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встралопитек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904680" cy="847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211640" y="862560"/>
            <a:ext cx="460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 этот же исторический период существовало животное, внешне очень входное с австралопитеком. Объем его головного мозга был значительно больше — до 650— 1100см3. Стопа, как и у современного человека, имела свод, т. е. он свободно ходил на двух ногах. Кисти этого гоминида были более совершенны, большой палец был противопоставлен указательному. Значит, он мог держать в руках каменные орудия и использовать их в работе. Действительно, ученым удалось обнаружить несколько примитивных инструментов из камня на месте их стоянок. Ученые дали этому гоминиду название Человек умелый. Полагают, что именно он является первым представителем самых древних люд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755640" y="1052640"/>
            <a:ext cx="3029040" cy="5040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5580000" y="333360"/>
            <a:ext cx="22100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ловек умелый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904680" cy="819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211640" y="543600"/>
            <a:ext cx="460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статки древнейших людей найдены в Азии, Европе, Африке.. Они жили от 1 млн до 300 тыс. лет тому назад. Это было существо среднего роста (160 см) с объемом головного мозга до 1100 см3. Тело человека прямоходящего мало чем отличалось от тела современного человека. Древнейшие люди вели активный образ жизни: охотились, изготавливали примитивные орудия, помогающие им резать растения, мясо. Жили они группами — так легче было защищаться от врагов, находить пищу, охотиться, строить жилища. древнейшие люди могли пользоваться и огнем.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сновными эволюционными приобретениями человека прямоходящего были изготовление каменных орудий, появление абстрактного мышления и реч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240000" cy="4969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48360" y="189000"/>
            <a:ext cx="32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ловек прямоходящий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800280" cy="8571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56000" y="838800"/>
            <a:ext cx="460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тадия древних людей пред-ставлена большим числом находок (свыше 100) в Европе, Азии, Африке. Жили древние люди 300—400 тыс. лет тому назад. Все они относились к одному виду — Человек неандертальский, названному так в честь долины Неандерталь (Германия). Череп неандертальца был более куполообразным и вмещал мозг объемом до 1600 см3. Несмотря на это, во внешнем облике неандертальца было еще много примитивных черт.. Рост неандертальцев достигал 1м 70 см; они имели крепкое телосложение, обладали развитой мускулатурой, недюжинной физической силой. Неандертальцам выпало жить на Земле в суровое время — в ледниковый период. Спасаясь от холода, они научились добывать и поддерживать огонь, шить из шкур примитивную одеж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3166920" cy="47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5796000" y="333360"/>
            <a:ext cx="187632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еандерталец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904680" cy="914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643280" y="909360"/>
            <a:ext cx="39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скопаемых людей современного типа называют кроманьонцами (в честь местности Кро-Маньон, Франция). Это были высокие, рослые люди (до 180см), объем их мозга достигал 1800см3. Кроманьонцы обла-дали всеми признаками современного человека: высокий свод черепа, развитый подбородочный выступ. За последние 40 тыс. лет внешний облик человека почти не изменился. Всех ископаемых людей современного типа относят к одному виду - Человек раз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900000" y="1052640"/>
            <a:ext cx="2880000" cy="4968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5940360" y="620640"/>
            <a:ext cx="1895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романьонец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795320" y="1309680"/>
            <a:ext cx="55533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429240" cy="4143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547640" y="0"/>
            <a:ext cx="6048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волюционное древо гомини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4723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0" y="1197000"/>
            <a:ext cx="40388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хематическое изображение дифференциально окрашеных хромосом человека и шимпанзе (расположены попарно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 каждой паре слева - хромосома человека, справа - гомологичная ей хромосома шимпан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братите внимание на пару2: видно, что человеческая хромосома - продукт слияния двух обезьяньих и поперечная исчерченность всех хромосом у обоих видов очень близка. Такие ничтожные различия в структуре кариотипа обычно характеризуют чрезвычайно близкие виды-двой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34383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248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Можно оценить генетическую близость человека и, например, шимпанзе количественно. Для этого нужно определить так называемое генетическое сходство и генетическое расстояние (дистан­цию) .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Допустим, имеются две генетические группировки (популяции, близкие виды) А и В. В обеих имеется ген, представленный несколькими аллелями,— соответственно частоты аллелей у А и В обозначим как а1, а2, а3... и b1, b2, Ь3... Тогда генетическое сходст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flipV="1" rot="10800000">
            <a:off x="4819320" y="3139920"/>
            <a:ext cx="38559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бычно считают по нескольким (чем больше, тем лучше) генам и получают среднее значение. Натуральный логарифм J , взятый с обратным знаком, дает нам генетическое расстояние (дистанцию) D: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ак видно из этого рисунка люди деля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алюдей (австролопитек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ревнейших людей (питекантроп, синантроп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ревних людей (неандертальц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юди современного типа (homo sapi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-1810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8964720" cy="3311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109360" y="4508640"/>
            <a:ext cx="103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Кромань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05440" y="4508640"/>
            <a:ext cx="107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Неандертал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36572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прямоходящи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4508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фараАвстролопите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45079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стролопитек африкански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68360" y="45079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стролопитек могучий</a:t>
            </a:r>
            <a:r>
              <a:rPr b="0" lang="ru-RU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48000" y="45079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Автролопитек Бойса</a:t>
            </a:r>
            <a:r>
              <a:rPr b="0" lang="ru-RU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02160" y="458064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Человек умелый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908000" y="-171360"/>
            <a:ext cx="493416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апы развития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905040" cy="7430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067280" y="480240"/>
            <a:ext cx="468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яд ученых полагают, что только 14 млн лет назад на нашей планете появилась обезьяна, которую можно отнести к семейству гоминид. Это рамапитек. Обитал он на территории современных Индии, Восточ-ной Европы, России. В отличие от первых человекообразных обезьян, задние зубы рамапитека были более широкими и плоскими, а между задними и передними зубами появились клыки. Питались рамапитеки растительной пищей: семенами злаков, кореньями, листьями и стеблями растений. Их необходимо было искать, срывать или выкапывать, подносить ко рту, совершая при этом множество движений передними конечностями, постоянно наклоняясь, разгибая и выпрямляя спину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3311640" cy="532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940360" y="33336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мапитек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3:59:39Z</dcterms:created>
  <dc:creator>Maestro</dc:creator>
  <dc:description/>
  <dc:language>en-US</dc:language>
  <cp:lastModifiedBy>Maestro</cp:lastModifiedBy>
  <dcterms:modified xsi:type="dcterms:W3CDTF">2007-02-19T16:17:50Z</dcterms:modified>
  <cp:revision>2</cp:revision>
  <dc:subject/>
  <dc:title>Слайд 1</dc:title>
</cp:coreProperties>
</file>