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D44-FB01-4022-8036-FF72CAF1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249-6C5F-4964-A625-7AE0EE0A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5E6-C8D5-43FF-A7C5-3E18867E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35A-7999-4CA6-B9EA-AC529B14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82F1-1447-4DBF-BB98-19D90EA8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8C2A-71F8-43D4-910D-DC91C812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8983-9AC9-4A57-939F-8AD517C7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29EC-788A-4B90-A63D-23B4617D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6DA0-983B-4D71-8DB5-61E0E29D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3435-0796-4912-8D73-735487B7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D430-08D0-4BD9-B016-B8A9B708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91E-8FA7-4648-833A-32191429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2B78-9755-41C6-BC50-2F92ABF2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6CB5-771A-4FE7-A7EF-150276AE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F636-49F6-4A79-912B-ACE643D9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32CF-0E72-434B-892C-E4BE86E4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A75C-52C2-4663-A876-513966E8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F2A-D859-46A0-B37E-01D3980E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869-3625-43B4-A4A6-8B92255C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E04-6CB8-4181-B3D2-5510E1E9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5AE-DE77-4D12-8E33-B696444B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9C1-5402-4A7C-88DB-1E7392C0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DDA-3C70-4E59-8218-B36F4276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71B-F521-4B44-A089-ACDA3354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8240-96A3-4C2F-8A24-AED0061622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5EB6-351C-47FA-A4AB-9682B1BA8B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32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bd71"/>
                </a:solidFill>
                <a:latin typeface="Arial"/>
              </a:rPr>
              <a:t>Интегративный аспект  химического образования </a:t>
            </a:r>
            <a:br>
              <a:rPr sz="2800"/>
            </a:br>
            <a:r>
              <a:rPr b="1" i="1" lang="ru-RU" sz="2800" spc="-1" strike="noStrike">
                <a:solidFill>
                  <a:srgbClr val="dbbd71"/>
                </a:solidFill>
                <a:latin typeface="Arial"/>
              </a:rPr>
              <a:t>  в классах физико – математического профиля </a:t>
            </a:r>
            <a:br>
              <a:rPr sz="2800"/>
            </a:br>
            <a:r>
              <a:rPr b="1" i="1" lang="ru-RU" sz="2800" spc="-1" strike="noStrike">
                <a:solidFill>
                  <a:srgbClr val="dbbd71"/>
                </a:solidFill>
                <a:latin typeface="Arial"/>
              </a:rPr>
              <a:t>        как способ формирования ключевых компетенций обучающихся</a:t>
            </a:r>
            <a:br>
              <a:rPr sz="2800"/>
            </a:b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Помазан И. Н., учитель хим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МАОУ «Лицей №5» г. Губкина                             Белгородской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1482-BDFA-476D-9C6A-8BB4E9F017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Основные направления обучения химии в физико-математических классах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a500"/>
                </a:solidFill>
                <a:latin typeface="Tahoma"/>
              </a:rPr>
              <a:t>Физический компон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Использование физических законов и теорий при объяснении химического материа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Установление взаимосвязи между физическими и химическими методами исследов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Применение физических величин и выявление функциональных взаимосвязей между ни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Решение химических задач с опорой на знание физи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a500"/>
                </a:solidFill>
                <a:latin typeface="Tahoma"/>
              </a:rPr>
              <a:t>Математический компоне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Использование математических методов при обосновании химических законов и теор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Применение метода математических доказательст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Использование химических теорем и их доказательст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Иллюстрация химических закономерностей графи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Изучение геометрии молекул и ее влияния на свойства вещест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Решение химических задач с использованием математических уравнений, систем уравнений, графи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8080"/>
                </a:solidFill>
                <a:latin typeface="Tahoma"/>
              </a:rPr>
              <a:t>« Мыслящий ум не чувствует себя счастливым, пока ему не удается связать воедино разрозненные факты, им наблюдаемы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ahoma"/>
              </a:rPr>
              <a:t>                                         </a:t>
            </a:r>
            <a:r>
              <a:rPr b="0" lang="ru-RU" sz="3200" spc="-1" strike="noStrike">
                <a:solidFill>
                  <a:srgbClr val="008080"/>
                </a:solidFill>
                <a:latin typeface="Tahoma"/>
              </a:rPr>
              <a:t>Д.Хевел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   </a:t>
            </a:r>
            <a:r>
              <a:rPr b="0" i="1" lang="en-US" sz="3600" spc="-1" strike="noStrike">
                <a:solidFill>
                  <a:srgbClr val="f8a500"/>
                </a:solidFill>
                <a:latin typeface="Tahoma"/>
              </a:rPr>
              <a:t>Интеграция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– это объединение в целое разрозненных частей, глубокое взаимопроникновение, слияние в одном учебном материале обобщенных знаний в той или иной обл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a500"/>
                </a:solidFill>
                <a:latin typeface="Arial"/>
              </a:rPr>
              <a:t>Ключев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это способности самостоятельно создавать новые знания и новые способы деятельности, выполнять самые разнообразные познавательные зада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8a500"/>
                </a:solidFill>
                <a:latin typeface="Arial"/>
              </a:rPr>
              <a:t>Особенности учебно – познавательной деятельности учащихся классов </a:t>
            </a:r>
            <a:br>
              <a:rPr sz="4000"/>
            </a:br>
            <a:r>
              <a:rPr b="1" lang="ru-RU" sz="4000" spc="-1" strike="noStrike">
                <a:solidFill>
                  <a:srgbClr val="f8a500"/>
                </a:solidFill>
                <a:latin typeface="Arial"/>
              </a:rPr>
              <a:t>   физико – математического профиля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Процессы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Восприятие Мышление Память Воображение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a500"/>
                </a:solidFill>
                <a:latin typeface="Tahoma"/>
              </a:rPr>
              <a:t>Математическая направленность</a:t>
            </a:r>
            <a:r>
              <a:rPr b="1" lang="ru-RU" sz="1600" spc="-1" strike="noStrike">
                <a:solidFill>
                  <a:srgbClr val="f8a5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Аналитико – синтетическо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Абстрактно – теоретическое мыш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Легкость и широта обобщений, глубина анализ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ольшая подвижность мыслительных процессов Математическая логика и склад ума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ространственное мыш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ловесно – смысловая, обобщенная, математическа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ворческое, пространствен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a500"/>
                </a:solidFill>
                <a:latin typeface="Tahoma"/>
              </a:rPr>
              <a:t>Естественно-научная направл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налитико – синтетическ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еоретическое мышл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очетание логического о образного компонент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пособность к моделированиюПространственное мышл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ловесно – смысловая, образ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ворческое воображ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Способности к изучению физики </a:t>
            </a:r>
            <a:br>
              <a:rPr sz="3200"/>
            </a:b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(по Е.А.Дьяковой)</a:t>
            </a:r>
            <a:br>
              <a:rPr sz="5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пособность воспринимать объект как единое целое, абстрагируясь от его конкретных составляющи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мение вычленять в объекте существенные в данной ситуации стороны и свойст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дновременное восприятие объекта логически и эмоционально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блюдательность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пособность к абстрагированию, оперированию символами и числами, анализу и синтезу, сравнению и сопоставлению, обобщению, выделению частного, выдвижению гипотез, построению логических вывод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развитые пространственные представления, способность к моделированию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пособность к применению знаний в новых ситуациях, развитая интуиц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аналитико – синтетические качества ума;образная и логическая память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бъемная и комплексная память;подвижность мыслительных процесс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Легкость и широта обобщ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ольшая подвижность мыслительных процессов (легкость переключения с одной мыслительной операции на другую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ысокий уровень и глубина анализ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аналитико – синтетическое восприят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математическая логика и  склад ума (способность находить логический и математический смысл во многих явлениях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ространственное представление объектов (форма, размеры, взаимное положение элементов, расположение в пространстве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тремление к ясности, простоте и экономичности реше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бобщенная память, математическая память (память на общие схемы рассуждений и математические доказательства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пособность к абстрагированию, оперированию символами и числ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итуационная сообразительн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457200"/>
            <a:ext cx="82296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особности к изучению матема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по В.А.Крутецкому и Ю.В. Шапир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очное ощущение и восприятие свойств веществ (цвет, запах, дисперность) и происходящих с ними измен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развитые гравитационные ощущения, ощущения времени и пространст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хорошая координация движений, развитый глазомер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ыстрота реакции;способность к автоматизму в работе рук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аналитико – синтетические качества ум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развитое ассоциативное и образное мышление;способность к абстрагированию, оперированию символами и числ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огатое пространственное мышлен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одвижность мыслительных процесс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ольшой объем внима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блюдательность;ситуационная сообразительност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развитая логическая, терминологическая и механическая памя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457200"/>
            <a:ext cx="868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особности к изучению химии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(по Л.А. Коробейниковой и Г.В. Лисичкину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Основные пути математизации школьного курса химии</a:t>
            </a:r>
            <a:br>
              <a:rPr sz="40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широкое использование в учебном процессе математической символ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спользование математических под­ходов при объяснении химического мате­риал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явление функциональных отноше­ний между величин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иск математической формы выраже­ния химических концепц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рафическая интерпретация функцио­нальных отнош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ормулировка и решение математиче­ских задач как следствие решения химиче­ских пробл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шение количественных задач, требую­щих подхода к проблеме с общих позиц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2-01-10T07:47:2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