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9A8-54E8-4D76-9772-E106A9B2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B48C-3D23-4C67-BC73-1A41F3D2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A1DD-E2C5-4410-BF5C-D40DC725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90E0-197F-4B37-9282-47C95593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DAEC-BC85-4B5E-85B4-7352B648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02F7-5F29-43B7-8256-DA5D8716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0644-07B5-44B4-ACB3-96A7A0A1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2284-6A9A-4CAC-B529-D602C0EC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D405-9E1F-4E69-AB6D-C1E94490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02AF-1BBF-4188-AA4A-918DED48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24D4-2AB7-4780-B677-39739479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46B2-CADF-4F0E-88BD-99E470F7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8776-6FBB-4FD8-BC2B-6A6DD80C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0B12-854B-4156-B335-C4EA4333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6669-3B4B-4A8C-AF18-95061248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4A33-F9E2-4A7C-AA91-1CCC8F8D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AA3A-5FB5-4EB9-97EB-A94A9F8F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C91-B04E-4E5A-98EF-E6B0F7FB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F9BA-97A1-4554-BA5F-7B3F2E0A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69D0-FFBC-4B2E-A1C6-862110C9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ECCC-CF07-4FEB-BC66-53D9BAC3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BF6B-1435-4502-A407-C9A87D79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D0D3-B150-4457-AB95-7381EC84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FECD-578C-4487-9226-63F7E648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F829-FE2E-4ED2-9094-993E8F5EB3E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54EE-119F-4562-8514-3BBD81E7A81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32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bd71"/>
                </a:solidFill>
                <a:latin typeface="Arial"/>
              </a:rPr>
              <a:t>Интегративный аспект  химического образования </a:t>
            </a:r>
            <a:br>
              <a:rPr sz="2800"/>
            </a:br>
            <a:r>
              <a:rPr b="1" i="1" lang="ru-RU" sz="2800" spc="-1" strike="noStrike">
                <a:solidFill>
                  <a:srgbClr val="dbbd71"/>
                </a:solidFill>
                <a:latin typeface="Arial"/>
              </a:rPr>
              <a:t>  в классах физико – математического профиля </a:t>
            </a:r>
            <a:br>
              <a:rPr sz="2800"/>
            </a:br>
            <a:r>
              <a:rPr b="1" i="1" lang="ru-RU" sz="2800" spc="-1" strike="noStrike">
                <a:solidFill>
                  <a:srgbClr val="dbbd71"/>
                </a:solidFill>
                <a:latin typeface="Arial"/>
              </a:rPr>
              <a:t>        как способ формирования ключевых компетенций обучающихся</a:t>
            </a:r>
            <a:br>
              <a:rPr sz="2800"/>
            </a:b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Помазан И. Н., учитель хим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МАОУ «Лицей №5» г. Губкина                             Белгородской обла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B496-5E4F-488E-B3F7-F68FD1F008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bd71"/>
                </a:solidFill>
                <a:latin typeface="Arial"/>
              </a:rPr>
              <a:t>Основные направления обучения химии в физико-математических классах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a500"/>
                </a:solidFill>
                <a:latin typeface="Tahoma"/>
              </a:rPr>
              <a:t>Физический компон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Использование физических законов и теорий при объяснении химического материа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Установление взаимосвязи между физическими и химическими методами исследова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Применение физических величин и выявление функциональных взаимосвязей между ни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Решение химических задач с опорой на знание физи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a500"/>
                </a:solidFill>
                <a:latin typeface="Tahoma"/>
              </a:rPr>
              <a:t>Математический компоне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Использование математических методов при обосновании химических законов и теор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Применение метода математических доказательст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Использование химических теорем и их доказательст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Иллюстрация химических закономерностей график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Изучение геометрии молекул и ее влияния на свойства вещест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Решение химических задач с использованием математических уравнений, систем уравнений, график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8080"/>
                </a:solidFill>
                <a:latin typeface="Tahoma"/>
              </a:rPr>
              <a:t>« Мыслящий ум не чувствует себя счастливым, пока ему не удается связать воедино разрозненные факты, им наблюдаемые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ahoma"/>
              </a:rPr>
              <a:t>                                         </a:t>
            </a:r>
            <a:r>
              <a:rPr b="0" lang="ru-RU" sz="3200" spc="-1" strike="noStrike">
                <a:solidFill>
                  <a:srgbClr val="008080"/>
                </a:solidFill>
                <a:latin typeface="Tahoma"/>
              </a:rPr>
              <a:t>Д.Хевел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   </a:t>
            </a:r>
            <a:r>
              <a:rPr b="0" i="1" lang="en-US" sz="3600" spc="-1" strike="noStrike">
                <a:solidFill>
                  <a:srgbClr val="f8a500"/>
                </a:solidFill>
                <a:latin typeface="Tahoma"/>
              </a:rPr>
              <a:t>Интеграция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– это объединение в целое разрозненных частей, глубокое взаимопроникновение, слияние в одном учебном материале обобщенных знаний в той или иной обл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8a500"/>
                </a:solidFill>
                <a:latin typeface="Arial"/>
              </a:rPr>
              <a:t>Ключевые компетен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это способности самостоятельно создавать новые знания и новые способы деятельности, выполнять самые разнообразные познавательные зада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8a500"/>
                </a:solidFill>
                <a:latin typeface="Arial"/>
              </a:rPr>
              <a:t>Особенности учебно – познавательной деятельности учащихся классов </a:t>
            </a:r>
            <a:br>
              <a:rPr sz="4000"/>
            </a:br>
            <a:r>
              <a:rPr b="1" lang="ru-RU" sz="4000" spc="-1" strike="noStrike">
                <a:solidFill>
                  <a:srgbClr val="f8a500"/>
                </a:solidFill>
                <a:latin typeface="Arial"/>
              </a:rPr>
              <a:t>   физико – математического профиля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Процессы</a:t>
            </a: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Восприятие Мышление Память Воображение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a500"/>
                </a:solidFill>
                <a:latin typeface="Tahoma"/>
              </a:rPr>
              <a:t>Математическая направленность</a:t>
            </a:r>
            <a:r>
              <a:rPr b="1" lang="ru-RU" sz="1600" spc="-1" strike="noStrike">
                <a:solidFill>
                  <a:srgbClr val="f8a5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Аналитико – синтетическо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Абстрактно – теоретическое мышл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Легкость и широта обобщений, глубина анализ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Большая подвижность мыслительных процессов Математическая логика и склад ума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Пространственное мышл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ловесно – смысловая, обобщенная, математическа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Творческое, пространственн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a500"/>
                </a:solidFill>
                <a:latin typeface="Tahoma"/>
              </a:rPr>
              <a:t>Естественно-научная направлен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налитико – синтетическ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еоретическое мышл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очетание логического о образного компонент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пособность к моделированиюПространственное мышл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ловесно – смысловая, образ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ворческое воображ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dbbd71"/>
                </a:solidFill>
                <a:latin typeface="Arial"/>
              </a:rPr>
              <a:t>Способности к изучению физики </a:t>
            </a:r>
            <a:br>
              <a:rPr sz="3200"/>
            </a:br>
            <a:r>
              <a:rPr b="1" lang="en-US" sz="2400" spc="-1" strike="noStrike">
                <a:solidFill>
                  <a:srgbClr val="dbbd71"/>
                </a:solidFill>
                <a:latin typeface="Arial"/>
              </a:rPr>
              <a:t>(по Е.А.Дьяковой)</a:t>
            </a:r>
            <a:br>
              <a:rPr sz="5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пособность воспринимать объект как единое целое, абстрагируясь от его конкретных составляющих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умение вычленять в объекте существенные в данной ситуации стороны и свойст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одновременное восприятие объекта логически и эмоционально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аблюдательность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пособность к абстрагированию, оперированию символами и числами, анализу и синтезу, сравнению и сопоставлению, обобщению, выделению частного, выдвижению гипотез, построению логических вывод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развитые пространственные представления, способность к моделированию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пособность к применению знаний в новых ситуациях, развитая интуици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аналитико – синтетические качества ума;образная и логическая память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объемная и комплексная память;подвижность мыслительных процесс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Легкость и широта обобщен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большая подвижность мыслительных процессов (легкость переключения с одной мыслительной операции на другую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ысокий уровень и глубина анализ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аналитико – синтетическое восприяти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математическая логика и  склад ума (способность находить логический и математический смысл во многих явлениях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пространственное представление объектов (форма, размеры, взаимное положение элементов, расположение в пространстве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тремление к ясности, простоте и экономичности решени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обобщенная память, математическая память (память на общие схемы рассуждений и математические доказательства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пособность к абстрагированию, оперированию символами и числам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итуационная сообразительно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457200"/>
            <a:ext cx="822960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пособности к изучению матема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по В.А.Крутецкому и Ю.В. Шапир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точное ощущение и восприятие свойств веществ (цвет, запах, дисперность) и происходящих с ними изменен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развитые гравитационные ощущения, ощущения времени и пространст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хорошая координация движений, развитый глазомер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быстрота реакции;способность к автоматизму в работе рукам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аналитико – синтетические качества ум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развитое ассоциативное и образное мышление;способность к абстрагированию, оперированию символами и числам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богатое пространственное мышлени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подвижность мыслительных процесс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большой объем внимани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аблюдательность;ситуационная сообразительность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развитая логическая, терминологическая и механическая памя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457200"/>
            <a:ext cx="868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пособности к изучению химии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(по Л.А. Коробейниковой и Г.В. Лисичкину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dbbd71"/>
                </a:solidFill>
                <a:latin typeface="Arial"/>
              </a:rPr>
              <a:t>Основные пути математизации школьного курса химии</a:t>
            </a:r>
            <a:br>
              <a:rPr sz="40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широкое использование в учебном процессе математической символи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спользование математических под­ходов при объяснении химического мате­риал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явление функциональных отноше­ний между величин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иск математической формы выраже­ния химических концепц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рафическая интерпретация функцио­нальных отноше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формулировка и решение математиче­ских задач как следствие решения химиче­ских пробл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ешение количественных задач, требую­щих подхода к проблеме с общих позиц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2-01-10T07:47:2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