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283C-A76D-4A66-B9DF-A6C9B2F087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851A-3D68-4175-83B6-2ECE7418DD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0B8A-EF4D-425C-B308-6058CFF95E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FAAC-C752-4742-9CB6-C141BD43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6F7F-3F7C-48FD-9FB8-F0A5E6F8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A83C-2B41-4B1B-A85F-3E3798F5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6416-93FC-498B-B2E0-93191D4D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E3E7-33CF-4E3B-89BE-34B90A1D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3056-D6BE-4595-9D13-899BC0BE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CA91-8104-4F1F-B0AF-FF0F137A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8A57-2D11-4EED-B626-5F746FB6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4215-6DE6-49CC-9F03-D7C4A57D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F3F-0FDA-4B09-A5CF-E3EC2AB3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41BB-D3A4-4E71-9235-6AC1CEB1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9A67-2805-42C0-97A1-F9C43742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527A-CBCB-4353-AB49-478EB2987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0" y="-571680"/>
            <a:ext cx="9252000" cy="8172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Monotype Corsiva"/>
              </a:rPr>
              <a:t>Использование краеведческого материала о жизни и творчестве омского поэта  Леонида Мартынова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Monotype Corsiva"/>
              </a:rPr>
              <a:t>на уроках немецкого языка                                     как средство воспитания любви  к родному краю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скова Светлана Пет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У « Средняя общеобразовательная школа №48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 ОМ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 Math"/>
              </a:rPr>
              <a:t>8 класс “ </a:t>
            </a:r>
            <a:r>
              <a:rPr b="0" lang="en-US" sz="1800" spc="-1" strike="noStrike">
                <a:solidFill>
                  <a:srgbClr val="ff0000"/>
                </a:solidFill>
                <a:latin typeface="Cambria Math"/>
              </a:rPr>
              <a:t>Die Reise</a:t>
            </a:r>
            <a:r>
              <a:rPr b="0" lang="ru-RU" sz="1800" spc="-1" strike="noStrike">
                <a:solidFill>
                  <a:srgbClr val="ff0000"/>
                </a:solidFill>
                <a:latin typeface="Cambria Math"/>
              </a:rPr>
              <a:t>”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Cambria Math"/>
              </a:rPr>
              <a:t>Экскурсия по местам, связанным с жизнью Л. Мартынова.</a:t>
            </a:r>
            <a:br>
              <a:rPr sz="29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er befindete sich Redaktion der Zeitung”Omskaja Pravda”(1941-1945)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 fanden”Die Literarischen Donnerstagen”  statt.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. Martinov besuchte sie oft.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963 г.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8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S8300986"/>
          <p:cNvPicPr/>
          <p:nvPr/>
        </p:nvPicPr>
        <p:blipFill>
          <a:blip r:embed="rId1"/>
          <a:stretch/>
        </p:blipFill>
        <p:spPr>
          <a:xfrm>
            <a:off x="928800" y="2857680"/>
            <a:ext cx="2916000" cy="27349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S8300971"/>
          <p:cNvPicPr/>
          <p:nvPr/>
        </p:nvPicPr>
        <p:blipFill>
          <a:blip r:embed="rId2"/>
          <a:stretch/>
        </p:blipFill>
        <p:spPr>
          <a:xfrm>
            <a:off x="5214960" y="2928960"/>
            <a:ext cx="3492360" cy="270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mbria Math"/>
              </a:rPr>
              <a:t>8 класс “ </a:t>
            </a:r>
            <a:r>
              <a:rPr b="0" lang="en-US" sz="2200" spc="-1" strike="noStrike">
                <a:solidFill>
                  <a:srgbClr val="ff0000"/>
                </a:solidFill>
                <a:latin typeface="Cambria Math"/>
              </a:rPr>
              <a:t>Die Reise</a:t>
            </a:r>
            <a:r>
              <a:rPr b="0" lang="ru-RU" sz="2200" spc="-1" strike="noStrike">
                <a:solidFill>
                  <a:srgbClr val="ff0000"/>
                </a:solidFill>
                <a:latin typeface="Cambria Math"/>
              </a:rPr>
              <a:t>”</a:t>
            </a:r>
            <a:br>
              <a:rPr sz="2200"/>
            </a:br>
            <a:r>
              <a:rPr b="0" lang="ru-RU" sz="2200" spc="-1" strike="noStrike">
                <a:solidFill>
                  <a:srgbClr val="ff0000"/>
                </a:solidFill>
                <a:latin typeface="Cambria Math"/>
              </a:rPr>
              <a:t>Экскурсия по местам, связанным с жизнью Л. Мартынова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58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08 г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bliothek von A.S.Puschkin, wo arbeitete L.Martinov.(1941-194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S8300983"/>
          <p:cNvPicPr/>
          <p:nvPr/>
        </p:nvPicPr>
        <p:blipFill>
          <a:blip r:embed="rId1"/>
          <a:stretch/>
        </p:blipFill>
        <p:spPr>
          <a:xfrm>
            <a:off x="714240" y="2214720"/>
            <a:ext cx="3095640" cy="2808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S8300973"/>
          <p:cNvPicPr/>
          <p:nvPr/>
        </p:nvPicPr>
        <p:blipFill>
          <a:blip r:embed="rId2"/>
          <a:stretch/>
        </p:blipFill>
        <p:spPr>
          <a:xfrm>
            <a:off x="5286240" y="2143080"/>
            <a:ext cx="3515040" cy="284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mbria Math"/>
              </a:rPr>
              <a:t>8 класс “ </a:t>
            </a:r>
            <a:r>
              <a:rPr b="0" lang="en-US" sz="1600" spc="-1" strike="noStrike">
                <a:solidFill>
                  <a:srgbClr val="ff0000"/>
                </a:solidFill>
                <a:latin typeface="Cambria Math"/>
              </a:rPr>
              <a:t>Die Reise</a:t>
            </a:r>
            <a:r>
              <a:rPr b="0" lang="ru-RU" sz="1600" spc="-1" strike="noStrike">
                <a:solidFill>
                  <a:srgbClr val="ff0000"/>
                </a:solidFill>
                <a:latin typeface="Cambria Math"/>
              </a:rPr>
              <a:t>”</a:t>
            </a: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Cambria Math"/>
              </a:rPr>
              <a:t>Экскурсия по местам, связанным с жизнью Л. Мартынова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C:\Documents and Settings\УРА\Рабочий стол\Документы\Фотки\Фотки Маме к Мартынову\S8300980.JPG"/>
          <p:cNvPicPr/>
          <p:nvPr/>
        </p:nvPicPr>
        <p:blipFill>
          <a:blip r:embed="rId1"/>
          <a:stretch/>
        </p:blipFill>
        <p:spPr>
          <a:xfrm>
            <a:off x="4714920" y="2643120"/>
            <a:ext cx="3360600" cy="2519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e Kathedrale”Kasanski”.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er bekreuzigte sich L.Martinov im 190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008 г.                                            1911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10" descr="S8300964"/>
          <p:cNvPicPr/>
          <p:nvPr/>
        </p:nvPicPr>
        <p:blipFill>
          <a:blip r:embed="rId2"/>
          <a:stretch/>
        </p:blipFill>
        <p:spPr>
          <a:xfrm>
            <a:off x="1143000" y="2571840"/>
            <a:ext cx="2843280" cy="277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mbria Math"/>
              </a:rPr>
              <a:t>8 класс “ </a:t>
            </a:r>
            <a:r>
              <a:rPr b="0" lang="en-US" sz="2200" spc="-1" strike="noStrike">
                <a:solidFill>
                  <a:srgbClr val="ff0000"/>
                </a:solidFill>
                <a:latin typeface="Cambria Math"/>
              </a:rPr>
              <a:t>Die Reise</a:t>
            </a:r>
            <a:r>
              <a:rPr b="0" lang="ru-RU" sz="2200" spc="-1" strike="noStrike">
                <a:solidFill>
                  <a:srgbClr val="ff0000"/>
                </a:solidFill>
                <a:latin typeface="Cambria Math"/>
              </a:rPr>
              <a:t>”</a:t>
            </a:r>
            <a:br>
              <a:rPr sz="2200"/>
            </a:br>
            <a:r>
              <a:rPr b="0" lang="ru-RU" sz="2200" spc="-1" strike="noStrike">
                <a:solidFill>
                  <a:srgbClr val="ff0000"/>
                </a:solidFill>
                <a:latin typeface="Cambria Math"/>
              </a:rPr>
              <a:t>Экскурсия по местам, связанным с жизнью Л. Мартынова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-14040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e  Militarhochschule von F.M.Frun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.Martinov besuchte diese Schule  im 1944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954 г.                                                                                                    2008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954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3" descr="S8300965"/>
          <p:cNvPicPr/>
          <p:nvPr/>
        </p:nvPicPr>
        <p:blipFill>
          <a:blip r:embed="rId1"/>
          <a:stretch/>
        </p:blipFill>
        <p:spPr>
          <a:xfrm>
            <a:off x="5500800" y="2571840"/>
            <a:ext cx="2808000" cy="27716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4" descr="S8300989"/>
          <p:cNvPicPr/>
          <p:nvPr/>
        </p:nvPicPr>
        <p:blipFill>
          <a:blip r:embed="rId2"/>
          <a:stretch/>
        </p:blipFill>
        <p:spPr>
          <a:xfrm>
            <a:off x="857160" y="2928960"/>
            <a:ext cx="3384720" cy="255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3" descr="S8300977"/>
          <p:cNvPicPr/>
          <p:nvPr/>
        </p:nvPicPr>
        <p:blipFill>
          <a:blip r:embed="rId1"/>
          <a:stretch/>
        </p:blipFill>
        <p:spPr>
          <a:xfrm>
            <a:off x="7488360" y="142920"/>
            <a:ext cx="1655640" cy="1620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9 класс.Рефер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13840" y="1071720"/>
            <a:ext cx="830124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</a:t>
            </a:r>
            <a:r>
              <a:rPr b="0" lang="en-US" sz="1600" spc="-1" strike="noStrike" u="sng">
                <a:solidFill>
                  <a:srgbClr val="0070c0"/>
                </a:solidFill>
                <a:uFillTx/>
                <a:latin typeface="Calibri"/>
              </a:rPr>
              <a:t>Die Werken von Leonid Martino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as ist schwer das literarische Leben im Omsks ohne Name des Dichters Leonid  Nikolaevitsch Martinov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orzustellen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1905-1980). Der Dichter lebte im Omsk 40 Jahren, und das Thema zentral seinen Werken war marchende Sibirien ( Lukomorie) und die Stadt Omsk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rtinov war ein Dicnter- Patriot, die uber seine Heimat schrieb, ihr und seinen Wurden beruhmt  machte. Der beruhmte Schriftsteller und erste Redaktor der Zeitschrift “Sibirskie Ogni”(20-30 Jahren) Vivian Itin sagte:” Die Sibiriendichter erkannten  einstimmig seine poetische Uberlegenheit an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1921 war Leonid Martinov ein Mitarbeiter der Zeitschriften “ Arbeitsweg” und”Signal”, wo schrieb er Articeln,Essay , Gedichten und schrieb alles unter dem Name Alexander Gintsch. Im1923 war sein erste Gedicht “Luftfgeratten”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eröffentlicht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« Alte Omsk”-im192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 dreizigem Jahren schreibte Martinov seinen historische Poemen”Puschkin und Erschov”, “Ingenieur Michailovski”, “Der Maler Znamenski”usw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rtinovsibirien  ist das keine Hauser aus Holz mit den Ofenen, keine Nadelwalde und starke Frost. Das ist marchende Land,das ist “seine Lukomorie”.Das ist das Land des Gluckes und der Freud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as Thema”Omsk” ist das Hauprthema seiner Dichtung. Seine Gedichten”Alte Omsk”,”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ie Admiralitätsstunde““ der Fluss die Stille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e  sind Omsk und seine Schoncheiten. Hier ist jede Strasse-seine Strasse, jedes Haus-seines Hau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onid Nikolaevitsch Martinov hat mehr 50 Gediche und 20 Essay uber Omsk geschrieb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9 класс.Рефер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876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Leonid Nikolaevitsch Martinov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wurde 9(22) Mai im Omsk geboren.Sein Vater Nikolai Martinov war Ingenieur von Beruf, seine Mutter –die Hausfrau. Sie unterrichtete den  Sohn in der Literatur und in der Poesie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rtinov lebte in der Strasse Krasni Sori( fruher Prospekt Nikolski.)Er wurde in  der Strasse Lagernaja ,75 geboren, im Kathedrale “Kasatschi bekreuzigte sich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m seine Kindcheit las er Abenteuerromane(K.Deul, D.London).lernte Geografie, Geologie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m Jahren1916-1917 besuchte er Jugendgymnasium.                                                                     Im1921 war Leonid Martinov ein Mitarbeiter der Zeitschriften “Arbeitsweg” und”Signal”, wo schrieb er Articeln,Essay , Gedichten und schrieb alles unter dem Name Alexander Gintsch. Im1923 ist sein erste Gedicht “Luftfgeratten” </a:t>
            </a: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veröffentlicht.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« Alte Omsk”-im1924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m dreizigem Jahren schreibte Martinov seinen historische Poemen”Puschkin und Erschov”, “Ingenieur Michailovski”, “Der Maler Znamenski”usw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Wahrend des Kriges lebte Martinov im Omsk und schrieb die patriotische Gedichte, Essay und Agitplakaten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ach 1946 lebte Leonid Martinov im Moskau , aber schrieb er uber die Stadt Omsk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eonid Nikolaevitsch Martinov hat mehr 50 Gediche und 20 Essay uber Omsk geschrieben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ine Leben (1905-1980) war sehr patriotisch, </a:t>
            </a: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saturiert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und sehr interessant.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4" descr="S8300982"/>
          <p:cNvPicPr/>
          <p:nvPr/>
        </p:nvPicPr>
        <p:blipFill>
          <a:blip r:embed="rId1"/>
          <a:stretch/>
        </p:blipFill>
        <p:spPr>
          <a:xfrm>
            <a:off x="7429680" y="5143680"/>
            <a:ext cx="1152360" cy="1542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еревод стихов Л. Мартынова </a:t>
            </a:r>
            <a:br>
              <a:rPr sz="2800"/>
            </a:b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  9 класс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  </a:t>
            </a:r>
            <a:br>
              <a:rPr sz="2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ie Luftfregatt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erdampft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as glutrote Licht Unterganges,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ieWolken wuchsen in der Ferne,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Wenn die Luftfregatten weissen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Über unserer Stadt haben vorbeigekommen.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Unten sehen wirdie Netzen der Straßen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a unterhalten wir uns mit dir,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eine Stadt gleichsam unter dem Wasser.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Aber im geisterhaften, grünen Lich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здушные фрегаты (192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омерк багровый свет заката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ромада туч росла вдали,     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Когда воздушные фрегаты     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Над нашим городом прошли.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низу мы видим улиц сети,    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от мы беседуем с тобой,         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Но в призрачном, зеленом свете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Твой город как бы под водо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3" descr=""/>
          <p:cNvPicPr/>
          <p:nvPr/>
        </p:nvPicPr>
        <p:blipFill>
          <a:blip r:embed="rId1"/>
          <a:stretch/>
        </p:blipFill>
        <p:spPr>
          <a:xfrm>
            <a:off x="1071720" y="1785960"/>
            <a:ext cx="2070000" cy="15476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"/>
          <p:cNvPicPr/>
          <p:nvPr/>
        </p:nvPicPr>
        <p:blipFill>
          <a:blip r:embed="rId2"/>
          <a:stretch/>
        </p:blipFill>
        <p:spPr>
          <a:xfrm>
            <a:off x="5715000" y="4572000"/>
            <a:ext cx="2454120" cy="140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еревод стихов Л. Мартынова </a:t>
            </a:r>
            <a:br>
              <a:rPr sz="2400"/>
            </a:b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  9 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ie Najaden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1946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u sahst dieses neue Haus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In seinem die Größe jung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Er sieht wie ein Palast  au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u weißt; ist eine Dampferhau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a kommen  sechs Jungfrauen vorbe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яды(1946)               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Sie sind verschiedenen.. Ah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ы видел этот новый дом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воем величье молодо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меющий с дворцами сходство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ы знаешь;- это Пароходств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туда в сумерке сед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есть дев выходят на крыльц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и не на одно лиц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3" descr=""/>
          <p:cNvPicPr/>
          <p:nvPr/>
        </p:nvPicPr>
        <p:blipFill>
          <a:blip r:embed="rId1"/>
          <a:stretch/>
        </p:blipFill>
        <p:spPr>
          <a:xfrm>
            <a:off x="928800" y="1214280"/>
            <a:ext cx="2082600" cy="24116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"/>
          <p:cNvPicPr/>
          <p:nvPr/>
        </p:nvPicPr>
        <p:blipFill>
          <a:blip r:embed="rId2"/>
          <a:stretch/>
        </p:blipFill>
        <p:spPr>
          <a:xfrm>
            <a:off x="4929120" y="4429080"/>
            <a:ext cx="2843280" cy="158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еревод стихов Л. Мартынова </a:t>
            </a:r>
            <a:br>
              <a:rPr sz="2400"/>
            </a:b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  9 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Calibri"/>
              </a:rPr>
              <a:t>“ </a:t>
            </a:r>
            <a:r>
              <a:rPr b="0" lang="en-US" sz="2000" spc="-1" strike="noStrike">
                <a:solidFill>
                  <a:srgbClr val="ff33cc"/>
                </a:solidFill>
                <a:latin typeface="Calibri"/>
              </a:rPr>
              <a:t>Gedichte und Poemen”</a:t>
            </a:r>
            <a:r>
              <a:rPr b="0" lang="ru-RU" sz="2000" spc="-1" strike="noStrike">
                <a:solidFill>
                  <a:srgbClr val="ff33cc"/>
                </a:solidFill>
                <a:latin typeface="Calibri"/>
              </a:rPr>
              <a:t> (193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s gibt keinen Bezirk leiseer und ist, als östlich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Der Linien dreißig dre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ber sieh schon den Bruch dieser Linien an.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Der Linien dreißig dre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Den Abend hier auf Erste. Und auf Fünfter dort schon  die Finstern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ht die Dämmerunge, komm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uf Siebenten, Achten und auf den neunten leisen Schlaf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st schon in die Häuser gekomm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ber siehe! - dort, auf Dreißig Drittel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Bis zu dem Morgen unwei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Die Hähne schreien.  Die Kinder lachen. Sie trinke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lch sehr lei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5929200" y="1428840"/>
            <a:ext cx="2987640" cy="208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еревод стихов Л. Мартынова </a:t>
            </a:r>
            <a:br>
              <a:rPr sz="2400"/>
            </a:b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  9 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66ff"/>
                </a:solidFill>
                <a:latin typeface="Calibri"/>
              </a:rPr>
              <a:t>Из « Стихи и поэмы» (1939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Нет района тише и пустынней, чем восточных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линий тридцать тр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Но вглядись в излом этих линий. Зорко,          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Хорошенько посмотр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Вечер здесь на Первой. А на Пятой там уже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не сумерки, а тьма.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На Седьмой, Восьмой и на Девятой тихий сон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вошел уже в дома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Но смотри-ка!- там, на Тридцать третей, вовс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до утра недалеко!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Петухи кричат. Проснулись дети. Пьют они парное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молоко.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6357960" y="1285920"/>
            <a:ext cx="2627280" cy="273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7" descr=""/>
          <p:cNvPicPr/>
          <p:nvPr/>
        </p:nvPicPr>
        <p:blipFill>
          <a:blip r:embed="rId1"/>
          <a:stretch/>
        </p:blipFill>
        <p:spPr>
          <a:xfrm>
            <a:off x="208080" y="1523880"/>
            <a:ext cx="8240760" cy="466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57120" y="214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так, проведя всю эту четырехлетнюю работу по изучению жизни и творчества омского поэта Леонида Мартынова, можно сделать следующие вывод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Тема выбранной нами методической разработки необычайно актуальна, ибо вопрос патриотического воспитания человека поднимался со времен существования древних цивилизаций, и теперь в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X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веке не утратил необходимости и важ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Использование иностранного языка в качестве средства передачи и приема информации о родном крае создает благоприятные предпосылки для расширения общеобразовательного кругозора обучаю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Использование дополнительного краеведческого материала способствует развитию интереса к предмету, углублению знаний, совершенствованию навыков и умений по предмету; а организация   экскурсий помогает педагогам воспитывать обучающихся нравственно ,  патриотически и эстетически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ы полагаем, что при использовании всех возможностей, который дает нам предмет иностранного языка, мы сумеем развить у детей чувство прекрасного, сформировать их художественные вкусы; сумеем научить, ценить и понимать произведения искусства, красоту и богатство родного края и таким образом улучшим их художественное, эстетическое и патриотическое образован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Для чего нужна эта работ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8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ысшей целью любого цивилизованного общества является всестороннее гармоничное развитие личности. Этой цели подчинена и вся деятельность современной школы. Но в наш стремительный век прогресса, век компьютеризации ребенок подчас не замечает, окружающий его мир. Часто ученикам не хватает знаний на иностранном языке о своем регионе, чтобы можно было применить их в общении с иностранными друзьями. Однако материалы по краеведению на иностранном языке не представлены в учебниках и учебных пособиях. Поэтому учащиеся и педагоги испытывают потребность в таких знаниях. Научить ребенка видеть родную природу, родной город – одна из задач учите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2876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 данной работе представлен один из примеров использования краеведческого материала на уроках немецкого языка как средство воспитания чувства любви  к родному краю и гордости за него. Мы использовали знания обучающихся по литературе: это жизнь и творчество омского поэта Леонида Мартынова, применив их на уроках немецкого языка. Началась эта работа в 6 классе и проводилась в течение 4 лет. За весь этот период были проведены: классный час о Леониде Мартынове, экскурсия по местам, связанным с поэтом, обучающиеся учили его стихи и переводили их на немецкий язык, писали рефераты о жизни и творчестве Мартынова на немецком языке, беседовали о поэте на уроках немецкого язы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712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водя эту работу, мы преследовали следующие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Образовательны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информировать учащихся о жизни и творчестве омского поэта Л. Мартынова.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овладеть  лексическим материалом по темам:6 кл.-”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e Stadt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”, 7кл.-”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ser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imat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”, 8 кл.”-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e Reise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”, 9 кл.-  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ü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er in unserem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ben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”и активно  применять ее в дальнейшем изучении иностранного язы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Воспитательные:                                                                                                                                                                                                                   - повысить уровень мотивации к изучению иностранного языка                                                                                                                                                                   -развивать чувство патриотизма и любви к родному кра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расширить круг знаний обучающихся по темам:”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e Stadt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”, 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sere Heimat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”, 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e Reise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”, 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ü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er in unserem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ben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Развивающи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развивать умения и навыки в использовании лексического материала  по темам:”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e Sadt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6кл, “ 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sere Heimat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”-7кл, 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e Reise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”-8кл, “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ü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er in unserem Leben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”-9к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развивать умения и навыки разговорной речи, навыки перевода и пись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712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ставили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ледующие задач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изучить жизнь и творчество омского поэта Леонида Мартынова.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усвоить весь лексический материал по темам: “ Die Stadt-6 “кл. , “ Di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imat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”-7 кл ,”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e Reise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8”кл , “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ü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er in unserem Leben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”-9 кл.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ктивно применять и использовать все полученные знания в дальнейшем изучении иностранного язы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6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чащиеся 6-х классов рисовали здания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ороде Омске, связанные с жизнью поэ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еонида Мартын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атем была выставка лучших рабо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ыставленная в музее шко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Викторина, посвященная Леониду Мартынову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7 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712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.Beantwoten die Fragen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1.Wo   wurde Leonid Martinov geboren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.Wann  wurde Leonid Martinov geboren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.Wie war sein Vater von Beruf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.Wie heist die Strasse, in die L. Martinov lebt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.Wie heist diese Strasse  heut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.Wie ist der lieblings Martinovbsbaum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.Wie heist das  erste Gedicht von Martinov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.Wie hat Martinov seine Stadt genannt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.Wo hat er gearbeitet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.Wie ist die Hauptidee der Martinovgedicht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.Beschreiben sie bitte diese Gebeud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Учащиеся получают карточки с изображением зданий, связанных с жизнью и творчеством Л.Мартынова.и должны их описать по плану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.Wie heist dieses Gebeud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.Wie ist dieses Gebeud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.Warum nennt man es   Matinovssehenswurdichkeiten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. Nennen Sie bitte die Werke von Martinov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манды по очереди называют произведения Л.Мартынова.  За каждый правильный ответ -1 очк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Was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st der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 Bau 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итель показывает фотографии достопримечательностей, связанных с жизнью и творчеством Л. Мартынова, учащиеся называют и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"/>
          <p:cNvPicPr/>
          <p:nvPr/>
        </p:nvPicPr>
        <p:blipFill>
          <a:blip r:embed="rId1"/>
          <a:stretch/>
        </p:blipFill>
        <p:spPr>
          <a:xfrm>
            <a:off x="7596360" y="1285920"/>
            <a:ext cx="1547640" cy="23032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2"/>
          <a:stretch/>
        </p:blipFill>
        <p:spPr>
          <a:xfrm>
            <a:off x="6357960" y="1000080"/>
            <a:ext cx="1547640" cy="201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 Math"/>
              </a:rPr>
              <a:t>8 класс “ </a:t>
            </a:r>
            <a:r>
              <a:rPr b="0" lang="en-US" sz="1800" spc="-1" strike="noStrike">
                <a:solidFill>
                  <a:srgbClr val="ff0000"/>
                </a:solidFill>
                <a:latin typeface="Cambria Math"/>
              </a:rPr>
              <a:t>Die Reise</a:t>
            </a:r>
            <a:r>
              <a:rPr b="0" lang="ru-RU" sz="1800" spc="-1" strike="noStrike">
                <a:solidFill>
                  <a:srgbClr val="ff0000"/>
                </a:solidFill>
                <a:latin typeface="Cambria Math"/>
              </a:rPr>
              <a:t>”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Cambria Math"/>
              </a:rPr>
              <a:t>Экскурсия по местам, связанным с жизнью Л. Мартыно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6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2008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s Gebeude   der Dampferschaf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.Martinov widmente ihm  das Gedic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llade uber Zweistockigehaus”(194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C:\Documents and Settings\УРА\Рабочий стол\Документы\Фотки\Фотки Маме к Мартынову\S8300984.JPG"/>
          <p:cNvPicPr/>
          <p:nvPr/>
        </p:nvPicPr>
        <p:blipFill>
          <a:blip r:embed="rId1"/>
          <a:stretch/>
        </p:blipFill>
        <p:spPr>
          <a:xfrm>
            <a:off x="500040" y="1285920"/>
            <a:ext cx="2556000" cy="24112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C:\Documents and Settings\УРА\Рабочий стол\Документы\Фотки\Фотки Маме к Мартынову\S8300967.JPG"/>
          <p:cNvPicPr/>
          <p:nvPr/>
        </p:nvPicPr>
        <p:blipFill>
          <a:blip r:embed="rId2"/>
          <a:stretch/>
        </p:blipFill>
        <p:spPr>
          <a:xfrm rot="21540000">
            <a:off x="4519440" y="1385640"/>
            <a:ext cx="3240360" cy="226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3:34:30Z</dcterms:created>
  <dc:creator>Яна</dc:creator>
  <dc:description/>
  <dc:language>en-US</dc:language>
  <cp:lastModifiedBy>User</cp:lastModifiedBy>
  <dcterms:modified xsi:type="dcterms:W3CDTF">2010-12-15T18:51:59Z</dcterms:modified>
  <cp:revision>37</cp:revision>
  <dc:subject/>
  <dc:title>Использование краеведческого материала о жизни и творчестве омского поэта                     Леонида Мартынова на уроках немецкого языка                                     как средство воспитания любви  к родному краю.</dc:title>
</cp:coreProperties>
</file>