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0808-FD4F-4B12-BFFC-07321D99F3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3292-7551-4765-B0ED-1E9D189F1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E902-252D-4AE5-BAC3-7FEA837631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ECD-BE36-46D5-B646-208FF437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F44-0FDA-4FBF-9B5F-0E389658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9BC-5B91-49E0-A68E-42AF02EE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11C-3803-461C-BBFD-E548C8D7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3EE-B0EE-4164-A79C-CBA8D2F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1D8-8307-409E-8AC2-B709515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382-134A-4E4D-9C84-6FCD614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6E6-B050-4571-8B75-E3E2D50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792-B659-4FB9-B411-BF6EEDC7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21D-EB2F-4D60-AE5B-16BCED0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314-B4FD-4338-9B8A-BD8715A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93A-4D6B-405C-B683-06E051E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367E-8F2E-4F64-99A9-1E7BE9748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-571680"/>
            <a:ext cx="9252000" cy="817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Использование краеведческого материала о жизни и творчестве омского поэта  Леонида Мартын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на уроках немецкого языка                                     как средство воспитания любви  к родному кра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кова Светлана Пет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У « Средняя общеобразовательная школа №48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ОМ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8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9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 befindete sich Redaktion der Zeitung”Omskaja Pravda”(1941-1945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fanden”Die Literarischen Donnerstagen”  statt.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 Martinov besuchte sie oft.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63 г.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S8300986"/>
          <p:cNvPicPr/>
          <p:nvPr/>
        </p:nvPicPr>
        <p:blipFill>
          <a:blip r:embed="rId1"/>
          <a:stretch/>
        </p:blipFill>
        <p:spPr>
          <a:xfrm>
            <a:off x="928800" y="2857680"/>
            <a:ext cx="2916000" cy="2734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S8300971"/>
          <p:cNvPicPr/>
          <p:nvPr/>
        </p:nvPicPr>
        <p:blipFill>
          <a:blip r:embed="rId2"/>
          <a:stretch/>
        </p:blipFill>
        <p:spPr>
          <a:xfrm>
            <a:off x="5214960" y="2928960"/>
            <a:ext cx="3492360" cy="27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22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bliothek von A.S.Puschkin, wo arbeitete L.Martinov.(1941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S8300983"/>
          <p:cNvPicPr/>
          <p:nvPr/>
        </p:nvPicPr>
        <p:blipFill>
          <a:blip r:embed="rId1"/>
          <a:stretch/>
        </p:blipFill>
        <p:spPr>
          <a:xfrm>
            <a:off x="714240" y="2214720"/>
            <a:ext cx="3095640" cy="280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S8300973"/>
          <p:cNvPicPr/>
          <p:nvPr/>
        </p:nvPicPr>
        <p:blipFill>
          <a:blip r:embed="rId2"/>
          <a:stretch/>
        </p:blipFill>
        <p:spPr>
          <a:xfrm>
            <a:off x="5286240" y="2143080"/>
            <a:ext cx="3515040" cy="28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6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Documents and Settings\УРА\Рабочий стол\Документы\Фотки\Фотки Маме к Мартынову\S8300980.JPG"/>
          <p:cNvPicPr/>
          <p:nvPr/>
        </p:nvPicPr>
        <p:blipFill>
          <a:blip r:embed="rId1"/>
          <a:stretch/>
        </p:blipFill>
        <p:spPr>
          <a:xfrm>
            <a:off x="4714920" y="2643120"/>
            <a:ext cx="3360600" cy="2519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Kathedrale”Kasanski”.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 bekreuzigte sich L.Martinov im 19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8 г.                                            191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0" descr="S8300964"/>
          <p:cNvPicPr/>
          <p:nvPr/>
        </p:nvPicPr>
        <p:blipFill>
          <a:blip r:embed="rId2"/>
          <a:stretch/>
        </p:blipFill>
        <p:spPr>
          <a:xfrm>
            <a:off x="1143000" y="2571840"/>
            <a:ext cx="2843280" cy="27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22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e  Militarhochschule von F.M.Fru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Martinov besuchte diese Schule  im 194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54 г.                                                                                                    2008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54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S8300965"/>
          <p:cNvPicPr/>
          <p:nvPr/>
        </p:nvPicPr>
        <p:blipFill>
          <a:blip r:embed="rId1"/>
          <a:stretch/>
        </p:blipFill>
        <p:spPr>
          <a:xfrm>
            <a:off x="5500800" y="2571840"/>
            <a:ext cx="280800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S8300989"/>
          <p:cNvPicPr/>
          <p:nvPr/>
        </p:nvPicPr>
        <p:blipFill>
          <a:blip r:embed="rId2"/>
          <a:stretch/>
        </p:blipFill>
        <p:spPr>
          <a:xfrm>
            <a:off x="857160" y="2928960"/>
            <a:ext cx="3384720" cy="25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S8300977"/>
          <p:cNvPicPr/>
          <p:nvPr/>
        </p:nvPicPr>
        <p:blipFill>
          <a:blip r:embed="rId1"/>
          <a:stretch/>
        </p:blipFill>
        <p:spPr>
          <a:xfrm>
            <a:off x="7488360" y="142920"/>
            <a:ext cx="1655640" cy="162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 класс.Рефе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3840" y="1071720"/>
            <a:ext cx="83012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libri"/>
              </a:rPr>
              <a:t>Die Werken von Leonid Martino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s ist schwer das literarische Leben im Omsks ohne Name des Dichters Leonid  Nikolaevitsch Martinov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zustellen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1905-1980). Der Dichter lebte im Omsk 40 Jahren, und das Thema zentral seinen Werken war marchende Sibirien ( Lukomorie) und die Stadt Oms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inov war ein Dicnter- Patriot, die uber seine Heimat schrieb, ihr und seinen Wurden beruhmt  machte. Der beruhmte Schriftsteller und erste Redaktor der Zeitschrift “Sibirskie Ogni”(20-30 Jahren) Vivian Itin sagte:” Die Sibiriendichter erkannten  einstimmig seine poetische Uberlegenheit a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1921 war Leonid Martinov ein Mitarbeiter der Zeitschriften “ Arbeitsweg” und”Signal”, wo schrieb er Articeln,Essay , Gedichten und schrieb alles unter dem Name Alexander Gintsch. Im1923 war sein erste Gedicht “Luftfgeratten”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eröffentlicht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« Alte Omsk”-im19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 dreizigem Jahren schreibte Martinov seinen historische Poemen”Puschkin und Erschov”, “Ingenieur Michailovski”, “Der Maler Znamenski”us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inovsibirien  ist das keine Hauser aus Holz mit den Ofenen, keine Nadelwalde und starke Frost. Das ist marchende Land,das ist “seine Lukomorie”.Das ist das Land des Gluckes und der Freu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s Thema”Omsk” ist das Hauprthema seiner Dichtung. Seine Gedichten”Alte Omsk”,”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dmiralitätsstunde““ der Fluss die Stille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e  sind Omsk und seine Schoncheiten. Hier ist jede Strasse-seine Strasse, jedes Haus-seines Ha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onid Nikolaevitsch Martinov hat mehr 50 Gediche und 20 Essay uber Omsk geschri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 класс.Рефе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eonid Nikolaevitsch Martinov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urde 9(22) Mai im Omsk geboren.Sein Vater Nikolai Martinov war Ingenieur von Beruf, seine Mutter –die Hausfrau. Sie unterrichtete den  Sohn in der Literatur und in der Poesi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rtinov lebte in der Strasse Krasni Sori( fruher Prospekt Nikolski.)Er wurde in  der Strasse Lagernaja ,75 geboren, im Kathedrale “Kasatschi bekreuzigte sich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seine Kindcheit las er Abenteuerromane(K.Deul, D.London).lernte Geografie, Geologi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Jahren1916-1917 besuchte er Jugendgymnasium.                                                                     Im1921 war Leonid Martinov ein Mitarbeiter der Zeitschriften “Arbeitsweg” und”Signal”, wo schrieb er Articeln,Essay , Gedichten und schrieb alles unter dem Name Alexander Gintsch. Im1923 ist sein erste Gedicht “Luftfgeratten” 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veröffentlicht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« Alte Omsk”-im1924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dreizigem Jahren schreibte Martinov seinen historische Poemen”Puschkin und Erschov”, “Ingenieur Michailovski”, “Der Maler Znamenski”usw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ahrend des Kriges lebte Martinov im Omsk und schrieb die patriotische Gedichte, Essay und Agitplakat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ach 1946 lebte Leonid Martinov im Moskau , aber schrieb er uber die Stadt Oms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onid Nikolaevitsch Martinov hat mehr 50 Gediche und 20 Essay uber Omsk geschrieb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ine Leben (1905-1980) war sehr patriotisch, 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saturie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d sehr interessant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S8300982"/>
          <p:cNvPicPr/>
          <p:nvPr/>
        </p:nvPicPr>
        <p:blipFill>
          <a:blip r:embed="rId1"/>
          <a:stretch/>
        </p:blipFill>
        <p:spPr>
          <a:xfrm>
            <a:off x="7429680" y="5143680"/>
            <a:ext cx="1152360" cy="15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 Luftfregatt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dampft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s glutrote Licht Unterganges,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Wolken wuchsen in der Ferne,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enn die Luftfregatten weissen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Über unserer Stadt haben vorbeigekommen.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ten sehen wirdie Netzen der Straßen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unterhalten wir uns mit dir,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ine Stadt gleichsam unter dem Wasser.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ber im geisterhaften, grünen Lic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душные фрегаты (192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мерк багровый свет заката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ромада туч росла вдали,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огда воздушные фрегаты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д нашим городом прошли.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низу мы видим улиц сети,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от мы беседуем с тобой,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 в призрачном, зеленом свете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вой город как бы под вод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2070000" cy="1547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454120" cy="14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 Najaden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94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u sahst dieses neue Hau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n seinem die Größe jung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sieht wie ein Palast  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u weißt; ist eine Dampferh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kommen  sechs Jungfrauen vorbe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яды(1946)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ie sind verschiedenen.. A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 видел этот новый д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воем величье молод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еющий с дворцами сходств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 знаешь;- это Пароход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туда в сумерке сед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есть дев выходят на крыль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и не на одно ли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2082600" cy="2411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4929120" y="4429080"/>
            <a:ext cx="28432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Calibri"/>
              </a:rPr>
              <a:t>“ </a:t>
            </a:r>
            <a:r>
              <a:rPr b="0" lang="en-US" sz="2000" spc="-1" strike="noStrike">
                <a:solidFill>
                  <a:srgbClr val="ff33cc"/>
                </a:solidFill>
                <a:latin typeface="Calibri"/>
              </a:rPr>
              <a:t>Gedichte und Poemen”</a:t>
            </a:r>
            <a:r>
              <a:rPr b="0" lang="ru-RU" sz="2000" spc="-1" strike="noStrike">
                <a:solidFill>
                  <a:srgbClr val="ff33cc"/>
                </a:solidFill>
                <a:latin typeface="Calibri"/>
              </a:rPr>
              <a:t> (193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 gibt keinen Bezirk leiseer und ist, als östli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Linien dreißig dre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ber sieh schon den Bruch dieser Linien an.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Linien dreißig dre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n Abend hier auf Erste. Und auf Fünfter dort schon  die Finster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ht die Dämmerunge, komm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f Siebenten, Achten und auf den neunten leisen Schlaf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st schon in die Häuser gekomm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ber siehe! - dort, auf Dreißig Drittel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zu dem Morgen unwe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 Hähne schreien.  Die Kinder lachen. Sie trink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ch sehr le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5929200" y="1428840"/>
            <a:ext cx="298764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ff"/>
                </a:solidFill>
                <a:latin typeface="Calibri"/>
              </a:rPr>
              <a:t>Из « Стихи и поэмы» (193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ет района тише и пустынней, чем восточных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линий тридцать тр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о вглядись в излом этих линий. Зорко,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Хорошенько посмотр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ечер здесь на Первой. А на Пятой там уже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е сумерки, а тьма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а Седьмой, Восьмой и на Девятой тихий сон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ошел уже в дом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о смотри-ка!- там, на Тридцать третей, вов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до утра недалеко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Петухи кричат. Проснулись дети. Пьют они парное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молоко.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6357960" y="1285920"/>
            <a:ext cx="262728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240760" cy="466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так, проведя всю эту четырехлетнюю работу по изучению жизни и творчества омского поэта Леонида Мартынова, можно сделать следующие выв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Тема выбранной нами методической разработки необычайно актуальна, ибо вопрос патриотического воспитания человека поднимался со времен существования древних цивилизаций, и теперь 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еке не утратил необходимости и ва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Использование иностранного языка в качестве средства передачи и приема информации о родном крае создает благоприятные предпосылки для расширения общеобразовательного кругозора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Использование дополнительного краеведческого материала способствует развитию интереса к предмету, углублению знаний, совершенствованию навыков и умений по предмету; а организация   экскурсий помогает педагогам воспитывать обучающихся нравственно ,  патриотически и эстетическ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ы полагаем, что при использовании всех возможностей, который дает нам предмет иностранного языка, мы сумеем развить у детей чувство прекрасного, сформировать их художественные вкусы; сумеем научить, ценить и понимать произведения искусства, красоту и богатство родного края и таким образом улучшим их художественное, эстетическое и патриотическое образов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Для чего нужна эта рабо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сшей целью любого цивилизованного общества является всестороннее гармоничное развитие личности. Этой цели подчинена и вся деятельность современной школы. Но в наш стремительный век прогресса, век компьютеризации ребенок подчас не замечает, окружающий его мир. Часто ученикам не хватает знаний на иностранном языке о своем регионе, чтобы можно было применить их в общении с иностранными друзьями. Однако материалы по краеведению на иностранном языке не представлены в учебниках и учебных пособиях. Поэтому учащиеся и педагоги испытывают потребность в таких знаниях. Научить ребенка видеть родную природу, родной город – одна из задач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данной работе представлен один из примеров использования краеведческого материала на уроках немецкого языка как средство воспитания чувства любви  к родному краю и гордости за него. Мы использовали знания обучающихся по литературе: это жизнь и творчество омского поэта Леонида Мартынова, применив их на уроках немецкого языка. Началась эта работа в 6 классе и проводилась в течение 4 лет. За весь этот период были проведены: классный час о Леониде Мартынове, экскурсия по местам, связанным с поэтом, обучающиеся учили его стихи и переводили их на немецкий язык, писали рефераты о жизни и творчестве Мартынова на немецком языке, беседовали о поэте на уроках немецк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водя эту работу, мы преследовали следующ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Образователь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информировать учащихся о жизни и творчестве омского поэта Л. Мартынова.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овладеть  лексическим материалом по темам:6 кл.-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t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7кл.-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8 кл.”-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9 кл.- 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и активно  применять ее в дальнейшем изучении иностранного язы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Воспитательные:                                                                                                                                                                                                                   - повысить уровень мотивации к изучению иностранного языка                                                                                                                                                                   -развивать чувство патриотизма и любви к родному кр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сширить круг знаний обучающихся по темам:”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t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e 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Развивающ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звивать умения и навыки в использовании лексического материала  по темам:”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6кл, “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e 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7кл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8кл, “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 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9к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звивать умения и навыки разговорной речи, навыки перевода и пись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тавил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едующи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изучить жизнь и творчество омского поэта Леонида Мартынова.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усвоить весь лексический материал по темам: “ Die Stadt-6 “кл. , “ Di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ma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”-7 кл ,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8”кл , 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r in unserem Lebe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”-9 кл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о применять и использовать все полученные знания в дальнейшем изучении иностранного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ащиеся 6-х классов рисовали здания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ороде Омске, связанные с жизнью поэ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онида Мартын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тем была выставка лучших рабо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тавленная в музее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Викторина, посвященная Леониду Мартынову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Beantwoten die Frag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1.Wo   wurde Leonid Martinov gebor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Wann  wurde Leonid Martinov gebor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Wie war sein Vater von Beruf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Wie heist die Strasse, in die L. Martinov leb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Wie heist diese Strasse  heu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Wie ist der lieblings Martinovbsbaum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.Wie heist das  erste Gedicht von Martinov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Wie hat Martinov seine Stadt genann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.Wo hat er gearbeite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.Wie ist die Hauptidee der Martinovgedich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Beschreiben sie bitte diese Gebeud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Учащиеся получают карточки с изображением зданий, связанных с жизнью и творчеством Л.Мартынова.и должны их описать по план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Wie heist dieses Gebeud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Wie ist dieses Gebeud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Warum nennt man es   Matinovssehenswurdichkeit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. Nennen Sie bitte die Werke von Martinov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анды по очереди называют произведения Л.Мартынова.  За каждый правильный ответ -1 очк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Wa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st der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 Bau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ь показывает фотографии достопримечательностей, связанных с жизнью и творчеством Л. Мартынова, учащиеся называют 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7596360" y="1285920"/>
            <a:ext cx="1547640" cy="2303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357960" y="1000080"/>
            <a:ext cx="154764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8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6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200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s Gebeude   der Dampferschaf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Martinov widmente ihm  das Ged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llade uber Zweistockigehaus”(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C:\Documents and Settings\УРА\Рабочий стол\Документы\Фотки\Фотки Маме к Мартынову\S8300984.JPG"/>
          <p:cNvPicPr/>
          <p:nvPr/>
        </p:nvPicPr>
        <p:blipFill>
          <a:blip r:embed="rId1"/>
          <a:stretch/>
        </p:blipFill>
        <p:spPr>
          <a:xfrm>
            <a:off x="500040" y="1285920"/>
            <a:ext cx="2556000" cy="2411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:\Documents and Settings\УРА\Рабочий стол\Документы\Фотки\Фотки Маме к Мартынову\S8300967.JPG"/>
          <p:cNvPicPr/>
          <p:nvPr/>
        </p:nvPicPr>
        <p:blipFill>
          <a:blip r:embed="rId2"/>
          <a:stretch/>
        </p:blipFill>
        <p:spPr>
          <a:xfrm rot="21540000">
            <a:off x="4519440" y="1385640"/>
            <a:ext cx="3240360" cy="22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34:30Z</dcterms:created>
  <dc:creator>Яна</dc:creator>
  <dc:description/>
  <dc:language>en-US</dc:language>
  <cp:lastModifiedBy>User</cp:lastModifiedBy>
  <dcterms:modified xsi:type="dcterms:W3CDTF">2010-12-15T18:51:59Z</dcterms:modified>
  <cp:revision>37</cp:revision>
  <dc:subject/>
  <dc:title>Использование краеведческого материала о жизни и творчестве омского поэта                     Леонида Мартынова на уроках немецкого языка                                     как средство воспитания любви  к родному краю.</dc:title>
</cp:coreProperties>
</file>