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69B-7D49-4F40-BFFA-2B7367C7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E8A-5BD0-4C57-89C7-E951431D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555-E108-4D37-80BF-EE4EEBC0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605-E099-4AE3-8882-C5F80582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8953-FD7C-4221-951E-0BD69B8F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D518-C5F3-4115-8458-0F88D2B7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E2CD-2CA0-444E-BA9E-B6F4615B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0F49-C747-48F6-843C-22C0FE97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1FFA-5263-4FD7-B34A-1AF05CBC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E6E9-05B1-4776-96FB-E0ADD05C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C727-4D20-40B6-B61D-92E052E8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0B3-F884-4639-8C3B-C915FEB6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A49D-0C25-4F9A-8EC0-A2DD69FF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FAE5-C0A2-4D56-8A36-716F6B44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5B6A-D5A6-4842-92ED-A8F4570C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FDE4-B640-41F0-95B9-5A79148B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C0F9-67F6-4BB7-9202-819A57C8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F44-F69F-475E-A02B-FC0DD605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48A-5535-48BB-A20D-C6A7A690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29A-0562-40E6-9C82-A086F84D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11E-6E23-4243-8024-7A9619CF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F2B-41BE-42F1-8B82-906A5084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663-0F33-4A8D-92F0-587DD0C0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644-B704-4CDB-824A-379BD783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7AE6-74A2-464E-ADD4-FD705897B55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5C3E-42C2-441A-B2B4-B8B0C8446EF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ема классного часа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«Будьте добры»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говорки о доброт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оброе слово лечит, злое калечи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то любит добрые дела, тому и жизнь мил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лай другим добро – будешь сам без бед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Худо тому, кто добра не творит ником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его не сделаешь силком, того добьешься добр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обрые умирают да дела их живу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иви добрее, будешь всем милее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авила добро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40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Будь приветлив, вежлив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Будь внимателен к людям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Делай добрые дела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Не отвечай злом на зло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14400" y="189000"/>
            <a:ext cx="7391520" cy="63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289080"/>
            <a:ext cx="6477120" cy="61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3038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7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Доброта – отзывчивость, душевное расположение к людям, стремление делать добро другим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Толковый словар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0592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авайте поклоняться доброте!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авайте с думой жить о доброте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ся в голубой и звездной красоте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емля добра. Она дарит нас хлебом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Живой водой и деревом в цвету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д этим вечно неспокойным небо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авайте воевать за доброту!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А. Чепур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овет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70930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ей друзей без передыш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ждый день по полчас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твоя мускулату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анет крепче кирпич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гда могучими рукам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ы, когда придут враг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можешь в трудную минут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щитить своих друз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сли друг твой самый лучш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кользнулся и упал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кажи на друга пальц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хватайся за живо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усть он видит, лежа в луже, 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ы ничуть не огорче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стоящий друг не люби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828440" y="304560"/>
            <a:ext cx="70102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горчать своих друз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что-нибудь случилос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икто не виноват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 ходи туда, инач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иноватым будешь т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рячься где-нибудь в сторонк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потом иди дом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про то, что видел это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икому не говор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вчонок надо никогд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игде не замеча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е давать прохода и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игде и никогд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м надо ножки подставля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гать из-за угла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б сразу поняли он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 них вам дела не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вчонку встретил - быстро 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казывай язы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скай не думает она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ты в нее влюбле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Из книги Григория Остера «Вредные советы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иту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934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ситуация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Вашему другу купили диск с интересным фильмом. Он поделился этой радостью с вами. Как вы поступите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ситуация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Друг долго тренировался и в соревнованиях занял первое место. Он очень рад и рассказывает об этом вам. Как вы поступите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ситуация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Ваш друг решил стать отличником. Он занимался долго и упорно и в конце года у него были все пятерки. Как вы поступите в ответ на его радост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7:05:07Z</dcterms:created>
  <dc:creator>Юсуповы</dc:creator>
  <dc:description/>
  <dc:language>en-US</dc:language>
  <cp:lastModifiedBy>Юсуповы</cp:lastModifiedBy>
  <dcterms:modified xsi:type="dcterms:W3CDTF">2012-12-17T06:21:3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