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C2E4-1095-4A19-955A-F7AA02EBD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F558-A14E-4AAF-9858-A7089289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31E9-D36D-47E9-BF2F-04FEED6F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1228-3BBC-46A3-AAB0-756C057D8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9453-033E-41C5-9568-FA1B9D65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9FC1-98A3-445D-9794-FE2374E1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60B3-9335-4011-A948-ADD7868C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C771-C3C6-4EBD-8F08-7972078D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2BAD-B341-4C64-9549-62D7E9F1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ACFA-5222-46F8-97AB-4823275E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4932-8D0C-46BE-B1F5-44110A37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19B6-2C43-430A-8851-C3C1F4E8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C51D-FBCF-417F-9C8C-3C52DCE8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EE4D-19C3-4FC9-8D1E-0BDD7ED5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5A11-5FC0-482D-910B-5E7C40C9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DF0D-ED24-4B5E-9767-0DACF233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E314-0BCD-4D99-B2C2-86C8BD697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29CF-E444-42B7-BA70-1E841713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1A9A-65F0-4EAF-9977-B09AAE32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8125-6901-4E51-83DC-96AC0677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DB4C-9EA4-47E0-B2E6-0E1CC918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0174-3CEC-49D4-9470-235B80A3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637B-BBAF-460F-87BE-4F9D54BD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FC62-7F6A-4379-9C5E-B29262AE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85DD-3C0D-447C-B83C-519F9A47246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8017-24ED-4B55-BDAB-1A0A262A9E6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Тема классного часа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«Будьте добры»</a:t>
            </a: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оговорки о доброт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•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оброе слово лечит, злое калечит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•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то любит добрые дела, тому и жизнь мил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елай другим добро – будешь сам без беды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•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Худо тому, кто добра не творит никому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Чего не сделаешь силком, того добьешься добром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обрые умирают да дела их живут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Живи добрее, будешь всем милее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авила доброт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40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Будь приветлив, вежлив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Будь внимателен к людям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. Делай добрые дела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. Не отвечай злом на зло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14400" y="189000"/>
            <a:ext cx="7391520" cy="63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289080"/>
            <a:ext cx="6477120" cy="618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30388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7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Доброта – отзывчивость, душевное расположение к людям, стремление делать добро другим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Толковый словар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05920" cy="623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Давайте поклоняться доброте!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Давайте с думой жить о доброте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ся в голубой и звездной красоте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емля добра. Она дарит нас хлебом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Живой водой и деревом в цвету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од этим вечно неспокойным небом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Давайте воевать за доброту!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А. Чепуров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Совет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52120" y="990360"/>
            <a:ext cx="70930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ей друзей без передыш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ждый день по полчаса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 твоя мускулатур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танет крепче кирпич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огда могучими руками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ы, когда придут враги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можешь в трудную минут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щитить своих друз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Если друг твой самый лучш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скользнулся и упал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кажи на друга пальце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 хватайся за живо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усть он видит, лежа в луже, 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ы ничуть не огорче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стоящий друг не люби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828440" y="304560"/>
            <a:ext cx="70102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горчать своих друзе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Если что-нибудь случилось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никто не виноват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 ходи туда, инач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иноватым будешь т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прячься где-нибудь в сторонк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 потом иди домо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про то, что видел это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икому не говор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евчонок надо никогд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игде не замечат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не давать прохода и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игде и никогд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м надо ножки подставлять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угать из-за угла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тоб сразу поняли они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о них вам дела не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евчонку встретил - быстро е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казывай язык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ускай не думает она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то ты в нее влюблен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Из книги Григория Остера «Вредные советы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итуа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6934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 ситуация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Вашему другу купили диск с интересным фильмом. Он поделился этой радостью с вами. Как вы поступите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 ситуация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Друг долго тренировался и в соревнованиях занял первое место. Он очень рад и рассказывает об этом вам. Как вы поступите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 ситуация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Ваш друг решил стать отличником. Он занимался долго и упорно и в конце года у него были все пятерки. Как вы поступите в ответ на его радость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17:05:07Z</dcterms:created>
  <dc:creator>Юсуповы</dc:creator>
  <dc:description/>
  <dc:language>en-US</dc:language>
  <cp:lastModifiedBy>Юсуповы</cp:lastModifiedBy>
  <dcterms:modified xsi:type="dcterms:W3CDTF">2012-12-17T06:21:35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