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347-3132-44BB-9C08-3603D02D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033-29DD-437B-8369-846D279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90A-D50C-4C4A-BFAC-CB93F30F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E4A-A491-44FA-B215-A2134F8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3EF5-324A-4174-8691-EADA5AC7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A09A-48D5-4D63-ADA2-E4011A4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C437-3B87-4E3F-BE0D-9C6CB044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5194-D82F-4234-ACCE-B87CA31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1FF9-7D7D-45A0-8317-6280BDFB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CD4B-E148-46A4-97FF-CDBF4767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59EA-426A-4C2E-A90A-680E183D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F3F-887B-4D4C-A5E4-2254DA04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98D-D86C-4955-9AE5-F59DB9D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B7F-5F27-488B-A2AC-AC9FD3F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CC4-2B90-450A-8C77-F0E9EBFC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A3B4-1773-4AB1-AD66-B0CB873F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549-A658-435A-A715-498433B4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16F-1328-4842-A71C-1733563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AE0-380F-4D38-A2CE-E32C440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15F-C68A-44A4-86B2-BDAF257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3F9-1190-4FE2-B4AC-65EC4FF7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A5B-05F0-40B9-84C6-BA93FB7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BE0-0879-4CF4-A5B9-49F722C7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BB2-56BF-400A-B688-4CFCFAF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B9E-D7BB-45BA-9D29-67CE58DAB8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6A3-5C93-481F-A4EC-BF9ECD8A62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2b2b2"/>
                </a:solidFill>
                <a:latin typeface="Arial"/>
              </a:rPr>
              <a:t>Космический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тарт космического корабля с космодрома Байкон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600200"/>
            <a:ext cx="67788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Скафандр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4392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равнительные размеры планет солнечной систем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81200" y="1989000"/>
            <a:ext cx="6562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звездие Большая Медведиц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6696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мета Галле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598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енер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6286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атурн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1209000">
            <a:off x="2123640" y="1915920"/>
            <a:ext cx="702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Какую форму имеет Земля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79640" y="1484280"/>
            <a:ext cx="6264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иколай Коперник (1473-1543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ьский астро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ил переворот в естествознании: объяснил, что планеты вращаются вокруг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жордано Бруно (1548 – 1600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тальянский философ и поэ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ытался доказать, что Земля кругл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5384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ервые летательные аппара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595008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душный ш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59500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ижаб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оположники космонавти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097440" cy="3313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6088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стантин Эдуардович Циол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68152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гей Павлович Королё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Первый советский автоматический лунный самоходный аппарат «Луноход-1»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540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октября 1957 года – запущен первый искус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ноября 1957 года – запущен второй искусственный спутник, в его кабине была собака Ла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августа 1960 года – запущен первый космический корабль, на его борту находились собаки – Белка и Стрел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2 апреля 1961 г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3600360" cy="388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21200" y="1557360"/>
            <a:ext cx="3322800" cy="391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0920" y="568152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рий Алексеевич Гага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03:39Z</dcterms:created>
  <dc:creator>Admin</dc:creator>
  <dc:description/>
  <dc:language>en-US</dc:language>
  <cp:lastModifiedBy>Владелец</cp:lastModifiedBy>
  <dcterms:modified xsi:type="dcterms:W3CDTF">2012-10-10T09:24:47Z</dcterms:modified>
  <cp:revision>7</cp:revision>
  <dc:subject/>
  <dc:title>Космический </dc:title>
</cp:coreProperties>
</file>