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7E61-320B-4E21-B23C-0A5FCFA6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5236-BF2C-4C35-9033-2847A8E8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3F18-9025-43E5-B3AB-7DF0369C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D91-FAF0-491F-8D0E-3E71A493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7F1D-5C27-460F-BE1E-DB92C428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EA6D-FF56-4F63-9B78-BD9B73DD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BB58-7B2B-43AC-A4C9-626D2DD6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D1E1-4DAC-4C31-B6A8-AFB9AA33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B938-936B-4424-A3BE-DF80071F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8B1D-C5B1-4D8F-9519-B941EE57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A7B0-8799-4DB0-923D-FC77EC93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89F-598C-4C2C-86C2-D66F2FFC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633E-C4C1-4A9F-833C-71DC2350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A8C2-20E4-41A0-A96E-1DF3A187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FAC9-CA1E-466A-A800-5EB1A0A9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9826-2192-4A06-AE95-3DB41298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1D8B-C61A-4824-BC01-554FB5C9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0C37-737C-4623-965E-715E5A62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1C0-3D1A-4F4F-9922-ADE20C8A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C77-AADB-46F3-B282-D4F70E5C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BAA-5826-4BC9-93D6-2128C8FD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3EBF-C70F-4A3A-9E2F-15B05B59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CB6-498B-45DB-AD39-E5C8A344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86FA-F304-4489-A502-9D1F4415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12C4-045D-48A2-B490-54FFF15EE5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4A6A-6C7E-4DE8-8196-A8413F026E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2b2b2"/>
                </a:solidFill>
                <a:latin typeface="Arial"/>
              </a:rPr>
              <a:t>Космический</a:t>
            </a: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КВН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тарт космического корабля с космодрома Байконур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08000" y="1600200"/>
            <a:ext cx="67788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Скафандр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95640" y="1916280"/>
            <a:ext cx="43927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равнительные размеры планет солнечной систем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81200" y="1989000"/>
            <a:ext cx="65628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озвездие Большая Медведиц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6696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мета Галле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5986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енера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03640" y="2133720"/>
            <a:ext cx="62863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атурн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 rot="1209000">
            <a:off x="2123640" y="1915920"/>
            <a:ext cx="7020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Какую форму имеет Земля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879640" y="1484280"/>
            <a:ext cx="62643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Николай Коперник (1473-1543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ьский астрон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ершил переворот в естествознании: объяснил, что планеты вращаются вокруг Солн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259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Джордано Бруно (1548 – 1600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тальянский философ и поэ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ытался доказать, что Земля кругл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353844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ервые летательные аппарат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4038840" cy="4530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5950080"/>
            <a:ext cx="37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душный ш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595008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рижаб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Основоположники космонавтик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3168720" cy="3313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097440" cy="33130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560880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нстантин Эдуардович Циолков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92720" y="568152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ргей Павлович Королё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Первый советский автоматический лунный самоходный аппарат «Луноход-1»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348000" y="2492280"/>
            <a:ext cx="54007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октября 1957 года – запущен первый искусственный спутник Зем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ноября 1957 года – запущен второй искусственный спутник, в его кабине была собака Лай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августа 1960 года – запущен первый космический корабль, на его борту находились собаки – Белка и Стрел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12 апреля 1961 год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3600360" cy="388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821200" y="1557360"/>
            <a:ext cx="3322800" cy="3916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050920" y="5681520"/>
            <a:ext cx="34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Юрий Алексеевич Гагар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7:03:39Z</dcterms:created>
  <dc:creator>Admin</dc:creator>
  <dc:description/>
  <dc:language>en-US</dc:language>
  <cp:lastModifiedBy>Владелец</cp:lastModifiedBy>
  <dcterms:modified xsi:type="dcterms:W3CDTF">2012-10-10T09:24:47Z</dcterms:modified>
  <cp:revision>7</cp:revision>
  <dc:subject/>
  <dc:title>Космический </dc:title>
</cp:coreProperties>
</file>