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F3F-075A-4E1E-94A1-69F36B74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ED4-DC46-4B71-924F-BEEECAA6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097-E772-4AF3-A740-8DD2D96D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C69-8533-49B9-8D80-699E577B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1A5-0D90-45E2-8013-F907A520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6EF-5826-40BB-8750-10A32527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A4A-B702-4600-B790-48FFFDB7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4AD-7540-4293-81A1-4DC5BDFA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47F-CCB3-438C-9214-97E24393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617-5E80-4407-BAE7-8FE9BE82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70A-FB5C-42E3-97B8-81C9E946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5C1-6E2E-4654-B8FA-101E102E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EC73-EDCE-4338-9F2A-CC1EE691E2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85680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Компетентностный подход к работе с одаренными деть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опыта работы МО учителей математики МОУ лицея №8 имени Н.Н. Рукавишни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f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icture"/>
          <p:cNvPicPr/>
          <p:nvPr/>
        </p:nvPicPr>
        <p:blipFill>
          <a:blip r:embed="rId1"/>
          <a:stretch/>
        </p:blipFill>
        <p:spPr>
          <a:xfrm>
            <a:off x="214200" y="428760"/>
            <a:ext cx="4929480" cy="3929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0" name="Picture 2" descr="picture"/>
          <p:cNvPicPr/>
          <p:nvPr/>
        </p:nvPicPr>
        <p:blipFill>
          <a:blip r:embed="rId2"/>
          <a:stretch/>
        </p:blipFill>
        <p:spPr>
          <a:xfrm>
            <a:off x="3929040" y="3143160"/>
            <a:ext cx="4929120" cy="35337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f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85880" y="285840"/>
          <a:ext cx="7643880" cy="6449760"/>
        </p:xfrm>
        <a:graphic>
          <a:graphicData uri="http://schemas.openxmlformats.org/drawingml/2006/table">
            <a:tbl>
              <a:tblPr/>
              <a:tblGrid>
                <a:gridCol w="3929040"/>
                <a:gridCol w="3714840"/>
              </a:tblGrid>
              <a:tr h="64497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С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скоро конференц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скоро конференц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товимся мы сутки напролё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нашим презентация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нашим выступлен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с нами диалог ведё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сны все старани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сил усвоить зн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ипаются усталые глаз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идно в наказ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х-Несское чудовищ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ходит к нам кошмаром до ут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рипе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снится нам не грохот дискоте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даже не гулянья под луно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снятся нам таблицы и решенья, Серьёзное жюри, вопросов р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ИХОТВО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йны созданья, загадки природ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юдей волновали, манили всегд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ум и воля сподвигли народ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следовать космос, ваять город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лько талантов вскормила Россия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ченов, Павлов, плеяда врачей!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ни сердец бьются в такт с медициной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свет их горит, словно пламя свече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Родины нашей в нелёгкое врем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лжны мы продолжить ответственный пут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ука - это не тяжкое брем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ука - соль жизни, знания сут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много ещё впереди откровений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нений, исканий, открытий - не счесть!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уке себя посвятить без сомне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вклад привнести - для каждого честь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урцева Наталья, ученица 7Б класса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лен Совета НОО «Большая восьмёр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f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Знаю – могу применить – владею способами применения – имею свое отношен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525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37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Times New Roman"/>
              </a:rPr>
              <a:t>Успехов в новом учебном году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525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5300" spc="-1" strike="noStrike">
                <a:solidFill>
                  <a:srgbClr val="000000"/>
                </a:solidFill>
                <a:latin typeface="Times New Roman"/>
              </a:rPr>
              <a:t>Плохой учитель преподносит истину, хороший учит ее находить»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400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. Дистерве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28840" y="1071720"/>
          <a:ext cx="6095880" cy="17524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310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лимпиада, школьный ту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8-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9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0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28840" y="3786120"/>
          <a:ext cx="6095880" cy="1752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310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 «Кенгуру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8-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9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0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14240" y="0"/>
          <a:ext cx="7643880" cy="6757920"/>
        </p:xfrm>
        <a:graphic>
          <a:graphicData uri="http://schemas.openxmlformats.org/drawingml/2006/table">
            <a:tbl>
              <a:tblPr/>
              <a:tblGrid>
                <a:gridCol w="1643040"/>
                <a:gridCol w="1143000"/>
                <a:gridCol w="1428840"/>
                <a:gridCol w="1714680"/>
                <a:gridCol w="1714320"/>
              </a:tblGrid>
              <a:tr h="306360">
                <a:tc rowSpan="2"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9-201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0-201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родск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ластн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родск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ластн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лимпиада  9-11 класс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место (9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рез-т(10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место(9 кл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ниорская олимпиад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-9 класс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место (7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место (5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место (6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место (6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место (6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место (7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 «Кенгуру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место(11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 ТОИПКРО «Сказка на уроке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плом 1 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9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плом 2 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9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плом 3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9 к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30600" rIns="30600" tIns="57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357200" y="1071720"/>
          <a:ext cx="6096240" cy="4555800"/>
        </p:xfrm>
        <a:graphic>
          <a:graphicData uri="http://schemas.openxmlformats.org/drawingml/2006/table">
            <a:tbl>
              <a:tblPr/>
              <a:tblGrid>
                <a:gridCol w="2714760"/>
                <a:gridCol w="338148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к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ге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ение задач повышенной сложности с помощью уравнений. Функции и графики. 9 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ге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тождественных преобразований выражений. 9 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ге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ение уравнений и неравенств с параметрами. 9 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ге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. Подготовка к ЕГЭ. 11 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f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429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Segoe UI"/>
              </a:rPr>
              <a:t>Научное общество обучающихс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эмблема 1"/>
          <p:cNvPicPr/>
          <p:nvPr/>
        </p:nvPicPr>
        <p:blipFill>
          <a:blip r:embed="rId1"/>
          <a:stretch/>
        </p:blipFill>
        <p:spPr>
          <a:xfrm>
            <a:off x="3000240" y="571680"/>
            <a:ext cx="32148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f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ff9900"/>
                </a:solidFill>
                <a:latin typeface="Calibri"/>
              </a:rPr>
              <a:t>Разработаны документы по организации исследовательской деятельности 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1428840"/>
            <a:ext cx="8715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alibri"/>
              </a:rPr>
              <a:t>- Устав НО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alibri"/>
              </a:rPr>
              <a:t>- Положение НО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alibri"/>
              </a:rPr>
              <a:t>- Критерии оценки научно-исследовательских работ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alibri"/>
              </a:rPr>
              <a:t>- Правила оформления научной работы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alibri"/>
              </a:rPr>
              <a:t>- Примерный план выступления школьника-исследователя на научно-практической конференци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alibri"/>
              </a:rPr>
              <a:t>- Требования к оформлению тези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349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f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731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5480" y="356760"/>
            <a:ext cx="85597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457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576f"/>
                </a:solidFill>
                <a:latin typeface="Calibri"/>
              </a:rPr>
              <a:t>В рамках деятельности НОО осуществляет работу экспертный совет. В состав экспертного совета входят научные консультанты, руководители МО. Члены экспертного совета оказывают профессиональную консультационную помощь обучающимся в процессе работы над проектами, проводят независимую экспертизу работ, представленных на промежуточных и заключительных конферен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457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f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ff9900"/>
                </a:solidFill>
                <a:uFillTx/>
                <a:latin typeface="Calibri"/>
              </a:rPr>
              <a:t>Члены НОО обязан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6760" y="856800"/>
            <a:ext cx="8488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активно работать в одной или более секция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участвовать в работе научно-практической конферен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амостоятельно углублять знания по избранной отрасли науки, техники, искусства, участвовать в их пропаганде среди обучающих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отчитываться о своей работе на заседании предметной секции, на конферен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2:52:11Z</dcterms:created>
  <dc:creator>Zver</dc:creator>
  <dc:description/>
  <dc:language>en-US</dc:language>
  <cp:lastModifiedBy>Zver</cp:lastModifiedBy>
  <dcterms:modified xsi:type="dcterms:W3CDTF">2013-01-18T04:31:39Z</dcterms:modified>
  <cp:revision>21</cp:revision>
  <dc:subject/>
  <dc:title>Компетентностный подход к работе с одаренными детьми</dc:title>
</cp:coreProperties>
</file>