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86D-561A-4CB8-9C6F-D7C55514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21A-5FD3-4DDE-BFC5-1D1533E9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087-2BE3-4266-BC64-17BC43FD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D63-24EF-4C44-9740-35F1AFCE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4A8-C570-41EC-AD60-B16541FB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B7E-D2DA-4941-BDF9-5036D8BD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245-46B4-462B-9462-BC2D00B1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79D-E58D-4A9F-91D0-4091B6D2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EA9-6AE4-4E32-B54B-2175CD7B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30A-4ABB-40AC-AC60-4FD1D879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BB8-02D2-4146-A309-2E3148EF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8B8-B73B-448A-9FA5-4E3F4120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F7AE-4556-4688-9D8C-D9F61FE6C5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85680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Компетентностный подход к работе с одаренными деть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опыта работы МО учителей математики МОУ лицея №8 имени Н.Н. Рукавишни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icture"/>
          <p:cNvPicPr/>
          <p:nvPr/>
        </p:nvPicPr>
        <p:blipFill>
          <a:blip r:embed="rId1"/>
          <a:stretch/>
        </p:blipFill>
        <p:spPr>
          <a:xfrm>
            <a:off x="214200" y="428760"/>
            <a:ext cx="4929480" cy="3929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0" name="Picture 2" descr="picture"/>
          <p:cNvPicPr/>
          <p:nvPr/>
        </p:nvPicPr>
        <p:blipFill>
          <a:blip r:embed="rId2"/>
          <a:stretch/>
        </p:blipFill>
        <p:spPr>
          <a:xfrm>
            <a:off x="3929040" y="3143160"/>
            <a:ext cx="4929120" cy="3533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85880" y="285840"/>
          <a:ext cx="7643880" cy="6449760"/>
        </p:xfrm>
        <a:graphic>
          <a:graphicData uri="http://schemas.openxmlformats.org/drawingml/2006/table">
            <a:tbl>
              <a:tblPr/>
              <a:tblGrid>
                <a:gridCol w="3929040"/>
                <a:gridCol w="3714840"/>
              </a:tblGrid>
              <a:tr h="64497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С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скоро конференц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скоро конференц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товимся мы сутки напролё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нашим презентация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нашим выступлен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с нами диалог ведё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сны все старани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сил усвоить зн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ипаются усталые глаз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идно в наказ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х-Несское чудовищ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ходит к нам кошмаром до ут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ипе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снится нам не грохот дискоте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даже не гулянья под луно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снятся нам таблицы и решенья, Серьёзное жюри, вопросов р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ИХОТВ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йны созданья, загадки природ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дей волновали, манили всегд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ум и воля сподвигли народ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следовать космос, ваять город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лько талантов вскормила Россия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ченов, Павлов, плеяда врачей!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ни сердец бьются в такт с медицино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свет их горит, словно пламя свече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Родины нашей в нелёгкое вре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жны мы продолжить ответственный пу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ука - это не тяжкое брем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ука - соль жизни, знания су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много ещё впереди откровени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нений, исканий, открытий - не счесть!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уке себя посвятить без сомне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вклад привнести - для каждого честь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урцева Наталья, ученица 7Б класса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лен Совета НОО «Большая восьмёр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Знаю – могу применить – владею способами применения – имею свое отноше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525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37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Успехов в новом учебном году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525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5300" spc="-1" strike="noStrike">
                <a:solidFill>
                  <a:srgbClr val="000000"/>
                </a:solidFill>
                <a:latin typeface="Times New Roman"/>
              </a:rPr>
              <a:t>Плохой учитель преподносит истину, хороший учит ее находить»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400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. Дистерве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28840" y="1071720"/>
          <a:ext cx="6095880" cy="1752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310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лимпиада, школьный ту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8-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9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28840" y="3786120"/>
          <a:ext cx="6095880" cy="1752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310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«Кенгуру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8-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9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14240" y="0"/>
          <a:ext cx="7643880" cy="6757920"/>
        </p:xfrm>
        <a:graphic>
          <a:graphicData uri="http://schemas.openxmlformats.org/drawingml/2006/table">
            <a:tbl>
              <a:tblPr/>
              <a:tblGrid>
                <a:gridCol w="1643040"/>
                <a:gridCol w="1143000"/>
                <a:gridCol w="1428840"/>
                <a:gridCol w="1714680"/>
                <a:gridCol w="1714320"/>
              </a:tblGrid>
              <a:tr h="306360">
                <a:tc rowSpan="2"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9-201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0-201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одск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ластн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одск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ластн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лимпиада  9-11 клас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место (9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рез-т(10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место(9 кл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ниорская олимпиад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9 клас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место (7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место (5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место (6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место (6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место (6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место (7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«Кенгуру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место(11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ТОИПКРО «Сказка на уроке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плом 1 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9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плом 2 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9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плом 3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9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357200" y="1071720"/>
          <a:ext cx="6096240" cy="4555800"/>
        </p:xfrm>
        <a:graphic>
          <a:graphicData uri="http://schemas.openxmlformats.org/drawingml/2006/table">
            <a:tbl>
              <a:tblPr/>
              <a:tblGrid>
                <a:gridCol w="2714760"/>
                <a:gridCol w="338148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к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ге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 задач повышенной сложности с помощью уравнений. Функции и графики. 9 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ге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тождественных преобразований выражений. 9 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ге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 уравнений и неравенств с параметрами. 9 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ге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. Подготовка к ЕГЭ. 11 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429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Segoe UI"/>
              </a:rPr>
              <a:t>Научное общество обучающих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эмблема 1"/>
          <p:cNvPicPr/>
          <p:nvPr/>
        </p:nvPicPr>
        <p:blipFill>
          <a:blip r:embed="rId1"/>
          <a:stretch/>
        </p:blipFill>
        <p:spPr>
          <a:xfrm>
            <a:off x="3000240" y="571680"/>
            <a:ext cx="32148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ff9900"/>
                </a:solidFill>
                <a:latin typeface="Calibri"/>
              </a:rPr>
              <a:t>Разработаны документы по организации исследовательской деятельности 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1428840"/>
            <a:ext cx="8715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alibri"/>
              </a:rPr>
              <a:t>- Устав НО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alibri"/>
              </a:rPr>
              <a:t>- Положение НО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alibri"/>
              </a:rPr>
              <a:t>- Критерии оценки научно-исследовательских работ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alibri"/>
              </a:rPr>
              <a:t>- Правила оформления научной работ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alibri"/>
              </a:rPr>
              <a:t>- Примерный план выступления школьника-исследователя на научно-практической конференц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alibri"/>
              </a:rPr>
              <a:t>- Требования к оформлению тези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731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480" y="356760"/>
            <a:ext cx="85597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457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576f"/>
                </a:solidFill>
                <a:latin typeface="Calibri"/>
              </a:rPr>
              <a:t>В рамках деятельности НОО осуществляет работу экспертный совет. В состав экспертного совета входят научные консультанты, руководители МО. Члены экспертного совета оказывают профессиональную консультационную помощь обучающимся в процессе работы над проектами, проводят независимую экспертизу работ, представленных на промежуточных и заключительных конферен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457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ff9900"/>
                </a:solidFill>
                <a:uFillTx/>
                <a:latin typeface="Calibri"/>
              </a:rPr>
              <a:t>Члены НОО обязан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6760" y="856800"/>
            <a:ext cx="8488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активно работать в одной или более секция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участвовать в работе научно-практической конферен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амостоятельно углублять знания по избранной отрасли науки, техники, искусства, участвовать в их пропаганде среди обучающих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тчитываться о своей работе на заседании предметной секции, на конферен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2:52:11Z</dcterms:created>
  <dc:creator>Zver</dc:creator>
  <dc:description/>
  <dc:language>en-US</dc:language>
  <cp:lastModifiedBy>Zver</cp:lastModifiedBy>
  <dcterms:modified xsi:type="dcterms:W3CDTF">2013-01-18T04:31:39Z</dcterms:modified>
  <cp:revision>21</cp:revision>
  <dc:subject/>
  <dc:title>Компетентностный подход к работе с одаренными детьми</dc:title>
</cp:coreProperties>
</file>