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B4C-EA89-49E9-B9CE-A9658E45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C3F-9DBF-42AE-B579-468DB38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1C0-36F4-4B51-80D7-B0D3C63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971-4DDA-4674-AEE1-37BF38FC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D75C-7B3E-4178-8A88-D5CF17C9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445-2928-4950-8C98-A78C64E8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935-15F1-417F-9351-86F9F34D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CF6-6644-4B07-9350-E2838CDF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A138-AA9F-4D04-A260-F0DF688B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C3E-8183-43B5-9980-FEF1069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C177-58F0-42CF-A9B0-C1C530A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39B-07C3-4707-817B-FE6EC66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346-0E7F-4A1C-A928-D6361C7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9F0A-3D3B-4695-9459-E57CA55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2C8-06EE-4282-AFCC-B72E276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989-65B0-4B15-A57E-F02F9121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3B1-7103-493C-AB29-3C36C7F7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4E3-A416-4A39-B715-F30FDCE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725-9582-41B5-A303-29FBF0F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54B-B5C3-4B03-8FFD-BEE0007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D3D-B39C-468B-86CE-BF9E34B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1C0-F121-4061-BA7A-B2F4176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CD8-7EE3-4111-AE13-A7CE45D9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FCC-E0DE-4F72-997E-26E222F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569-8381-4E85-9E88-55A524B85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5FAD-B8D3-4ACB-BD23-406596016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73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85e25"/>
                </a:solidFill>
                <a:latin typeface="Arial"/>
              </a:rPr>
              <a:t>Педагогическая диагностик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0" r="83" b="57518"/>
          <a:stretch/>
        </p:blipFill>
        <p:spPr>
          <a:xfrm>
            <a:off x="179280" y="1341360"/>
            <a:ext cx="88534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876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8243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64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25560" y="1484280"/>
            <a:ext cx="9039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20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959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Задание 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578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едагогическая диагностика-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вокупность специально подобранных и систематизированных заданий, которые позво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У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ранить их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468360" y="119700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дагогическая диагностика позволяет выявить качество усвоения учащимися учебного материала,  и прежде всего умение детей применять свои знания в новой ситуации, сопоставлять текст задания с возможными вариантами его решения, выбирать правильный ответ, выполняя при  этом мыслительные операции анализа, синтеза, сравнения, обобщения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Педагогическая диагностика проверя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пространствен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зритель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моторики и зрительно-моторных координ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проводить классификацию и выделять признаки, по которым она произвед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интуитивных дочисловых предста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ние представлениями, лежащими в основе счета; самим счетом (в пределах 6), представлениями об операциях сложения и выч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равнивать два множества по числу эле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 и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предпосылок к успешному овладению звуковым анализом и синте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ая диагностика проводится ежегодно в начале, середине и конце учебного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диагностическое обследование в первом классе проводится в сентябре - это диагностика готовности ребенка к 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т не предметные знания, а определяет сформированность  у ребенка предпосылок к овладению грамотой и математ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ая диагностика проводится в середине учебного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увидеть продвижение детей за прошедшие полгода и наметить, что нужно изменить в обучении каждого ученика в последующие полгода ,чтобы достичь планируем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ка, проводимая в конце года, дает возможность подвести итог работы, увидеть, каковы успехи каждого ученика в усвоении необходимых знаний и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едагогическая диагностика содержит два этапа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тап – групповое обслед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тап – индивидуальное обслед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Русакова Татьяна Александровна</cp:lastModifiedBy>
  <dcterms:modified xsi:type="dcterms:W3CDTF">2011-12-13T08:45:35Z</dcterms:modified>
  <cp:revision>10</cp:revision>
  <dc:subject>урок</dc:subject>
  <dc:title>Презентация</dc:title>
</cp:coreProperties>
</file>