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BC9-67D8-4C09-AB14-D1D2538A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B03-3449-4D66-AA2F-5A641938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BFFE-50A5-44D4-A3C0-01C7A0CB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00C-0693-4E88-8B5B-AB0462A7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3E9E-7682-4065-999E-D8F29445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5FF4-4BEE-4EC8-9ED4-C5F15897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FB63-1BED-4DBF-893E-EDC49273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C6C0-4B07-49A9-8705-3D6FBDB2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E688-189F-445F-B796-0AE676FB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0532-7353-4465-888D-3FCC626D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64FF-B971-42CF-927B-513D9F1C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FE67-C8BC-496C-9D4F-F3E892F5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0175-76F1-4E2D-B908-BFE525A4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B885-1052-4F1F-8207-DF92623B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71CA-090A-4B62-AC27-89ED722D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9C66-54BE-4C8E-A35D-4C96B8F5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5252-D34B-47F2-9548-9087029E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A56-F415-4629-83FC-7E8CA6FE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07B8-391F-4F88-819D-1805E6C9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DD4-FFA0-4113-9F63-FF97D450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C8A6-8894-4F97-9263-0676C171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744-3E9B-4EF4-9471-F7BD49FE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03A-3FE6-488D-86BA-B8B3596F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08C-00A6-45BA-B499-BBABD342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5"/>
          <p:cNvSpPr/>
          <p:nvPr/>
        </p:nvSpPr>
        <p:spPr>
          <a:xfrm>
            <a:off x="96840" y="638172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" name="Freeform 26"/>
          <p:cNvSpPr/>
          <p:nvPr/>
        </p:nvSpPr>
        <p:spPr>
          <a:xfrm>
            <a:off x="103320" y="64533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92720" y="544464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9CC4-93F7-4D2F-BA34-28595C6961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40" descr="j0152694"/>
          <p:cNvPicPr/>
          <p:nvPr/>
        </p:nvPicPr>
        <p:blipFill>
          <a:blip r:embed="rId5"/>
          <a:stretch/>
        </p:blipFill>
        <p:spPr>
          <a:xfrm>
            <a:off x="824400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158"/>
          <p:cNvSpPr/>
          <p:nvPr/>
        </p:nvSpPr>
        <p:spPr>
          <a:xfrm>
            <a:off x="5321160" y="115920"/>
            <a:ext cx="3822840" cy="6765840"/>
          </a:xfrm>
          <a:custGeom>
            <a:avLst/>
            <a:gdLst/>
            <a:ahLst/>
            <a:rect l="l" t="t" r="r" b="b"/>
            <a:pathLst>
              <a:path w="2502" h="4352">
                <a:moveTo>
                  <a:pt x="882" y="17"/>
                </a:moveTo>
                <a:cubicBezTo>
                  <a:pt x="2077" y="287"/>
                  <a:pt x="2361" y="1554"/>
                  <a:pt x="2105" y="2560"/>
                </a:cubicBezTo>
                <a:cubicBezTo>
                  <a:pt x="1849" y="3566"/>
                  <a:pt x="905" y="3993"/>
                  <a:pt x="0" y="4344"/>
                </a:cubicBezTo>
                <a:lnTo>
                  <a:pt x="1242" y="4352"/>
                </a:lnTo>
                <a:cubicBezTo>
                  <a:pt x="1563" y="4096"/>
                  <a:pt x="2205" y="3360"/>
                  <a:pt x="2336" y="2584"/>
                </a:cubicBezTo>
                <a:cubicBezTo>
                  <a:pt x="2468" y="1808"/>
                  <a:pt x="2502" y="416"/>
                  <a:pt x="1186" y="0"/>
                </a:cubicBezTo>
                <a:lnTo>
                  <a:pt x="882" y="17"/>
                </a:lnTo>
                <a:close/>
              </a:path>
            </a:pathLst>
          </a:custGeom>
          <a:gradFill rotWithShape="0">
            <a:gsLst>
              <a:gs pos="0">
                <a:srgbClr val="e3fed8"/>
              </a:gs>
              <a:gs pos="100000">
                <a:srgbClr val="99fa7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" name="Group 79"/>
          <p:cNvGrpSpPr/>
          <p:nvPr/>
        </p:nvGrpSpPr>
        <p:grpSpPr>
          <a:xfrm>
            <a:off x="755640" y="1197000"/>
            <a:ext cx="7849080" cy="4858560"/>
            <a:chOff x="755640" y="1197000"/>
            <a:chExt cx="7849080" cy="4858560"/>
          </a:xfrm>
        </p:grpSpPr>
        <p:grpSp>
          <p:nvGrpSpPr>
            <p:cNvPr id="51" name="Group 80"/>
            <p:cNvGrpSpPr/>
            <p:nvPr/>
          </p:nvGrpSpPr>
          <p:grpSpPr>
            <a:xfrm>
              <a:off x="985320" y="1197000"/>
              <a:ext cx="927720" cy="4833000"/>
              <a:chOff x="985320" y="1197000"/>
              <a:chExt cx="927720" cy="4833000"/>
            </a:xfrm>
          </p:grpSpPr>
          <p:sp>
            <p:nvSpPr>
              <p:cNvPr id="52" name="Line 81"/>
              <p:cNvSpPr/>
              <p:nvPr/>
            </p:nvSpPr>
            <p:spPr>
              <a:xfrm flipV="1">
                <a:off x="985320" y="12078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3" name="Line 82"/>
              <p:cNvSpPr/>
              <p:nvPr/>
            </p:nvSpPr>
            <p:spPr>
              <a:xfrm flipV="1">
                <a:off x="1284120" y="11970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4" name="Line 83"/>
              <p:cNvSpPr/>
              <p:nvPr/>
            </p:nvSpPr>
            <p:spPr>
              <a:xfrm flipV="1">
                <a:off x="160380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5" name="Line 84"/>
              <p:cNvSpPr/>
              <p:nvPr/>
            </p:nvSpPr>
            <p:spPr>
              <a:xfrm flipV="1">
                <a:off x="1913040" y="122220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5"/>
            <p:cNvGrpSpPr/>
            <p:nvPr/>
          </p:nvGrpSpPr>
          <p:grpSpPr>
            <a:xfrm>
              <a:off x="755640" y="1428120"/>
              <a:ext cx="7849080" cy="4352040"/>
              <a:chOff x="755640" y="1428120"/>
              <a:chExt cx="7849080" cy="4352040"/>
            </a:xfrm>
          </p:grpSpPr>
          <p:grpSp>
            <p:nvGrpSpPr>
              <p:cNvPr id="57" name="Group 86"/>
              <p:cNvGrpSpPr/>
              <p:nvPr/>
            </p:nvGrpSpPr>
            <p:grpSpPr>
              <a:xfrm>
                <a:off x="755640" y="1428120"/>
                <a:ext cx="7827120" cy="871920"/>
                <a:chOff x="755640" y="1428120"/>
                <a:chExt cx="7827120" cy="871920"/>
              </a:xfrm>
            </p:grpSpPr>
            <p:sp>
              <p:nvSpPr>
                <p:cNvPr id="58" name="Line 87"/>
                <p:cNvSpPr/>
                <p:nvPr/>
              </p:nvSpPr>
              <p:spPr>
                <a:xfrm>
                  <a:off x="755640" y="14281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59" name="Line 88"/>
                <p:cNvSpPr/>
                <p:nvPr/>
              </p:nvSpPr>
              <p:spPr>
                <a:xfrm>
                  <a:off x="836280" y="17200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0" name="Line 89"/>
                <p:cNvSpPr/>
                <p:nvPr/>
              </p:nvSpPr>
              <p:spPr>
                <a:xfrm>
                  <a:off x="793800" y="20077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" name="Line 90"/>
                <p:cNvSpPr/>
                <p:nvPr/>
              </p:nvSpPr>
              <p:spPr>
                <a:xfrm>
                  <a:off x="769320" y="23000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Group 91"/>
              <p:cNvGrpSpPr/>
              <p:nvPr/>
            </p:nvGrpSpPr>
            <p:grpSpPr>
              <a:xfrm>
                <a:off x="777240" y="2580840"/>
                <a:ext cx="7827480" cy="871920"/>
                <a:chOff x="777240" y="2580840"/>
                <a:chExt cx="7827480" cy="871920"/>
              </a:xfrm>
            </p:grpSpPr>
            <p:sp>
              <p:nvSpPr>
                <p:cNvPr id="63" name="Line 92"/>
                <p:cNvSpPr/>
                <p:nvPr/>
              </p:nvSpPr>
              <p:spPr>
                <a:xfrm>
                  <a:off x="777240" y="2580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4" name="Line 93"/>
                <p:cNvSpPr/>
                <p:nvPr/>
              </p:nvSpPr>
              <p:spPr>
                <a:xfrm>
                  <a:off x="857880" y="28728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5" name="Line 94"/>
                <p:cNvSpPr/>
                <p:nvPr/>
              </p:nvSpPr>
              <p:spPr>
                <a:xfrm>
                  <a:off x="815400" y="31604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6" name="Line 95"/>
                <p:cNvSpPr/>
                <p:nvPr/>
              </p:nvSpPr>
              <p:spPr>
                <a:xfrm>
                  <a:off x="790920" y="34527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Group 96"/>
              <p:cNvGrpSpPr/>
              <p:nvPr/>
            </p:nvGrpSpPr>
            <p:grpSpPr>
              <a:xfrm>
                <a:off x="755640" y="3755880"/>
                <a:ext cx="7827120" cy="871920"/>
                <a:chOff x="755640" y="3755880"/>
                <a:chExt cx="7827120" cy="871920"/>
              </a:xfrm>
            </p:grpSpPr>
            <p:sp>
              <p:nvSpPr>
                <p:cNvPr id="68" name="Line 97"/>
                <p:cNvSpPr/>
                <p:nvPr/>
              </p:nvSpPr>
              <p:spPr>
                <a:xfrm>
                  <a:off x="755640" y="37558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9" name="Line 98"/>
                <p:cNvSpPr/>
                <p:nvPr/>
              </p:nvSpPr>
              <p:spPr>
                <a:xfrm>
                  <a:off x="836280" y="4047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0" name="Line 99"/>
                <p:cNvSpPr/>
                <p:nvPr/>
              </p:nvSpPr>
              <p:spPr>
                <a:xfrm>
                  <a:off x="793800" y="43354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1" name="Line 100"/>
                <p:cNvSpPr/>
                <p:nvPr/>
              </p:nvSpPr>
              <p:spPr>
                <a:xfrm>
                  <a:off x="769320" y="462780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01"/>
              <p:cNvGrpSpPr/>
              <p:nvPr/>
            </p:nvGrpSpPr>
            <p:grpSpPr>
              <a:xfrm>
                <a:off x="777240" y="4908240"/>
                <a:ext cx="7827480" cy="871920"/>
                <a:chOff x="777240" y="4908240"/>
                <a:chExt cx="7827480" cy="871920"/>
              </a:xfrm>
            </p:grpSpPr>
            <p:sp>
              <p:nvSpPr>
                <p:cNvPr id="73" name="Line 102"/>
                <p:cNvSpPr/>
                <p:nvPr/>
              </p:nvSpPr>
              <p:spPr>
                <a:xfrm>
                  <a:off x="777240" y="49082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4" name="Line 103"/>
                <p:cNvSpPr/>
                <p:nvPr/>
              </p:nvSpPr>
              <p:spPr>
                <a:xfrm>
                  <a:off x="857880" y="52002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5" name="Line 104"/>
                <p:cNvSpPr/>
                <p:nvPr/>
              </p:nvSpPr>
              <p:spPr>
                <a:xfrm>
                  <a:off x="815400" y="5487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6" name="Line 105"/>
                <p:cNvSpPr/>
                <p:nvPr/>
              </p:nvSpPr>
              <p:spPr>
                <a:xfrm>
                  <a:off x="790920" y="57801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" name="Group 106"/>
            <p:cNvGrpSpPr/>
            <p:nvPr/>
          </p:nvGrpSpPr>
          <p:grpSpPr>
            <a:xfrm>
              <a:off x="2240280" y="1222560"/>
              <a:ext cx="927720" cy="4833000"/>
              <a:chOff x="2240280" y="1222560"/>
              <a:chExt cx="927720" cy="4833000"/>
            </a:xfrm>
          </p:grpSpPr>
          <p:sp>
            <p:nvSpPr>
              <p:cNvPr id="78" name="Line 107"/>
              <p:cNvSpPr/>
              <p:nvPr/>
            </p:nvSpPr>
            <p:spPr>
              <a:xfrm flipV="1">
                <a:off x="224028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" name="Line 108"/>
              <p:cNvSpPr/>
              <p:nvPr/>
            </p:nvSpPr>
            <p:spPr>
              <a:xfrm flipV="1">
                <a:off x="253908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" name="Line 109"/>
              <p:cNvSpPr/>
              <p:nvPr/>
            </p:nvSpPr>
            <p:spPr>
              <a:xfrm flipV="1">
                <a:off x="285876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" name="Line 110"/>
              <p:cNvSpPr/>
              <p:nvPr/>
            </p:nvSpPr>
            <p:spPr>
              <a:xfrm flipV="1">
                <a:off x="316800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11"/>
            <p:cNvGrpSpPr/>
            <p:nvPr/>
          </p:nvGrpSpPr>
          <p:grpSpPr>
            <a:xfrm>
              <a:off x="3513240" y="1222560"/>
              <a:ext cx="927720" cy="4833000"/>
              <a:chOff x="3513240" y="1222560"/>
              <a:chExt cx="927720" cy="4833000"/>
            </a:xfrm>
          </p:grpSpPr>
          <p:sp>
            <p:nvSpPr>
              <p:cNvPr id="83" name="Line 112"/>
              <p:cNvSpPr/>
              <p:nvPr/>
            </p:nvSpPr>
            <p:spPr>
              <a:xfrm flipV="1">
                <a:off x="35132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4" name="Line 113"/>
              <p:cNvSpPr/>
              <p:nvPr/>
            </p:nvSpPr>
            <p:spPr>
              <a:xfrm flipV="1">
                <a:off x="38120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5" name="Line 114"/>
              <p:cNvSpPr/>
              <p:nvPr/>
            </p:nvSpPr>
            <p:spPr>
              <a:xfrm flipV="1">
                <a:off x="41317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6" name="Line 115"/>
              <p:cNvSpPr/>
              <p:nvPr/>
            </p:nvSpPr>
            <p:spPr>
              <a:xfrm flipV="1">
                <a:off x="44409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116"/>
            <p:cNvGrpSpPr/>
            <p:nvPr/>
          </p:nvGrpSpPr>
          <p:grpSpPr>
            <a:xfrm>
              <a:off x="4785840" y="1222560"/>
              <a:ext cx="927720" cy="4833000"/>
              <a:chOff x="4785840" y="1222560"/>
              <a:chExt cx="927720" cy="4833000"/>
            </a:xfrm>
          </p:grpSpPr>
          <p:sp>
            <p:nvSpPr>
              <p:cNvPr id="88" name="Line 117"/>
              <p:cNvSpPr/>
              <p:nvPr/>
            </p:nvSpPr>
            <p:spPr>
              <a:xfrm flipV="1">
                <a:off x="47858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9" name="Line 118"/>
              <p:cNvSpPr/>
              <p:nvPr/>
            </p:nvSpPr>
            <p:spPr>
              <a:xfrm flipV="1">
                <a:off x="50846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0" name="Line 119"/>
              <p:cNvSpPr/>
              <p:nvPr/>
            </p:nvSpPr>
            <p:spPr>
              <a:xfrm flipV="1">
                <a:off x="54043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1" name="Line 120"/>
              <p:cNvSpPr/>
              <p:nvPr/>
            </p:nvSpPr>
            <p:spPr>
              <a:xfrm flipV="1">
                <a:off x="57135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21"/>
            <p:cNvGrpSpPr/>
            <p:nvPr/>
          </p:nvGrpSpPr>
          <p:grpSpPr>
            <a:xfrm>
              <a:off x="6004080" y="1222560"/>
              <a:ext cx="927720" cy="4833000"/>
              <a:chOff x="6004080" y="1222560"/>
              <a:chExt cx="927720" cy="4833000"/>
            </a:xfrm>
          </p:grpSpPr>
          <p:sp>
            <p:nvSpPr>
              <p:cNvPr id="93" name="Line 122"/>
              <p:cNvSpPr/>
              <p:nvPr/>
            </p:nvSpPr>
            <p:spPr>
              <a:xfrm flipV="1">
                <a:off x="600408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4" name="Line 123"/>
              <p:cNvSpPr/>
              <p:nvPr/>
            </p:nvSpPr>
            <p:spPr>
              <a:xfrm flipV="1">
                <a:off x="630288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5" name="Line 124"/>
              <p:cNvSpPr/>
              <p:nvPr/>
            </p:nvSpPr>
            <p:spPr>
              <a:xfrm flipV="1">
                <a:off x="662256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6" name="Line 125"/>
              <p:cNvSpPr/>
              <p:nvPr/>
            </p:nvSpPr>
            <p:spPr>
              <a:xfrm flipV="1">
                <a:off x="693180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26"/>
            <p:cNvGrpSpPr/>
            <p:nvPr/>
          </p:nvGrpSpPr>
          <p:grpSpPr>
            <a:xfrm>
              <a:off x="7250760" y="1222560"/>
              <a:ext cx="927720" cy="4833000"/>
              <a:chOff x="7250760" y="1222560"/>
              <a:chExt cx="927720" cy="4833000"/>
            </a:xfrm>
          </p:grpSpPr>
          <p:sp>
            <p:nvSpPr>
              <p:cNvPr id="98" name="Line 127"/>
              <p:cNvSpPr/>
              <p:nvPr/>
            </p:nvSpPr>
            <p:spPr>
              <a:xfrm flipV="1">
                <a:off x="725076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" name="Line 128"/>
              <p:cNvSpPr/>
              <p:nvPr/>
            </p:nvSpPr>
            <p:spPr>
              <a:xfrm flipV="1">
                <a:off x="754956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" name="Line 129"/>
              <p:cNvSpPr/>
              <p:nvPr/>
            </p:nvSpPr>
            <p:spPr>
              <a:xfrm flipV="1">
                <a:off x="786924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" name="Line 130"/>
              <p:cNvSpPr/>
              <p:nvPr/>
            </p:nvSpPr>
            <p:spPr>
              <a:xfrm flipV="1">
                <a:off x="817848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Rectangle 54"/>
          <p:cNvSpPr/>
          <p:nvPr/>
        </p:nvSpPr>
        <p:spPr>
          <a:xfrm>
            <a:off x="1187280" y="5516640"/>
            <a:ext cx="743040" cy="743040"/>
          </a:xfrm>
          <a:prstGeom prst="rect">
            <a:avLst/>
          </a:prstGeom>
          <a:gradFill rotWithShape="0">
            <a:gsLst>
              <a:gs pos="0">
                <a:srgbClr val="99fa72"/>
              </a:gs>
              <a:gs pos="100000">
                <a:srgbClr val="4774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Freeform 27"/>
          <p:cNvSpPr/>
          <p:nvPr/>
        </p:nvSpPr>
        <p:spPr>
          <a:xfrm>
            <a:off x="85680" y="76320"/>
            <a:ext cx="8977320" cy="50004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324000" y="5516640"/>
            <a:ext cx="742680" cy="743040"/>
          </a:xfrm>
          <a:prstGeom prst="rect">
            <a:avLst/>
          </a:prstGeom>
          <a:gradFill rotWithShape="0">
            <a:gsLst>
              <a:gs pos="0">
                <a:srgbClr val="80cb35">
                  <a:alpha val="50196"/>
                </a:srgbClr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324000" y="4653000"/>
            <a:ext cx="741240" cy="743040"/>
          </a:xfrm>
          <a:prstGeom prst="rect">
            <a:avLst/>
          </a:prstGeom>
          <a:gradFill rotWithShape="0">
            <a:gsLst>
              <a:gs pos="0">
                <a:srgbClr val="329a2a">
                  <a:alpha val="50196"/>
                </a:srgbClr>
              </a:gs>
              <a:gs pos="100000">
                <a:srgbClr val="1747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08" name="Picture 77" descr="b699cfd5b71900647f3ef56417be1aa7"/>
          <p:cNvPicPr/>
          <p:nvPr/>
        </p:nvPicPr>
        <p:blipFill>
          <a:blip r:embed="rId3"/>
          <a:stretch/>
        </p:blipFill>
        <p:spPr>
          <a:xfrm>
            <a:off x="250920" y="54608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3" descr="j0152694"/>
          <p:cNvPicPr/>
          <p:nvPr/>
        </p:nvPicPr>
        <p:blipFill>
          <a:blip r:embed="rId4"/>
          <a:stretch/>
        </p:blipFill>
        <p:spPr>
          <a:xfrm>
            <a:off x="78850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2EFD-070F-489E-8D67-0A06060AEB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1699920"/>
            <a:ext cx="673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85e25"/>
                </a:solidFill>
                <a:latin typeface="Arial"/>
              </a:rPr>
              <a:t>Педагогическая диагностика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050920" y="3499920"/>
            <a:ext cx="4811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600" spc="-1" strike="noStrike">
              <a:solidFill>
                <a:srgbClr val="185e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rcRect l="0" t="0" r="83" b="57518"/>
          <a:stretch/>
        </p:blipFill>
        <p:spPr>
          <a:xfrm>
            <a:off x="179280" y="1341360"/>
            <a:ext cx="88534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Задание 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388764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Задание 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82436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Задание 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0645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Задание 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90544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Задание 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-25560" y="1484280"/>
            <a:ext cx="90392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Задание 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12000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дание 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700360" y="1125360"/>
            <a:ext cx="3959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Задание 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9770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5788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Педагогическая диагностика-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овокупность специально подобранных и систематизированных заданий, которые позволя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особенности усвоения учащимися предметных ЗУН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характер трудностей ученика и устранить их прич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468360" y="1197000"/>
            <a:ext cx="849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едагогическая диагностика позволяет выявить качество усвоения учащимися учебного материала,  и прежде всего умение детей применять свои знания в новой ситуации, сопоставлять текст задания с возможными вариантами его решения, выбирать правильный ответ, выполняя при  этом мыслительные операции анализа, синтеза, сравнения, обобщения.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Педагогическая диагностика проверяет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ние пространственного воспри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ние зрительного воспри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ние моторики и зрительно-моторных координ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проводить классификацию и выделять признаки, по которым она произвед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интуитивных дочисловых представл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ладение представлениями, лежащими в основе счета; самим счетом (в пределах 6), представлениями об операциях сложения и вычи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сравнивать два множества по числу эле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фонематического слуха и воспри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ормированность предпосылок к успешному овладению звуковым анализом и синтез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ая диагностика проводится ежегодно в начале, середине и конце учебного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ое диагностическое обследование в первом классе проводится в сентябре - это диагностика готовности ребенка к обу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яет не предметные знания, а определяет сформированность  у ребенка предпосылок к овладению грамотой и математик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ующая диагностика проводится в середине учебного г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воляет увидеть продвижение детей за прошедшие полгода и наметить, что нужно изменить в обучении каждого ученика в последующие полгода ,чтобы достичь планируемых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ностика, проводимая в конце года, дает возможность подвести итог работы, увидеть, каковы успехи каждого ученика в усвоении необходимых знаний и ум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7643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Педагогическая диагностика содержит два этапа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этап – групповое обслед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й этап – индивидуальное обследов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8:04Z</dcterms:created>
  <dc:creator>Стрелкова Н.</dc:creator>
  <dc:description/>
  <dc:language>en-US</dc:language>
  <cp:lastModifiedBy>Русакова Татьяна Александровна</cp:lastModifiedBy>
  <dcterms:modified xsi:type="dcterms:W3CDTF">2011-12-13T08:45:35Z</dcterms:modified>
  <cp:revision>10</cp:revision>
  <dc:subject>урок</dc:subject>
  <dc:title>Презентация</dc:title>
</cp:coreProperties>
</file>