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C1A-D3F6-4BC6-BF15-B545B4FB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775-32A7-4FC0-AC7D-08F50710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5E9-F779-4C57-916F-1E6B08DD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F16-2F14-416C-ACC4-7AA0E14A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FAA-9875-4296-8EC1-101B4FF2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802-04E9-4791-9104-96F36F74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AC8-C312-4D0F-8F17-F0DAE704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398-DC47-4055-90A3-DC08A677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CBF-4748-47EB-882F-E6EFE264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A11-4870-4A9A-8EAA-1F451BC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B21-D467-49DE-8DED-A09D75F6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40E-4514-40A8-879A-D48F4B5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252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356520"/>
            <a:ext cx="34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356520"/>
            <a:ext cx="252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2163-9F9F-40FB-8292-C0D89A4639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текстом на уроках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17375e"/>
                </a:solidFill>
                <a:latin typeface="Calibri"/>
              </a:rPr>
              <a:t>Методическая  цель: </a:t>
            </a:r>
            <a:r>
              <a:rPr b="0" lang="ru-RU" sz="4600" spc="-1" strike="noStrike">
                <a:solidFill>
                  <a:srgbClr val="17375e"/>
                </a:solidFill>
                <a:latin typeface="Calibri"/>
              </a:rPr>
              <a:t> работа  с  текстом   на уроках  русского  языка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7375e"/>
                </a:solidFill>
                <a:uFillTx/>
                <a:latin typeface="Arial"/>
              </a:rPr>
              <a:t>Задачи</a:t>
            </a:r>
            <a:r>
              <a:rPr b="1" lang="ru-RU" sz="4000" spc="-1" strike="noStrike" u="sng">
                <a:solidFill>
                  <a:srgbClr val="17375e"/>
                </a:solidFill>
                <a:uFillTx/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овести  комплексный  анализ  текста; продолжить  обучение  составлению  продуманного  текста, в котором  надо  контролировать отбор  слов  и  грамматических  конструкций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Методическая  цель</a:t>
            </a: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:  работа  с  текстом   на уроках  русского  я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17375e"/>
                </a:solidFill>
                <a:uFillTx/>
                <a:latin typeface="Arial"/>
              </a:rPr>
              <a:t>Задачи</a:t>
            </a:r>
            <a:r>
              <a:rPr b="1" lang="ru-RU" sz="3100" spc="-1" strike="noStrike" u="sng">
                <a:solidFill>
                  <a:srgbClr val="17375e"/>
                </a:solidFill>
                <a:uFillTx/>
                <a:latin typeface="Calibri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ить  развитие  и  совершенствование  коммуникативно- речевых  умений  уча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ить  развитие  умения  участвовать  в учебной  дискуссии,  аргументировать  свои  высказывания,  сравнивать, анализировать    тексты; развивать  умение  литературным  языком  выражать  свои    мысли, пользоваться  научной  терминолог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 поэтические  способности  учеников, творческое  мыш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17375e"/>
                </a:solidFill>
                <a:latin typeface="Calibri"/>
              </a:rPr>
              <a:t>Методическая  цель</a:t>
            </a:r>
            <a:r>
              <a:rPr b="0" lang="ru-RU" sz="4900" spc="-1" strike="noStrike">
                <a:solidFill>
                  <a:srgbClr val="17375e"/>
                </a:solidFill>
                <a:latin typeface="Calibri"/>
              </a:rPr>
              <a:t>:  работа  с  текстом   на уроках  русского  языка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7375e"/>
                </a:solidFill>
                <a:uFillTx/>
                <a:latin typeface="Arial"/>
              </a:rPr>
              <a:t>Задачи</a:t>
            </a:r>
            <a:r>
              <a:rPr b="1" lang="ru-RU" sz="4000" spc="-1" strike="noStrike" u="sng">
                <a:solidFill>
                  <a:srgbClr val="17375e"/>
                </a:solidFill>
                <a:uFillTx/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ывать  любовь  к  языку, бережное  отношение  с  не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языковую культуру и культуру словоупотреб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патриотическое отношение к родным мес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Calibri"/>
              </a:rPr>
              <a:t>Оборудова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оситель текста. Желательно –электронный, но не критично, если и бумажный. Обязательно нумеровать 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лгоритм работы, подробно изложенный на  бумажном ламинированном носителе для многократного использования. В электронном виде неудобно, так как не везде открываются 2 ок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Электронные словари и справочники. Объем требует именно электронного носителя с удобной системой пои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Черновик или блок-карта для создания типового аналитического резюме. Может быть как в электронном, так и в бумажном виде. По опыту, в бумажном – удобнее, в электронном – оптимистичнее идет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ллюстративный материал на любом носите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280" y="475920"/>
            <a:ext cx="9721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)Я часто выбираюсь из шума столичной жизни в тихий край, где в старом отцовском доме прошло мое беззаботное счастливое детство. 2)Совсем недалеко от Москвы, два часа на электричке, а хорошей машиной и того меньше – и милая моя Родина встречает ме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)Дом выдался из посада вниз, к реке. 4)Здравствуй, любимый дом, родной дом. 5)Поклонившись дому, осторожно захожу в калитку, которая словно ждала меня все эти долгие месяцы с прошлого свидания.  6) Как во сне подхожу к нашей березе:  «Здравствуй и ты, береза. Не узнала меня?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)Высокая она стала.  8)Кора лопнула во многих местах.  9)Муравьи бегают по стволу и нижние ветки обрублены, чтобы не заслонять окошек зимней избы.  10)Вершина стала выше трубы.  11)Не бели, березынька, родная, пожалуйста, пиджак, совсем я забыл, как ты, обнимаясь, оставляешь отметины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2)Помню-помню, как ты пришла к нам…  13)Помню, была весна и твои листочки уже проклюнулись, только их можно было сосчитать, так мала ты тогда была.  14)Оборвали мы тогда у тебя, выкапывая неумело, два больших корня.  15)Несли тебя через лавы, а брат предположил, что ты, вероятно, засохнешь, не приживешься в нашем тогда еще бедном саду.  16)Правда ведь, ты еле выжила, два лета листочки были мелкие, бледные.  17)Но великая власть природы вернула тебя к жизни, исцелила, и тогда ты окрепла и набрала силу. 18) А где ты взяла эту силу под зимним окном?  19)Надо же так вымахать!  20)Уже выше отцовского до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1) Скоро надо уезжать из Тимонихи.  22)А так хорош этот неоглядный зеленый мир моей Родины! 23)Почему-то мне хочется, чтобы мой дом и деревня моя не исчезали совсем, чтобы они остались в этом бесконечно меняющемся ми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По В.И. Белову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1 этап. Чт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ленный  ученик  читает  вслух  текст . Хорошо послушать текст в актерском исполнении, но тогда трудно подобрать нужную редак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2 этап.  Текстовая принадлежность.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зать на авторство – Василий Белов, сборник рассказов «Поздние встречи», рассказ «Живой кра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9640" y="476280"/>
            <a:ext cx="9964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3 этап.  Определяем  тему и основную мысль текст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осом создаем «банк тем»: </a:t>
            </a:r>
            <a:r>
              <a:rPr b="0" i="1" lang="ru-RU" sz="2900" spc="-1" strike="noStrike">
                <a:solidFill>
                  <a:srgbClr val="17375e"/>
                </a:solidFill>
                <a:latin typeface="Calibri"/>
              </a:rPr>
              <a:t>(«Про что»?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видание с родино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бовь к Ро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оспоминания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амое яркое воспоминание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березка – символ Роди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бираем из него самую удачную </a:t>
            </a: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«Березка – символ Родины»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или создаем совокупную тему </a:t>
            </a: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«Березка – символ любви к Родине»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яем основную мысль. </a:t>
            </a:r>
            <a:r>
              <a:rPr b="0" i="1" lang="ru-RU" sz="2900" spc="-1" strike="noStrike">
                <a:solidFill>
                  <a:srgbClr val="17375e"/>
                </a:solidFill>
                <a:latin typeface="Calibri"/>
              </a:rPr>
              <a:t>(«О чем?»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на заключена в предложениях 2) и 23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4 этап.  Каким  настроением  проникнуто   произведение?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меняется настроение от абзаца к абзацу?  Рисуем «цепочку настроения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хема 9" descr=""/>
          <p:cNvPicPr/>
          <p:nvPr/>
        </p:nvPicPr>
        <p:blipFill>
          <a:blip r:embed="rId1"/>
          <a:stretch/>
        </p:blipFill>
        <p:spPr>
          <a:xfrm>
            <a:off x="285840" y="1547640"/>
            <a:ext cx="1031544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9280" y="1052280"/>
            <a:ext cx="9721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ссмотрим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ри помощи каких слов и выражений достигаются эмоциональные эффекты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полним цепочку выражениями-эмоцианта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детей их можно назвать «ключевыми» словами настро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ассмотрим, при помощи каких слов и выражений достигаются эмоциональные эффекты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м цепочку выражениями-эмоциан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хема 3" descr=""/>
          <p:cNvPicPr/>
          <p:nvPr/>
        </p:nvPicPr>
        <p:blipFill>
          <a:blip r:embed="rId1"/>
          <a:stretch/>
        </p:blipFill>
        <p:spPr>
          <a:xfrm>
            <a:off x="450720" y="1700280"/>
            <a:ext cx="99187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9640" y="333360"/>
            <a:ext cx="91821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нимаем во внимание, что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2600" y="1125360"/>
            <a:ext cx="97819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этапе перехода из начальной школы в среднюю у ученика  формируется  комплекс умений, которые будучи несформированными вовремя,  надолго оставят позади школьника, как только он столкнется с необходимостью усваивать и перерабатывать большие объемы учебной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cs10834.userapi.com/v10834714/129/UWwAB9FufaU.jpg"/>
          <p:cNvPicPr/>
          <p:nvPr/>
        </p:nvPicPr>
        <p:blipFill>
          <a:blip r:embed="rId1"/>
          <a:stretch/>
        </p:blipFill>
        <p:spPr>
          <a:xfrm>
            <a:off x="3189240" y="3789360"/>
            <a:ext cx="2282760" cy="293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trud.ru/userfiles/gallery/11/b_11813a7ad51cfc00ea7ad6cd5f6625b2.jpg"/>
          <p:cNvPicPr/>
          <p:nvPr/>
        </p:nvPicPr>
        <p:blipFill>
          <a:blip r:embed="rId2"/>
          <a:stretch/>
        </p:blipFill>
        <p:spPr>
          <a:xfrm>
            <a:off x="5570640" y="3933720"/>
            <a:ext cx="2989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9640" y="1197000"/>
            <a:ext cx="996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Предполагаемый  результат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на 1-4 этапа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мание  учащимися проблемно-содержательной и эмоциональной  составляющих произ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529128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280" y="549000"/>
            <a:ext cx="972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5 этап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в группах. Коррекция понимания содерж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Давайте найдем  незнакомые или непонятные слова и узнаем, что скрывается за ними?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ботаем со справочник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посада (устар.) 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з ровного ряда строений на ул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имняя изба (диал.)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утепленная часть избы-пятистенки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проклюнулись (просторечн.)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– только-только появились, подобно новорожденным цыплятам, разбивающим скорлуп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через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лавы (диал.)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– по тонкому мостику из связанных брев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ымахать (диал.)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– сильно и быстро выра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исцелила (устар., высокопарн.)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- вылечи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неоглядный (общеупотр.)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– огромный настолько, что не хватает взгляда для одномоментного осмотр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52240" y="549360"/>
            <a:ext cx="99630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5 этап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бота в группах. Коррекция понимания содерж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Рассмотрим непонятные явления, о которых говорится в этом тексте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ем с пояснением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е бели, березыньк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береза пачкает пыльцой и берестяной пылью, если прислониться к стволу. Автор обнял березу и испачкалс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нашем бедном саду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в этом значении «бедный» – негустой, небольшой, молодой еще сад. Выбор значения многозначного слова «бедный»  определяется контекстным понятием  «сад». Березу сажали, пока сад еще не разросс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 где ты взяла эту силу под зимним окном?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окна «зимней» части дома обычно сориентированы на внутренний двор, где почти не убирается снег зимой и куда лишь ненадолго заглядывает солнце летом. Здесь это символ неудачного места для посадки березы – темного и сырого. Однако даже в таком месте береза стремилась вырасти, чтобы оправдать возложенные на нее надежды мальчик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52240" y="259920"/>
            <a:ext cx="99630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 этом этапе уместнее всего использовать иллюстрации к текс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img-fotki.yandex.ru/get/5607/1581635.b2/0_7477f_f716894f_XL"/>
          <p:cNvPicPr/>
          <p:nvPr/>
        </p:nvPicPr>
        <p:blipFill>
          <a:blip r:embed="rId1"/>
          <a:stretch/>
        </p:blipFill>
        <p:spPr>
          <a:xfrm>
            <a:off x="638280" y="1268280"/>
            <a:ext cx="4595760" cy="25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tury.ru/img.php?hid=99199&amp;pid=360731&amp;v=n"/>
          <p:cNvPicPr/>
          <p:nvPr/>
        </p:nvPicPr>
        <p:blipFill>
          <a:blip r:embed="rId2"/>
          <a:stretch/>
        </p:blipFill>
        <p:spPr>
          <a:xfrm>
            <a:off x="5484960" y="1268280"/>
            <a:ext cx="4678200" cy="263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img-fotki.yandex.ru/get/5203/fotohomesweet.3/0_38ea6_dc5ec5e0_L.jpg"/>
          <p:cNvPicPr/>
          <p:nvPr/>
        </p:nvPicPr>
        <p:blipFill>
          <a:blip r:embed="rId3"/>
          <a:stretch/>
        </p:blipFill>
        <p:spPr>
          <a:xfrm>
            <a:off x="5570640" y="4005360"/>
            <a:ext cx="4678200" cy="2581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ttp://img1.liveinternet.ru/images/foto/b/3/11/781011/f_18130140.jpg"/>
          <p:cNvPicPr/>
          <p:nvPr/>
        </p:nvPicPr>
        <p:blipFill>
          <a:blip r:embed="rId4"/>
          <a:stretch/>
        </p:blipFill>
        <p:spPr>
          <a:xfrm>
            <a:off x="638280" y="4005360"/>
            <a:ext cx="4592520" cy="259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s47.radikal.ru/i118/1001/45/8bf139063bf1.jpg"/>
          <p:cNvPicPr/>
          <p:nvPr/>
        </p:nvPicPr>
        <p:blipFill>
          <a:blip r:embed="rId5"/>
          <a:stretch/>
        </p:blipFill>
        <p:spPr>
          <a:xfrm>
            <a:off x="3529080" y="1989000"/>
            <a:ext cx="35067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52240" y="259920"/>
            <a:ext cx="99630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6 этап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 в группах с художественными составляющими текста.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Давайте повторим, какие средства выразительности  языка нам знакомы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Эпит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Олицетво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Лексический пов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 найдем их в текст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52240" y="259920"/>
            <a:ext cx="99630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6 этап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в группах с художественными составляющими текста.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Давайте повторим, какие средства выразительности  языка нам знакомы, и найдем их в текс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хема 3" descr=""/>
          <p:cNvPicPr/>
          <p:nvPr/>
        </p:nvPicPr>
        <p:blipFill>
          <a:blip r:embed="rId1"/>
          <a:stretch/>
        </p:blipFill>
        <p:spPr>
          <a:xfrm>
            <a:off x="549360" y="1468440"/>
            <a:ext cx="4602240" cy="4998960"/>
          </a:xfrm>
          <a:prstGeom prst="rect">
            <a:avLst/>
          </a:prstGeom>
          <a:ln w="0">
            <a:noFill/>
          </a:ln>
        </p:spPr>
      </p:pic>
      <p:pic>
        <p:nvPicPr>
          <p:cNvPr id="133" name="Схема 4" descr=""/>
          <p:cNvPicPr/>
          <p:nvPr/>
        </p:nvPicPr>
        <p:blipFill>
          <a:blip r:embed="rId2"/>
          <a:stretch/>
        </p:blipFill>
        <p:spPr>
          <a:xfrm>
            <a:off x="5310360" y="1249200"/>
            <a:ext cx="494316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52240" y="549000"/>
            <a:ext cx="9963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2060"/>
                </a:solidFill>
                <a:latin typeface="Calibri"/>
              </a:rPr>
              <a:t>7 этап. </a:t>
            </a: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Работа по определению особенностей строения текста и его деталей. </a:t>
            </a:r>
            <a:r>
              <a:rPr b="0" lang="ru-RU" sz="4600" spc="-1" strike="noStrike">
                <a:solidFill>
                  <a:srgbClr val="17375e"/>
                </a:solidFill>
                <a:latin typeface="Calibri"/>
              </a:rPr>
              <a:t>Рассмотрим текст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- Из скольки </a:t>
            </a:r>
            <a:r>
              <a:rPr b="0" lang="ru-RU" sz="3800" spc="-1" strike="noStrike" u="sng">
                <a:solidFill>
                  <a:srgbClr val="17375e"/>
                </a:solidFill>
                <a:uFillTx/>
                <a:latin typeface="Calibri"/>
              </a:rPr>
              <a:t>абзацев</a:t>
            </a: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 состоит текст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0" i="1" lang="ru-RU" sz="3800" spc="-1" strike="noStrike">
                <a:solidFill>
                  <a:srgbClr val="17375e"/>
                </a:solidFill>
                <a:latin typeface="Calibri"/>
              </a:rPr>
              <a:t>В тексте 5 абзацев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- Из скольки </a:t>
            </a:r>
            <a:r>
              <a:rPr b="0" lang="ru-RU" sz="3800" spc="-1" strike="noStrike" u="sng">
                <a:solidFill>
                  <a:srgbClr val="17375e"/>
                </a:solidFill>
                <a:uFillTx/>
                <a:latin typeface="Calibri"/>
              </a:rPr>
              <a:t>смысловых частей</a:t>
            </a: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 он состоит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17375e"/>
                </a:solidFill>
                <a:latin typeface="Calibri"/>
              </a:rPr>
              <a:t>Из   четырех частей.</a:t>
            </a: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52240" y="549000"/>
            <a:ext cx="9963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Calibri"/>
              </a:rPr>
              <a:t>1)Я часто выбираюсь из шума столичной жизни в тихий край, где в старом отцовском доме прошло мое беззаботное счастливое детство. 2)Совсем недалеко от Москвы, два часа на электричке, а хорошей машиной и того меньше – и милая моя Родина встречает ме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3)Дом выдался из посада вниз, к реке. 4)Здравствуй, любимый дом, родной дом. 5)Поклонившись дому, осторожно захожу в калитку, которая словно ждала меня все эти долгие месяцы с прошлого свидания.  6) Как во сне подхожу к нашей березе:  «Здравствуй и ты, береза. Не узнала меня?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7)Высокая она стала.  8)Кора лопнула во многих местах.  9)Муравьи бегают по стволу и нижние ветки обрублены, чтобы не заслонять окошек зимней избы.  10)Вершина стала выше трубы.  11)Не бели, березынька, родная, пожалуйста, пиджак, совсем я забыл, как ты, обнимаясь, оставляешь отметины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12)Помню-помню, как ты пришла к нам…  13)Помню, была весна и твои листочки уже проклюнулись, только их можно было сосчитать, так мала ты тогда была.  14)Оборвали мы тогда у тебя, выкапывая неумело, два больших корня.  15)Несли тебя через лавы, а брат предположил, что ты, вероятно, засохнешь, не приживешься в нашем тогда еще бедном саду.  16)Правда ведь, ты еле выжила, два лета листочки были мелкие, бледные.  17)Но великая власть природы вернула тебя к жизни, исцелила, и тогда ты окрепла и набрала силу. 18) А где ты взяла эту силу под зимним окном?  19)Надо же так вымахать!  20)Уже выше отцовского до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21) Скоро надо уезжать из Тимонихи.  22)А так хорош этот неоглядный зеленый мир моей Родины! 23)Почему-то мне хочется, чтобы мой дом и деревня моя не исчезали совсем, чтобы они остались в этом бесконечно меняющемся ми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52240" y="1915920"/>
            <a:ext cx="9963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акие особен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че-смыслового конструирования частей текста вы замеча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52240" y="549360"/>
            <a:ext cx="99630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много явных и скрытых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обращ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сосредоточены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 все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устаревшие и диалектные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преимущественно расположились  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олицетворения и сравнения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мы видим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лексический повтор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я нашёл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риторический вопрос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ЧЕМУ и С  КАКОЙ ЦЕЛЬЮ именно так сконструирована 2-я час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9640" y="333360"/>
            <a:ext cx="91821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нимаем во внимание, чт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52600" y="1196640"/>
            <a:ext cx="9696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й связи наиболее важны практически    и интересны для учителя при работе с учеником  такие умения, как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- преобраз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и интерпретация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информ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Calibri"/>
              </a:rPr>
              <a:t>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-  оценка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psihoanalitik.net/lib/images/uploads/3ab921f9edebbb23d2aabdd194e6dbb0.jpg"/>
          <p:cNvPicPr/>
          <p:nvPr/>
        </p:nvPicPr>
        <p:blipFill>
          <a:blip r:embed="rId1"/>
          <a:stretch/>
        </p:blipFill>
        <p:spPr>
          <a:xfrm>
            <a:off x="5316480" y="4005360"/>
            <a:ext cx="428472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gdb.rferl.org/2D1C24FC-7814-43E0-BBC7-D854D04E8A98_mw800_s.jpg"/>
          <p:cNvPicPr/>
          <p:nvPr/>
        </p:nvPicPr>
        <p:blipFill>
          <a:blip r:embed="rId2"/>
          <a:stretch/>
        </p:blipFill>
        <p:spPr>
          <a:xfrm>
            <a:off x="1147680" y="2852640"/>
            <a:ext cx="3402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52240" y="549360"/>
            <a:ext cx="99630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ОЧЕМУ? С  КАКОЙ ЦЕЛЬЮ?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бсуждаем ответы групп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Потому что эта часть в центре текста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(-) (-) (</a:t>
            </a:r>
            <a:r>
              <a:rPr b="0" i="1" lang="ru-RU" sz="26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) (-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Потому что эта часть самая большая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(-) (-) (+) (</a:t>
            </a:r>
            <a:r>
              <a:rPr b="0" i="1" lang="ru-RU" sz="26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Потому что в этой части лежит главная по смыслу информация текста, воспоминание, которое приводит героя к березе каждый раз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(+) (+) (</a:t>
            </a:r>
            <a:r>
              <a:rPr b="0" i="1" lang="ru-RU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) (+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Потому что в этой части сосредоточены эмоциональные переживания героя и автор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(+) (+) (</a:t>
            </a:r>
            <a:r>
              <a:rPr b="0" i="1" lang="ru-RU" sz="26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) (+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52240" y="549360"/>
            <a:ext cx="99630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Предполагаемый  результат рабо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на 5-7 этапа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ценивание содержания, языковых особенностей и структуры текста; определение места и роли иллюстративного ряда в текс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основе имеющихся знаний, жизненного опыта  обнаруживание   пробелов в информации и нахождение  путей восполнения этих пробе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Активное или пассивное (слушатель) участие в учебном диалоге при обсуждении прочитанного или прослушанного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9280" y="475920"/>
            <a:ext cx="972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Этап 8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одготовка к воспроизведению данного текста.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Расскажите об этом тексте своим друзьям. Как мы это сделае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Озаглавим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Выбираем из нескольких названий. Некоторые  из них сориентированы на текст в целом: «Поездка на Родину», «Родина», но ограниченны по смыслу.  Некоторые – сориентированы на вторую смысловую часть: «Береза», «Наша береза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одим комментированный рейтинг заглавий от групп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даем преимущество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заглавию  </a:t>
            </a:r>
            <a:r>
              <a:rPr b="0" i="1" lang="ru-RU" sz="3000" spc="-1" strike="noStrike">
                <a:solidFill>
                  <a:srgbClr val="17375e"/>
                </a:solidFill>
                <a:latin typeface="Calibri"/>
              </a:rPr>
              <a:t>«В гости к детству»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Calibri"/>
              </a:rPr>
              <a:t>(+) (+) (-) (+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280" y="549000"/>
            <a:ext cx="9721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2. Составим план, лучше – цитатный план, так будет легче пересказы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1)Я часто выбираюсь из шума столичной жизни в тихий край моего дет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2)Здравствуй, любимый дом, родной 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3)Помню-помню, как ты пришла к на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4)хочется, чтобы мой дом и деревня мо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остались в этом  меняющемся ми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2680" y="476280"/>
            <a:ext cx="1012176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3. Определим, как связаны </a:t>
            </a:r>
            <a:r>
              <a:rPr b="0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абзацы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(не части)  в тексте  между с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1)Я часто выбираюсь из шума столичной жизни в тихий край, где </a:t>
            </a:r>
            <a:r>
              <a:rPr b="1" lang="ru-RU" sz="1600" spc="-1" strike="noStrike">
                <a:solidFill>
                  <a:srgbClr val="558ed5"/>
                </a:solidFill>
                <a:latin typeface="Calibri"/>
              </a:rPr>
              <a:t>в старом отцовском доме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прошло мое беззаботное счастливое детство. 2)Совсем недалеко от Москвы, два часа на электричке, а хорошей машиной и того меньше – и милая моя Родина встречает ме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3)Дом выдался из посада вниз, к реке.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4)Здравствуй, любимый дом, родной дом. 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5)Поклонившись дому, осторожно захожу в калитку, которая словно ждала меня все эти долгие месяцы с прошлого свидания.  6) Как во сне подхожу к нашей березе:  «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Здравствуй и ты, береза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. Не узнала меня?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7)Высокая она стала</a:t>
            </a: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.  8)Кора лопнула во многих местах.  9)Муравьи бегают по стволу и нижние ветки обрублены, чтобы не заслонять окошек зимней избы.  10)Вершина стала выше трубы.  11)Не бели, березынька, родная, пожалуйста, пиджак, </a:t>
            </a: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совсем я забыл, как </a:t>
            </a: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ты, обнимаясь, оставляешь отметины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12) </a:t>
            </a: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Помню-помню, как ты пришла к нам…  </a:t>
            </a: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13)Помню, была весна и твои листочки уже проклюнулись, только их можно было сосчитать, так мала ты тогда была.  14)Оборвали мы тогда у тебя, выкапывая неумело, два больших корня.  15)Несли тебя через лавы, а брат предположил, что ты, вероятно, засохнешь, не приживешься в нашем тогда еще бедном саду.  16)Правда ведь, ты еле выжила, два лета листочки были мелкие, бледные.  </a:t>
            </a: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17)Но великая власть природы вернула тебя к жизни, исцелила, и тогда ты окрепла и набрала силу. </a:t>
            </a: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18) А где ты взяла эту силу под зимним окном?  19)Надо же так вымахать!  20)Уже выше отцовского до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a452a"/>
                </a:solidFill>
                <a:latin typeface="Calibri"/>
              </a:rPr>
              <a:t>21) Скоро надо уезжать из Тимонихи.  22)А так хорош этот неоглядный зеленый мир моей Родины! 23)Почему-то мне хочется, чтобы мой дом и деревня моя не исчезали совсем, чтобы </a:t>
            </a: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они остались в этом бесконечно меняющемся мире</a:t>
            </a:r>
            <a:r>
              <a:rPr b="0" lang="ru-RU" sz="16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52600" y="549360"/>
            <a:ext cx="9696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17375e"/>
                </a:solidFill>
                <a:latin typeface="Calibri"/>
              </a:rPr>
              <a:t>Этап 9.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Пересказ. Работа в группах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-     Давайте расскажем друг другу о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оездке автора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на Родину и встрече со старой березой. Обязательно добавьте свои впечатления от рассказа. Какими словами мы  формулируем свои впечат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17375e"/>
                </a:solidFill>
                <a:latin typeface="Calibri"/>
              </a:rPr>
              <a:t>-   </a:t>
            </a: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Мне понравилось… мне </a:t>
            </a:r>
            <a:r>
              <a:rPr b="1" i="1" lang="ru-RU" sz="2200" spc="-1" strike="noStrike">
                <a:solidFill>
                  <a:srgbClr val="17375e"/>
                </a:solidFill>
                <a:latin typeface="Calibri"/>
              </a:rPr>
              <a:t>не очень понравилось</a:t>
            </a: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-     Я понял, что…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Мне кажется, что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Мне показалось особенно интересным , что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Меня удивило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Без каких слов ваши впечатления теряют свою достовернос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Без слов «потому что», «на это указывает» и «это видно из…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одберите аргументы для своих рассуж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2600" y="549360"/>
            <a:ext cx="9696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7375e"/>
                </a:solidFill>
                <a:latin typeface="Calibri"/>
              </a:rPr>
              <a:t>Этап 9.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оставление индивидуального плана краткого пересказа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Как вы измените уже готовый  план для рассказа о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вашем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прочтении этой  истории?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1) Я прочитал отрывок из рассказа (какого автора? Какого рассказа?)  о …… (о чем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58ed5"/>
                </a:solidFill>
                <a:latin typeface="Calibri"/>
              </a:rPr>
              <a:t>2)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Герой</a:t>
            </a:r>
            <a:r>
              <a:rPr b="0" i="1" lang="ru-RU" sz="2400" spc="-1" strike="noStrike">
                <a:solidFill>
                  <a:srgbClr val="558ed5"/>
                </a:solidFill>
                <a:latin typeface="Calibri"/>
              </a:rPr>
              <a:t> часто выбирается из шума столичной жизни в тихий край своего дет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3)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Герой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здоровается с любимым родным дом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53735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4)</a:t>
            </a:r>
            <a:r>
              <a:rPr b="1" i="1" lang="ru-RU" sz="2400" spc="-1" strike="noStrike">
                <a:solidFill>
                  <a:srgbClr val="953735"/>
                </a:solidFill>
                <a:latin typeface="Calibri"/>
              </a:rPr>
              <a:t>Герой</a:t>
            </a: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 помнит, как береза пришла к ним в дом и прижилась под окно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452a"/>
                </a:solidFill>
                <a:latin typeface="Calibri"/>
              </a:rPr>
              <a:t>5)</a:t>
            </a:r>
            <a:r>
              <a:rPr b="1" i="1" lang="ru-RU" sz="2400" spc="-1" strike="noStrike">
                <a:solidFill>
                  <a:srgbClr val="4a452a"/>
                </a:solidFill>
                <a:latin typeface="Calibri"/>
              </a:rPr>
              <a:t>Герою </a:t>
            </a:r>
            <a:r>
              <a:rPr b="0" i="1" lang="ru-RU" sz="2400" spc="-1" strike="noStrike">
                <a:solidFill>
                  <a:srgbClr val="4a452a"/>
                </a:solidFill>
                <a:latin typeface="Calibri"/>
              </a:rPr>
              <a:t>хочется , чтобы его дом и деревня  навсегда остались в этом  меняющемся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-  </a:t>
            </a: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6)</a:t>
            </a: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Меня удивило…. потому что…. Мне кажется …. потому что… Я понял, что…. Потому что… Мне показалось интересным, что …. Мне понравилось… мне </a:t>
            </a:r>
            <a:r>
              <a:rPr b="1" i="1" lang="ru-RU" sz="2000" spc="-1" strike="noStrike">
                <a:solidFill>
                  <a:srgbClr val="17375e"/>
                </a:solidFill>
                <a:latin typeface="Calibri"/>
              </a:rPr>
              <a:t>не очень понравилось …. ,</a:t>
            </a: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 потому    что 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97000" y="549000"/>
            <a:ext cx="10207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Этап 10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сказ. Работа в группах. Продолже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Рассказывают друг другу. Выбирают лучшего рассказчика из расчета на точность и эмоциональность  передачи содержания, употребление новых слов и средств выразительности речи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четкость личного мн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и его  аргументацию .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(+) (+) (-)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www.o-detstve.ru/assets/images/userfiles/29852/images/rol%20imen%20sushestvitelnyh%20v%20rechi5.jpg"/>
          <p:cNvPicPr/>
          <p:nvPr/>
        </p:nvPicPr>
        <p:blipFill>
          <a:blip r:embed="rId1"/>
          <a:stretch/>
        </p:blipFill>
        <p:spPr>
          <a:xfrm>
            <a:off x="5826240" y="4076640"/>
            <a:ext cx="40827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almattrud.ru/upload/news/2011/10/d3fb2ceab3a61bfe.jpeg"/>
          <p:cNvPicPr/>
          <p:nvPr/>
        </p:nvPicPr>
        <p:blipFill>
          <a:blip r:embed="rId1"/>
          <a:stretch/>
        </p:blipFill>
        <p:spPr>
          <a:xfrm>
            <a:off x="7527960" y="2781360"/>
            <a:ext cx="2814480" cy="365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97000" y="549000"/>
            <a:ext cx="10207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Этап 11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дивидуальная работа (возможно – домашняя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авайте запишем ваш рассказ в читательский дневник/тетрадь/альб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ледите за соблюдением индивидуального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://us.cdn1.123rf.com/168nwm/stockbroker/stockbroker0806/stockbroker080603802/3226363-student-w-klasie-pisania-w-notebooku-selektywne-focus.jpg"/>
          <p:cNvPicPr/>
          <p:nvPr/>
        </p:nvPicPr>
        <p:blipFill>
          <a:blip r:embed="rId2"/>
          <a:stretch/>
        </p:blipFill>
        <p:spPr>
          <a:xfrm>
            <a:off x="4975200" y="3573360"/>
            <a:ext cx="2289240" cy="288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shprvo.ck.ua/upload/images/22.jpg"/>
          <p:cNvPicPr/>
          <p:nvPr/>
        </p:nvPicPr>
        <p:blipFill>
          <a:blip r:embed="rId3"/>
          <a:stretch/>
        </p:blipFill>
        <p:spPr>
          <a:xfrm>
            <a:off x="210960" y="3789360"/>
            <a:ext cx="44895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97000" y="549000"/>
            <a:ext cx="10207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Calibri"/>
              </a:rPr>
              <a:t>Предполагаемый  результат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Calibri"/>
              </a:rPr>
              <a:t>на 8-11 этапах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ресказать текст подробно или сжато, устно и письменно, от лица автора и от собственного ли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соотнести факты с общей идеей текста, устанавливать простые связи, не показанные в тексте напрямую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ровать несложные выводы, основываясь на тексте; находить аргументы, подтверждающие вывод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сопоставлять и обобщать содержащуюся в разных частях текста информацию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составлять на основании текста небольшое монологическое высказывание, отвечая на поставленный вопрос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высказывать оценочные суждения и свою точку зрения о прочитанном текст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640" y="620640"/>
            <a:ext cx="9182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2680" y="2421000"/>
            <a:ext cx="99518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сказывать текст подробно и сжато, устно и письмен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носить факты с общей идеей текста, устанавливать простые связи, не показанные в тексте напряму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улировать несложные выводы, основываясь на тексте; находить аргументы, подтверждающие выв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лять и обобщать содержащуюся в разных частях текста информ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ять на основании текста небольшое монологическое высказывание, отвечая на поставленный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52600" y="260280"/>
            <a:ext cx="97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«Преобразование и интерпретация самостоятельно полученной информац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297000" y="1484280"/>
            <a:ext cx="99518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формированность  данног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ения предполагает, чт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ученик может без видимой сложности для себ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2320" y="333000"/>
            <a:ext cx="9721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пасибо за внимание </a:t>
            </a:r>
            <a:r>
              <a:rPr b="1" lang="ru-RU" sz="3200" spc="-1" strike="noStrike">
                <a:solidFill>
                  <a:srgbClr val="1f497d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ы- прекрасный учител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У Вас замечательные ученик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месте вы сможете многого достич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http://img22.ria.ru/images/42241/14/422411410.jpg"/>
          <p:cNvPicPr/>
          <p:nvPr/>
        </p:nvPicPr>
        <p:blipFill>
          <a:blip r:embed="rId1"/>
          <a:stretch/>
        </p:blipFill>
        <p:spPr>
          <a:xfrm>
            <a:off x="1403280" y="2781360"/>
            <a:ext cx="80805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2680" y="1844280"/>
            <a:ext cx="9951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казывать оценочные суждения и свою точку зрения о прочитанном текс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вать содержание, языковые особенности и структуру текста; определять место и роль иллюстративного ряда в текс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снове имеющихся знаний, жизненного опыта подвергать сомнению достоверность прочитанного, обнаруживать недостоверность получаемых сведений, пробелы в информации и находить пути восполнения этих пробел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вовать в учебном диалоге при обсуждении прочитанного или прослушанного тек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382680" y="260280"/>
            <a:ext cx="102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«Оценка самостоятельно полученной информ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297000" y="981000"/>
            <a:ext cx="9951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формированность  данного комплексного умения предполагает, чт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ученик может без видимой сложности для себ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96640" y="475920"/>
            <a:ext cx="9964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представить это   в виде совокупности аналитических и воспроизводящих учебных действий  при работе    с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466560" y="2997360"/>
            <a:ext cx="5954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Calibri"/>
              </a:rPr>
              <a:t>Комплексный лингвистически-содержательный анализ текста           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Calibri"/>
              </a:rPr>
              <a:t>с элементами интерпретации полученной информаци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www.sledom.com/upload/iblock/761/000_411557248_.jpg"/>
          <p:cNvPicPr/>
          <p:nvPr/>
        </p:nvPicPr>
        <p:blipFill>
          <a:blip r:embed="rId1"/>
          <a:stretch/>
        </p:blipFill>
        <p:spPr>
          <a:xfrm>
            <a:off x="6846840" y="3645000"/>
            <a:ext cx="34308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Полотно 44"/>
          <p:cNvGrpSpPr/>
          <p:nvPr/>
        </p:nvGrpSpPr>
        <p:grpSpPr>
          <a:xfrm>
            <a:off x="85680" y="142920"/>
            <a:ext cx="10667520" cy="6404040"/>
            <a:chOff x="85680" y="142920"/>
            <a:chExt cx="10667520" cy="6404040"/>
          </a:xfrm>
        </p:grpSpPr>
        <p:sp>
          <p:nvSpPr>
            <p:cNvPr id="61" name="Прямоугольник 4"/>
            <p:cNvSpPr/>
            <p:nvPr/>
          </p:nvSpPr>
          <p:spPr>
            <a:xfrm>
              <a:off x="127080" y="332280"/>
              <a:ext cx="10586880" cy="62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5"/>
            <p:cNvGrpSpPr/>
            <p:nvPr/>
          </p:nvGrpSpPr>
          <p:grpSpPr>
            <a:xfrm>
              <a:off x="85680" y="142920"/>
              <a:ext cx="10667520" cy="6381360"/>
              <a:chOff x="85680" y="142920"/>
              <a:chExt cx="10667520" cy="6381360"/>
            </a:xfrm>
          </p:grpSpPr>
          <p:grpSp>
            <p:nvGrpSpPr>
              <p:cNvPr id="63" name="Group 6"/>
              <p:cNvGrpSpPr/>
              <p:nvPr/>
            </p:nvGrpSpPr>
            <p:grpSpPr>
              <a:xfrm>
                <a:off x="85680" y="142920"/>
                <a:ext cx="10667520" cy="1786680"/>
                <a:chOff x="85680" y="142920"/>
                <a:chExt cx="10667520" cy="1786680"/>
              </a:xfrm>
            </p:grpSpPr>
            <p:sp>
              <p:nvSpPr>
                <p:cNvPr id="64" name="Rectangle 7"/>
                <p:cNvSpPr/>
                <p:nvPr/>
              </p:nvSpPr>
              <p:spPr>
                <a:xfrm>
                  <a:off x="7595640" y="144360"/>
                  <a:ext cx="155592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мысловы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част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8"/>
                <p:cNvSpPr/>
                <p:nvPr/>
              </p:nvSpPr>
              <p:spPr>
                <a:xfrm>
                  <a:off x="5740920" y="144360"/>
                  <a:ext cx="1749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зис,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аргумент,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выво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9"/>
                <p:cNvSpPr/>
                <p:nvPr/>
              </p:nvSpPr>
              <p:spPr>
                <a:xfrm>
                  <a:off x="9197280" y="142920"/>
                  <a:ext cx="1555920" cy="92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редств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и способ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вяз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799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10"/>
                <p:cNvSpPr/>
                <p:nvPr/>
              </p:nvSpPr>
              <p:spPr>
                <a:xfrm>
                  <a:off x="3461760" y="1303200"/>
                  <a:ext cx="1942920" cy="62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одерж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кс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Rectangle 11"/>
                <p:cNvSpPr/>
                <p:nvPr/>
              </p:nvSpPr>
              <p:spPr>
                <a:xfrm>
                  <a:off x="5797440" y="1303200"/>
                  <a:ext cx="1942920" cy="62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труктур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кс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12"/>
                <p:cNvSpPr/>
                <p:nvPr/>
              </p:nvSpPr>
              <p:spPr>
                <a:xfrm flipV="1">
                  <a:off x="4627800" y="1069920"/>
                  <a:ext cx="4536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13"/>
                <p:cNvSpPr/>
                <p:nvPr/>
              </p:nvSpPr>
              <p:spPr>
                <a:xfrm flipV="1">
                  <a:off x="6377760" y="1069920"/>
                  <a:ext cx="23436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 flipH="1" flipV="1">
                  <a:off x="2992320" y="1077840"/>
                  <a:ext cx="97236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15"/>
                <p:cNvSpPr/>
                <p:nvPr/>
              </p:nvSpPr>
              <p:spPr>
                <a:xfrm flipV="1">
                  <a:off x="7156800" y="1069920"/>
                  <a:ext cx="121572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6"/>
                <p:cNvSpPr/>
                <p:nvPr/>
              </p:nvSpPr>
              <p:spPr>
                <a:xfrm flipH="1" flipV="1">
                  <a:off x="958320" y="1069920"/>
                  <a:ext cx="2500920" cy="47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17"/>
                <p:cNvSpPr/>
                <p:nvPr/>
              </p:nvSpPr>
              <p:spPr>
                <a:xfrm flipV="1">
                  <a:off x="7740360" y="1069920"/>
                  <a:ext cx="2235960" cy="47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Rectangle 18"/>
                <p:cNvSpPr/>
                <p:nvPr/>
              </p:nvSpPr>
              <p:spPr>
                <a:xfrm>
                  <a:off x="3800160" y="144360"/>
                  <a:ext cx="1749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очка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зрен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автор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19"/>
                <p:cNvSpPr/>
                <p:nvPr/>
              </p:nvSpPr>
              <p:spPr>
                <a:xfrm>
                  <a:off x="1938960" y="144360"/>
                  <a:ext cx="175284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Ключевые слов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Rectangle 20"/>
                <p:cNvSpPr/>
                <p:nvPr/>
              </p:nvSpPr>
              <p:spPr>
                <a:xfrm>
                  <a:off x="85680" y="144360"/>
                  <a:ext cx="175284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Основная тем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127800" y="1928880"/>
                <a:ext cx="10530360" cy="4595400"/>
                <a:chOff x="127800" y="1928880"/>
                <a:chExt cx="10530360" cy="4595400"/>
              </a:xfrm>
            </p:grpSpPr>
            <p:sp>
              <p:nvSpPr>
                <p:cNvPr id="79" name="Rectangle 22"/>
                <p:cNvSpPr/>
                <p:nvPr/>
              </p:nvSpPr>
              <p:spPr>
                <a:xfrm>
                  <a:off x="4800600" y="3147480"/>
                  <a:ext cx="1353600" cy="49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799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799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кст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AutoShape 23"/>
                <p:cNvSpPr/>
                <p:nvPr/>
              </p:nvSpPr>
              <p:spPr>
                <a:xfrm>
                  <a:off x="5380200" y="2651400"/>
                  <a:ext cx="194400" cy="496080"/>
                </a:xfrm>
                <a:prstGeom prst="upArrow">
                  <a:avLst>
                    <a:gd name="adj1" fmla="val 50000"/>
                    <a:gd name="adj2" fmla="val 6432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AutoShape 24"/>
                <p:cNvSpPr/>
                <p:nvPr/>
              </p:nvSpPr>
              <p:spPr>
                <a:xfrm>
                  <a:off x="5380200" y="3645000"/>
                  <a:ext cx="194400" cy="501480"/>
                </a:xfrm>
                <a:prstGeom prst="downArrow">
                  <a:avLst>
                    <a:gd name="adj1" fmla="val 50000"/>
                    <a:gd name="adj2" fmla="val 643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AutoShape 25"/>
                <p:cNvSpPr/>
                <p:nvPr/>
              </p:nvSpPr>
              <p:spPr>
                <a:xfrm>
                  <a:off x="6154560" y="3147480"/>
                  <a:ext cx="1743840" cy="246960"/>
                </a:xfrm>
                <a:prstGeom prst="rightArrow">
                  <a:avLst>
                    <a:gd name="adj1" fmla="val 50000"/>
                    <a:gd name="adj2" fmla="val 17630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AutoShape 26"/>
                <p:cNvSpPr/>
                <p:nvPr/>
              </p:nvSpPr>
              <p:spPr>
                <a:xfrm>
                  <a:off x="3276000" y="3252600"/>
                  <a:ext cx="1548000" cy="246960"/>
                </a:xfrm>
                <a:prstGeom prst="rightArrow">
                  <a:avLst>
                    <a:gd name="adj1" fmla="val 50000"/>
                    <a:gd name="adj2" fmla="val 15670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27"/>
                <p:cNvSpPr/>
                <p:nvPr/>
              </p:nvSpPr>
              <p:spPr>
                <a:xfrm>
                  <a:off x="3831840" y="2183040"/>
                  <a:ext cx="3484440" cy="602640"/>
                </a:xfrm>
                <a:prstGeom prst="rect">
                  <a:avLst/>
                </a:prstGeom>
                <a:solidFill>
                  <a:srgbClr val="f79646"/>
                </a:solidFill>
                <a:ln w="38160">
                  <a:solidFill>
                    <a:srgbClr val="ffff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АНАЛИЗ ТЕКС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28"/>
                <p:cNvSpPr/>
                <p:nvPr/>
              </p:nvSpPr>
              <p:spPr>
                <a:xfrm>
                  <a:off x="3831840" y="4148280"/>
                  <a:ext cx="3484440" cy="106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9360">
                  <a:solidFill>
                    <a:srgbClr val="46aac5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599"/>
                    </a:lnSpc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599"/>
                    </a:lnSpc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КРАТКОЕ ИЗЛОЖЕНИЕ, формы пересказ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Rectangle 29"/>
                <p:cNvGrpSpPr/>
                <p:nvPr/>
              </p:nvGrpSpPr>
              <p:grpSpPr>
                <a:xfrm>
                  <a:off x="7837920" y="2011320"/>
                  <a:ext cx="2820240" cy="2950560"/>
                  <a:chOff x="7837920" y="2011320"/>
                  <a:chExt cx="2820240" cy="2950560"/>
                </a:xfrm>
              </p:grpSpPr>
              <p:pic>
                <p:nvPicPr>
                  <p:cNvPr id="87" name="Rectangle 2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837920" y="2011320"/>
                    <a:ext cx="2820240" cy="29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" name=""/>
                  <p:cNvSpPr/>
                  <p:nvPr/>
                </p:nvSpPr>
                <p:spPr>
                  <a:xfrm>
                    <a:off x="7896960" y="2046960"/>
                    <a:ext cx="2709360" cy="284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ЭССЕ,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СИНКВЕЙН,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ТВОРЧЕСКОЕ ИЗЛОЖЕНИЕ,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Rectangle 30"/>
                <p:cNvSpPr/>
                <p:nvPr/>
              </p:nvSpPr>
              <p:spPr>
                <a:xfrm>
                  <a:off x="252360" y="2051640"/>
                  <a:ext cx="3023280" cy="2876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2a1"/>
                    </a:gs>
                    <a:gs pos="100000">
                      <a:srgbClr val="ffe5e5"/>
                    </a:gs>
                  </a:gsLst>
                  <a:lin ang="162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КСТОВЕДЧЕСКИЕ ПОНЯТ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31"/>
                <p:cNvSpPr/>
                <p:nvPr/>
              </p:nvSpPr>
              <p:spPr>
                <a:xfrm flipV="1">
                  <a:off x="4618080" y="1930680"/>
                  <a:ext cx="1080" cy="28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32"/>
                <p:cNvSpPr/>
                <p:nvPr/>
              </p:nvSpPr>
              <p:spPr>
                <a:xfrm flipV="1">
                  <a:off x="6551280" y="1928880"/>
                  <a:ext cx="2160" cy="2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33"/>
                <p:cNvSpPr/>
                <p:nvPr/>
              </p:nvSpPr>
              <p:spPr>
                <a:xfrm>
                  <a:off x="8145360" y="5429520"/>
                  <a:ext cx="2391480" cy="109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9360">
                  <a:solidFill>
                    <a:srgbClr val="46aac5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Выделение главной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второстепенной  информаци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34"/>
                <p:cNvSpPr/>
                <p:nvPr/>
              </p:nvSpPr>
              <p:spPr>
                <a:xfrm>
                  <a:off x="5626440" y="5429520"/>
                  <a:ext cx="243504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9360">
                  <a:solidFill>
                    <a:srgbClr val="46aac5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Выделение ключевых слов в смысловых частя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36"/>
                <p:cNvSpPr/>
                <p:nvPr/>
              </p:nvSpPr>
              <p:spPr>
                <a:xfrm>
                  <a:off x="127800" y="5429520"/>
                  <a:ext cx="2476080" cy="109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9360">
                  <a:solidFill>
                    <a:srgbClr val="46aac5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Озаглавливание либо осмысление авторского заглавия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7"/>
                <p:cNvSpPr/>
                <p:nvPr/>
              </p:nvSpPr>
              <p:spPr>
                <a:xfrm>
                  <a:off x="5574960" y="5213880"/>
                  <a:ext cx="1270800" cy="21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38"/>
                <p:cNvSpPr/>
                <p:nvPr/>
              </p:nvSpPr>
              <p:spPr>
                <a:xfrm flipH="1">
                  <a:off x="4116600" y="5212440"/>
                  <a:ext cx="1458000" cy="21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39"/>
                <p:cNvSpPr/>
                <p:nvPr/>
              </p:nvSpPr>
              <p:spPr>
                <a:xfrm flipH="1">
                  <a:off x="1366200" y="5213880"/>
                  <a:ext cx="2497680" cy="21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0"/>
                <p:cNvSpPr/>
                <p:nvPr/>
              </p:nvSpPr>
              <p:spPr>
                <a:xfrm>
                  <a:off x="7305840" y="5213880"/>
                  <a:ext cx="2035440" cy="21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41"/>
                <p:cNvSpPr/>
                <p:nvPr/>
              </p:nvSpPr>
              <p:spPr>
                <a:xfrm>
                  <a:off x="3252240" y="4640040"/>
                  <a:ext cx="579240" cy="248760"/>
                </a:xfrm>
                <a:prstGeom prst="rightArrow">
                  <a:avLst>
                    <a:gd name="adj1" fmla="val 50000"/>
                    <a:gd name="adj2" fmla="val 5832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42"/>
                <p:cNvSpPr/>
                <p:nvPr/>
              </p:nvSpPr>
              <p:spPr>
                <a:xfrm>
                  <a:off x="3276000" y="2287800"/>
                  <a:ext cx="582480" cy="277560"/>
                </a:xfrm>
                <a:prstGeom prst="rightArrow">
                  <a:avLst>
                    <a:gd name="adj1" fmla="val 50000"/>
                    <a:gd name="adj2" fmla="val 522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43"/>
                <p:cNvSpPr/>
                <p:nvPr/>
              </p:nvSpPr>
              <p:spPr>
                <a:xfrm>
                  <a:off x="7314480" y="2297520"/>
                  <a:ext cx="581400" cy="245880"/>
                </a:xfrm>
                <a:prstGeom prst="rightArrow">
                  <a:avLst>
                    <a:gd name="adj1" fmla="val 50000"/>
                    <a:gd name="adj2" fmla="val 5834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44"/>
                <p:cNvSpPr/>
                <p:nvPr/>
              </p:nvSpPr>
              <p:spPr>
                <a:xfrm>
                  <a:off x="7314480" y="4640040"/>
                  <a:ext cx="581400" cy="248760"/>
                </a:xfrm>
                <a:prstGeom prst="rightArrow">
                  <a:avLst>
                    <a:gd name="adj1" fmla="val 50000"/>
                    <a:gd name="adj2" fmla="val 5832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45"/>
                <p:cNvSpPr/>
                <p:nvPr/>
              </p:nvSpPr>
              <p:spPr>
                <a:xfrm rot="10800000">
                  <a:off x="6154560" y="3398760"/>
                  <a:ext cx="1743840" cy="245880"/>
                </a:xfrm>
                <a:prstGeom prst="rightArrow">
                  <a:avLst>
                    <a:gd name="adj1" fmla="val 50000"/>
                    <a:gd name="adj2" fmla="val 17609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" name="Rectangle 36"/>
          <p:cNvSpPr/>
          <p:nvPr/>
        </p:nvSpPr>
        <p:spPr>
          <a:xfrm>
            <a:off x="2784600" y="5429160"/>
            <a:ext cx="270036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ение на смысловые ч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53"/>
          <p:cNvSpPr/>
          <p:nvPr/>
        </p:nvSpPr>
        <p:spPr>
          <a:xfrm>
            <a:off x="8121600" y="3933720"/>
            <a:ext cx="2382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НЕНИЕ-РАССУ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9280" y="836280"/>
            <a:ext cx="9721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С какой целью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 каком порядк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Какими средствами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Комплексная работа с текстом -  это многоаспектная деятельность, включающ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начала вопросы и задания, направленные на осмысление содержания, связанные с читательским восприятием текста как речевого произвед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затем – задания речеведческого характера, включающие такие понятия как “текст”, “стиль”, “тема”, “основная мысль”, основные средства связи между предложения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За речеведческими заданиями следуют задания языкового характера по фонетике, лексике, граммат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И, наконец, - вопросы по орфографии и пунктуации, разные виды разб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21:40:50Z</dcterms:created>
  <dc:creator>мария</dc:creator>
  <dc:description/>
  <dc:language>en-US</dc:language>
  <cp:lastModifiedBy>4161</cp:lastModifiedBy>
  <dcterms:modified xsi:type="dcterms:W3CDTF">2013-01-17T13:20:50Z</dcterms:modified>
  <cp:revision>38</cp:revision>
  <dc:subject/>
  <dc:title>Слайд 1</dc:title>
</cp:coreProperties>
</file>