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235-7C47-453F-A0C1-AC846917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C09-3711-48F1-B230-4FF67805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482-3789-4B5B-8617-70A738E8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2CC-C29C-4E2F-9184-A29435F0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41BB-00D2-4876-9B6D-40BA4AFA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DAB1-678A-4E5A-8261-A6BB90A5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9E07-8CEE-4FDD-88A0-2D535091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8A80-F248-48F9-923A-1BFB1487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6718-5E53-4206-A217-9E3273C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26F-CF06-4F71-9995-633FBA3F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1B58-49DF-4F3E-BC47-6ECEB50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AAF-3B4E-44C7-8ED9-33FD69A2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28BF-D698-45C8-A045-4CF32BAD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ADEE-A96C-45E0-8D0E-37B51A8A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E4E9-E0FF-4ED9-8A62-AE4F8AD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5F5A-F5F7-498F-9F69-A6B20DC3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6E6-DC0F-4F9D-8300-C18FB6C3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C02-6886-43D9-B142-54766B0A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5FD-F10A-48CF-8F39-2DFD4A2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F42-4357-4203-9907-4015D7F8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5CC-4234-4670-BB3E-DD84B4B7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D00-1370-479B-B97F-5981D4F6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68A-CE98-4661-B83C-CBE896E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F16-2568-4F68-A362-E2FE540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5D16-E218-4D92-B7C7-96F111682E1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EF2-BAAB-41FB-AB22-FC4FBD4D07D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Сочинение-рассуждение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Часть С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Единого государственного экзамена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7 абзац. Второй аргумент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в защиту собственной позиц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 человеке, способном озарить чужую жизнь «факелом великой любви к людям», рассказывает и старуха Изергиль, героиня одноименного произведения М.Горького. С восхищением она говорит о смелом Данко, который ценой собственной жизни спас от гибели людей своего плем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8 абзац. Вывод в сочинении-рассужден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аким образом, размышляя вместе с В.Саниным над проблемой человеческого поступка, мы приходим к выводу: когда мы выявляем мотивы поведения, то даем оценку не только конкретному действию, но и самому человеку,  определяя свое отношение к нему, восхищаясь им или осуждая ег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1 абзац. Тема исходного текс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аще всего снятся разрывы снарядов тем, кто пережил войну. «Кто говорит, что на войне не страшно, тот ничего не знает о войне»,- писала Ю.Друнина, чудом выжив в огне Великой Отечественной. Но такие кошмарные сны снятся и в мирное время тем, чья работа связана с риском. Например, Кожухову, герою очерка В.Санина, часто снится «самый страшный» пожар на военном полигоне, который ему пришлось туш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 абзац. Формулировка проблемы исходного текс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ссказывая о действиях главного героя и его товарищей, автор поднимает несколько проблем. Что управляет поведением человек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меет ли право командир рисковать своими подчиненными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Можно ли избежать конфликта между представителями разных поколений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Но наиболее важной в этом тексте, на мой взгляд, является проблема человеческого поступ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3 абзац. Комментарий проблемы исходного текс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 внимательном прочтении очерка невольно обращаешь внимание на динамику внутренних переживаний главного героя: в первую минуту растерянность («он мгновенно понял, что не знает, как тушить этот пожар»), затем осознание ответственности («горели склады боеприпасов километрах в 60 от город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»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3 абзац. Комментарий проблемы исходного текста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«пожар следовало остановить во что бы то ни стало»), принятие единственно верного, по его мнению, решения «пойти на смертельный риск», после неудачной попытки подобраться к очагу возгорания – неожиданно найденное нестандартное решение вопроса («чрезвычайно дерзкая мысль»), в результате чего «огонь был потушен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4 абзац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. 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Формулировка позиции</a:t>
            </a:r>
            <a:br>
              <a:rPr sz="36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автора исходного текс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втор очерка убежден, что в этой ситуации военные оказались победителями, так как чувствовали огромную ответственность за жизнь и здоровье живущих в городе людей: если бы огонь добрался до главного склада, взрыв оказался бы страшным. Восхищение и благодарность звучат в голосе генерала, который называет Кожухова и его товарищей «сынками», «родными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6 абзац. Формулировка собственной позиц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Я согласна с мнением В.Санина: такое поведение людей всегда вызывало уважение. Принять особые меры во имя спасения других – далеко не каждый способен на это. Конечно, этих людей называют героями. О них пишут очерки, рассказы, слагают песни, создают филь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6 абзац. Первый аргумент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в защиту собственной позиц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 сожалению, не всегда все завершается благополучно, как в этом очерке. В 60-е годы Эдита Пьеха исполнила песню «Огромное небо», посвященную летчикам, которые погибли, спасая незнакомых им людей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6 абзац. Первый аргумент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в защиту собственной позиц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трела самолета рванулась с небес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 вздрогнул от взрыва березовый лес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 скоро поляны травой зарастут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город подумал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город подумал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город подумал: «Ученья идут!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1:53:41Z</dcterms:created>
  <dc:creator>Demone</dc:creator>
  <dc:description/>
  <dc:language>en-US</dc:language>
  <cp:lastModifiedBy>Demone</cp:lastModifiedBy>
  <dcterms:modified xsi:type="dcterms:W3CDTF">2009-11-21T14:30:50Z</dcterms:modified>
  <cp:revision>2</cp:revision>
  <dc:subject/>
  <dc:title>Слайд 1</dc:title>
</cp:coreProperties>
</file>