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BC3-DF1A-4634-B4A4-83A34753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6B3-D9CD-40FF-9F1C-FA9B36C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BF8-7310-4098-B47D-B0DE9892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B75-094C-42D3-8F6D-BFD90DB7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B50B-7E99-4B65-BFC3-F4A23FC8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96E4-3879-484B-9D2C-0AD7F8CB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31DE-F6B4-4DBF-863F-7B988096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EF2C-5EFC-491D-831F-4DED96F5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88CC-7A18-4CA6-B390-1B68F53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E509-7484-4D9F-B42F-1757A8FE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3394-1CCF-4049-B3FE-116C1E1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730-F1C4-4A57-974D-C912C915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E6E0-53B8-4411-8422-5FFA96E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35ED-94D4-4A0E-B3B4-5775DA3B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DA3-BC13-45F5-AB9C-3CA8EECE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56DD-6FDE-4523-89FD-2AE77902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802-D885-471C-9D5B-C45158FE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EB6-76DC-4743-A60D-3B28A3BA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1CB-23CA-42DA-AF42-5F5D88D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FAF-BF8C-4636-8D07-75E9429F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934-D768-4A6C-8F12-B79DAB55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3F6-788C-4336-B7DA-AA189624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DAE-61F0-4834-8B62-7CDD1A7F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110-B204-4BB0-80E5-A1C5858D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C5A5-49AA-4AE6-9FDC-453FF9B08DF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F4E9-43D2-4EBF-8877-77C9D13F914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Сочинение-рассуждение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Часть С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Единого государственного экзамена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7 абзац. Второй аргумент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в защиту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 человеке, способном озарить чужую жизнь «факелом великой любви к людям», рассказывает и старуха Изергиль, героиня одноименного произведения М.Горького. С восхищением она говорит о смелом Данко, который ценой собственной жизни спас от гибели людей своего плем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8 абзац. Вывод в сочинении-рассужден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аким образом, размышляя вместе с В.Саниным над проблемой человеческого поступка, мы приходим к выводу: когда мы выявляем мотивы поведения, то даем оценку не только конкретному действию, но и самому человеку,  определяя свое отношение к нему, восхищаясь им или осуждая 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1 абзац. Тема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аще всего снятся разрывы снарядов тем, кто пережил войну. «Кто говорит, что на войне не страшно, тот ничего не знает о войне»,- писала Ю.Друнина, чудом выжив в огне Великой Отечественной. Но такие кошмарные сны снятся и в мирное время тем, чья работа связана с риском. Например, Кожухову, герою очерка В.Санина, часто снится «самый страшный» пожар на военном полигоне, который ему пришлось туш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 абзац. Формулировка проблемы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ссказывая о действиях главного героя и его товарищей, автор поднимает несколько проблем. Что управляет поведением человек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меет ли право командир рисковать своими подчиненными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Можно ли избежать конфликта между представителями разных поколений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Но наиболее важной в этом тексте, на мой взгляд, является проблема человеческого поступ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3 абзац. Комментарий проблемы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 внимательном прочтении очерка невольно обращаешь внимание на динамику внутренних переживаний главного героя: в первую минуту растерянность («он мгновенно понял, что не знает, как тушить этот пожар»), затем осознание ответственности («горели склады боеприпасов километрах в 60 от город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»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3 абзац. Комментарий проблемы исходного текста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«пожар следовало остановить во что бы то ни стало»), принятие единственно верного, по его мнению, решения «пойти на смертельный риск», после неудачной попытки подобраться к очагу возгорания – неожиданно найденное нестандартное решение вопроса («чрезвычайно дерзкая мысль»), в результате чего «огонь был потушен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4 абзац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. 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Формулировка позиции</a:t>
            </a:r>
            <a:br>
              <a:rPr sz="36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автора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втор очерка убежден, что в этой ситуации военные оказались победителями, так как чувствовали огромную ответственность за жизнь и здоровье живущих в городе людей: если бы огонь добрался до главного склада, взрыв оказался бы страшным. Восхищение и благодарность звучат в голосе генерала, который называет Кожухова и его товарищей «сынками», «родными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6 абзац. Формулировка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Я согласна с мнением В.Санина: такое поведение людей всегда вызывало уважение. Принять особые меры во имя спасения других – далеко не каждый способен на это. Конечно, этих людей называют героями. О них пишут очерки, рассказы, слагают песни, создают филь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6 абзац. Первый аргумент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в защиту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 сожалению, не всегда все завершается благополучно, как в этом очерке. В 60-е годы Эдита Пьеха исполнила песню «Огромное небо», посвященную летчикам, которые погибли, спасая незнакомых им людей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6 абзац. Первый аргумент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в защиту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трела самолета рванулась с небес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вздрогнул от взрыва березовый лес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скоро поляны травой зарастут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город подумал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город подумал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город подумал: «Ученья идут!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53:41Z</dcterms:created>
  <dc:creator>Demone</dc:creator>
  <dc:description/>
  <dc:language>en-US</dc:language>
  <cp:lastModifiedBy>Demone</cp:lastModifiedBy>
  <dcterms:modified xsi:type="dcterms:W3CDTF">2009-11-21T14:30:50Z</dcterms:modified>
  <cp:revision>2</cp:revision>
  <dc:subject/>
  <dc:title>Слайд 1</dc:title>
</cp:coreProperties>
</file>