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699-9DDD-4647-BF9D-C8FF1C6E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C3C-6265-4883-B4D8-CA0814C6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6EF-87AF-4117-8852-10B0A9F6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8F7-F988-43AE-A5B9-C9B5A87E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5C2-E532-48AB-A754-0CBF9CF6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317-79C7-417D-B0A8-E43227D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B90-60A9-4AD2-98A8-7CF6B3A0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374-B765-4E80-88D0-C6DADC57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3F4-B8F0-4FA2-ADE1-5968B01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54A-0637-4820-8209-DFAD3AC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BE5-3010-494A-BE27-BC8CE5E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435-2BC8-4687-9151-4551621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E08-6C2B-437D-9A54-22019306F3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труктура и предмет прикладной социальной психолог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560" y="5257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студентка 41 группы Юсупова М.М.,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рск 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НАУКИ И ОБРАЗОВАНИЯ РФ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РСКИЙ ФИЛИАЛ ФЕДЕРАЛЬНОГО ГОСУДаРСТВЕННОГО БЮДЖЕТНОГО ОБРАЗОВАТЕЛЬНОГО УЧРЕЖДЕНИЯ 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АШКИРСКИЙ ГОСУДАРСТВЕННЫЙ УНИВЕРСИТЕТ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О-ГУМАНИТАРНЫЙ ФАКЛЬ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ФЕДРА ПСИХОЛОГИ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ая психология / Под ред. А.Н.Сухова, А.А.Деркача М., 2001, С. 36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кладная социальная психология - составная часть социальной психолог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Социальная прак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Социальная теор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ой практик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занимаются практические социальные психологи или социальные работ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ий аспект социальной психологии вкладывается из следующих направлен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о-психологическая диагност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о-психологическое консультир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о-психологическое воздействие или применение социильно-психологических технологий, оказание социально-психологическ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581280"/>
            <a:ext cx="333360" cy="671760"/>
          </a:xfrm>
          <a:prstGeom prst="downArrow">
            <a:avLst>
              <a:gd name="adj1" fmla="val 50000"/>
              <a:gd name="adj2" fmla="val 5037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течественная прикладная психология начиналась с конкретных социально-психологических исследований, т. е. с изучения общественного мнения, малых групп, стратификаци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о-психологическая диагно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постановке диагноза, т.е. изучении различных характеристик больших социальных групп, организаций и личности. При этом они пользуется готовыми зна ниями о предмете и объекте изучения и стандартными метод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Социально-психологическое консультировани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развитие связано с промышленно-кадровым аудитом и семейным консультированием. В настоящее время интенсивно происходит становление организационного консультирования в рамках соответствующих цен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но-психологическое воздействие. Причины этого явления предельно ясны. Именно в оказ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ологической помощи, в изменении тех или иных параметров личности заключается в конеч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м счете смысл деятельности практического социального психоло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оциально-психологическое воздейств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казании психологической помощи, в изменении тех или иных параметров личности заключается в конечном счете смысл деятельности практического социального психоло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чины кризисной ситуации в области применения социально-психологических технолог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зкий уровень компетентности практических социальных психологов, их непрофесионализм, а порой и невежест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гажированность «прикладников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облюдение профессиональной эт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в деятельности практикующих психологов четкой правовой регламентации, опыта и научной обоснованности, а также лицензирования со стороны экспертных сове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абая научная и методическая обеспеченностью и организация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1:58:33Z</dcterms:created>
  <dc:creator>Юсуповы</dc:creator>
  <dc:description/>
  <dc:language>en-US</dc:language>
  <cp:lastModifiedBy>Юсуповы</cp:lastModifiedBy>
  <dcterms:modified xsi:type="dcterms:W3CDTF">2013-01-18T09:20:3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