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E4B3-55FA-4ED8-9F13-D0B9D8B43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644B-0DEF-4060-A46F-9DB3B2E0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66C0-D17C-4AAC-8A67-C1B0A813D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DD4D-D842-4E32-8EFE-83F385B18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947B-5709-4FBC-A4F8-C9E0BE36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8FDC-BD5C-4E7D-8F59-58DAD9B6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314F-D869-42D0-B630-6760A871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3A34-5356-4D02-B062-0CD277AC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3F6E-3D58-4762-88B9-6744FB3D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7B11-80E2-4BE1-984B-98E5460F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D8BA-0BA0-42EF-A647-3FAEF9FF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CE13-FA7A-45DA-ABF8-4EA981A0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B958-F854-4DB9-8C30-77EB7613A78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Структура и предмет прикладной социальной психолог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47560" y="52578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полнила: студентка 41 группы Юсупова М.М.,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рск 201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685800" y="0"/>
            <a:ext cx="762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ИНИСТЕРСТВО НАУКИ И ОБРАЗОВАНИЯ РФ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ИРСКИЙ ФИЛИАЛ ФЕДЕРАЛЬНОГО ГОСУДаРСТВЕННОГО БЮДЖЕТНОГО ОБРАЗОВАТЕЛЬНОГО УЧРЕЖДЕНИЯ ВЫСШЕГО ПРОФЕССИОНАЛЬНОГО ОБРАЗОВА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БАШКИРСКИЙ ГОСУДАРСТВЕННЫЙ УНИВЕРСИТЕТ»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ЦИАЛЬНО-ГУМАНИТАРНЫЙ ФАКЛЬТ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ФЕДРА ПСИХОЛОГИИ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Литератур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циальная психология / Под ред. А.Н.Сухова, А.А.Деркача М., 2001, С. 362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пасибо за внимание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кладная социальная психология - составная часть социальной психолог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Социальная практ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Социальная теор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21337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циальной практикой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занимаются практические социальные психологи или социальные работни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ктический аспект социальной психологии вкладывается из следующих направлений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циально-психологическая диагностик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циально-психологическое консультировани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циально-психологическое воздействие или применение социильно-психологических технологий, оказание социально-психологической помощ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4495680" y="3581280"/>
            <a:ext cx="333360" cy="671760"/>
          </a:xfrm>
          <a:prstGeom prst="downArrow">
            <a:avLst>
              <a:gd name="adj1" fmla="val 50000"/>
              <a:gd name="adj2" fmla="val 5037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Отечественная прикладная психология начиналась с конкретных социально-психологических исследований, т. е. с изучения общественного мнения, малых групп, стратификации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8305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циально-психологическая диагност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ль: постановке диагноза, т.е. изучении различных характеристик больших социальных групп, организаций и личности. При этом они пользуется готовыми зна ниями о предмете и объекте изучения и стандартными методик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Социально-психологическое консультировани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го развитие связано с промышленно-кадровым аудитом и семейным консультированием. В настоящее время интенсивно происходит становление организационного консультирования в рамках соответствующих центр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ци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льно-психологическое воздействие. Причины этого явления предельно ясны. Именно в оказан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сихологической помощи, в изменении тех или иных параметров личности заключается в конеч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ом счете смысл деятельности практического социального психолог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Социально-психологическое воздействи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оказании психологической помощи, в изменении тех или иных параметров личности заключается в конечном счете смысл деятельности практического социального психолог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ричины кризисной ситуации в области применения социально-психологических технологий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изкий уровень компетентности практических социальных психологов, их непрофесионализм, а порой и невежество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нгажированность «прикладников»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соблюдение профессиональной этик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сутствие в деятельности практикующих психологов четкой правовой регламентации, опыта и научной обоснованности, а также лицензирования со стороны экспертных совет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лабая научная и методическая обеспеченностью и организация рабо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1T11:58:33Z</dcterms:created>
  <dc:creator>Юсуповы</dc:creator>
  <dc:description/>
  <dc:language>en-US</dc:language>
  <cp:lastModifiedBy>Юсуповы</cp:lastModifiedBy>
  <dcterms:modified xsi:type="dcterms:W3CDTF">2013-01-18T09:20:33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