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2AA-D962-4D9F-949C-D6D0DF14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66F-3AA3-47CE-8FBF-C95EC1F1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C3E-32B2-42EA-AA1D-B9EB7588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05B-1BC6-454F-9310-9E0A0374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F65F-9FFD-426E-A217-DA8A4E77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D48B-4D48-4C6E-B4CC-D52B3602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1E0F-A7AF-456E-9D0F-964F27F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5C1-6C3D-48AF-AEFB-6AD3265F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E207-2D05-4846-A30B-5399F0D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F5F2-503E-414E-A7A5-27A6386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8777-5589-4F8B-9C95-4929CB6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11C-0AD4-465E-8F76-2E1FDDA9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1B33-E4AD-4BD0-A480-687A31F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4FB-DD22-41FF-8D48-CF3AC5B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A78C-9C0A-4E90-9ADC-D482607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94E5-A3B7-4519-BBB4-112FCBE1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A6F-F0C6-4B41-92EB-1C443856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14B-F6C3-47DE-81E1-C7D5EF55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DAD-0BEF-46C0-B8E9-FBD3A6A7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B5A-22AD-4955-B2E8-7B3F20EE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1C5-F7A7-4737-B46B-02AFC858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227-068F-437D-A864-68070B6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314-322C-46F9-8493-A5093DBE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021-D0E8-4E3A-9419-B5F4964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29D2-5ED5-4C8F-934D-857FECFD373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D8D-3C55-4847-8EA3-E538B04FEA4E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312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628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00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98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928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8648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72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3440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484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1752480"/>
            <a:ext cx="38124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752480"/>
            <a:ext cx="38124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752480"/>
            <a:ext cx="38088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590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636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684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6204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640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556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056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212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84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9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35680" y="2666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9260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612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592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9280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6320" y="2590920"/>
            <a:ext cx="38088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94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66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738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31080" y="2590920"/>
            <a:ext cx="38124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9560" y="3657600"/>
            <a:ext cx="682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72"/>
                </a:solidFill>
                <a:latin typeface="Bookman Old Style"/>
              </a:rPr>
              <a:t>Математический  диктант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2320" y="457200"/>
            <a:ext cx="63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5472"/>
                </a:solidFill>
                <a:latin typeface="Bookman Old Style"/>
              </a:rPr>
              <a:t>Натуральный ряд чисел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76560" y="454356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8+1=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6440" y="53341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6+3=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1760" y="45720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7+2=9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3920" y="53341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a"/>
                </a:solidFill>
                <a:latin typeface="Bookman Old Style"/>
              </a:rPr>
              <a:t>9-5=4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122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Чтобы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найти целое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, нужно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сложить части.</a:t>
            </a:r>
            <a:br>
              <a:rPr sz="5400"/>
            </a:b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42900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Чтобы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найти часть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</a:rPr>
              <a:t>, нужно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Times New Roman"/>
              </a:rPr>
              <a:t>из целого вычесть другую часть.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66560" cy="40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6656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476280"/>
          <a:ext cx="4497120" cy="4615920"/>
        </p:xfrm>
        <a:graphic>
          <a:graphicData uri="http://schemas.openxmlformats.org/drawingml/2006/table">
            <a:tbl>
              <a:tblPr/>
              <a:tblGrid>
                <a:gridCol w="1673640"/>
                <a:gridCol w="1397880"/>
                <a:gridCol w="1425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меньш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чит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ность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      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3280" y="1989000"/>
          <a:ext cx="4249800" cy="4608720"/>
        </p:xfrm>
        <a:graphic>
          <a:graphicData uri="http://schemas.openxmlformats.org/drawingml/2006/table">
            <a:tbl>
              <a:tblPr/>
              <a:tblGrid>
                <a:gridCol w="1582920"/>
                <a:gridCol w="1319040"/>
                <a:gridCol w="134784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слаг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слаг.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      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?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412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8440" y="336564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440" y="32209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32209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32080" y="336564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97160" y="32209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784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tencil"/>
              </a:rPr>
              <a:t>4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7892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tencil"/>
              </a:rPr>
              <a:t>9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69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tencil"/>
              </a:rPr>
              <a:t>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61240" y="2811600"/>
            <a:ext cx="35110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9889"/>
                </a:moveTo>
                <a:arcTo wR="10800" hR="10800" stAng="-10509554" swAng="10509554"/>
                <a:lnTo>
                  <a:pt x="10800" y="10800"/>
                </a:lnTo>
                <a:close/>
              </a:path>
              <a:path fill="none" w="21600" h="21600">
                <a:moveTo>
                  <a:pt x="39" y="9889"/>
                </a:moveTo>
                <a:arcTo wR="10800" hR="10800" stAng="-10509554" swAng="10509554"/>
              </a:path>
            </a:pathLst>
          </a:cu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Bookman Old Style"/>
              </a:rPr>
              <a:t>Составь числовые равенства по рисунку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11240" y="1981080"/>
            <a:ext cx="1143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1124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5424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54240" y="1981080"/>
            <a:ext cx="1600200" cy="0"/>
          </a:xfrm>
          <a:prstGeom prst="line">
            <a:avLst/>
          </a:prstGeom>
          <a:ln w="5724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7812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78120" y="1981080"/>
            <a:ext cx="1295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7376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010520" y="1447920"/>
            <a:ext cx="3892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9889"/>
                </a:moveTo>
                <a:arcTo wR="10800" hR="10800" stAng="-10509554" swAng="10509554"/>
                <a:lnTo>
                  <a:pt x="10800" y="10800"/>
                </a:lnTo>
                <a:close/>
              </a:path>
              <a:path fill="none" w="21600" h="21600">
                <a:moveTo>
                  <a:pt x="39" y="9889"/>
                </a:moveTo>
                <a:arcTo wR="10800" hR="10800" stAng="-10509554" swAng="10509554"/>
              </a:path>
            </a:pathLst>
          </a:cu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0040" y="1143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59160" y="1066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05680" y="76212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7800" y="220968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74720" y="22096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19400" y="220968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З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352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3200400"/>
            <a:ext cx="54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В=</a:t>
            </a:r>
            <a:r>
              <a:rPr b="0" lang="ru-RU" sz="4400" spc="-1" strike="noStrike">
                <a:solidFill>
                  <a:srgbClr val="545472"/>
                </a:solidFill>
                <a:latin typeface="Bookman Old Style"/>
              </a:rPr>
              <a:t>    </a:t>
            </a: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    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2040" y="487692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С=     -      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70280" y="548640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З=     -      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96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114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5472"/>
                </a:solidFill>
                <a:latin typeface="Bookman Old Style"/>
              </a:rPr>
              <a:t>Ж=    -       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7000" y="358128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-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4800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638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7000" y="464832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-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6680" y="541008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-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7120" y="4648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7120" y="36576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3400" y="5486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+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66400" y="4648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=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6400" y="36576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=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66400" y="5486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Bookman Old Style"/>
              </a:rPr>
              <a:t>=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0472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47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81080" y="16020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3344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0980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7440" y="3049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344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5744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3049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385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84720" y="3049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07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8360" y="304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84720" y="160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380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016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5252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1066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5252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0016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92232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81600" y="1066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5760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980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7440" y="1066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03440" y="922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0"/>
            <a:ext cx="177156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1+8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2+7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3+6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4+5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5+4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6+3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7+2=8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Stencil"/>
              </a:rPr>
              <a:t>8+1=9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46440" y="304560"/>
            <a:ext cx="58284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9960" y="15876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066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9960" y="9144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380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380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0016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5252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888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19810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52520" y="183672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016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81600" y="19810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5760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03440" y="19810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980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19810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03440" y="18367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65520" y="19652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99040" y="18129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380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520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156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252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0280" y="267480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28195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9392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0016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1756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81600" y="28195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9900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344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2120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27440" y="28195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44840" y="2674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03600" y="28195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99040" y="26510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664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9536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172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19360" y="36576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9536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1936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24440" y="36576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0044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46640" y="36576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22640" y="35132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70280" y="36576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79760" y="350532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08360" y="364176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41880" y="348948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664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664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9536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7172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19360" y="4495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9536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1936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24440" y="4495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0044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46640" y="449568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22640" y="435132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0280" y="44956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46640" y="435132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08360" y="44798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1880" y="432756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04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804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440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1312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6040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3676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4400" y="53341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6040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548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41840" y="511344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8768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6404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11320" y="5334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8768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622760" y="5318280"/>
            <a:ext cx="60336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052960" y="304560"/>
            <a:ext cx="58284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62440" y="152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079960" y="1066680"/>
            <a:ext cx="58248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89440" y="9144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079960" y="2819160"/>
            <a:ext cx="58248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89440" y="26668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7996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9440" y="18288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156280" y="4495680"/>
            <a:ext cx="58248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65760" y="43434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65760" y="350532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56280" y="3657600"/>
            <a:ext cx="582480" cy="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51814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51814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334120"/>
            <a:ext cx="55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220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220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6856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2092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728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4456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092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5416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4456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4964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600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184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4820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60199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1840" y="587520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633920" y="6019560"/>
            <a:ext cx="58248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67440" y="587376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140440" y="6019560"/>
            <a:ext cx="582480" cy="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49920" y="5867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830160" y="32544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4200" y="3102120"/>
            <a:ext cx="7780320" cy="1434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т перестановки слагаемых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сумма не изменяется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22200" y="1523880"/>
            <a:ext cx="71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ЕРЕМЕСТИТЕЛЬНОЕ СВОЙСТВО СЛОЖ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010280" y="10666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19810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0666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24680" y="19810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10280" y="0"/>
            <a:ext cx="1828800" cy="106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43800" y="304920"/>
            <a:ext cx="762120" cy="6858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6760" y="304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a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28954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24680" y="2895480"/>
            <a:ext cx="80964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49840" y="0"/>
            <a:ext cx="37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ав числа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10666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19810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54040" y="10666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54040" y="19810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9640" y="0"/>
            <a:ext cx="1828800" cy="106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73160" y="304920"/>
            <a:ext cx="762120" cy="6858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76120" y="304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a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28954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54040" y="28954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38098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54040" y="38098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47242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54040" y="4724280"/>
            <a:ext cx="809640" cy="663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5661000"/>
            <a:ext cx="809640" cy="66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76360" y="5661000"/>
            <a:ext cx="809640" cy="66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6280" y="1219320"/>
            <a:ext cx="149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39080" y="38242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39080" y="47386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3480" y="38242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53480" y="47386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39080" y="56530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53480" y="565308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641520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01000" y="6415200"/>
            <a:ext cx="809640" cy="44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522960" cy="37893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484360" y="141300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comic"/>
              </a:rPr>
              <a:t>МОЛОДЦЫ !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43964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4" name="applause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45:20Z</dcterms:created>
  <dc:creator>8k2f</dc:creator>
  <dc:description/>
  <dc:language>en-US</dc:language>
  <cp:lastModifiedBy>8k2f</cp:lastModifiedBy>
  <dcterms:modified xsi:type="dcterms:W3CDTF">2008-03-01T18:20:25Z</dcterms:modified>
  <cp:revision>109</cp:revision>
  <dc:subject/>
  <dc:title>СЛОЖЕНИЕ</dc:title>
</cp:coreProperties>
</file>