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789-BF9D-4F6E-A011-8CBF83DF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27D-D215-4788-82F2-DAFD2E3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6BA-4855-4126-92D2-2816C3FC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24A-0BA3-4FA1-9BC9-084F9AAE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BC0-7DDD-4ED6-8C08-B1A36C0A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574-D6E4-423D-807F-5DF7E1E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AD1-48CE-4EB9-89C1-D8FAED4D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A334-9B34-41A5-8C5A-390D1D4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C963-3DE5-4534-8314-D59A58A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550-EA42-4118-A369-881B71FF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9F96-D421-495C-A50E-218075E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6F8-30D0-4337-A465-F473ABD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DEA4-6016-4538-8AA1-8166C45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EF5C-18DF-4639-8AAD-2BAE9D5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0F5-CECC-4DC0-8699-C1583A1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1E0-56AB-484F-9ED3-F0331725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605-797E-4B05-AC25-1C70B75A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C21-12E7-4B34-B97C-72BE459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959-AE78-4DD9-BEFE-4BA5775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3F9-19C6-4582-BDFD-0ED0D073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3DE-2771-45AD-949F-E3F36AC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1AA-9910-4C5B-A39F-1C6CCA5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0AB-5031-4B91-865F-51A54EA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215-6BDD-4077-9F68-1E17D42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5C9D-0355-49B9-86ED-57EE6EA342C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7096-869C-4A62-AC24-5F4443A93E8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312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62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00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98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92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64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72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44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484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1752480"/>
            <a:ext cx="38124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752480"/>
            <a:ext cx="38124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590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36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684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6204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40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556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056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212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84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356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612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592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9280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632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94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66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738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310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9560" y="3657600"/>
            <a:ext cx="682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72"/>
                </a:solidFill>
                <a:latin typeface="Bookman Old Style"/>
              </a:rPr>
              <a:t>Математический  диктант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2320" y="457200"/>
            <a:ext cx="63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72"/>
                </a:solidFill>
                <a:latin typeface="Bookman Old Style"/>
              </a:rPr>
              <a:t>Натуральный ряд чисел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76560" y="454356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8+1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6440" y="53341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6+3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1760" y="45720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7+2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3920" y="53341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9-5=4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122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Чтобы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найти целое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, нужно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сложить части.</a:t>
            </a:r>
            <a:br>
              <a:rPr sz="5400"/>
            </a:b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42900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Чтобы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найти часть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, нужно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из целого вычесть другую часть.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66560" cy="40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6656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76280"/>
          <a:ext cx="4497120" cy="4615920"/>
        </p:xfrm>
        <a:graphic>
          <a:graphicData uri="http://schemas.openxmlformats.org/drawingml/2006/table">
            <a:tbl>
              <a:tblPr/>
              <a:tblGrid>
                <a:gridCol w="1673640"/>
                <a:gridCol w="1397880"/>
                <a:gridCol w="1425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меньш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чит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сть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    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1989000"/>
          <a:ext cx="4249800" cy="4608720"/>
        </p:xfrm>
        <a:graphic>
          <a:graphicData uri="http://schemas.openxmlformats.org/drawingml/2006/table">
            <a:tbl>
              <a:tblPr/>
              <a:tblGrid>
                <a:gridCol w="1582920"/>
                <a:gridCol w="1319040"/>
                <a:gridCol w="134784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слаг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слаг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    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412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8440" y="336564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44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2080" y="336564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9716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784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4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7892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9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69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61240" y="2811600"/>
            <a:ext cx="35110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9889"/>
                </a:moveTo>
                <a:arcTo wR="10800" hR="10800" stAng="-10509554" swAng="10509554"/>
                <a:lnTo>
                  <a:pt x="10800" y="10800"/>
                </a:lnTo>
                <a:close/>
              </a:path>
              <a:path fill="none" w="21600" h="21600">
                <a:moveTo>
                  <a:pt x="39" y="9889"/>
                </a:moveTo>
                <a:arcTo wR="10800" hR="10800" stAng="-10509554" swAng="10509554"/>
              </a:path>
            </a:pathLst>
          </a:cu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man Old Style"/>
              </a:rPr>
              <a:t>Составь числовые равенства по рисунку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11240" y="1981080"/>
            <a:ext cx="1143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12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542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54240" y="1981080"/>
            <a:ext cx="1600200" cy="0"/>
          </a:xfrm>
          <a:prstGeom prst="line">
            <a:avLst/>
          </a:prstGeom>
          <a:ln w="5724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7812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8120" y="1981080"/>
            <a:ext cx="1295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7376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010520" y="1447920"/>
            <a:ext cx="3892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9889"/>
                </a:moveTo>
                <a:arcTo wR="10800" hR="10800" stAng="-10509554" swAng="10509554"/>
                <a:lnTo>
                  <a:pt x="10800" y="10800"/>
                </a:lnTo>
                <a:close/>
              </a:path>
              <a:path fill="none" w="21600" h="21600">
                <a:moveTo>
                  <a:pt x="39" y="9889"/>
                </a:moveTo>
                <a:arcTo wR="10800" hR="10800" stAng="-10509554" swAng="10509554"/>
              </a:path>
            </a:pathLst>
          </a:cu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0040" y="1143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59160" y="1066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05680" y="76212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7800" y="220968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74720" y="22096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19400" y="220968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З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3200400"/>
            <a:ext cx="54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В=</a:t>
            </a:r>
            <a:r>
              <a:rPr b="0" lang="ru-RU" sz="4400" spc="-1" strike="noStrike">
                <a:solidFill>
                  <a:srgbClr val="545472"/>
                </a:solidFill>
                <a:latin typeface="Bookman Old Style"/>
              </a:rPr>
              <a:t>    </a:t>
            </a: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    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2040" y="487692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С=     -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70280" y="54864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З=     -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114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Ж=    - 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7000" y="35812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464832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6680" y="54100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7120" y="4648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7120" y="3657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3400" y="5486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66400" y="4648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6400" y="3657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6400" y="5486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0472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4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1080" y="16020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3344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980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344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744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385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8472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836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84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38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016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5252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5252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0016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9223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8160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576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98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744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0344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0"/>
            <a:ext cx="177156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1+8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2+7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3+6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4+5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5+4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6+3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7+2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8+1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46440" y="304560"/>
            <a:ext cx="58284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9960" y="15876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9960" y="914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380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38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5252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888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52520" y="18367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016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8160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576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0344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98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0344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65520" y="19652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9040" y="18129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380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52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156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252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0280" y="267480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9392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0016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1756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8160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990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344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212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2744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4484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0360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99040" y="26510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66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9536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172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1936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9536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1936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2444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004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4664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226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7028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79760" y="350532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08360" y="364176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41880" y="348948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66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9536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7172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1936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9536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1936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2444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004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4664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22640" y="43513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028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466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08360" y="44798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1880" y="43275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04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804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440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1312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040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3676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4400" y="53341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6040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548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41840" y="511344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8768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6404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1132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768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622760" y="5318280"/>
            <a:ext cx="60336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052960" y="304560"/>
            <a:ext cx="58284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62440" y="152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079960" y="106668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89440" y="914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079960" y="28191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89440" y="26668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7996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4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156280" y="449568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65760" y="4343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5760" y="350532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56280" y="365760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51814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51814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334120"/>
            <a:ext cx="55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220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22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6856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2092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728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4456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092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5416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4456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4964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60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184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482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184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633920" y="60195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67440" y="587376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140440" y="60195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49920" y="5867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830160" y="32544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4200" y="3102120"/>
            <a:ext cx="7780320" cy="1434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т перестановки слагаемых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сумма не изменяется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22200" y="1523880"/>
            <a:ext cx="71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ЕРЕМЕСТИТЕЛЬНОЕ СВОЙСТВО СЛОЖ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010280" y="10666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19810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0666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24680" y="19810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0"/>
            <a:ext cx="1828800" cy="106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43800" y="304920"/>
            <a:ext cx="762120" cy="6858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6760" y="30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a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28954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28954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49840" y="0"/>
            <a:ext cx="37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ав числа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10666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19810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10666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54040" y="19810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0"/>
            <a:ext cx="1828800" cy="106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73160" y="304920"/>
            <a:ext cx="762120" cy="6858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76120" y="30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a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28954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54040" y="28954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38098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54040" y="38098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47242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4040" y="47242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5661000"/>
            <a:ext cx="809640" cy="66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76360" y="5661000"/>
            <a:ext cx="809640" cy="66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6280" y="1219320"/>
            <a:ext cx="149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39080" y="38242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39080" y="47386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3480" y="38242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53480" y="47386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39080" y="56530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53480" y="56530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641520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01000" y="641520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4" name="applause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8k2f</cp:lastModifiedBy>
  <dcterms:modified xsi:type="dcterms:W3CDTF">2008-03-01T18:20:25Z</dcterms:modified>
  <cp:revision>109</cp:revision>
  <dc:subject/>
  <dc:title>СЛОЖЕНИЕ</dc:title>
</cp:coreProperties>
</file>