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6945-C5BE-4ED0-9D01-F3395153EA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3AF4-F8FD-4243-A9D6-F9EFA5550A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B2C76-CC9B-4C3E-819F-FB7ED4B5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7B114-C7CA-4B62-888B-268B18C3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26652-8209-481C-882E-4D58E6D4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0B1B1-EF4C-45C6-AAC4-BF63CEAC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4020-1AED-4E8D-8AB0-E061A3E3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B7FD-59E4-4D16-8068-CE24EB8A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7C7B-DEA9-4246-B2F2-5CD0EC84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8123-660A-43B9-871C-267CAD35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1A8C-7A84-4AB9-A852-C66223EC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9B8E-6743-4A0F-B8A4-70792740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D590-70B4-445F-BAA4-2FA2945F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FDDE4-915B-4AF2-9BE4-C313A201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9483-579F-4D8E-9EBB-DBE776F9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2885-25AF-42B6-95BC-4E03C02B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A3B0-C6DA-491A-9353-273257DA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E4C4-D303-4C29-B664-7AC6CBF9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3E71-4864-4A76-B5B7-44691A34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95416-E333-49D9-BE80-BEAE16E4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00CA7-A315-45C4-8A3C-D75EBE55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728A7-52E0-4E6E-81AF-831C7C38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BE813-D456-40C4-A8DD-8EBBD00F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F440A-4FDE-4607-9A0A-B8063495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265E0-D375-4B0A-BA03-399F4626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B3395-E11B-4850-8984-4F492F77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C573-4E62-49F5-A369-B9A9C6AE14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50E9-56F1-4D66-969E-892D20A33C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6093360"/>
            <a:ext cx="8642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атвеева Юл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360" y="2679120"/>
            <a:ext cx="7308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826920" y="1052640"/>
            <a:ext cx="7705800" cy="38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кон всемирного 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яготения.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ш повседневный опыт показывает, что мяч, брошенный вверх, падает на землю. Созревшее яблоко отрывается от яблони и так же падает на землю. Во всех наших примерах телам сообщается ускорение. В первых двух случаях тела получают ускорение свободного падения, равное 9,8 м/с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 третьему закону Ньютона мяч, яблоко, Луна, Солнце притягивают к себе Землю с такими же по модулю силами. Более того, все тела во Вселенной притягивают друг друга. Это взаимное притяжение тел называют всемирном тяготение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илы, с которыми любые два тела притягиваются друг к другу, называют силами всемирного тяготения или гравитационными сил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второму закону Ньютона Земля своим притяжением сообщает телам ускорением свободного паден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 известно ускорение свободного падения не зависит от массы падающего тела. Следовательно, в формулу силы, которую мы должны установить,- должна войти масса тела в качестве одного из сомножителе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064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 третьему закону Ньютона следует, с какой силой Земля притягивает к себе тела, с такой же по модулю силой и тела притягивает к себе Землю. Отсюда масса Земли должна быть вторым сомножителем в законе всемирного тяготения. Следовательно, сила притяжения между двумя телами должна быть прямо пропорциональна произведению масс обоих те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ила притяжения двух тел, вызывающая эти ускорения, обратно пропорциональна квадрату расстояния между ни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юбые два тела притягивают друг друга силой, прямо пропорциональной произведению их масс и обратно пропорциональном квадрату расстояния между ни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витационная постоянная численно равна силе притяжения между телами массой по 1кг,расположенными на расстоянии 1м друг от друга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исловое значение гравитационной постоянной установили с помощью опыта. Свинцовые шары В и С имели одинаковую массу в десятки килограммов, а шар  А- не сколько тысяч килограммов. Вследствие притяжения шаров А и В равновесие весов нарушалось. Чтобы их уравновесить, на правую чашку весов добавляли маленькие гирьки. Сила притяжения этих гирек к Земле и была равна силе притяжения шаров А и В, если центры последних лежат на одной вертикали. Тщательно измерив массы шаров А и В и расстояние между их центрами, вычислили гравитационную постоянную.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2F99E901"/>
          <p:cNvPicPr/>
          <p:nvPr/>
        </p:nvPicPr>
        <p:blipFill>
          <a:blip r:embed="rId1"/>
          <a:stretch/>
        </p:blipFill>
        <p:spPr>
          <a:xfrm>
            <a:off x="1116000" y="476280"/>
            <a:ext cx="493560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кон всемирного тяготения позволил Ньютону объяснить движение планет, морские приливы и отливы. Позже астрономы с его помощью открыли «на кончике пера» самые удалённые планеты нашей Солнечной системы- Нептун и Плутон. Только рассчитав их координаты, учёные смогли найти их на небе. На основе этого закона на много лет вперёд предсказывают солнечные и лунные затмения, рассчитывают движения космических кораблей. Всё это одновременно и широкая опытная проверка этого зако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900000" y="907920"/>
            <a:ext cx="75596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1:02:16Z</dcterms:created>
  <dc:creator>Класс</dc:creator>
  <dc:description/>
  <dc:language>en-US</dc:language>
  <cp:lastModifiedBy>Пользователь</cp:lastModifiedBy>
  <dcterms:modified xsi:type="dcterms:W3CDTF">2013-01-18T07:39:56Z</dcterms:modified>
  <cp:revision>12</cp:revision>
  <dc:subject/>
  <dc:title>Закон всемирного тяготения.</dc:title>
</cp:coreProperties>
</file>