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2D59-3F6B-4E0E-9479-EB9AFE681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81C-BD89-41AA-9628-10AE2EDF33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C36B-EB9F-4EC5-BD79-ADDEB8AA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A9EA-C5B6-4C8F-AC48-8680C79B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3EAA-1B55-4063-A986-FB0E2399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8501-C227-4FDD-921E-635FC343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31ED-53E5-4391-84DF-704E1110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4E61-861F-4FDB-843D-6881D54A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4E5-EE90-49A5-91F0-D0C9CFED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81F-0C6B-4F0C-B357-95F5337C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D00F-10BE-4EA7-976A-29D8D4D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1B6E-058C-4173-9844-06652864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6A82-888D-4781-8089-4590AF18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3E02-0613-4F25-8AB9-7DB3C9FB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7AE4-28D5-43DA-893D-69B3F5F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F22-8B3E-465F-BC78-287024F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DB0D-E472-409F-9559-13EE924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3718-CD04-49B6-B0E7-EC9E4E9A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A0C-F331-40F3-BDDA-B488F2D7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6CBE-1AC5-423B-A1F4-1F55FAA4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F2EE-4741-40F3-9E54-F2F595B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8A20-6F1D-4FDF-9687-5922E5F8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BA15-638D-484C-AAC5-76D8C42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4809-A65A-41B0-8951-FB20297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DB10-D229-4EF4-9C98-40ABE19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5E1B-6EB1-422C-AF12-80299F9C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3891-F212-4222-8D5E-BC5EDFA8E6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2BDD-9130-49FB-972F-4B7372FA58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6093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атвеева Юл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267912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826920" y="1052640"/>
            <a:ext cx="770580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кон всемирного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яготения.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повседневный опыт показывает, что мяч, брошенный вверх, падает на землю. Созревшее яблоко отрывается от яблони и так же падает на землю. Во всех наших примерах телам сообщается ускорение. В первых двух случаях тела получают ускорение свободного падения, равное 9,8 м/с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третьему закону Ньютона мяч, яблоко, Луна, Солнце притягивают к себе Землю с такими же по модулю силами. Более того, все тела во Вселенной притягивают друг друга. Это взаимное притяжение тел называют всемирном тяготение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илы, с которыми любые два тела притягиваются друг к другу, называют силами всемирного тяготения или гравитационными сил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второму закону Ньютона Земля своим притяжением сообщает телам ускорением свободного пад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известно ускорение свободного падения не зависит от массы падающего тела. Следовательно, в формулу силы, которую мы должны установить,- должна войти масса тела в качестве одного из сомножител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третьему закону Ньютона следует, с какой силой Земля притягивает к себе тела, с такой же по модулю силой и тела притягивает к себе Землю. Отсюда масса Земли должна быть вторым сомножителем в законе всемирного тяготения. Следовательно, сила притяжения между двумя телами должна быть прямо пропорциональна произведению масс обоих те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ла притяжения двух тел, вызывающая эти ускорения, обратно пропорциональна квадрату расстояния между ни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ые два тела притягивают друг друга силой, прямо пропорциональной произведению их масс и обратно пропорциональном квадрату расстояния между ни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витационная постоянная численно равна силе притяжения между телами массой по 1кг,расположенными на расстоянии 1м друг от друга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исловое значение гравитационной постоянной установили с помощью опыта. Свинцовые шары В и С имели одинаковую массу в десятки килограммов, а шар  А- не сколько тысяч килограммов. Вследствие притяжения шаров А и В равновесие весов нарушалось. Чтобы их уравновесить, на правую чашку весов добавляли маленькие гирьки. Сила притяжения этих гирек к Земле и была равна силе притяжения шаров А и В, если центры последних лежат на одной вертикали. Тщательно измерив массы шаров А и В и расстояние между их центрами, вычислили гравитационную постоянную.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2F99E901"/>
          <p:cNvPicPr/>
          <p:nvPr/>
        </p:nvPicPr>
        <p:blipFill>
          <a:blip r:embed="rId1"/>
          <a:stretch/>
        </p:blipFill>
        <p:spPr>
          <a:xfrm>
            <a:off x="1116000" y="476280"/>
            <a:ext cx="49356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он всемирного тяготения позволил Ньютону объяснить движение планет, морские приливы и отливы. Позже астрономы с его помощью открыли «на кончике пера» самые удалённые планеты нашей Солнечной системы- Нептун и Плутон. Только рассчитав их координаты, учёные смогли найти их на небе. На основе этого закона на много лет вперёд предсказывают солнечные и лунные затмения, рассчитывают движения космических кораблей. Всё это одновременно и широкая опытная проверка этого зак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900000" y="907920"/>
            <a:ext cx="7559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1:02:16Z</dcterms:created>
  <dc:creator>Класс</dc:creator>
  <dc:description/>
  <dc:language>en-US</dc:language>
  <cp:lastModifiedBy>Пользователь</cp:lastModifiedBy>
  <dcterms:modified xsi:type="dcterms:W3CDTF">2013-01-18T07:39:56Z</dcterms:modified>
  <cp:revision>12</cp:revision>
  <dc:subject/>
  <dc:title>Закон всемирного тяготения.</dc:title>
</cp:coreProperties>
</file>