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9A7-3961-4B0C-82DF-89A9B9D1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EDF-597E-439B-9DB4-800A773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D48-2B21-4F7D-9F89-3F44DB9D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80A-EB4C-4F72-A9E5-40AE104D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8368-A5E7-438E-B1B3-CCA07F38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C617-E094-4AF9-8AB6-CC9B26A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C15-67AD-4431-B6E8-7AB507F8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8ACE-4F3B-4003-A9FF-45DC64B3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FFE6-6A80-424A-822C-4F34DE0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9CC7-F8BA-4BB0-8A2B-D5F36F59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247-76D1-49C9-8B58-F663F24D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809-97B4-4FD7-AE18-89C8E6D1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D0F-C981-428B-BFF0-5B6D0DD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A3FC-87D9-483F-A32A-8214592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75C8-6B4A-4AFA-9E20-6B1BEDA5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AAC-2E44-44CE-8875-FF9A50FC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8FA9-A5BD-4684-943C-1EC5B78F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D35-FF73-4EF7-88E6-A1A3A91A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22C-DC81-4512-B447-91A9319D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649-504C-4693-9AD9-BE51A983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07A-D089-4B75-A0F5-FA7FD317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7AB-DAD6-486A-853F-079E9A2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0D4-EBCC-4720-B01D-C049E81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EF5-0A32-4FA2-8862-F0BA019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015-D581-4104-832F-28DCB7D8CD3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E792-B77C-48BF-917B-AB988079887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vasia.org/" TargetMode="External"/><Relationship Id="rId2" Type="http://schemas.openxmlformats.org/officeDocument/2006/relationships/hyperlink" Target="http://www.ovasia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Женщина и понятие красоты в Кита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518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полнили: студентка 41 группы Юсупова М.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ирск 201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8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ИНИСТЕРСТВО НАУКИ И ОБРАЗОВАНИЯ РФ</a:t>
            </a: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ИРСКИЙ ФИЛИАЛ ФЕДЕРАЛЬНОГО ГОСУДОРСТВЕННОГО БЮДЖЕТНОГО ОБРАЗОВАТЕЛЬНОГО УЧРЕЖДЕНИЯ ВЫСШЕГО ПРОФЕССИОНАЛЬНОГО ОБРАЗОВА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«БАШКИРСКИЙ ГОСУДАРСТВЕННЫЙ УНИВЕРСИТЕТ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ОЦИАЛЬНО-ГУМАНИТАРНЫЙ ФАКЛЬТ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АФЕДРА ПСИХОЛОГИИ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2185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www.ovasia.or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ussianshanghai.c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105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7497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итайская семья испокон веков представляла из себя, прежде всего, общину, возглавляемую отцом семейства, которому все остальные члены семьи были обязаны повиноватьс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днако среди всех членов семьи самыми бесправными были дочери. От них требовалось не просто послушание, но беспрекословное повиновение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7497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детских лет девочки должны были участвовать в любой домашней работе, помогая в уборке, моя и чистя посуд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одростковом возрасте их обучали шитью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 того, как для девушки был выбран жених (как правило, это случалось уже к двенадцати годам), будущая невеста обучалась той работе, которой занимаются женщины из семьи жених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6172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7421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вочкам не разрешалось предаваться играм и безделью. Им не разрешалось общаться с соседскими мальчишкам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в подростковом возрасте запрещалось играть и с мальчиками своей семьи. Запрет налагался на все самостоятельные передвижения за пределами дома. Отлучки из дома были возможны только в сопровождении кого-нибудь из членов семьи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68580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7345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спитанием и обучением девочек в основном занимались женщины. Однако отцы не должны были полностью оставаться в сторон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менно на их плечах лежала ответственность по воспитанию в дочерях так называемых «трех правил подчинения»: дома повиноваться отцу, в замужестве повиноваться мужу, во вдовстве повиноваться сын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лава семейства отвечал и за воспитание у дочери «четырех добродетелей», состоящих в соблюдении супружеской верности, честности, скромности и усерд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4305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4:46:06Z</dcterms:created>
  <dc:creator>Юсуповы</dc:creator>
  <dc:description/>
  <dc:language>en-US</dc:language>
  <cp:lastModifiedBy>Юсуповы</cp:lastModifiedBy>
  <dcterms:modified xsi:type="dcterms:W3CDTF">2013-01-18T08:50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