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6D3D-4F74-419A-A356-B29C07FC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A7F-0A5C-448F-A8FA-DB8479B0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139F-4549-456F-BDF3-D65E7C93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A792-91B6-4DE4-8FDE-4150F583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A624-9265-4BDF-B202-0D3C7EFA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FDE9-3719-4C0E-BA83-44106564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CA8F-A4A7-47F4-9F73-AA8F8317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50AB-438B-4DD6-8D91-ACB5E1D3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E19F-F26A-4FA3-BA4C-3E36C47F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0AD1-82B6-46ED-B88F-C911EA86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ACBF-8BF3-495E-B396-9D9C8344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D84B-D30A-4852-A427-6E3E52DC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0DE0-01A7-45D8-ADA3-A10BE793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0479-C1EB-408B-8EC3-61277FE7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98EC-E1E2-4CC3-B7E9-7BD26D4F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B041-21D3-42FB-B9B8-08F71D38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1E2A-4779-41D0-AED7-004A762D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D094-FBA0-4377-A237-F492B6CB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1ADF-6C01-494E-9125-F5504255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E107-BAE3-403E-B4F3-71462994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5739-61D6-4238-B40A-8C745341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A44-6F7E-407F-B864-C40F285B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7228-EE48-42E3-93E3-B133B8AD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B120-2930-47A1-83C6-9DD44125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469D-0DFB-4B4F-AB96-B241D4CFD3E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E707-4CBC-4DCF-BEBC-9DDBFBC54C8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vasia.org/" TargetMode="External"/><Relationship Id="rId2" Type="http://schemas.openxmlformats.org/officeDocument/2006/relationships/hyperlink" Target="http://www.ovasia.org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05704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Женщина и понятие красоты в Кита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6000" y="4800600"/>
            <a:ext cx="518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ыполнили: студентка 41 группы Юсупова М.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Бирск 2012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86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МИНИСТЕРСТВО НАУКИ И ОБРАЗОВАНИЯ РФ</a:t>
            </a:r>
            <a:br>
              <a:rPr sz="1800"/>
            </a:b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БИРСКИЙ ФИЛИАЛ ФЕДЕРАЛЬНОГО ГОСУДОРСТВЕННОГО БЮДЖЕТНОГО ОБРАЗОВАТЕЛЬНОГО УЧРЕЖДЕНИЯ ВЫСШЕГО ПРОФЕССИОНАЛЬНОГО ОБРАЗОВАН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«БАШКИРСКИЙ ГОСУДАРСТВЕННЫЙ УНИВЕРСИТЕТ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СОЦИАЛЬНО-ГУМАНИТАРНЫЙ ФАКЛЬТЕТ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КАФЕДРА ПСИХОЛОГИИ</a:t>
            </a: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3886200"/>
            <a:ext cx="2185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www.ovasia.or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www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ussianshanghai.co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51055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51920" y="304920"/>
            <a:ext cx="74977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итайская семья испокон веков представляла из себя, прежде всего, общину, возглавляемую отцом семейства, которому все остальные члены семьи были обязаны повиноваться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Однако среди всех членов семьи самыми бесправными были дочери. От них требовалось не просто послушание, но беспрекословное повиновение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7497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 детских лет девочки должны были участвовать в любой домашней работе, помогая в уборке, моя и чистя посуд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подростковом возрасте их обучали шитью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сле того, как для девушки был выбран жених (как правило, это случалось уже к двенадцати годам), будущая невеста обучалась той работе, которой занимаются женщины из семьи жених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6172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7421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евочкам не разрешалось предаваться играм и безделью. Им не разрешалось общаться с соседскими мальчишкам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А в подростковом возрасте запрещалось играть и с мальчиками своей семьи. Запрет налагался на все самостоятельные передвижения за пределами дома. Отлучки из дома были возможны только в сопровождении кого-нибудь из членов семьи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685800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7345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оспитанием и обучением девочек в основном занимались женщины. Однако отцы не должны были полностью оставаться в стороне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менно на их плечах лежала ответственность по воспитанию в дочерях так называемых «трех правил подчинения»: дома повиноваться отцу, в замужестве повиноваться мужу, во вдовстве повиноваться сыну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Глава семейства отвечал и за воспитание у дочери «четырех добродетелей», состоящих в соблюдении супружеской верности, честности, скромности и усерд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43052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7T14:46:06Z</dcterms:created>
  <dc:creator>Юсуповы</dc:creator>
  <dc:description/>
  <dc:language>en-US</dc:language>
  <cp:lastModifiedBy>Юсуповы</cp:lastModifiedBy>
  <dcterms:modified xsi:type="dcterms:W3CDTF">2013-01-18T08:50:4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