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0.gif" ContentType="image/gif"/>
  <Override PartName="/ppt/media/image13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.wmf" ContentType="image/x-wmf"/>
  <Override PartName="/ppt/media/image2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08EB8-2802-4C83-8368-6AB13A32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A069C-F576-405B-BBD9-71DE0AB3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50FE2-D857-413C-B27E-160293E4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1655-5EEE-4854-AA1E-CD389DC0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40C7-0367-4F98-8E57-0B0F665D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5DCD-81E1-47A0-91DD-8D7C1758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1A10-4012-495B-96A6-E65749FD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0CA3-F1B6-4576-8B48-819E0E97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1D85-945C-4FA4-B767-1860C58A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B2AE-2B66-49EE-A32C-972410DE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098D-3FA4-4C09-B3CF-BA8389EE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0A5C6-A71C-4703-8C1D-1B9D4DFA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5AE7-06AA-4A0E-8847-143FF152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AEAA-E722-4CEC-8101-74753C48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315E-9F03-40D3-B4C9-589C07B0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E89D-ADA1-47A3-BE11-A2DDD842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3F1C-83B7-477A-A214-0F4ADB13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C87E6-1EA4-4C65-8FB7-8E2062C5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9D330-6227-4CDA-9E1B-38EE7CA9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8EF03-8B9D-426B-A014-940F5F71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22798-DFBF-4FD8-BCF8-D45A2878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1A9D4-AB67-4E58-81DA-144130E5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24E39-7380-486E-853C-9D53C98E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34C67-9133-48BE-A4D1-973EC4FF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E83A-7583-44AB-B91F-A1A0EA34089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71A0-08BD-4BA4-AF31-479A6385B9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Физика</a:t>
            </a:r>
            <a:br>
              <a:rPr sz="5000"/>
            </a:b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Электрические явлени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8000" y="4581000"/>
            <a:ext cx="6336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итель физики МОУ СОШ №1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кунова Татьяна Евгень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47268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1483920"/>
            <a:ext cx="402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параллельном соединении  общая сила тока рав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сумм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чений силы тока на отдельных участ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187280" y="1989000"/>
            <a:ext cx="8636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187280" y="2924280"/>
            <a:ext cx="86364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2050920" y="2060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050920" y="3068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2556000" y="2060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9"/>
          <p:cNvSpPr/>
          <p:nvPr/>
        </p:nvSpPr>
        <p:spPr>
          <a:xfrm flipH="1">
            <a:off x="826560" y="20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0"/>
          <p:cNvSpPr/>
          <p:nvPr/>
        </p:nvSpPr>
        <p:spPr>
          <a:xfrm flipH="1">
            <a:off x="82656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1"/>
          <p:cNvSpPr/>
          <p:nvPr/>
        </p:nvSpPr>
        <p:spPr>
          <a:xfrm>
            <a:off x="826920" y="2060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2"/>
          <p:cNvSpPr/>
          <p:nvPr/>
        </p:nvSpPr>
        <p:spPr>
          <a:xfrm>
            <a:off x="2556000" y="2492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3"/>
          <p:cNvSpPr/>
          <p:nvPr/>
        </p:nvSpPr>
        <p:spPr>
          <a:xfrm flipH="1">
            <a:off x="17892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2"/>
          <p:cNvSpPr/>
          <p:nvPr/>
        </p:nvSpPr>
        <p:spPr>
          <a:xfrm>
            <a:off x="611280" y="1989000"/>
            <a:ext cx="500040" cy="471600"/>
          </a:xfrm>
          <a:custGeom>
            <a:avLst/>
            <a:gdLst>
              <a:gd name="textAreaLeft" fmla="*/ 0 w 500040"/>
              <a:gd name="textAreaRight" fmla="*/ 500400 w 50004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315" h="297">
                <a:moveTo>
                  <a:pt x="63" y="297"/>
                </a:moveTo>
                <a:cubicBezTo>
                  <a:pt x="73" y="0"/>
                  <a:pt x="0" y="15"/>
                  <a:pt x="243" y="0"/>
                </a:cubicBezTo>
                <a:cubicBezTo>
                  <a:pt x="304" y="10"/>
                  <a:pt x="281" y="1"/>
                  <a:pt x="315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3"/>
          <p:cNvSpPr/>
          <p:nvPr/>
        </p:nvSpPr>
        <p:spPr>
          <a:xfrm>
            <a:off x="104292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4"/>
          <p:cNvSpPr/>
          <p:nvPr/>
        </p:nvSpPr>
        <p:spPr>
          <a:xfrm>
            <a:off x="971640" y="198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5"/>
          <p:cNvSpPr/>
          <p:nvPr/>
        </p:nvSpPr>
        <p:spPr>
          <a:xfrm>
            <a:off x="533520" y="2629080"/>
            <a:ext cx="566640" cy="709560"/>
          </a:xfrm>
          <a:custGeom>
            <a:avLst/>
            <a:gdLst>
              <a:gd name="textAreaLeft" fmla="*/ 0 w 566640"/>
              <a:gd name="textAreaRight" fmla="*/ 567000 w 56664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357" h="447">
                <a:moveTo>
                  <a:pt x="114" y="0"/>
                </a:moveTo>
                <a:cubicBezTo>
                  <a:pt x="125" y="447"/>
                  <a:pt x="0" y="369"/>
                  <a:pt x="357" y="3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6"/>
          <p:cNvSpPr/>
          <p:nvPr/>
        </p:nvSpPr>
        <p:spPr>
          <a:xfrm>
            <a:off x="1042920" y="3213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7"/>
          <p:cNvSpPr/>
          <p:nvPr/>
        </p:nvSpPr>
        <p:spPr>
          <a:xfrm>
            <a:off x="200160" y="2400480"/>
            <a:ext cx="485640" cy="14040"/>
          </a:xfrm>
          <a:custGeom>
            <a:avLst/>
            <a:gdLst>
              <a:gd name="textAreaLeft" fmla="*/ 0 w 485640"/>
              <a:gd name="textAreaRight" fmla="*/ 486000 w 4856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06" h="9">
                <a:moveTo>
                  <a:pt x="0" y="0"/>
                </a:moveTo>
                <a:cubicBezTo>
                  <a:pt x="72" y="3"/>
                  <a:pt x="144" y="9"/>
                  <a:pt x="216" y="9"/>
                </a:cubicBezTo>
                <a:cubicBezTo>
                  <a:pt x="246" y="9"/>
                  <a:pt x="306" y="0"/>
                  <a:pt x="3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0"/>
          <p:cNvSpPr/>
          <p:nvPr/>
        </p:nvSpPr>
        <p:spPr>
          <a:xfrm>
            <a:off x="179280" y="19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826920" y="148428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2"/>
          <p:cNvSpPr/>
          <p:nvPr/>
        </p:nvSpPr>
        <p:spPr>
          <a:xfrm>
            <a:off x="611280" y="148428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4"/>
          <p:cNvSpPr/>
          <p:nvPr/>
        </p:nvSpPr>
        <p:spPr>
          <a:xfrm>
            <a:off x="395280" y="3284640"/>
            <a:ext cx="79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5"/>
          <p:cNvSpPr/>
          <p:nvPr/>
        </p:nvSpPr>
        <p:spPr>
          <a:xfrm>
            <a:off x="250920" y="1557360"/>
            <a:ext cx="100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6"/>
          <p:cNvSpPr/>
          <p:nvPr/>
        </p:nvSpPr>
        <p:spPr>
          <a:xfrm>
            <a:off x="1547640" y="4149720"/>
            <a:ext cx="31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I=I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+I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9"/>
          <p:cNvSpPr/>
          <p:nvPr/>
        </p:nvSpPr>
        <p:spPr>
          <a:xfrm>
            <a:off x="3348000" y="2349360"/>
            <a:ext cx="36036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0"/>
          <p:cNvSpPr/>
          <p:nvPr/>
        </p:nvSpPr>
        <p:spPr>
          <a:xfrm>
            <a:off x="3276720" y="24922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2"/>
          <p:cNvSpPr/>
          <p:nvPr/>
        </p:nvSpPr>
        <p:spPr>
          <a:xfrm>
            <a:off x="3203640" y="2276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3"/>
          <p:cNvSpPr/>
          <p:nvPr/>
        </p:nvSpPr>
        <p:spPr>
          <a:xfrm>
            <a:off x="3708360" y="2492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WordArt 55"/>
          <p:cNvSpPr txBox="1"/>
          <p:nvPr/>
        </p:nvSpPr>
        <p:spPr>
          <a:xfrm>
            <a:off x="1835280" y="549360"/>
            <a:ext cx="42195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раллельное соединение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7"/>
          <p:cNvSpPr/>
          <p:nvPr/>
        </p:nvSpPr>
        <p:spPr>
          <a:xfrm>
            <a:off x="1403280" y="1628640"/>
            <a:ext cx="108108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1403280" y="2276640"/>
            <a:ext cx="108108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9"/>
          <p:cNvSpPr/>
          <p:nvPr/>
        </p:nvSpPr>
        <p:spPr>
          <a:xfrm>
            <a:off x="2484360" y="177336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"/>
          <p:cNvSpPr/>
          <p:nvPr/>
        </p:nvSpPr>
        <p:spPr>
          <a:xfrm flipV="1">
            <a:off x="2484360" y="206028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2987640" y="20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2"/>
          <p:cNvSpPr/>
          <p:nvPr/>
        </p:nvSpPr>
        <p:spPr>
          <a:xfrm flipH="1">
            <a:off x="971280" y="170028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3"/>
          <p:cNvSpPr/>
          <p:nvPr/>
        </p:nvSpPr>
        <p:spPr>
          <a:xfrm flipH="1" flipV="1">
            <a:off x="971280" y="206064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4"/>
          <p:cNvSpPr/>
          <p:nvPr/>
        </p:nvSpPr>
        <p:spPr>
          <a:xfrm flipH="1">
            <a:off x="39492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5"/>
          <p:cNvSpPr/>
          <p:nvPr/>
        </p:nvSpPr>
        <p:spPr>
          <a:xfrm>
            <a:off x="900000" y="2060640"/>
            <a:ext cx="71640" cy="73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6"/>
          <p:cNvSpPr/>
          <p:nvPr/>
        </p:nvSpPr>
        <p:spPr>
          <a:xfrm>
            <a:off x="2916360" y="2060640"/>
            <a:ext cx="71280" cy="73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7"/>
          <p:cNvSpPr/>
          <p:nvPr/>
        </p:nvSpPr>
        <p:spPr>
          <a:xfrm>
            <a:off x="1619280" y="285264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1403280" y="292428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0"/>
          <p:cNvSpPr/>
          <p:nvPr/>
        </p:nvSpPr>
        <p:spPr>
          <a:xfrm>
            <a:off x="1403280" y="292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3"/>
          <p:cNvSpPr/>
          <p:nvPr/>
        </p:nvSpPr>
        <p:spPr>
          <a:xfrm>
            <a:off x="1476360" y="2924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4"/>
          <p:cNvSpPr/>
          <p:nvPr/>
        </p:nvSpPr>
        <p:spPr>
          <a:xfrm>
            <a:off x="205092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5"/>
          <p:cNvSpPr/>
          <p:nvPr/>
        </p:nvSpPr>
        <p:spPr>
          <a:xfrm flipV="1">
            <a:off x="2987640" y="2060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900000" y="2060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7"/>
          <p:cNvSpPr/>
          <p:nvPr/>
        </p:nvSpPr>
        <p:spPr>
          <a:xfrm>
            <a:off x="900000" y="3068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8"/>
          <p:cNvSpPr/>
          <p:nvPr/>
        </p:nvSpPr>
        <p:spPr>
          <a:xfrm>
            <a:off x="1692360" y="1125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0"/>
          <p:cNvSpPr/>
          <p:nvPr/>
        </p:nvSpPr>
        <p:spPr>
          <a:xfrm>
            <a:off x="1547640" y="1125360"/>
            <a:ext cx="172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2"/>
          <p:cNvSpPr/>
          <p:nvPr/>
        </p:nvSpPr>
        <p:spPr>
          <a:xfrm>
            <a:off x="1403280" y="1844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3"/>
          <p:cNvSpPr/>
          <p:nvPr/>
        </p:nvSpPr>
        <p:spPr>
          <a:xfrm>
            <a:off x="4284720" y="836640"/>
            <a:ext cx="446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параллельном соединении элементов цепи напряжение на всех участках </a:t>
            </a: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одинако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5076720" y="2924280"/>
            <a:ext cx="360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U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=U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=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6"/>
          <p:cNvSpPr/>
          <p:nvPr/>
        </p:nvSpPr>
        <p:spPr>
          <a:xfrm>
            <a:off x="611280" y="4005360"/>
            <a:ext cx="431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ух элементов находится как </a:t>
            </a: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отношение произвед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этих сопротивлений </a:t>
            </a: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к и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сум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1"/>
          <p:cNvSpPr/>
          <p:nvPr/>
        </p:nvSpPr>
        <p:spPr>
          <a:xfrm>
            <a:off x="5292720" y="414972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3"/>
          <p:cNvSpPr/>
          <p:nvPr/>
        </p:nvSpPr>
        <p:spPr>
          <a:xfrm>
            <a:off x="5003640" y="4365720"/>
            <a:ext cx="367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R=R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/(R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+R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56"/>
          <p:cNvSpPr txBox="1"/>
          <p:nvPr/>
        </p:nvSpPr>
        <p:spPr>
          <a:xfrm>
            <a:off x="755640" y="404640"/>
            <a:ext cx="15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пряжение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WordArt 57"/>
          <p:cNvSpPr txBox="1"/>
          <p:nvPr/>
        </p:nvSpPr>
        <p:spPr>
          <a:xfrm>
            <a:off x="684360" y="3500280"/>
            <a:ext cx="303840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щее сопротивление 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8000" y="333000"/>
            <a:ext cx="837252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48"/>
          <p:cNvPicPr/>
          <p:nvPr/>
        </p:nvPicPr>
        <p:blipFill>
          <a:blip r:embed="rId1"/>
          <a:stretch/>
        </p:blipFill>
        <p:spPr>
          <a:xfrm flipH="1">
            <a:off x="394920" y="2746440"/>
            <a:ext cx="6481800" cy="1206360"/>
          </a:xfrm>
          <a:prstGeom prst="rect">
            <a:avLst/>
          </a:prstGeom>
          <a:ln w="0">
            <a:noFill/>
          </a:ln>
        </p:spPr>
      </p:pic>
      <p:sp>
        <p:nvSpPr>
          <p:cNvPr id="282" name="Line 8"/>
          <p:cNvSpPr/>
          <p:nvPr/>
        </p:nvSpPr>
        <p:spPr>
          <a:xfrm flipV="1">
            <a:off x="6732720" y="34999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9"/>
          <p:cNvSpPr/>
          <p:nvPr/>
        </p:nvSpPr>
        <p:spPr>
          <a:xfrm>
            <a:off x="4308480" y="3094200"/>
            <a:ext cx="4896000" cy="2207880"/>
          </a:xfrm>
          <a:custGeom>
            <a:avLst/>
            <a:gdLst>
              <a:gd name="textAreaLeft" fmla="*/ 0 w 4896000"/>
              <a:gd name="textAreaRight" fmla="*/ 4896360 w 4896000"/>
              <a:gd name="textAreaTop" fmla="*/ 0 h 2207880"/>
              <a:gd name="textAreaBottom" fmla="*/ 2208240 h 2207880"/>
            </a:gdLst>
            <a:ahLst/>
            <a:rect l="textAreaLeft" t="textAreaTop" r="textAreaRight" b="textAreaBottom"/>
            <a:pathLst>
              <a:path w="3084" h="1391">
                <a:moveTo>
                  <a:pt x="1527" y="302"/>
                </a:moveTo>
                <a:cubicBezTo>
                  <a:pt x="1436" y="151"/>
                  <a:pt x="1345" y="0"/>
                  <a:pt x="1572" y="75"/>
                </a:cubicBezTo>
                <a:cubicBezTo>
                  <a:pt x="1799" y="150"/>
                  <a:pt x="3084" y="551"/>
                  <a:pt x="2888" y="755"/>
                </a:cubicBezTo>
                <a:cubicBezTo>
                  <a:pt x="2692" y="959"/>
                  <a:pt x="786" y="1209"/>
                  <a:pt x="393" y="1300"/>
                </a:cubicBezTo>
                <a:cubicBezTo>
                  <a:pt x="0" y="1391"/>
                  <a:pt x="506" y="1300"/>
                  <a:pt x="529" y="13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0"/>
          <p:cNvSpPr/>
          <p:nvPr/>
        </p:nvSpPr>
        <p:spPr>
          <a:xfrm>
            <a:off x="131760" y="2733840"/>
            <a:ext cx="479520" cy="1558800"/>
          </a:xfrm>
          <a:custGeom>
            <a:avLst/>
            <a:gdLst>
              <a:gd name="textAreaLeft" fmla="*/ 0 w 479520"/>
              <a:gd name="textAreaRight" fmla="*/ 479880 w 479520"/>
              <a:gd name="textAreaTop" fmla="*/ 0 h 1558800"/>
              <a:gd name="textAreaBottom" fmla="*/ 1559160 h 1558800"/>
            </a:gdLst>
            <a:ahLst/>
            <a:rect l="textAreaLeft" t="textAreaTop" r="textAreaRight" b="textAreaBottom"/>
            <a:pathLst>
              <a:path w="302" h="982">
                <a:moveTo>
                  <a:pt x="302" y="529"/>
                </a:moveTo>
                <a:cubicBezTo>
                  <a:pt x="181" y="264"/>
                  <a:pt x="60" y="0"/>
                  <a:pt x="30" y="75"/>
                </a:cubicBezTo>
                <a:cubicBezTo>
                  <a:pt x="0" y="150"/>
                  <a:pt x="106" y="831"/>
                  <a:pt x="121" y="98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684360" y="15573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й вид соедин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бходим для одновременн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зависимой работы электрических прибор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WordArt 13"/>
          <p:cNvSpPr txBox="1"/>
          <p:nvPr/>
        </p:nvSpPr>
        <p:spPr>
          <a:xfrm>
            <a:off x="2627280" y="620640"/>
            <a:ext cx="16477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7" name="Picture 14" descr="AG00595_"/>
          <p:cNvPicPr/>
          <p:nvPr/>
        </p:nvPicPr>
        <p:blipFill>
          <a:blip r:embed="rId4"/>
          <a:stretch/>
        </p:blipFill>
        <p:spPr>
          <a:xfrm>
            <a:off x="4859280" y="620640"/>
            <a:ext cx="96192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5"/>
          <p:cNvSpPr/>
          <p:nvPr/>
        </p:nvSpPr>
        <p:spPr>
          <a:xfrm>
            <a:off x="755640" y="2276640"/>
            <a:ext cx="7488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графы №16,17.задачи №68,7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ить на вопрос: почему у вольтметров делают большое внутреннее сопротивление, а у амперметров- маленьк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8"/>
          <p:cNvSpPr txBox="1"/>
          <p:nvPr/>
        </p:nvSpPr>
        <p:spPr>
          <a:xfrm>
            <a:off x="2995560" y="907920"/>
            <a:ext cx="3152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машнее задание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7093080" y="4762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logom2"/>
          <p:cNvPicPr/>
          <p:nvPr/>
        </p:nvPicPr>
        <p:blipFill>
          <a:blip r:embed="rId1"/>
          <a:stretch/>
        </p:blipFill>
        <p:spPr>
          <a:xfrm>
            <a:off x="7380360" y="0"/>
            <a:ext cx="1584360" cy="206064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8"/>
          <p:cNvSpPr/>
          <p:nvPr/>
        </p:nvSpPr>
        <p:spPr>
          <a:xfrm>
            <a:off x="324000" y="1268280"/>
            <a:ext cx="734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противлени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Ом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00 Ом. Они соединены параллельно. Общее сопротив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&gt;2 О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2 О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02 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468360" y="3141720"/>
            <a:ext cx="813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схеме , гд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0 Ом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 Ом, найдите отношение токов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I2 / I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5.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/5.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0" descr="t10104"/>
          <p:cNvPicPr/>
          <p:nvPr/>
        </p:nvPicPr>
        <p:blipFill>
          <a:blip r:embed="rId2"/>
          <a:stretch/>
        </p:blipFill>
        <p:spPr>
          <a:xfrm>
            <a:off x="2411280" y="4508640"/>
            <a:ext cx="3203640" cy="1422360"/>
          </a:xfrm>
          <a:prstGeom prst="rect">
            <a:avLst/>
          </a:prstGeom>
          <a:ln w="0">
            <a:noFill/>
          </a:ln>
        </p:spPr>
      </p:pic>
      <p:sp>
        <p:nvSpPr>
          <p:cNvPr id="296" name="WordArt 11"/>
          <p:cNvSpPr txBox="1"/>
          <p:nvPr/>
        </p:nvSpPr>
        <p:spPr>
          <a:xfrm>
            <a:off x="2700360" y="549360"/>
            <a:ext cx="2438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ШАЕМ ЗАДАЧИ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971640" y="692280"/>
            <a:ext cx="77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t10103"/>
          <p:cNvPicPr/>
          <p:nvPr/>
        </p:nvPicPr>
        <p:blipFill>
          <a:blip r:embed="rId1"/>
          <a:stretch/>
        </p:blipFill>
        <p:spPr>
          <a:xfrm>
            <a:off x="5580000" y="1700280"/>
            <a:ext cx="2484360" cy="12049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6"/>
          <p:cNvSpPr/>
          <p:nvPr/>
        </p:nvSpPr>
        <p:spPr>
          <a:xfrm>
            <a:off x="1187280" y="1125360"/>
            <a:ext cx="73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отношение напряжени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U1/U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ис. 3), есл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=5 Ом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=15 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3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/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258920" y="306864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ределите общий то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ок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ис. 2), ес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0 Ом,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0 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,5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2 А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I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 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t10102"/>
          <p:cNvPicPr/>
          <p:nvPr/>
        </p:nvPicPr>
        <p:blipFill>
          <a:blip r:embed="rId2"/>
          <a:stretch/>
        </p:blipFill>
        <p:spPr>
          <a:xfrm>
            <a:off x="5219640" y="4581360"/>
            <a:ext cx="299088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4"/>
          <p:cNvSpPr/>
          <p:nvPr/>
        </p:nvSpPr>
        <p:spPr>
          <a:xfrm>
            <a:off x="611280" y="692280"/>
            <a:ext cx="7775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1"/>
          <p:cNvSpPr/>
          <p:nvPr/>
        </p:nvSpPr>
        <p:spPr>
          <a:xfrm>
            <a:off x="1619280" y="134136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7493"/>
                </a:moveTo>
                <a:lnTo>
                  <a:pt x="15465" y="7493"/>
                </a:lnTo>
                <a:lnTo>
                  <a:pt x="15465" y="12828"/>
                </a:lnTo>
                <a:cubicBezTo>
                  <a:pt x="15465" y="13751"/>
                  <a:pt x="16266" y="14482"/>
                  <a:pt x="17302" y="14482"/>
                </a:cubicBezTo>
                <a:lnTo>
                  <a:pt x="18964" y="14482"/>
                </a:lnTo>
                <a:cubicBezTo>
                  <a:pt x="20000" y="14482"/>
                  <a:pt x="20801" y="13751"/>
                  <a:pt x="20801" y="12828"/>
                </a:cubicBezTo>
                <a:lnTo>
                  <a:pt x="20801" y="7493"/>
                </a:lnTo>
                <a:lnTo>
                  <a:pt x="18964" y="7493"/>
                </a:lnTo>
                <a:lnTo>
                  <a:pt x="22472" y="3985"/>
                </a:lnTo>
                <a:lnTo>
                  <a:pt x="26145" y="7493"/>
                </a:lnTo>
                <a:lnTo>
                  <a:pt x="24308" y="7493"/>
                </a:lnTo>
                <a:lnTo>
                  <a:pt x="24308" y="12828"/>
                </a:lnTo>
                <a:cubicBezTo>
                  <a:pt x="24308" y="15596"/>
                  <a:pt x="21732" y="18155"/>
                  <a:pt x="18964" y="18155"/>
                </a:cubicBezTo>
                <a:lnTo>
                  <a:pt x="17302" y="18155"/>
                </a:lnTo>
                <a:cubicBezTo>
                  <a:pt x="14534" y="18155"/>
                  <a:pt x="11958" y="15596"/>
                  <a:pt x="11958" y="12828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0"/>
          <p:cNvSpPr/>
          <p:nvPr/>
        </p:nvSpPr>
        <p:spPr>
          <a:xfrm>
            <a:off x="1619280" y="2205000"/>
            <a:ext cx="504720" cy="21600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424" h="21600">
                <a:moveTo>
                  <a:pt x="0" y="0"/>
                </a:moveTo>
                <a:lnTo>
                  <a:pt x="50424" y="0"/>
                </a:lnTo>
                <a:lnTo>
                  <a:pt x="50424" y="21600"/>
                </a:lnTo>
                <a:lnTo>
                  <a:pt x="0" y="21600"/>
                </a:lnTo>
                <a:close/>
              </a:path>
              <a:path fill="lightenLess" w="50424" h="21600">
                <a:moveTo>
                  <a:pt x="0" y="0"/>
                </a:moveTo>
                <a:lnTo>
                  <a:pt x="50424" y="0"/>
                </a:lnTo>
                <a:lnTo>
                  <a:pt x="49024" y="1400"/>
                </a:lnTo>
                <a:lnTo>
                  <a:pt x="1400" y="1400"/>
                </a:lnTo>
                <a:close/>
              </a:path>
              <a:path fill="darken" w="50424" h="21600">
                <a:moveTo>
                  <a:pt x="50424" y="0"/>
                </a:moveTo>
                <a:lnTo>
                  <a:pt x="50424" y="21600"/>
                </a:lnTo>
                <a:lnTo>
                  <a:pt x="49024" y="20200"/>
                </a:lnTo>
                <a:lnTo>
                  <a:pt x="49024" y="1400"/>
                </a:lnTo>
                <a:close/>
              </a:path>
              <a:path fill="darkenLess" w="50424" h="21600">
                <a:moveTo>
                  <a:pt x="50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24" y="20200"/>
                </a:lnTo>
                <a:close/>
              </a:path>
              <a:path fill="lighten" w="50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24" h="21600">
                <a:moveTo>
                  <a:pt x="18205" y="7493"/>
                </a:moveTo>
                <a:lnTo>
                  <a:pt x="21713" y="7493"/>
                </a:lnTo>
                <a:lnTo>
                  <a:pt x="21713" y="12828"/>
                </a:lnTo>
                <a:cubicBezTo>
                  <a:pt x="21713" y="13751"/>
                  <a:pt x="22514" y="14482"/>
                  <a:pt x="23550" y="14482"/>
                </a:cubicBezTo>
                <a:lnTo>
                  <a:pt x="25212" y="14482"/>
                </a:lnTo>
                <a:cubicBezTo>
                  <a:pt x="26248" y="14482"/>
                  <a:pt x="27048" y="13751"/>
                  <a:pt x="27048" y="12828"/>
                </a:cubicBezTo>
                <a:lnTo>
                  <a:pt x="27048" y="7493"/>
                </a:lnTo>
                <a:lnTo>
                  <a:pt x="25212" y="7493"/>
                </a:lnTo>
                <a:lnTo>
                  <a:pt x="28720" y="3985"/>
                </a:lnTo>
                <a:lnTo>
                  <a:pt x="32393" y="7493"/>
                </a:lnTo>
                <a:lnTo>
                  <a:pt x="30556" y="7493"/>
                </a:lnTo>
                <a:lnTo>
                  <a:pt x="30556" y="12828"/>
                </a:lnTo>
                <a:cubicBezTo>
                  <a:pt x="30556" y="15596"/>
                  <a:pt x="27980" y="18155"/>
                  <a:pt x="25212" y="18155"/>
                </a:cubicBezTo>
                <a:lnTo>
                  <a:pt x="23550" y="18155"/>
                </a:lnTo>
                <a:cubicBezTo>
                  <a:pt x="20782" y="18155"/>
                  <a:pt x="18205" y="15596"/>
                  <a:pt x="18205" y="12828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1"/>
          <p:cNvSpPr/>
          <p:nvPr/>
        </p:nvSpPr>
        <p:spPr>
          <a:xfrm>
            <a:off x="1619280" y="177336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7493"/>
                </a:moveTo>
                <a:lnTo>
                  <a:pt x="15465" y="7493"/>
                </a:lnTo>
                <a:lnTo>
                  <a:pt x="15465" y="12828"/>
                </a:lnTo>
                <a:cubicBezTo>
                  <a:pt x="15465" y="13751"/>
                  <a:pt x="16266" y="14482"/>
                  <a:pt x="17302" y="14482"/>
                </a:cubicBezTo>
                <a:lnTo>
                  <a:pt x="18964" y="14482"/>
                </a:lnTo>
                <a:cubicBezTo>
                  <a:pt x="20000" y="14482"/>
                  <a:pt x="20801" y="13751"/>
                  <a:pt x="20801" y="12828"/>
                </a:cubicBezTo>
                <a:lnTo>
                  <a:pt x="20801" y="7493"/>
                </a:lnTo>
                <a:lnTo>
                  <a:pt x="18964" y="7493"/>
                </a:lnTo>
                <a:lnTo>
                  <a:pt x="22472" y="3985"/>
                </a:lnTo>
                <a:lnTo>
                  <a:pt x="26145" y="7493"/>
                </a:lnTo>
                <a:lnTo>
                  <a:pt x="24308" y="7493"/>
                </a:lnTo>
                <a:lnTo>
                  <a:pt x="24308" y="12828"/>
                </a:lnTo>
                <a:cubicBezTo>
                  <a:pt x="24308" y="15596"/>
                  <a:pt x="21732" y="18155"/>
                  <a:pt x="18964" y="18155"/>
                </a:cubicBezTo>
                <a:lnTo>
                  <a:pt x="17302" y="18155"/>
                </a:lnTo>
                <a:cubicBezTo>
                  <a:pt x="14534" y="18155"/>
                  <a:pt x="11958" y="15596"/>
                  <a:pt x="11958" y="12828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2"/>
          <p:cNvSpPr/>
          <p:nvPr/>
        </p:nvSpPr>
        <p:spPr>
          <a:xfrm>
            <a:off x="1619280" y="2637000"/>
            <a:ext cx="576360" cy="21564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7672" h="21600">
                <a:moveTo>
                  <a:pt x="0" y="0"/>
                </a:moveTo>
                <a:lnTo>
                  <a:pt x="57672" y="0"/>
                </a:lnTo>
                <a:lnTo>
                  <a:pt x="57672" y="21600"/>
                </a:lnTo>
                <a:lnTo>
                  <a:pt x="0" y="21600"/>
                </a:lnTo>
                <a:close/>
              </a:path>
              <a:path fill="lightenLess" w="57672" h="21600">
                <a:moveTo>
                  <a:pt x="0" y="0"/>
                </a:moveTo>
                <a:lnTo>
                  <a:pt x="57672" y="0"/>
                </a:lnTo>
                <a:lnTo>
                  <a:pt x="56272" y="1400"/>
                </a:lnTo>
                <a:lnTo>
                  <a:pt x="1400" y="1400"/>
                </a:lnTo>
                <a:close/>
              </a:path>
              <a:path fill="darken" w="57672" h="21600">
                <a:moveTo>
                  <a:pt x="57672" y="0"/>
                </a:moveTo>
                <a:lnTo>
                  <a:pt x="57672" y="21600"/>
                </a:lnTo>
                <a:lnTo>
                  <a:pt x="56272" y="20200"/>
                </a:lnTo>
                <a:lnTo>
                  <a:pt x="56272" y="1400"/>
                </a:lnTo>
                <a:close/>
              </a:path>
              <a:path fill="darkenLess" w="57672" h="21600">
                <a:moveTo>
                  <a:pt x="57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72" y="20200"/>
                </a:lnTo>
                <a:close/>
              </a:path>
              <a:path fill="lighten" w="57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72" h="21600">
                <a:moveTo>
                  <a:pt x="21830" y="7493"/>
                </a:moveTo>
                <a:lnTo>
                  <a:pt x="25337" y="7493"/>
                </a:lnTo>
                <a:lnTo>
                  <a:pt x="25337" y="12828"/>
                </a:lnTo>
                <a:cubicBezTo>
                  <a:pt x="25337" y="13751"/>
                  <a:pt x="26138" y="14482"/>
                  <a:pt x="27174" y="14482"/>
                </a:cubicBezTo>
                <a:lnTo>
                  <a:pt x="28836" y="14482"/>
                </a:lnTo>
                <a:cubicBezTo>
                  <a:pt x="29872" y="14482"/>
                  <a:pt x="30672" y="13751"/>
                  <a:pt x="30672" y="12828"/>
                </a:cubicBezTo>
                <a:lnTo>
                  <a:pt x="30672" y="7493"/>
                </a:lnTo>
                <a:lnTo>
                  <a:pt x="28836" y="7493"/>
                </a:lnTo>
                <a:lnTo>
                  <a:pt x="32344" y="3985"/>
                </a:lnTo>
                <a:lnTo>
                  <a:pt x="36017" y="7493"/>
                </a:lnTo>
                <a:lnTo>
                  <a:pt x="34180" y="7493"/>
                </a:lnTo>
                <a:lnTo>
                  <a:pt x="34180" y="12828"/>
                </a:lnTo>
                <a:cubicBezTo>
                  <a:pt x="34180" y="15596"/>
                  <a:pt x="31604" y="18155"/>
                  <a:pt x="28836" y="18155"/>
                </a:cubicBezTo>
                <a:lnTo>
                  <a:pt x="27174" y="18155"/>
                </a:lnTo>
                <a:cubicBezTo>
                  <a:pt x="24406" y="18155"/>
                  <a:pt x="21830" y="15596"/>
                  <a:pt x="21830" y="12828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сать закон Ома для участка це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 прибором измеряют силу тока и как он включается в цеп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ажите характеристики проводника, от которых зависит его сопроти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 прибором измеряют напряжение и как он включается в цеп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8" descr="Копия AMCONFUS"/>
          <p:cNvPicPr/>
          <p:nvPr/>
        </p:nvPicPr>
        <p:blipFill>
          <a:blip r:embed="rId1"/>
          <a:stretch/>
        </p:blipFill>
        <p:spPr>
          <a:xfrm>
            <a:off x="7989840" y="1052640"/>
            <a:ext cx="1154160" cy="24843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23"/>
          <p:cNvSpPr txBox="1"/>
          <p:nvPr/>
        </p:nvSpPr>
        <p:spPr>
          <a:xfrm>
            <a:off x="250920" y="476280"/>
            <a:ext cx="9943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вторение домашнего задания(физический диктант)                    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=U/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мперметр(последователь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ина проводника(м)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щадь поперечного сечения проводника(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ельное сопротивление проводника(Ом*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ьтметр(параллельно участку, на котором измеряют напряж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2627280" y="765000"/>
            <a:ext cx="2521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себя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овторение домашнего задания(физический дикт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Объяснение нов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Закрепление материала (решение зада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11280" y="242100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826920" y="620640"/>
            <a:ext cx="7572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ледовательное и параллельное соединение 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ментов электрической цепи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18440" cy="59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видами соединений элементов электрической це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сти формулы для определения  параметров электрической цепи(силы тока, напряжения ,сопротивл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практическое применение данных видов соеди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3059280" y="620640"/>
            <a:ext cx="165708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336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87280" y="234936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2124000" y="184464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виды соединений элементов электрической це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755640" y="335772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дов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4572000" y="350028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лл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 flipH="1">
            <a:off x="3132000" y="2997360"/>
            <a:ext cx="719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>
            <a:off x="4211640" y="299736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2"/>
          <p:cNvSpPr/>
          <p:nvPr/>
        </p:nvSpPr>
        <p:spPr>
          <a:xfrm>
            <a:off x="5435640" y="4365720"/>
            <a:ext cx="720720" cy="142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3"/>
          <p:cNvSpPr/>
          <p:nvPr/>
        </p:nvSpPr>
        <p:spPr>
          <a:xfrm>
            <a:off x="5435640" y="4869000"/>
            <a:ext cx="720720" cy="14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>
            <a:off x="500364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5003640" y="4941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>
            <a:off x="6156360" y="44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615636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8"/>
          <p:cNvSpPr/>
          <p:nvPr/>
        </p:nvSpPr>
        <p:spPr>
          <a:xfrm>
            <a:off x="500364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644364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0"/>
          <p:cNvSpPr/>
          <p:nvPr/>
        </p:nvSpPr>
        <p:spPr>
          <a:xfrm>
            <a:off x="6443640" y="465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471636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2"/>
          <p:cNvSpPr/>
          <p:nvPr/>
        </p:nvSpPr>
        <p:spPr>
          <a:xfrm flipH="1">
            <a:off x="4500360" y="465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50"/>
          <p:cNvGrpSpPr/>
          <p:nvPr/>
        </p:nvGrpSpPr>
        <p:grpSpPr>
          <a:xfrm>
            <a:off x="468360" y="3933720"/>
            <a:ext cx="2232000" cy="647640"/>
            <a:chOff x="468360" y="3933720"/>
            <a:chExt cx="2232000" cy="647640"/>
          </a:xfrm>
        </p:grpSpPr>
        <p:sp>
          <p:nvSpPr>
            <p:cNvPr id="141" name="Rectangle 25"/>
            <p:cNvSpPr/>
            <p:nvPr/>
          </p:nvSpPr>
          <p:spPr>
            <a:xfrm>
              <a:off x="826920" y="4437000"/>
              <a:ext cx="576360" cy="144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6"/>
            <p:cNvSpPr/>
            <p:nvPr/>
          </p:nvSpPr>
          <p:spPr>
            <a:xfrm>
              <a:off x="1763640" y="4437000"/>
              <a:ext cx="576360" cy="144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8"/>
            <p:cNvSpPr/>
            <p:nvPr/>
          </p:nvSpPr>
          <p:spPr>
            <a:xfrm>
              <a:off x="140328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9"/>
            <p:cNvSpPr/>
            <p:nvPr/>
          </p:nvSpPr>
          <p:spPr>
            <a:xfrm>
              <a:off x="468360" y="450864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0"/>
            <p:cNvSpPr/>
            <p:nvPr/>
          </p:nvSpPr>
          <p:spPr>
            <a:xfrm>
              <a:off x="2411280" y="450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1"/>
            <p:cNvSpPr/>
            <p:nvPr/>
          </p:nvSpPr>
          <p:spPr>
            <a:xfrm>
              <a:off x="234000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45"/>
            <p:cNvSpPr/>
            <p:nvPr/>
          </p:nvSpPr>
          <p:spPr>
            <a:xfrm>
              <a:off x="826920" y="393372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7"/>
            <p:cNvSpPr/>
            <p:nvPr/>
          </p:nvSpPr>
          <p:spPr>
            <a:xfrm>
              <a:off x="1835280" y="39337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48"/>
          <p:cNvSpPr/>
          <p:nvPr/>
        </p:nvSpPr>
        <p:spPr>
          <a:xfrm>
            <a:off x="550872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9"/>
          <p:cNvSpPr/>
          <p:nvPr/>
        </p:nvSpPr>
        <p:spPr>
          <a:xfrm>
            <a:off x="5508720" y="5157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4">
            <a:hlinkClick r:id="rId1" action="ppaction://hlinksldjump"/>
          </p:cNvPr>
          <p:cNvSpPr/>
          <p:nvPr/>
        </p:nvSpPr>
        <p:spPr>
          <a:xfrm>
            <a:off x="651672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7493"/>
                </a:moveTo>
                <a:lnTo>
                  <a:pt x="9092" y="7493"/>
                </a:lnTo>
                <a:lnTo>
                  <a:pt x="9092" y="12828"/>
                </a:lnTo>
                <a:cubicBezTo>
                  <a:pt x="9092" y="13751"/>
                  <a:pt x="9893" y="14482"/>
                  <a:pt x="10929" y="14482"/>
                </a:cubicBezTo>
                <a:lnTo>
                  <a:pt x="12591" y="14482"/>
                </a:lnTo>
                <a:cubicBezTo>
                  <a:pt x="13627" y="14482"/>
                  <a:pt x="14427" y="13751"/>
                  <a:pt x="14427" y="12828"/>
                </a:cubicBezTo>
                <a:lnTo>
                  <a:pt x="14427" y="7493"/>
                </a:lnTo>
                <a:lnTo>
                  <a:pt x="12591" y="7493"/>
                </a:lnTo>
                <a:lnTo>
                  <a:pt x="16099" y="3985"/>
                </a:lnTo>
                <a:lnTo>
                  <a:pt x="19772" y="7493"/>
                </a:lnTo>
                <a:lnTo>
                  <a:pt x="17935" y="7493"/>
                </a:lnTo>
                <a:lnTo>
                  <a:pt x="17935" y="12828"/>
                </a:lnTo>
                <a:cubicBezTo>
                  <a:pt x="17935" y="15596"/>
                  <a:pt x="15359" y="18155"/>
                  <a:pt x="12591" y="18155"/>
                </a:cubicBezTo>
                <a:lnTo>
                  <a:pt x="10929" y="18155"/>
                </a:lnTo>
                <a:cubicBezTo>
                  <a:pt x="8161" y="18155"/>
                  <a:pt x="5585" y="15596"/>
                  <a:pt x="5585" y="12828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55"/>
          <p:cNvSpPr txBox="1"/>
          <p:nvPr/>
        </p:nvSpPr>
        <p:spPr>
          <a:xfrm>
            <a:off x="2195640" y="620640"/>
            <a:ext cx="47433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ъяснение нового материала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148000" y="1989000"/>
            <a:ext cx="39956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ы соединяются друг за дру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580000" y="184464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5796000" y="544500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7"/>
          <p:cNvSpPr/>
          <p:nvPr/>
        </p:nvSpPr>
        <p:spPr>
          <a:xfrm>
            <a:off x="4643280" y="24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5"/>
          <p:cNvSpPr/>
          <p:nvPr/>
        </p:nvSpPr>
        <p:spPr>
          <a:xfrm>
            <a:off x="179280" y="24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7"/>
          <p:cNvSpPr/>
          <p:nvPr/>
        </p:nvSpPr>
        <p:spPr>
          <a:xfrm>
            <a:off x="4284720" y="206064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82"/>
          <p:cNvGrpSpPr/>
          <p:nvPr/>
        </p:nvGrpSpPr>
        <p:grpSpPr>
          <a:xfrm>
            <a:off x="468360" y="2205000"/>
            <a:ext cx="4248000" cy="368280"/>
            <a:chOff x="468360" y="2205000"/>
            <a:chExt cx="4248000" cy="368280"/>
          </a:xfrm>
        </p:grpSpPr>
        <p:grpSp>
          <p:nvGrpSpPr>
            <p:cNvPr id="161" name="Group 54"/>
            <p:cNvGrpSpPr/>
            <p:nvPr/>
          </p:nvGrpSpPr>
          <p:grpSpPr>
            <a:xfrm>
              <a:off x="468360" y="2205000"/>
              <a:ext cx="4176720" cy="360360"/>
              <a:chOff x="468360" y="2205000"/>
              <a:chExt cx="4176720" cy="360360"/>
            </a:xfrm>
          </p:grpSpPr>
          <p:sp>
            <p:nvSpPr>
              <p:cNvPr id="162" name="Rectangle 37"/>
              <p:cNvSpPr/>
              <p:nvPr/>
            </p:nvSpPr>
            <p:spPr>
              <a:xfrm>
                <a:off x="973440" y="2349360"/>
                <a:ext cx="863280" cy="1429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41"/>
              <p:cNvSpPr/>
              <p:nvPr/>
            </p:nvSpPr>
            <p:spPr>
              <a:xfrm>
                <a:off x="468360" y="2205000"/>
                <a:ext cx="360360" cy="36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42"/>
              <p:cNvSpPr/>
              <p:nvPr/>
            </p:nvSpPr>
            <p:spPr>
              <a:xfrm>
                <a:off x="3060720" y="2349360"/>
                <a:ext cx="720720" cy="1429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51"/>
              <p:cNvSpPr/>
              <p:nvPr/>
            </p:nvSpPr>
            <p:spPr>
              <a:xfrm>
                <a:off x="4284720" y="2205000"/>
                <a:ext cx="360360" cy="36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53"/>
              <p:cNvSpPr/>
              <p:nvPr/>
            </p:nvSpPr>
            <p:spPr>
              <a:xfrm>
                <a:off x="2268720" y="2205000"/>
                <a:ext cx="360360" cy="36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58"/>
            <p:cNvSpPr/>
            <p:nvPr/>
          </p:nvSpPr>
          <p:spPr>
            <a:xfrm>
              <a:off x="3780000" y="2421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9"/>
            <p:cNvSpPr/>
            <p:nvPr/>
          </p:nvSpPr>
          <p:spPr>
            <a:xfrm>
              <a:off x="2627280" y="2349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60"/>
            <p:cNvSpPr/>
            <p:nvPr/>
          </p:nvSpPr>
          <p:spPr>
            <a:xfrm>
              <a:off x="2627280" y="24210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61"/>
            <p:cNvSpPr/>
            <p:nvPr/>
          </p:nvSpPr>
          <p:spPr>
            <a:xfrm>
              <a:off x="1835280" y="2421000"/>
              <a:ext cx="43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62"/>
            <p:cNvSpPr/>
            <p:nvPr/>
          </p:nvSpPr>
          <p:spPr>
            <a:xfrm>
              <a:off x="826920" y="242100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68"/>
            <p:cNvSpPr/>
            <p:nvPr/>
          </p:nvSpPr>
          <p:spPr>
            <a:xfrm>
              <a:off x="4284720" y="2205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72"/>
            <p:cNvSpPr/>
            <p:nvPr/>
          </p:nvSpPr>
          <p:spPr>
            <a:xfrm>
              <a:off x="2195640" y="2205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3"/>
            <p:cNvSpPr/>
            <p:nvPr/>
          </p:nvSpPr>
          <p:spPr>
            <a:xfrm>
              <a:off x="468360" y="2205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77"/>
          <p:cNvSpPr/>
          <p:nvPr/>
        </p:nvSpPr>
        <p:spPr>
          <a:xfrm>
            <a:off x="684360" y="537372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4"/>
          <p:cNvSpPr/>
          <p:nvPr/>
        </p:nvSpPr>
        <p:spPr>
          <a:xfrm>
            <a:off x="900000" y="3213000"/>
            <a:ext cx="208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5"/>
          <p:cNvSpPr/>
          <p:nvPr/>
        </p:nvSpPr>
        <p:spPr>
          <a:xfrm>
            <a:off x="1187280" y="4292640"/>
            <a:ext cx="324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I</a:t>
            </a:r>
            <a:r>
              <a:rPr b="0" lang="en-US" sz="2400" spc="-1" strike="noStrike" baseline="-25000">
                <a:solidFill>
                  <a:srgbClr val="66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=I</a:t>
            </a:r>
            <a:r>
              <a:rPr b="0" lang="en-US" sz="2400" spc="-1" strike="noStrike" baseline="-25000">
                <a:solidFill>
                  <a:srgbClr val="66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666699"/>
                </a:solidFill>
                <a:latin typeface="Verdana"/>
              </a:rPr>
              <a:t>=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0"/>
          <p:cNvSpPr/>
          <p:nvPr/>
        </p:nvSpPr>
        <p:spPr>
          <a:xfrm>
            <a:off x="5111640" y="3933720"/>
            <a:ext cx="40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а тока на       отдельных участках цепи одинак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114"/>
          <p:cNvSpPr txBox="1"/>
          <p:nvPr/>
        </p:nvSpPr>
        <p:spPr>
          <a:xfrm>
            <a:off x="684360" y="620640"/>
            <a:ext cx="4967280" cy="7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ледовательное соединение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1"/>
          <p:cNvSpPr/>
          <p:nvPr/>
        </p:nvSpPr>
        <p:spPr>
          <a:xfrm>
            <a:off x="826920" y="1557360"/>
            <a:ext cx="649440" cy="142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1979640" y="1557360"/>
            <a:ext cx="720720" cy="142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1547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1476360" y="162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2700360" y="162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468360" y="162864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0"/>
          <p:cNvSpPr/>
          <p:nvPr/>
        </p:nvSpPr>
        <p:spPr>
          <a:xfrm>
            <a:off x="2124000" y="213372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1"/>
          <p:cNvSpPr/>
          <p:nvPr/>
        </p:nvSpPr>
        <p:spPr>
          <a:xfrm>
            <a:off x="900000" y="2133720"/>
            <a:ext cx="2872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0"/>
          <p:cNvSpPr/>
          <p:nvPr/>
        </p:nvSpPr>
        <p:spPr>
          <a:xfrm>
            <a:off x="1403280" y="2565360"/>
            <a:ext cx="576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4"/>
          <p:cNvSpPr/>
          <p:nvPr/>
        </p:nvSpPr>
        <p:spPr>
          <a:xfrm>
            <a:off x="2050920" y="2060640"/>
            <a:ext cx="64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5"/>
          <p:cNvSpPr/>
          <p:nvPr/>
        </p:nvSpPr>
        <p:spPr>
          <a:xfrm>
            <a:off x="1403280" y="256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68436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7"/>
          <p:cNvSpPr/>
          <p:nvPr/>
        </p:nvSpPr>
        <p:spPr>
          <a:xfrm>
            <a:off x="684360" y="22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9"/>
          <p:cNvSpPr/>
          <p:nvPr/>
        </p:nvSpPr>
        <p:spPr>
          <a:xfrm>
            <a:off x="971640" y="206064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0"/>
          <p:cNvSpPr/>
          <p:nvPr/>
        </p:nvSpPr>
        <p:spPr>
          <a:xfrm>
            <a:off x="826920" y="2060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4"/>
          <p:cNvSpPr/>
          <p:nvPr/>
        </p:nvSpPr>
        <p:spPr>
          <a:xfrm>
            <a:off x="1258920" y="22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5"/>
          <p:cNvSpPr/>
          <p:nvPr/>
        </p:nvSpPr>
        <p:spPr>
          <a:xfrm flipV="1">
            <a:off x="161928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6"/>
          <p:cNvSpPr/>
          <p:nvPr/>
        </p:nvSpPr>
        <p:spPr>
          <a:xfrm flipH="1">
            <a:off x="1835280" y="2276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7"/>
          <p:cNvSpPr/>
          <p:nvPr/>
        </p:nvSpPr>
        <p:spPr>
          <a:xfrm>
            <a:off x="2411280" y="2276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8"/>
          <p:cNvSpPr/>
          <p:nvPr/>
        </p:nvSpPr>
        <p:spPr>
          <a:xfrm flipV="1">
            <a:off x="284328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9"/>
          <p:cNvSpPr/>
          <p:nvPr/>
        </p:nvSpPr>
        <p:spPr>
          <a:xfrm flipV="1">
            <a:off x="183528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0"/>
          <p:cNvSpPr/>
          <p:nvPr/>
        </p:nvSpPr>
        <p:spPr>
          <a:xfrm>
            <a:off x="1979640" y="2852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1"/>
          <p:cNvSpPr/>
          <p:nvPr/>
        </p:nvSpPr>
        <p:spPr>
          <a:xfrm flipH="1">
            <a:off x="39528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2"/>
          <p:cNvSpPr/>
          <p:nvPr/>
        </p:nvSpPr>
        <p:spPr>
          <a:xfrm>
            <a:off x="395280" y="27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3"/>
          <p:cNvSpPr/>
          <p:nvPr/>
        </p:nvSpPr>
        <p:spPr>
          <a:xfrm flipV="1">
            <a:off x="468360" y="1628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4"/>
          <p:cNvSpPr/>
          <p:nvPr/>
        </p:nvSpPr>
        <p:spPr>
          <a:xfrm flipH="1">
            <a:off x="250920" y="1628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2987640" y="1628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6"/>
          <p:cNvSpPr/>
          <p:nvPr/>
        </p:nvSpPr>
        <p:spPr>
          <a:xfrm>
            <a:off x="3708360" y="907920"/>
            <a:ext cx="5435640" cy="20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Общее напряжение равно</a:t>
            </a: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 сумм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яжений на отдельных участ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U=U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+U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8"/>
          <p:cNvSpPr/>
          <p:nvPr/>
        </p:nvSpPr>
        <p:spPr>
          <a:xfrm>
            <a:off x="3708360" y="3716280"/>
            <a:ext cx="51847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Общее сопротивление</a:t>
            </a: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вно</a:t>
            </a: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 сумм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противлений отдельных</a:t>
            </a:r>
            <a:r>
              <a:rPr b="1" lang="ru-RU" sz="2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        R=R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+R</a:t>
            </a:r>
            <a:r>
              <a:rPr b="1" lang="en-US" sz="2800" spc="-1" strike="noStrike" baseline="-25000">
                <a:solidFill>
                  <a:srgbClr val="666699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60"/>
          <p:cNvSpPr txBox="1"/>
          <p:nvPr/>
        </p:nvSpPr>
        <p:spPr>
          <a:xfrm>
            <a:off x="971640" y="620640"/>
            <a:ext cx="1657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пряжение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WordArt 61"/>
          <p:cNvSpPr txBox="1"/>
          <p:nvPr/>
        </p:nvSpPr>
        <p:spPr>
          <a:xfrm>
            <a:off x="826920" y="3860640"/>
            <a:ext cx="2048040" cy="45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противление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549360"/>
            <a:ext cx="84470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012"/>
          <p:cNvPicPr/>
          <p:nvPr/>
        </p:nvPicPr>
        <p:blipFill>
          <a:blip r:embed="rId1"/>
          <a:stretch/>
        </p:blipFill>
        <p:spPr>
          <a:xfrm>
            <a:off x="5292720" y="1413000"/>
            <a:ext cx="2952720" cy="39272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"/>
          <p:cNvSpPr/>
          <p:nvPr/>
        </p:nvSpPr>
        <p:spPr>
          <a:xfrm>
            <a:off x="755640" y="2637000"/>
            <a:ext cx="35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при изготовлении елочной гирлянды используют последовательное соединени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11"/>
          <p:cNvSpPr txBox="1"/>
          <p:nvPr/>
        </p:nvSpPr>
        <p:spPr>
          <a:xfrm>
            <a:off x="2556000" y="404640"/>
            <a:ext cx="19350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ПРОС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5" name="Picture 12" descr="AG00595_"/>
          <p:cNvPicPr/>
          <p:nvPr/>
        </p:nvPicPr>
        <p:blipFill>
          <a:blip r:embed="rId4"/>
          <a:stretch/>
        </p:blipFill>
        <p:spPr>
          <a:xfrm>
            <a:off x="4859280" y="549360"/>
            <a:ext cx="961920" cy="1000080"/>
          </a:xfrm>
          <a:prstGeom prst="rect">
            <a:avLst/>
          </a:prstGeom>
          <a:ln w="0">
            <a:noFill/>
          </a:ln>
        </p:spPr>
      </p:pic>
      <p:sp>
        <p:nvSpPr>
          <p:cNvPr id="216" name="Line 13"/>
          <p:cNvSpPr/>
          <p:nvPr/>
        </p:nvSpPr>
        <p:spPr>
          <a:xfrm>
            <a:off x="6588000" y="249228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4"/>
          <p:cNvSpPr/>
          <p:nvPr/>
        </p:nvSpPr>
        <p:spPr>
          <a:xfrm flipH="1">
            <a:off x="6516720" y="2924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6443640" y="321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6516720" y="364500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7451640" y="38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8"/>
          <p:cNvSpPr/>
          <p:nvPr/>
        </p:nvSpPr>
        <p:spPr>
          <a:xfrm flipH="1">
            <a:off x="6156360" y="4149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9"/>
          <p:cNvSpPr/>
          <p:nvPr/>
        </p:nvSpPr>
        <p:spPr>
          <a:xfrm>
            <a:off x="6588000" y="2421000"/>
            <a:ext cx="505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4:57:14Z</dcterms:created>
  <dc:creator>Слушатель</dc:creator>
  <dc:description/>
  <dc:language>en-US</dc:language>
  <cp:lastModifiedBy>Home</cp:lastModifiedBy>
  <dcterms:modified xsi:type="dcterms:W3CDTF">2013-01-14T13:27:56Z</dcterms:modified>
  <cp:revision>33</cp:revision>
  <dc:subject/>
  <dc:title>Физика Электрические явления</dc:title>
</cp:coreProperties>
</file>