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779-D170-4AD1-9B9B-7FC3E4FD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F10-A7EF-45C5-B89E-122180AA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94B-3D8B-4E9A-85A2-8CFC1442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25B-1B09-4C24-A014-1E17C72B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19C-D6E6-4AFA-A85A-2335E4DF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137-6593-4D54-8FC2-63617584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49B-FA5A-4B61-8374-D78FDE1F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DC0-16EE-4FD9-80D6-6517AAE4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566-16C0-4733-A7D6-98201360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AAC-3DC5-4E75-8DFD-94910A71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5A9-22C3-4E25-AE3C-EC83E23D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85F-3311-469F-8ED9-AA16200B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266E-A1D9-4915-B131-343441788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360" y="2060640"/>
            <a:ext cx="431784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ртины И.Левит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4724280"/>
            <a:ext cx="79912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грированный ур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рекрасное и вечное в поэзии Н.Рубцо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uploads8.wikipaintings.org/images/isaac-levitan/self-portrait-1.jpg"/>
          <p:cNvPicPr/>
          <p:nvPr/>
        </p:nvPicPr>
        <p:blipFill>
          <a:blip r:embed="rId1"/>
          <a:stretch/>
        </p:blipFill>
        <p:spPr>
          <a:xfrm>
            <a:off x="1116000" y="476280"/>
            <a:ext cx="2773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ртина «Вечерний зв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\Рабочий стол\imgB.asp.jpeg"/>
          <p:cNvPicPr/>
          <p:nvPr/>
        </p:nvPicPr>
        <p:blipFill>
          <a:blip r:embed="rId1"/>
          <a:stretch/>
        </p:blipFill>
        <p:spPr>
          <a:xfrm>
            <a:off x="900000" y="1125360"/>
            <a:ext cx="7128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ртина «Владимир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dmin\Рабочий стол\831.jpg"/>
          <p:cNvPicPr/>
          <p:nvPr/>
        </p:nvPicPr>
        <p:blipFill>
          <a:blip r:embed="rId1"/>
          <a:stretch/>
        </p:blipFill>
        <p:spPr>
          <a:xfrm>
            <a:off x="468360" y="1125360"/>
            <a:ext cx="82278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ртина «Над вечным покое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Admin\Рабочий стол\37-9-1l.jpg"/>
          <p:cNvPicPr/>
          <p:nvPr/>
        </p:nvPicPr>
        <p:blipFill>
          <a:blip r:embed="rId1"/>
          <a:stretch/>
        </p:blipFill>
        <p:spPr>
          <a:xfrm>
            <a:off x="826920" y="1197000"/>
            <a:ext cx="75297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1:44:06Z</dcterms:created>
  <dc:creator>Admin</dc:creator>
  <dc:description/>
  <dc:language>en-US</dc:language>
  <cp:lastModifiedBy>Admin</cp:lastModifiedBy>
  <dcterms:modified xsi:type="dcterms:W3CDTF">2013-01-19T11:50:24Z</dcterms:modified>
  <cp:revision>2</cp:revision>
  <dc:subject/>
  <dc:title>Картины И.Левитана</dc:title>
</cp:coreProperties>
</file>