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6AF7-EEF8-4AE5-AFC3-BB22350E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4A0A-25AE-49ED-B92F-AC5458E2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4928-ECA9-494E-BACC-18E27AE7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5ECC-E282-4967-B603-5FC316AB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65C-A4E1-413A-BAC7-5665DC5E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9CD-4051-4482-8699-6A6EA91D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68A-3C8E-4221-8231-8965EF55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383-437A-408F-928D-F09D5C10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495-2B71-4E61-8F44-D7985BB1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E3E-1B76-46DE-971C-062ADD7C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D85-C499-48E0-800E-89F91B35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103-9F79-4205-A178-468CB699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ADBB-859F-469A-BF97-490A8BAB38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0360" y="2060640"/>
            <a:ext cx="431784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ртины И.Левит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4724280"/>
            <a:ext cx="79912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грированный уро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рекрасное и вечное в поэзии Н.Рубцо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uploads8.wikipaintings.org/images/isaac-levitan/self-portrait-1.jpg"/>
          <p:cNvPicPr/>
          <p:nvPr/>
        </p:nvPicPr>
        <p:blipFill>
          <a:blip r:embed="rId1"/>
          <a:stretch/>
        </p:blipFill>
        <p:spPr>
          <a:xfrm>
            <a:off x="1116000" y="476280"/>
            <a:ext cx="2773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ртина «Вечерний зво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Admin\Рабочий стол\imgB.asp.jpeg"/>
          <p:cNvPicPr/>
          <p:nvPr/>
        </p:nvPicPr>
        <p:blipFill>
          <a:blip r:embed="rId1"/>
          <a:stretch/>
        </p:blipFill>
        <p:spPr>
          <a:xfrm>
            <a:off x="900000" y="1125360"/>
            <a:ext cx="71280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ртина «Владимир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Documents and Settings\Admin\Рабочий стол\831.jpg"/>
          <p:cNvPicPr/>
          <p:nvPr/>
        </p:nvPicPr>
        <p:blipFill>
          <a:blip r:embed="rId1"/>
          <a:stretch/>
        </p:blipFill>
        <p:spPr>
          <a:xfrm>
            <a:off x="468360" y="1125360"/>
            <a:ext cx="82278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ртина «Над вечным покое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Admin\Рабочий стол\37-9-1l.jpg"/>
          <p:cNvPicPr/>
          <p:nvPr/>
        </p:nvPicPr>
        <p:blipFill>
          <a:blip r:embed="rId1"/>
          <a:stretch/>
        </p:blipFill>
        <p:spPr>
          <a:xfrm>
            <a:off x="826920" y="1197000"/>
            <a:ext cx="75297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1:44:06Z</dcterms:created>
  <dc:creator>Admin</dc:creator>
  <dc:description/>
  <dc:language>en-US</dc:language>
  <cp:lastModifiedBy>Admin</cp:lastModifiedBy>
  <dcterms:modified xsi:type="dcterms:W3CDTF">2013-01-19T11:50:24Z</dcterms:modified>
  <cp:revision>2</cp:revision>
  <dc:subject/>
  <dc:title>Картины И.Левитана</dc:title>
</cp:coreProperties>
</file>