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png" ContentType="image/png"/>
  <Override PartName="/ppt/media/image37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8.png" ContentType="image/png"/>
  <Override PartName="/ppt/media/image14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0F1-E047-4156-B28F-ED4A794CC7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3515-AC64-4E6D-901D-E5C18A170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402-0DA5-48EA-8F64-1940271F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31E-70E6-4708-8DB0-67D68B4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9FF-AE45-40C1-9F98-597551EE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4A0-557B-47DC-96E3-89A2C6AD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A778-D570-4A1D-9617-67920ABB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01D1-2D52-4372-82BE-5030E352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C4B-247B-465E-9AF7-122DDA6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1F5C-0F2C-4280-A4D0-BD0C050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B6D-991F-4BEF-A668-81020B06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4D68-4039-4120-B1CE-069D9F7A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BB50-A42B-4B93-AEE1-92D597F3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AA7-2FC5-488A-B13E-7DD4D63F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F76-1122-49FF-AC8E-0861650F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BD4B-6B22-49DF-A381-3806A74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7AC-EA5B-4D17-8C6E-218943CD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6F4-FE76-49BB-AA4D-0C2E3F26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365-E978-41F0-8F2F-D8C69221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3B92-5FBD-4DF4-B31E-30798B31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F153-5BC3-403C-A22A-0DDA7D4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AEE1-254A-49AC-B9D0-80235CF0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7192-456D-4FEF-BC8E-3F674CEA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15EB0-0708-4E32-BAC7-31296D6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F52-40AE-49FA-A612-8806452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9EDF-83B4-402F-93B0-33505A41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4848-ACD3-4AFD-927D-BBCB9641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A6A0-FACE-47F8-A237-9F1CE52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95FB-A7B5-4059-88A3-72B03EB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E02A-7389-4A20-AB7B-7148C84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125D-DCD2-41B7-98F4-7FF64C33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3D8D-F6A3-4F03-8051-181035FD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F66C-E13F-45EA-8F98-468AFD16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3C961-B45F-4184-BD2F-1FD751C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4D6E-7394-4BF0-9A3C-18E45CE0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430-CB43-407A-8967-DF1B0DE4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B02A9-C95A-4324-9E06-417610F2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DA773-4ED8-4BDF-83C2-6293FA7A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F8E-2A8C-4896-A4FB-82D351C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A227-5258-44CD-98EC-2CE5B7C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53DE6-16C3-420C-9A5A-0182A961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15BF-67F5-4A74-9819-A05FE6E9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F08C-8687-48BA-9FD9-B6BCA3BF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3583-2E52-4763-904D-B6650BDB5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D33C-84ED-4208-BE18-8E94BE07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8E2-E67D-4690-9B70-3239B35E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9B0-4707-4151-9E65-A5CBB660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243-3503-4FB1-83ED-E7E355E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A85-D6B2-4202-BFD4-C7CCC51C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16-2F0E-4E7F-8A77-1C3117A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7B9-1848-4F1D-B236-7A38BF0C7B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8084-1627-4A78-849D-5F518674124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95c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7B8B-0541-4AFC-86E0-8E424B35FC7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d9e8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98F4-DB3E-4D00-A19C-F4754F411C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f0f7"/>
            </a:gs>
            <a:gs pos="100000">
              <a:srgbClr val="5ef0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665280" y="920880"/>
            <a:ext cx="7819920" cy="20779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5072040" y="442908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ингалёва Евгения  Васи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ДОУ « Детский сад №32 комбинированного вида</a:t>
            </a:r>
            <a:r>
              <a:rPr b="0" lang="ru-RU" sz="2400" spc="-1" strike="noStrike">
                <a:solidFill>
                  <a:srgbClr val="0d0d0d"/>
                </a:solidFill>
                <a:latin typeface="Monotype Corsiv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355680" y="3429000"/>
            <a:ext cx="47163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I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знания детей о здоровосберегающем и безопасном поведении в детском саду, дома и в природ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соблюдать элементарные правила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изучению себя, своих физических возможностей (осанка, стопа, рост, картина здоровья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 культурно-гигиенические  навыки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интерес к выполнению оздоровительных и закаливающих мероприятий ( зарядка, обливание рук до локтей, полоскание зева, пальчиковая гимнастика, дорожки здоровья, массаж стоп  каучуковыми мячиками,  физкультурные занятия, прогулки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дукты  проек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, поделки по теме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и : пальчиковых игр, подвижных игр, утренних гимнастик, гимнастик после сна, гимнастик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атрибутов к сюжетно – ролевой игре «Больница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ая фотовыставка  «Мы здоровье укрепляем –что нам в этом помогает!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ки – передвижки, ширмы, буклеты на темы: « Витамины и их польза», «Зелёная аптека».«Что едят наши дети», «Плоскостопие и его профилактика»,  «Осанка вашего ребёнка», «Зарядка каждый день», «Зимние  игры детей», «Спортивный уголок дома», «Пальчиковые   игры и их значение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пап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спортивного досуга « В гостях у Антошки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естандартного оборудо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сновные   формы  реализации проекта:</a:t>
            </a:r>
            <a:br>
              <a:rPr sz="2400"/>
            </a:br>
            <a:r>
              <a:rPr b="1" lang="ru-RU" sz="2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Содержимое 2" descr=""/>
          <p:cNvPicPr/>
          <p:nvPr/>
        </p:nvPicPr>
        <p:blipFill>
          <a:blip r:embed="rId1"/>
          <a:stretch/>
        </p:blipFill>
        <p:spPr>
          <a:xfrm>
            <a:off x="384120" y="1420920"/>
            <a:ext cx="8309160" cy="546084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"/>
          <p:cNvSpPr/>
          <p:nvPr/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999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материал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13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5" descr="D:\женя\Женя\картинки\43009025_121258759033345.gif"/>
          <p:cNvPicPr/>
          <p:nvPr/>
        </p:nvPicPr>
        <p:blipFill>
          <a:blip r:embed="rId1"/>
          <a:stretch/>
        </p:blipFill>
        <p:spPr>
          <a:xfrm>
            <a:off x="357120" y="277920"/>
            <a:ext cx="3286080" cy="244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img0.liveinternet.ru/images/attach/c/2/73/511/73511220_2.png"/>
          <p:cNvPicPr/>
          <p:nvPr/>
        </p:nvPicPr>
        <p:blipFill>
          <a:blip r:embed="rId2"/>
          <a:stretch/>
        </p:blipFill>
        <p:spPr>
          <a:xfrm>
            <a:off x="6572160" y="4357800"/>
            <a:ext cx="1835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1499760"/>
            <a:ext cx="794376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Культурно-гигиенические </a:t>
            </a:r>
            <a:br>
              <a:rPr sz="48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навыки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609480" y="581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Заголовок 1"/>
          <p:cNvSpPr/>
          <p:nvPr/>
        </p:nvSpPr>
        <p:spPr>
          <a:xfrm>
            <a:off x="762120" y="733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9" descr="бабка1.gif"/>
          <p:cNvPicPr/>
          <p:nvPr/>
        </p:nvPicPr>
        <p:blipFill>
          <a:blip r:embed="rId1"/>
          <a:stretch/>
        </p:blipFill>
        <p:spPr>
          <a:xfrm>
            <a:off x="434880" y="285840"/>
            <a:ext cx="1708200" cy="13572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6" descr="http://s56.radikal.ru/i151/0908/27/e12a49d3ec0a.png"/>
          <p:cNvPicPr/>
          <p:nvPr/>
        </p:nvPicPr>
        <p:blipFill>
          <a:blip r:embed="rId2"/>
          <a:stretch/>
        </p:blipFill>
        <p:spPr>
          <a:xfrm>
            <a:off x="7000920" y="4429080"/>
            <a:ext cx="17859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Прямоугольник 4"/>
          <p:cNvSpPr/>
          <p:nvPr/>
        </p:nvSpPr>
        <p:spPr>
          <a:xfrm>
            <a:off x="500040" y="21420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Мытьё  ру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1\Рабочий стол\фото детей дс\IMG_7460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         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бливание рук до локтей</a:t>
            </a:r>
            <a:br>
              <a:rPr sz="2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4" descr="C:\Documents and Settings\1\Рабочий стол\фото детей дс\IMG_7462.jpg"/>
          <p:cNvPicPr/>
          <p:nvPr/>
        </p:nvPicPr>
        <p:blipFill>
          <a:blip r:embed="rId1"/>
          <a:stretch/>
        </p:blipFill>
        <p:spPr>
          <a:xfrm>
            <a:off x="1500120" y="1935000"/>
            <a:ext cx="599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Чистка    зубов</a:t>
            </a:r>
            <a:br>
              <a:rPr sz="4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4" descr="C:\Documents and Settings\1\Рабочий стол\фото детей дс\IMG_7450.jpg"/>
          <p:cNvPicPr/>
          <p:nvPr/>
        </p:nvPicPr>
        <p:blipFill>
          <a:blip r:embed="rId1"/>
          <a:stretch/>
        </p:blipFill>
        <p:spPr>
          <a:xfrm>
            <a:off x="1571760" y="1935000"/>
            <a:ext cx="59259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Оздоровительные  </a:t>
            </a: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мероприяти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5" descr="D:\женя\Женя\картинки\e6019b306966_w333_h428.jpg"/>
          <p:cNvPicPr/>
          <p:nvPr/>
        </p:nvPicPr>
        <p:blipFill>
          <a:blip r:embed="rId1"/>
          <a:stretch/>
        </p:blipFill>
        <p:spPr>
          <a:xfrm>
            <a:off x="3090960" y="2224080"/>
            <a:ext cx="296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3008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004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олоскание  зева   травам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2" descr="C:\Documents and Settings\1\Рабочий стол\фото детей дс\Изображение 031.jpg"/>
          <p:cNvPicPr/>
          <p:nvPr/>
        </p:nvPicPr>
        <p:blipFill>
          <a:blip r:embed="rId1"/>
          <a:stretch/>
        </p:blipFill>
        <p:spPr>
          <a:xfrm>
            <a:off x="2357280" y="1461960"/>
            <a:ext cx="42148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152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спорт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712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  проекта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 -ориентировоч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 проекта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 малыш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3" descr="C:\Documents and Settings\Admin\Рабочий стол\картинки\xffd27574ax0.jpg"/>
          <p:cNvPicPr/>
          <p:nvPr/>
        </p:nvPicPr>
        <p:blipFill>
          <a:blip r:embed="rId1"/>
          <a:stretch/>
        </p:blipFill>
        <p:spPr>
          <a:xfrm>
            <a:off x="5715000" y="2714760"/>
            <a:ext cx="207180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Употребление  отвара  овс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C:\Documents and Settings\1\Рабочий стол\фото детей дс\Изображение 091.jpg"/>
          <p:cNvPicPr/>
          <p:nvPr/>
        </p:nvPicPr>
        <p:blipFill>
          <a:blip r:embed="rId1"/>
          <a:stretch/>
        </p:blipFill>
        <p:spPr>
          <a:xfrm>
            <a:off x="1500120" y="1825560"/>
            <a:ext cx="59976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Гимнастика для  глаз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4" descr="C:\Documents and Settings\1\Рабочий стол\фото детей дс\IMG_7452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рожка  здоровья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2" descr="C:\Documents and Settings\1\Рабочий стол\фото детей дс\Изображение 063.jpg"/>
          <p:cNvPicPr/>
          <p:nvPr/>
        </p:nvPicPr>
        <p:blipFill>
          <a:blip r:embed="rId1"/>
          <a:stretch/>
        </p:blipFill>
        <p:spPr>
          <a:xfrm>
            <a:off x="1357200" y="1935000"/>
            <a:ext cx="6286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Массаж стоп   </a:t>
            </a:r>
            <a:br>
              <a:rPr sz="4800"/>
            </a:b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каучуковыми мячиками            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2" descr="C:\Documents and Settings\1\Рабочий стол\фото детей дс\Изображение 066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альчиковая гимнасти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Picture 4" descr="C:\Documents and Settings\1\Рабочий стол\фото детей дс\IMG_7467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Прогул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2" descr="C:\Documents and Settings\1\Рабочий стол\фото детей дс\Изображение 05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2" descr="C:\Documents and Settings\1\Рабочий стол\фото детей дс\Изображение 061.jpg"/>
          <p:cNvPicPr/>
          <p:nvPr/>
        </p:nvPicPr>
        <p:blipFill>
          <a:blip r:embed="rId1"/>
          <a:stretch/>
        </p:blipFill>
        <p:spPr>
          <a:xfrm>
            <a:off x="1571760" y="1000080"/>
            <a:ext cx="60688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64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Непосредственная        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образовательная деятельность                                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35676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D:\женя\женя - 2\картинки\701532.jpeg"/>
          <p:cNvPicPr/>
          <p:nvPr/>
        </p:nvPicPr>
        <p:blipFill>
          <a:blip r:embed="rId1"/>
          <a:stretch/>
        </p:blipFill>
        <p:spPr>
          <a:xfrm>
            <a:off x="3214800" y="3786120"/>
            <a:ext cx="25714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Прямоугольник 6"/>
          <p:cNvSpPr/>
          <p:nvPr/>
        </p:nvSpPr>
        <p:spPr>
          <a:xfrm>
            <a:off x="357120" y="714240"/>
            <a:ext cx="80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Встреча с доктором  Айболитом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C:\Documents and Settings\1\Рабочий стол\фото детей дс\Изображение 105.jpg"/>
          <p:cNvPicPr/>
          <p:nvPr/>
        </p:nvPicPr>
        <p:blipFill>
          <a:blip r:embed="rId1"/>
          <a:stretch/>
        </p:blipFill>
        <p:spPr>
          <a:xfrm>
            <a:off x="1357200" y="1714680"/>
            <a:ext cx="6357960" cy="46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C:\Documents and Settings\1\Рабочий стол\фото детей дс\Изображение 115.jpg"/>
          <p:cNvPicPr/>
          <p:nvPr/>
        </p:nvPicPr>
        <p:blipFill>
          <a:blip r:embed="rId1"/>
          <a:stretch/>
        </p:blipFill>
        <p:spPr>
          <a:xfrm>
            <a:off x="1500120" y="1285920"/>
            <a:ext cx="59295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Цель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начальных  представлений 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доровом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  жизн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C:\Documents and Settings\Admin\Рабочий стол\картинки\36862142.jpg"/>
          <p:cNvPicPr/>
          <p:nvPr/>
        </p:nvPicPr>
        <p:blipFill>
          <a:blip r:embed="rId1"/>
          <a:stretch/>
        </p:blipFill>
        <p:spPr>
          <a:xfrm>
            <a:off x="2643120" y="3571920"/>
            <a:ext cx="3880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ппликация «Мойдодыр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C:\Documents and Settings\1\Рабочий стол\фото детей дс\Изображение 075.jpg"/>
          <p:cNvPicPr/>
          <p:nvPr/>
        </p:nvPicPr>
        <p:blipFill>
          <a:blip r:embed="rId1"/>
          <a:stretch/>
        </p:blipFill>
        <p:spPr>
          <a:xfrm>
            <a:off x="1214280" y="1500120"/>
            <a:ext cx="64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9" name="Picture 2" descr="C:\Documents and Settings\1\Рабочий стол\фото детей дс\Изображение 079.jpg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«Готовим салат из фруктов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2" descr="C:\Documents and Settings\1\Рабочий стол\фото детей дс\Изображение 052.jpg"/>
          <p:cNvPicPr/>
          <p:nvPr/>
        </p:nvPicPr>
        <p:blipFill>
          <a:blip r:embed="rId1"/>
          <a:stretch/>
        </p:blipFill>
        <p:spPr>
          <a:xfrm>
            <a:off x="1357200" y="1285920"/>
            <a:ext cx="6286680" cy="4286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6572160" y="4857840"/>
            <a:ext cx="177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1867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Рисование « Заходите в гости к </a:t>
            </a:r>
            <a:br>
              <a:rPr sz="4000"/>
            </a:b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нам –витамины я вам дам!»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2" descr="C:\Documents and Settings\1\Рабочий стол\фото детей дс\Изображение 081.jpg"/>
          <p:cNvPicPr/>
          <p:nvPr/>
        </p:nvPicPr>
        <p:blipFill>
          <a:blip r:embed="rId1"/>
          <a:stretch/>
        </p:blipFill>
        <p:spPr>
          <a:xfrm>
            <a:off x="1285920" y="1935000"/>
            <a:ext cx="642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C:\Documents and Settings\1\Рабочий стол\фото детей дс\Изображение 083.jpg"/>
          <p:cNvPicPr/>
          <p:nvPr/>
        </p:nvPicPr>
        <p:blipFill>
          <a:blip r:embed="rId1"/>
          <a:stretch/>
        </p:blipFill>
        <p:spPr>
          <a:xfrm>
            <a:off x="1214280" y="1000080"/>
            <a:ext cx="65725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Сюжетно – ролевая иг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Picture 2" descr="C:\Documents and Settings\1\Рабочий стол\фото детей дс\Изображение 038.jpg"/>
          <p:cNvPicPr/>
          <p:nvPr/>
        </p:nvPicPr>
        <p:blipFill>
          <a:blip r:embed="rId1"/>
          <a:stretch/>
        </p:blipFill>
        <p:spPr>
          <a:xfrm>
            <a:off x="1214280" y="1714680"/>
            <a:ext cx="67154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3" descr="C:\Documents and Settings\1\Рабочий стол\фото детей дс\Изображение 071.jpg"/>
          <p:cNvPicPr/>
          <p:nvPr/>
        </p:nvPicPr>
        <p:blipFill>
          <a:blip r:embed="rId1"/>
          <a:stretch/>
        </p:blipFill>
        <p:spPr>
          <a:xfrm>
            <a:off x="1500120" y="1500120"/>
            <a:ext cx="6072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Досуг « В гостях у Антошк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2" descr="D:\женя\физкультурный утренник\IMG_2623.JPG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4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Фотовыставк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4" name="Picture 2" descr="C:\Documents and Settings\1\Рабочий стол\фото детей дс\Изображение 117.jpg"/>
          <p:cNvPicPr/>
          <p:nvPr/>
        </p:nvPicPr>
        <p:blipFill>
          <a:blip r:embed="rId1"/>
          <a:stretch/>
        </p:blipFill>
        <p:spPr>
          <a:xfrm>
            <a:off x="1143000" y="1643040"/>
            <a:ext cx="6643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Calibri"/>
              </a:rPr>
              <a:t>Благодарю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2" descr="C:\Documents and Settings\Admin\Рабочий стол\картинки\45837412_9e4d414367de.gif"/>
          <p:cNvPicPr/>
          <p:nvPr/>
        </p:nvPicPr>
        <p:blipFill>
          <a:blip r:embed="rId1"/>
          <a:stretch/>
        </p:blipFill>
        <p:spPr>
          <a:xfrm>
            <a:off x="2000160" y="2214720"/>
            <a:ext cx="41338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2960" y="1499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Задач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2600" y="2214720"/>
            <a:ext cx="80010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нтерес к правилам  здоровьесберегающего  и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г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огащать представления  о доступном ребёнку предметном     мире и назначении предметов, о правилах их безопасн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сширять и углублять представления детей о правила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й гигиены, путях охраны своего здоровья и способах безопасного поведения в различных ситуац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3" descr="C:\Documents and Settings\Admin\Рабочий стол\картинки\43009025_121258759033345.gif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56800" y="5572080"/>
            <a:ext cx="744372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14240" y="2643120"/>
            <a:ext cx="750096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Содержимое 2"/>
          <p:cNvSpPr/>
          <p:nvPr/>
        </p:nvSpPr>
        <p:spPr>
          <a:xfrm>
            <a:off x="785880" y="642960"/>
            <a:ext cx="75009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 обла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» и «Безопас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( 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ей группы, воспитатели,  педагоги ДОУ,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  представл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овая  през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5929200" y="4143240"/>
            <a:ext cx="24289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Актуальность проблемы 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а о здоровье – это важнейший труд воспитателя.  От  жизнерадостности, бодрости детей зависит их духовная жизнь, мировоззрение, умственное развитие, прочность знаний, вера в свои сил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ннего формирования культуры здоровья актуальна, своевременна и достаточно сложна. Известно, что дошкольный возраст является решающим в формировании фундамента физического и психического здоровья. Ведь именно до 7 лет человек проходит огромный путь развития, не повторяемый на протяжении последующей жизни. Именно в этот период идет интенсивное развитие органов и становление функциональных систем организма, закладываются основные черты личности, отношение к себе и окружающим. Важно на этом этапе сформировать  у  детей базу знаний и практических навыков здорового образа жизни, осознанную потребность в систематических занятий физической культурой и спортом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Этапы проек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готовительны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– собственно - практиче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 – оценочно - рефлексивный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этап – презентационный (выступление на педсовете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 мотивации, цели, задач по организации  недел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ый  малыш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: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мотивацию по работе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художественной литератур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 фольклора,  стихов, загад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наглядного материала – иллюстраций, картинок о здоровом образе жизни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дидактических, пальчиковых, малоподвижных иг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тематических  комплексов:   утренней гимнастики; гимнастики после сна, гим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и для глаз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II</a:t>
            </a:r>
            <a:r>
              <a:rPr b="1" lang="ru-RU" sz="5000" spc="-1" strike="noStrike">
                <a:solidFill>
                  <a:srgbClr val="a751e7"/>
                </a:solidFill>
                <a:latin typeface="Times New Roman"/>
                <a:ea typeface="Times New Roman"/>
              </a:rPr>
              <a:t> этап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расширять знания о здоровом образе через     практическую деятельность детей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представления  о том, что такое здоровье и здоровый человек, об основных навыках личной гигие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тражать в игре культурно –гигиенические навыки , правила здоровье сберегающего и безопасного поведе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с правилами безопасности в обращении с лекарствами –витамина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заботливое отношение к своему здоровь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лючить родителей к  работе 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3:07:24Z</dcterms:created>
  <dc:creator>Admin</dc:creator>
  <dc:description/>
  <dc:language>en-US</dc:language>
  <cp:lastModifiedBy>1</cp:lastModifiedBy>
  <dcterms:modified xsi:type="dcterms:W3CDTF">2013-01-20T18:18:30Z</dcterms:modified>
  <cp:revision>81</cp:revision>
  <dc:subject/>
  <dc:title>Проект  «Здоровый малыш»</dc:title>
</cp:coreProperties>
</file>