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37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DB7-A81C-409F-A788-44A0619D65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9C9-E550-470F-B4FE-B0620B2B7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810-6153-4390-875E-04F741A0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135-7007-4873-8284-DEB9C4FF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8CF-F0E9-4EF3-9C80-C7B4E9A0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70E-0CFF-4231-8A39-BB1EDAEB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0724-BCB4-4F45-9D19-DEE1A737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3C23-BE62-45B8-B9B9-0ADBC831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8FE-1E61-4250-8483-2D63D4A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C56D-125E-4825-908E-F1018CC7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FB4-E114-4D26-8C6A-7D18FC9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776-6643-4BE5-A79B-1453E3F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F2E-5B01-4A88-9A1F-440C586B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FED-465C-468E-97D6-A569709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117-1A70-436C-9FD9-B43B4BD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78F-95B6-4221-8386-2FBAFED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17B-CAD4-4CE6-8E5F-25C00E4C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2FB-F9D7-4C05-995C-0BD7739E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EFB-23B7-46A7-948C-F439A66A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B1CE-DDFB-4960-A445-66858DD6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2244-7220-42E0-B1B6-C0C859D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C459-3580-4D49-9F51-CA35E162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FF03-F60D-4B19-931A-6A1CDD44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EEF6-4834-4E71-B143-92D1A4B0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41C-83E2-4689-B1F8-68AFE628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81E7-DF3E-4FFF-B75C-0A24CED7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D0E8-7B7E-4083-A20C-F9DAF05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C1EB-CB6F-428A-95EE-F49EF87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45BB-7082-43FD-AFEC-74C6896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82B2-1F1A-4096-B99C-57E4E8A5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4163-57A4-42C0-A3F6-DF0BB01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218E-91F0-47FE-9C43-76EE5F65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8644-460A-45D5-A883-02E6EC96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CA81-8ECD-41D3-9927-C511821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E86E-7133-4A3A-94CB-007671EB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06B-F66E-4A94-8480-EE91990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6E25-01CC-46A8-BFA0-6362D67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2545-14D0-43A6-AB90-B3AEAF3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8D9D-2CBF-4B56-B34D-8F36F33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F193-735A-4F79-9053-AEEAE2CD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A230-B3B8-4B18-ADFB-1F60B0E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AD32-FCDF-4A69-ABF3-346C6A6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10A3-3D3A-4BB3-A088-37E6FD35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5516-509A-4390-997C-CB09985C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606A-C149-4AB0-AA19-2094CE4D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F52-1AB0-4638-9D10-68BA5AAF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C98-0217-47AA-B682-20E5DA7F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076-13EE-40CA-8E3C-447D3A1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F04-9043-43E7-A5C5-BC43529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E62-CDFF-491B-96FB-A0404B7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EB1-1B76-4699-85EE-68D24349B1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3E5-A54D-49D1-821A-3BFFCF86E1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A9D4-1FE2-4DD5-8305-3615D17A8B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169-1D62-4E90-86D8-3F4A7FDBE2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f0f7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665280" y="920880"/>
            <a:ext cx="7819920" cy="20779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5072040" y="442908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ингалёва Евгения  Васи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ДОУ « Детский сад №32 комбинированного вида</a:t>
            </a:r>
            <a:r>
              <a:rPr b="0" lang="ru-RU" sz="2400" spc="-1" strike="noStrike">
                <a:solidFill>
                  <a:srgbClr val="0d0d0d"/>
                </a:solidFill>
                <a:latin typeface="Monotype Corsiv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355680" y="3429000"/>
            <a:ext cx="47163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I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детей о здоровосберегающем и безопасном поведении в детском саду, дома и в природ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соблюдать элементарные правила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изучению себя, своих физических возможностей (осанка, стопа, рост, картина здоровь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культурно-гигиенические  навыки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интерес к выполнению оздоровительных и закаливающих мероприятий ( зарядка, обливание рук до локтей, полоскание зева, пальчиковая гимнастика, дорожки здоровья, массаж стоп  каучуковыми мячиками,  физкультурные занятия, прогулки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дукты  проек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поделки по теме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: пальчиковых игр, подвижных игр, утренних гимнастик, гимнастик после сна, гимнастик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трибутов к сюжетно – ролевой игре «Больница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ая фотовыставка  «Мы здоровье укрепляем –что нам в этом помогает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– передвижки, ширмы, буклеты на темы: « Витамины и их польза», «Зелёная аптека».«Что едят наши дети», «Плоскостопие и его профилактика»,  «Осанка вашего ребёнка», «Зарядка каждый день», «Зимние  игры детей», «Спортивный уголок дома», «Пальчиковые   игры и их значение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пап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спортивного досуга « В гостях у Антошки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естандартного оборудо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сновные   формы  реализации проекта:</a:t>
            </a:r>
            <a:br>
              <a:rPr sz="2400"/>
            </a:br>
            <a:r>
              <a:rPr b="1" lang="ru-RU" sz="2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2" descr=""/>
          <p:cNvPicPr/>
          <p:nvPr/>
        </p:nvPicPr>
        <p:blipFill>
          <a:blip r:embed="rId1"/>
          <a:stretch/>
        </p:blipFill>
        <p:spPr>
          <a:xfrm>
            <a:off x="384120" y="1420920"/>
            <a:ext cx="8309160" cy="546084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"/>
          <p:cNvSpPr/>
          <p:nvPr/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999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материал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5" descr="D:\женя\Женя\картинки\43009025_121258759033345.gif"/>
          <p:cNvPicPr/>
          <p:nvPr/>
        </p:nvPicPr>
        <p:blipFill>
          <a:blip r:embed="rId1"/>
          <a:stretch/>
        </p:blipFill>
        <p:spPr>
          <a:xfrm>
            <a:off x="357120" y="27792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img0.liveinternet.ru/images/attach/c/2/73/511/73511220_2.png"/>
          <p:cNvPicPr/>
          <p:nvPr/>
        </p:nvPicPr>
        <p:blipFill>
          <a:blip r:embed="rId2"/>
          <a:stretch/>
        </p:blipFill>
        <p:spPr>
          <a:xfrm>
            <a:off x="6572160" y="4357800"/>
            <a:ext cx="1835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499760"/>
            <a:ext cx="794376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Культурно-гигиенические </a:t>
            </a:r>
            <a:br>
              <a:rPr sz="48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навыки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609480" y="581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762120" y="733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9" descr="бабка1.gif"/>
          <p:cNvPicPr/>
          <p:nvPr/>
        </p:nvPicPr>
        <p:blipFill>
          <a:blip r:embed="rId1"/>
          <a:stretch/>
        </p:blipFill>
        <p:spPr>
          <a:xfrm>
            <a:off x="434880" y="285840"/>
            <a:ext cx="1708200" cy="13572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http://s56.radikal.ru/i151/0908/27/e12a49d3ec0a.png"/>
          <p:cNvPicPr/>
          <p:nvPr/>
        </p:nvPicPr>
        <p:blipFill>
          <a:blip r:embed="rId2"/>
          <a:stretch/>
        </p:blipFill>
        <p:spPr>
          <a:xfrm>
            <a:off x="7000920" y="4429080"/>
            <a:ext cx="17859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500040" y="21420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Мытьё  ру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1\Рабочий стол\фото детей дс\IMG_7460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ливание рук до локтей</a:t>
            </a:r>
            <a:br>
              <a:rPr sz="2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4" descr="C:\Documents and Settings\1\Рабочий стол\фото детей дс\IMG_7462.jpg"/>
          <p:cNvPicPr/>
          <p:nvPr/>
        </p:nvPicPr>
        <p:blipFill>
          <a:blip r:embed="rId1"/>
          <a:stretch/>
        </p:blipFill>
        <p:spPr>
          <a:xfrm>
            <a:off x="1500120" y="1935000"/>
            <a:ext cx="599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Чистка    зубов</a:t>
            </a:r>
            <a:br>
              <a:rPr sz="4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4" descr="C:\Documents and Settings\1\Рабочий стол\фото детей дс\IMG_7450.jpg"/>
          <p:cNvPicPr/>
          <p:nvPr/>
        </p:nvPicPr>
        <p:blipFill>
          <a:blip r:embed="rId1"/>
          <a:stretch/>
        </p:blipFill>
        <p:spPr>
          <a:xfrm>
            <a:off x="1571760" y="1935000"/>
            <a:ext cx="5925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здоровительные  </a:t>
            </a: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мероприяти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5" descr="D:\женя\Женя\картинки\e6019b306966_w333_h428.jpg"/>
          <p:cNvPicPr/>
          <p:nvPr/>
        </p:nvPicPr>
        <p:blipFill>
          <a:blip r:embed="rId1"/>
          <a:stretch/>
        </p:blipFill>
        <p:spPr>
          <a:xfrm>
            <a:off x="3090960" y="2224080"/>
            <a:ext cx="296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3008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олоскание  зева   травам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C:\Documents and Settings\1\Рабочий стол\фото детей дс\Изображение 031.jpg"/>
          <p:cNvPicPr/>
          <p:nvPr/>
        </p:nvPicPr>
        <p:blipFill>
          <a:blip r:embed="rId1"/>
          <a:stretch/>
        </p:blipFill>
        <p:spPr>
          <a:xfrm>
            <a:off x="2357280" y="1461960"/>
            <a:ext cx="4214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 проект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ориентировоч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проект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 малыш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Admin\Рабочий стол\картинки\xffd27574ax0.jpg"/>
          <p:cNvPicPr/>
          <p:nvPr/>
        </p:nvPicPr>
        <p:blipFill>
          <a:blip r:embed="rId1"/>
          <a:stretch/>
        </p:blipFill>
        <p:spPr>
          <a:xfrm>
            <a:off x="5715000" y="2714760"/>
            <a:ext cx="20718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Употребление  отвара  овс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C:\Documents and Settings\1\Рабочий стол\фото детей дс\Изображение 091.jpg"/>
          <p:cNvPicPr/>
          <p:nvPr/>
        </p:nvPicPr>
        <p:blipFill>
          <a:blip r:embed="rId1"/>
          <a:stretch/>
        </p:blipFill>
        <p:spPr>
          <a:xfrm>
            <a:off x="1500120" y="1825560"/>
            <a:ext cx="5997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Гимнастика для  глаз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4" descr="C:\Documents and Settings\1\Рабочий стол\фото детей дс\IMG_7452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рожка  здоровь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2" descr="C:\Documents and Settings\1\Рабочий стол\фото детей дс\Изображение 063.jpg"/>
          <p:cNvPicPr/>
          <p:nvPr/>
        </p:nvPicPr>
        <p:blipFill>
          <a:blip r:embed="rId1"/>
          <a:stretch/>
        </p:blipFill>
        <p:spPr>
          <a:xfrm>
            <a:off x="1357200" y="1935000"/>
            <a:ext cx="6286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Массаж стоп   </a:t>
            </a:r>
            <a:br>
              <a:rPr sz="4800"/>
            </a:b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каучуковыми мячиками           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C:\Documents and Settings\1\Рабочий стол\фото детей дс\Изображение 066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льчиковая гимнасти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4" descr="C:\Documents and Settings\1\Рабочий стол\фото детей дс\IMG_7467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гул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C:\Documents and Settings\1\Рабочий стол\фото детей дс\Изображение 05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2" descr="C:\Documents and Settings\1\Рабочий стол\фото детей дс\Изображение 061.jpg"/>
          <p:cNvPicPr/>
          <p:nvPr/>
        </p:nvPicPr>
        <p:blipFill>
          <a:blip r:embed="rId1"/>
          <a:stretch/>
        </p:blipFill>
        <p:spPr>
          <a:xfrm>
            <a:off x="1571760" y="1000080"/>
            <a:ext cx="60688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Непосредственная        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образовательная деятельность                             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D:\женя\женя - 2\картинки\701532.jpeg"/>
          <p:cNvPicPr/>
          <p:nvPr/>
        </p:nvPicPr>
        <p:blipFill>
          <a:blip r:embed="rId1"/>
          <a:stretch/>
        </p:blipFill>
        <p:spPr>
          <a:xfrm>
            <a:off x="3214800" y="3786120"/>
            <a:ext cx="25714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357120" y="71424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Встреча с доктором  Айболитом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1\Рабочий стол\фото детей дс\Изображение 105.jpg"/>
          <p:cNvPicPr/>
          <p:nvPr/>
        </p:nvPicPr>
        <p:blipFill>
          <a:blip r:embed="rId1"/>
          <a:stretch/>
        </p:blipFill>
        <p:spPr>
          <a:xfrm>
            <a:off x="1357200" y="1714680"/>
            <a:ext cx="6357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C:\Documents and Settings\1\Рабочий стол\фото детей дс\Изображение 115.jpg"/>
          <p:cNvPicPr/>
          <p:nvPr/>
        </p:nvPicPr>
        <p:blipFill>
          <a:blip r:embed="rId1"/>
          <a:stretch/>
        </p:blipFill>
        <p:spPr>
          <a:xfrm>
            <a:off x="1500120" y="1285920"/>
            <a:ext cx="5929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начальных  представлений 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  жизн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Admin\Рабочий стол\картинки\36862142.jpg"/>
          <p:cNvPicPr/>
          <p:nvPr/>
        </p:nvPicPr>
        <p:blipFill>
          <a:blip r:embed="rId1"/>
          <a:stretch/>
        </p:blipFill>
        <p:spPr>
          <a:xfrm>
            <a:off x="2643120" y="3571920"/>
            <a:ext cx="3880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ппликация «Мойдодыр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C:\Documents and Settings\1\Рабочий стол\фото детей дс\Изображение 075.jpg"/>
          <p:cNvPicPr/>
          <p:nvPr/>
        </p:nvPicPr>
        <p:blipFill>
          <a:blip r:embed="rId1"/>
          <a:stretch/>
        </p:blipFill>
        <p:spPr>
          <a:xfrm>
            <a:off x="1214280" y="1500120"/>
            <a:ext cx="64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9" name="Picture 2" descr="C:\Documents and Settings\1\Рабочий стол\фото детей дс\Изображение 079.jpg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«Готовим салат из фруктов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2" descr="C:\Documents and Settings\1\Рабочий стол\фото детей дс\Изображение 052.jpg"/>
          <p:cNvPicPr/>
          <p:nvPr/>
        </p:nvPicPr>
        <p:blipFill>
          <a:blip r:embed="rId1"/>
          <a:stretch/>
        </p:blipFill>
        <p:spPr>
          <a:xfrm>
            <a:off x="1357200" y="1285920"/>
            <a:ext cx="6286680" cy="4286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6572160" y="4857840"/>
            <a:ext cx="177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Рисование « Заходите в гости к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нам –витамины я вам дам!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2" descr="C:\Documents and Settings\1\Рабочий стол\фото детей дс\Изображение 081.jpg"/>
          <p:cNvPicPr/>
          <p:nvPr/>
        </p:nvPicPr>
        <p:blipFill>
          <a:blip r:embed="rId1"/>
          <a:stretch/>
        </p:blipFill>
        <p:spPr>
          <a:xfrm>
            <a:off x="1285920" y="1935000"/>
            <a:ext cx="642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C:\Documents and Settings\1\Рабочий стол\фото детей дс\Изображение 083.jpg"/>
          <p:cNvPicPr/>
          <p:nvPr/>
        </p:nvPicPr>
        <p:blipFill>
          <a:blip r:embed="rId1"/>
          <a:stretch/>
        </p:blipFill>
        <p:spPr>
          <a:xfrm>
            <a:off x="1214280" y="1000080"/>
            <a:ext cx="6572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Сюжетно – ролевая иг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Picture 2" descr="C:\Documents and Settings\1\Рабочий стол\фото детей дс\Изображение 038.jpg"/>
          <p:cNvPicPr/>
          <p:nvPr/>
        </p:nvPicPr>
        <p:blipFill>
          <a:blip r:embed="rId1"/>
          <a:stretch/>
        </p:blipFill>
        <p:spPr>
          <a:xfrm>
            <a:off x="1214280" y="1714680"/>
            <a:ext cx="67154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3" descr="C:\Documents and Settings\1\Рабочий стол\фото детей дс\Изображение 071.jpg"/>
          <p:cNvPicPr/>
          <p:nvPr/>
        </p:nvPicPr>
        <p:blipFill>
          <a:blip r:embed="rId1"/>
          <a:stretch/>
        </p:blipFill>
        <p:spPr>
          <a:xfrm>
            <a:off x="1500120" y="1500120"/>
            <a:ext cx="6072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суг « В гостях у Антошк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2" descr="D:\женя\физкультурный утренник\IMG_2623.JPG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выстав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4" name="Picture 2" descr="C:\Documents and Settings\1\Рабочий стол\фото детей дс\Изображение 117.jpg"/>
          <p:cNvPicPr/>
          <p:nvPr/>
        </p:nvPicPr>
        <p:blipFill>
          <a:blip r:embed="rId1"/>
          <a:stretch/>
        </p:blipFill>
        <p:spPr>
          <a:xfrm>
            <a:off x="1143000" y="1643040"/>
            <a:ext cx="6643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Calibri"/>
              </a:rPr>
              <a:t>Благодарю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2" descr="C:\Documents and Settings\Admin\Рабочий стол\картинки\45837412_9e4d414367de.gif"/>
          <p:cNvPicPr/>
          <p:nvPr/>
        </p:nvPicPr>
        <p:blipFill>
          <a:blip r:embed="rId1"/>
          <a:stretch/>
        </p:blipFill>
        <p:spPr>
          <a:xfrm>
            <a:off x="2000160" y="2214720"/>
            <a:ext cx="4133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2600" y="2214720"/>
            <a:ext cx="80010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правилам  здоровьесберегающего  и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представления  о доступном ребёнку предметном     мире и назначении предметов, о правилах их безопасн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ширять и углублять представления детей о правил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й гигиены, путях охраны своего здоровья и способах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C:\Documents and Settings\Admin\Рабочий стол\картинки\43009025_121258759033345.gif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6800" y="5572080"/>
            <a:ext cx="74437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4240" y="2643120"/>
            <a:ext cx="750096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785880" y="642960"/>
            <a:ext cx="7500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» и «Безопас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( 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й группы, воспитатели,  педагоги ДОУ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 представ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овая 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5929200" y="4143240"/>
            <a:ext cx="24289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ктуальность проблемы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а о здоровье – это важнейший труд воспитателя.  От  жизнерадостности, бодрости детей зависит их духовная жизнь, мировоззрение, умственное развитие, прочность знаний, вера в свои си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ннего формирования культуры здоровья актуальна, своевременна и достаточно сложна. Известно, что дошкольный возраст является решающим в формировании фундамента физического и психического здоровья. Ведь именно до 7 лет человек проходит огромный путь развития, не повторяемый на протяжении последующей жизни. Именно в этот период идет интенсивное развитие органов и становление функциональных систем организма, закладываются основные черты личности, отношение к себе и окружающим. Важно на этом этапе сформировать  у  детей базу знаний и практических навыков здорового образа жизни, осознанную потребность в систематических занятий физической культурой и спортом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собственно - прак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– оценочно - рефлексивный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этап – презентационный (выступление на педсовете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 мотивации, цели, задач по организации  недел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ый  малыш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мотивацию по работе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фольклора,  стихов, загад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 – иллюстраций, картинок о здоровом образе жиз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идактических, пальчиковых, малоподвижных иг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тематических  комплексов:   утренней гимнастики; гимнастики после сна, гим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и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расширять знания о здоровом образе через     практическую деятельность дет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 о том, что такое здоровье и здоровый человек, об основных навыках личной гиги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ражать в игре культурно –гигиенические навыки , правила здоровье сберегающего и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правилами безопасности в обращении с лекарствами –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заботливое отношение к своему здоров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ть родителей к  работе 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3:07:24Z</dcterms:created>
  <dc:creator>Admin</dc:creator>
  <dc:description/>
  <dc:language>en-US</dc:language>
  <cp:lastModifiedBy>1</cp:lastModifiedBy>
  <dcterms:modified xsi:type="dcterms:W3CDTF">2013-01-20T18:18:30Z</dcterms:modified>
  <cp:revision>81</cp:revision>
  <dc:subject/>
  <dc:title>Проект  «Здоровый малыш»</dc:title>
</cp:coreProperties>
</file>