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28.png" ContentType="image/png"/>
  <Override PartName="/ppt/media/image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554-02F7-4FB2-ACC7-7FFC085D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B5D-3691-49D7-9087-D2C175D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EBF-34F4-4699-A897-5C30C0B5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E33-1680-4954-BE79-22376E38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64C6-0933-4DF1-ACE7-2E9EF9A2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1250-97AD-4B41-AB67-03E1083D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B64C-FC5C-4D21-83DD-E8D7A0E4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656-0D27-47D5-A0E0-686ECB8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F155-8FDC-483E-BED9-2DA703B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2FC5-56A4-49AA-B2D3-8B87282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D25-740B-47BD-802F-0A62326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700-EA9D-4576-9025-E9F4C0FF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A4C7-539E-4782-A2A2-581B18A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589F-B791-4DCA-82B9-DEF56723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387E-D2E2-4C4E-BC9B-07DFDD12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6D4B-CE00-4253-B8A1-725959E6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0B4-A64D-405B-B2C5-657EF075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E44A-3558-491A-9FB6-9E9D9992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266D-2CC9-4DEB-8B1F-A13A3AF5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A7A0-9D21-432C-A162-8294ABE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68C6-2DA5-4A7C-8ADD-45CD2A3E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9EDE-1896-4508-B3D7-432DD24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7EE-EB14-4754-9D6C-44A9A41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F388-D942-430E-829A-18CE62AC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5D9F-836B-416B-9DBB-08F9F45B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CA72-C325-4385-B0F6-BD39E83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9FF6-2C93-4133-829E-9008F0B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7B03-9C85-4799-BA06-A1E46CB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616A-F52A-40D2-8A38-2CF9076B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7D75F-EAA6-445D-975D-F5B3A1B8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64B1-8E71-4DC8-B08E-C20FAB11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27A0-224E-4893-81F7-A992A61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A645-CE6C-4AAC-8DB0-ECE23666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D09-B34E-47C3-B595-B3ABEDCC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1519-B718-49D4-94E1-020E9CEA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FE60-7359-4F37-8AE6-B295DD7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F0DAD-CBB4-4AF8-BE0A-009698E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AC25C-840C-4EDB-A989-8525942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1A44-BFA6-448D-B59C-89F133E7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AB21-DB04-4435-8C23-4000EF8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85BE-537D-44E8-A168-2D110EB5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25FE-1BF9-42D1-AAFC-2C61E30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4A25-C2C6-42B0-96AE-91827E7D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481A-2167-419D-9A15-8BB47B07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512-B59C-4A16-90A2-9A391FC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470A-43E7-419D-A126-86E7085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56EF-629E-450D-8B45-1F2D3C1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99161-15B5-4B4D-BBE3-A9FDAD14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42CA-7E12-495A-B591-44D8130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C1CA-6866-4049-B3F9-22D5E925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F94C-8A0D-4044-842B-B72708B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5F27-07B9-46DE-9141-0709949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BA47-A3F3-4DF6-82D1-5DBA1D3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C2CC8-4EDF-416F-B894-923AC87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E196-6884-4491-8415-60BFB788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5D9-0C6C-4E05-9A3C-256D5003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BBDA-73FA-4185-AD30-EEADE246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B8BB6-E9B4-45AF-826F-D298AE7B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A2FB-0AC2-4D11-A58F-9E8FEAC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63E7-9540-47A1-AEA3-D10D6A1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FFEC-D97D-463B-AFB2-B58EED50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2307-1CC7-4499-A6B0-65B59173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1E0F-FE58-47BF-B0B8-862BB3C8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DBA8-89F3-4806-8D52-E430381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9E94-FBA2-43B5-8FF3-2F4F5918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7FA2-4D65-48C2-8388-02FB39D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14D-00A6-4DA3-ADC3-5EA2E5A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DAEA-96C4-42E6-BDEF-2319B877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C512-9CC1-4CF7-85CB-4E04E68D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5055-77FA-4E53-8984-F9226A2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2AB91-76B7-447B-8507-A48103B7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E202-0F7E-4F82-94CB-E08EFE68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05B8-735B-4986-B653-61F78E0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C6E5-8534-4E89-A687-6B62DB38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5E6D-DB8E-4C0E-BFBB-E853610F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3F45-2CCC-44DD-ADD0-29D24CA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8CFBA-C913-490E-9089-FCD9779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2B9-567A-4DD0-A2F5-065CDEE3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2886-1EF5-4F3A-AA5C-0C7165D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B5D8-6DC9-483E-A81E-B5BECEF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5F3BA-315D-40DB-A42E-A528D72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3EAD-9A51-43E6-9B41-DAB31E6C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D3C38-5EF5-4D74-A2C2-FE1C6B38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8E2B-81F0-460C-A744-C6B1C96C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04EC-0EDE-42EF-A114-2D7C203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1FFC-527C-4FB7-9CE7-9912B9AE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38F6-D8DB-45F1-AAAC-F69063F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5690-E32E-4E53-9F26-17ED69DF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ADB-928C-4221-8ABE-677622E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561B-7176-4C4B-A912-D3BDAE5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81D3-9E65-46A1-9CF0-7F64C1E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524F-5840-46AD-9D34-618D118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AE925-22CC-4B98-9E02-F7E017BB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21EA-634C-4C22-B605-7AB0EDAF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D3CD-B089-48CF-8626-49125518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E868-DA03-457C-AB0C-268D6B14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F621-6D40-4932-B098-52B769FFF2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DDC4-D2AD-44EB-BDAF-8A8888A5DDB3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8DC-0B27-496F-A1CE-8EA0CA6EB7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157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3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4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0ad0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0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1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242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1EA-3470-45A0-86CB-8977834052B5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287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5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6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8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1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2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3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4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5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0ad00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5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6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8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9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0ad0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7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0ad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0ad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9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0ad00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0ad0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0ad00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0ad00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0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637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8F1E-982B-4DA1-A8F0-108A69BC42E3}" type="slidenum"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BAE-20D9-4B7C-8B87-BAFD9DD3094C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22A-F40E-454C-A5F6-5D0120904AD4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60b5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bb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5A8-EAC5-4C4C-8727-29C8BE9FF9F8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fudz.ru/pictures/1232835781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3.bp.blogspot.com/_M10zo_ZcksM/StkSx8RIb1I/AAAAAAAAIh4/h-WvpIFShGo/s400/cuisine-01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3809880" cy="4838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1"/>
          <p:cNvSpPr/>
          <p:nvPr/>
        </p:nvSpPr>
        <p:spPr>
          <a:xfrm>
            <a:off x="379584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бина Ольга Владимиров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БОУ Зайцевореченская ОС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4716360" y="62064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Святки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4716360" y="234936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Народные приме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Святочные гада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Коляд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Рождественская ноч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Рождественский сто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Народные приме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На Рождество метель – пчелы хорошо роиться будут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В Рождество день теплый – хлеб будет темный, густо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Зима снежная – лето дождливо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Холодная зима – лето жарко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Воробьи дружно чирикают – к теплу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Зимнее тепло – летний холод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Кольцо вокруг солнца – к ненастью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Снегирь под окошком  зимой чирикает – к оттепел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Если зимой сухо и холодно – летом сухо и жарк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81" name="Picture 4" descr="f1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стория праздника Рождества Христо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ождество - день, когда родился Иисус Христос. Бог - Отец послал в земной мир своего Сына Иисуса, чтобы спасти человечество от гибели. И со дня Рождения Спасителя на земле наступило новое время. Рождество в разных странах и даже районах встречают по-разному. На Западе существуют так называемые  «рождественские каникулы» - целая неделя отдыха. И «главные» подарки там принято дарить именно на Рождеств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Руси еще за неделю до Рождества открывались новогодние праздники - Святки. Ходили ряженые, гадали, колядовали, съезжали со снежных горок на рогожках и дощечках, катались на празднично украшенных санях. Например, новгородские ряженые ездили по городу, заходя только в дома, где их ждали, и в окнах были выставлены зажженные свечи. Хозяева потчевали ряженых замысловатыми кушаньями и ви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- Добрый вечер, щедрый вечер 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добрым людям на весь вечер!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Ангел с неба к нам спустился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И сказал: «Христос родился»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Мы пришли его прославить 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4d6"/>
                </a:solidFill>
                <a:latin typeface="Calibri"/>
              </a:rPr>
              <a:t>И вас с праздником поздравить. </a:t>
            </a:r>
            <a:endParaRPr b="0" lang="en-US" sz="24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85" name="WordArt 4"/>
          <p:cNvSpPr txBox="1"/>
          <p:nvPr/>
        </p:nvSpPr>
        <p:spPr>
          <a:xfrm>
            <a:off x="1523880" y="3049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яд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6" name="Picture 5" descr="kolyada-300x226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шла Коляда накануне Рожде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айте коровку, масляну головку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 окне стоит, на меня гляди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айте блина, будет печь гладка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яда, Коляда, подавай пирога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лин да лепешку в заднее окошко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5"/>
          <p:cNvSpPr/>
          <p:nvPr/>
        </p:nvSpPr>
        <p:spPr>
          <a:xfrm>
            <a:off x="4089240" y="588960"/>
            <a:ext cx="347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Мороз! Мороз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В Новый год ход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Никого не холод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Ни курчат, ни поросят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Ни маленьких ребя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Ты зимой-то гуля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80000"/>
                </a:solidFill>
                <a:latin typeface="Arial"/>
              </a:rPr>
              <a:t>А летом не бывай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3816360" cy="2314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024000" cy="28828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3105000" cy="3529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250920" y="43614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оробушек лети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востиком верти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 вы, люди, знайт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толы застилайт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остей принимайт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54600" cy="2637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3862440" y="2900520"/>
            <a:ext cx="4309920" cy="32112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7"/>
          <p:cNvSpPr/>
          <p:nvPr/>
        </p:nvSpPr>
        <p:spPr>
          <a:xfrm>
            <a:off x="4575960" y="529200"/>
            <a:ext cx="306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 нам будете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хвалить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 не будешь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корить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яда, коляд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давай пирог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6960" y="3162600"/>
            <a:ext cx="282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япу-ляпу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корей дайте коляду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ожки зябн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Я домой побег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то дас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от - князь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то не даст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ого в грязь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93880" cy="32115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2759040" cy="54766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6"/>
          <p:cNvSpPr/>
          <p:nvPr/>
        </p:nvSpPr>
        <p:spPr>
          <a:xfrm>
            <a:off x="854640" y="3738600"/>
            <a:ext cx="257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Щедрик, ведрик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йте вареник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ожечку кашки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верх колбас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того мало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йте кусок сал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носите скорей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 морозьте дете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5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243320" cy="3197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068640" cy="46022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7"/>
          <p:cNvSpPr/>
          <p:nvPr/>
        </p:nvSpPr>
        <p:spPr>
          <a:xfrm>
            <a:off x="317520" y="4075560"/>
            <a:ext cx="505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егодня гулянье, гаданье, катань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лины, пироги, чаепити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 розыгрыши и свида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има нас торопит. Спешит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ешите видеть, слышать, участвовать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ядитесь и из домов выходите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ядуйте, пляшите, шутит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386240" cy="2952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602240" cy="334512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6"/>
          <p:cNvSpPr/>
          <p:nvPr/>
        </p:nvSpPr>
        <p:spPr>
          <a:xfrm>
            <a:off x="4654080" y="689400"/>
            <a:ext cx="4298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 привет, за угощень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 примите поздравленье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***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Жить вам лет до двести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частья вам да крепкого здравия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5920" y="3768840"/>
            <a:ext cx="31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йте нам печенье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 можно и варень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это обряд, известный многим европейским народам. Он состоит в том, что парни, девушки, мальчишки и девчонки, нарядившись в вывернутые наизнанку тулупы, надев смешные маски, собираются группами и, переходя от  одного двора  к другому, поют под окошками, а иногда и в избах, песни то в честь праздника, то, как поздравление хозяевам, то просто ради потехи и развлечения. Участникам таких концертов - поздравлений хозяева дарили угощение. Считалось дурным тоном отказать колядовщикам. Для них принято было печь пирожки, булочки или пряники в форме домашних животных. Заканчивалось колядование всеобщей потехой, катанием с горок, общим пиром.</a:t>
            </a:r>
            <a:endParaRPr b="0" lang="en-US" sz="1800" spc="-1" strike="noStrike">
              <a:solidFill>
                <a:srgbClr val="d4d4d6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Коляда бывает не только рождественской, но и Васильевской (под Новый год) и крещенской.</a:t>
            </a:r>
            <a:endParaRPr b="0" lang="en-US" sz="1800" spc="-1" strike="noStrike">
              <a:solidFill>
                <a:srgbClr val="d4d4d6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С праздником Рождества связано немало радостных обычаев. На Рождество всегда зажигали елку. На ее верхушку прикрепляли звезду- символ Вифлеемской звезды, под которой был рожден Иисус Христос.</a:t>
            </a:r>
            <a:endParaRPr b="0" lang="en-US" sz="1800" spc="-1" strike="noStrike">
              <a:solidFill>
                <a:srgbClr val="d4d4d6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Calibri"/>
              </a:rPr>
              <a:t>В ночь перед Рождеством в дома, где есть дети, приходит Дед Мороз, чтобы подарить подарки. Раньше дети вешали у кроватки чулки, чтобы утром найти в них сюрприз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4116240" cy="41436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6"/>
          <p:cNvSpPr/>
          <p:nvPr/>
        </p:nvSpPr>
        <p:spPr>
          <a:xfrm>
            <a:off x="110160" y="6480"/>
            <a:ext cx="302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еем, веем снежок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шелковый положок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нежок устилается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тель разыграется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йте вам, хозяев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новый год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поле – приплод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гумне – примоло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 нас будете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хвалить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 не будете дарить 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ы будем брани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4103640" cy="30909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4643280" y="366840"/>
            <a:ext cx="3961080" cy="29304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6"/>
          <p:cNvSpPr/>
          <p:nvPr/>
        </p:nvSpPr>
        <p:spPr>
          <a:xfrm>
            <a:off x="322200" y="471600"/>
            <a:ext cx="34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ляда, коля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ходи из далек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дин раз в годок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любуемся часо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морозом трескуч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 стужей колюче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 снегами белым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вьюгой, с метеля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амокаты-сан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катили сами 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 села до сел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ляда весел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338640" cy="4957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3660480" cy="36608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4435920" y="4109400"/>
            <a:ext cx="347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Коляда, коляд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Жили-были три ко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Три кота и коти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давайте торти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93880" cy="3594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3857760" y="2876400"/>
            <a:ext cx="4530600" cy="35038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6"/>
          <p:cNvSpPr/>
          <p:nvPr/>
        </p:nvSpPr>
        <p:spPr>
          <a:xfrm>
            <a:off x="4656240" y="34632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, господ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ова жен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вери отвори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 нас одарит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ирогом, калач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ли чем-нибудь ещ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021200" cy="3028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37080" cy="3538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4788360" y="437400"/>
            <a:ext cx="419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дадите нам ватрушки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лучите по макушк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дадите пирога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ведем корову за рог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5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384360" cy="2640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2846520" cy="35290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7"/>
          <p:cNvSpPr/>
          <p:nvPr/>
        </p:nvSpPr>
        <p:spPr>
          <a:xfrm>
            <a:off x="4656240" y="8528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, господ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подинова жен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вери отвори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 нас одарит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ирогом, калач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ли чем-нибудь ещ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1"/>
          <p:cNvSpPr/>
          <p:nvPr/>
        </p:nvSpPr>
        <p:spPr>
          <a:xfrm>
            <a:off x="1187280" y="4762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Иллюстрации и анимации взяты со следующих сайтов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684360" y="2014560"/>
            <a:ext cx="46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Интернет- источн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retropost.r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felizy-congratulate.blogspot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kroha.dn.u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http://www.kulina.ru/articles/holy/doc_2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http://www.inmoment.ru/holidays/old_new_year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gorod.tomsk.r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sankt-petersburgpost.r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250920" y="836640"/>
            <a:ext cx="813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к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ки - это обрядовые песни, древняя и устойчивая часть русского фолькло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уют с Рождества (7 января) до Крещения (19 январ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довщики - не попрошайки, а люди, которых всегда ждали с нетерпением для благославения на новый урожай на весь год. И чем больше дашь - тем больше будет удач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вол коляды - солнечный диск из картона, прикрепленный к палке и украшенный лентами и бумажными цвета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ждественско – новогодние праздники начинались колядованием. Так назывались праздничные обходы домов с пением колядок – песен, в которых славились хозяева дома и содержались пожелания богатого урожая, изобилия т. д. Началу года придавалось особенное значение. Как встретишь Новый год, таков он и весь будет. Весёлый, коротенькие колядки были песенной формой таких пожеланий.</a:t>
            </a:r>
            <a:endParaRPr b="0" lang="en-US" sz="28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684360" y="260280"/>
            <a:ext cx="80010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лядк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990720" y="563868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Comic Sans MS"/>
              </a:rPr>
              <a:t>Символами Рождества в России можно назвать изображения и фигурки ангелов, колокольный звон, а также рождественскую звезду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6" name="Picture 5" descr="images"/>
          <p:cNvPicPr/>
          <p:nvPr/>
        </p:nvPicPr>
        <p:blipFill>
          <a:blip r:embed="rId1"/>
          <a:stretch/>
        </p:blipFill>
        <p:spPr>
          <a:xfrm>
            <a:off x="533520" y="380880"/>
            <a:ext cx="2228760" cy="2048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panna"/>
          <p:cNvPicPr/>
          <p:nvPr/>
        </p:nvPicPr>
        <p:blipFill>
          <a:blip r:embed="rId2"/>
          <a:stretch/>
        </p:blipFill>
        <p:spPr>
          <a:xfrm>
            <a:off x="2971800" y="457200"/>
            <a:ext cx="2895480" cy="2324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patriarh"/>
          <p:cNvPicPr/>
          <p:nvPr/>
        </p:nvPicPr>
        <p:blipFill>
          <a:blip r:embed="rId3"/>
          <a:stretch/>
        </p:blipFill>
        <p:spPr>
          <a:xfrm>
            <a:off x="6095880" y="838080"/>
            <a:ext cx="2374920" cy="2895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67177560_index"/>
          <p:cNvPicPr/>
          <p:nvPr/>
        </p:nvPicPr>
        <p:blipFill>
          <a:blip r:embed="rId4"/>
          <a:stretch/>
        </p:blipFill>
        <p:spPr>
          <a:xfrm>
            <a:off x="762120" y="2819520"/>
            <a:ext cx="4343400" cy="2514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ангел12"/>
          <p:cNvPicPr/>
          <p:nvPr/>
        </p:nvPicPr>
        <p:blipFill>
          <a:blip r:embed="rId5"/>
          <a:stretch/>
        </p:blipFill>
        <p:spPr>
          <a:xfrm>
            <a:off x="6858000" y="3809880"/>
            <a:ext cx="12193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ffd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d4d6"/>
                </a:solidFill>
                <a:latin typeface="Calibri"/>
              </a:rPr>
              <a:t>фото</a:t>
            </a:r>
            <a:endParaRPr b="0" lang="en-US" sz="2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2" name="WordArt 4"/>
          <p:cNvSpPr txBox="1"/>
          <p:nvPr/>
        </p:nvSpPr>
        <p:spPr>
          <a:xfrm>
            <a:off x="468360" y="304920"/>
            <a:ext cx="7380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ждественский сто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609480" y="46483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omic Sans MS"/>
              </a:rPr>
              <a:t>На стол ставились кутья, сочни, компот. Прежде чем установить еду на стол, устилали его сеном или соломой, так как это напоминало ясли, в которых находился младенец Иисус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4" name="Picture 6" descr="37633747_P1043268_"/>
          <p:cNvPicPr/>
          <p:nvPr/>
        </p:nvPicPr>
        <p:blipFill>
          <a:blip r:embed="rId1"/>
          <a:stretch/>
        </p:blipFill>
        <p:spPr>
          <a:xfrm>
            <a:off x="304920" y="15238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Картинка 3 из 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1676520"/>
            <a:ext cx="2686320" cy="2057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Картинка 9 из 9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600200"/>
            <a:ext cx="2438640" cy="2057400"/>
          </a:xfrm>
          <a:prstGeom prst="rect">
            <a:avLst/>
          </a:prstGeom>
          <a:ln w="0">
            <a:noFill/>
          </a:ln>
        </p:spPr>
      </p:pic>
      <p:sp>
        <p:nvSpPr>
          <p:cNvPr id="567" name="WordArt 9"/>
          <p:cNvSpPr txBox="1"/>
          <p:nvPr/>
        </p:nvSpPr>
        <p:spPr>
          <a:xfrm>
            <a:off x="2819520" y="380988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чиво(кутья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3" descr="9cf5c86f902d1b7f9b3809726af3766a_743"/>
          <p:cNvPicPr/>
          <p:nvPr/>
        </p:nvPicPr>
        <p:blipFill>
          <a:blip r:embed="rId1"/>
          <a:stretch/>
        </p:blipFill>
        <p:spPr>
          <a:xfrm>
            <a:off x="5105520" y="2438280"/>
            <a:ext cx="2895480" cy="2438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d7e34580f5445fa785c38ac42398d154_414"/>
          <p:cNvPicPr/>
          <p:nvPr/>
        </p:nvPicPr>
        <p:blipFill>
          <a:blip r:embed="rId2"/>
          <a:stretch/>
        </p:blipFill>
        <p:spPr>
          <a:xfrm>
            <a:off x="0" y="2438280"/>
            <a:ext cx="3697200" cy="2514600"/>
          </a:xfrm>
          <a:prstGeom prst="rect">
            <a:avLst/>
          </a:prstGeom>
          <a:ln w="0">
            <a:noFill/>
          </a:ln>
        </p:spPr>
      </p:pic>
      <p:sp>
        <p:nvSpPr>
          <p:cNvPr id="570" name="WordArt 5"/>
          <p:cNvSpPr txBox="1"/>
          <p:nvPr/>
        </p:nvSpPr>
        <p:spPr>
          <a:xfrm>
            <a:off x="838080" y="206280"/>
            <a:ext cx="716292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ждественская ноч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1905120" y="4739400"/>
            <a:ext cx="67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omic Sans MS"/>
              </a:rPr>
              <a:t>В ночь перед Рождеством было принято буйное народное веселье. Этот обычай идет из глубины языческих времен, который несет традицию гаданий, игр, переодеваний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koljadki"/>
          <p:cNvPicPr/>
          <p:nvPr/>
        </p:nvPicPr>
        <p:blipFill>
          <a:blip r:embed="rId1"/>
          <a:stretch/>
        </p:blipFill>
        <p:spPr>
          <a:xfrm>
            <a:off x="4724280" y="1523880"/>
            <a:ext cx="3810240" cy="23338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4"/>
          <p:cNvSpPr/>
          <p:nvPr/>
        </p:nvSpPr>
        <p:spPr>
          <a:xfrm>
            <a:off x="304920" y="205740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Comic Sans MS"/>
              </a:rPr>
              <a:t>Славление Христа со звездою, вертепом. С Х</a:t>
            </a: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VIII</a:t>
            </a:r>
            <a:r>
              <a:rPr b="0" lang="ru-RU" sz="2000" spc="-1" strike="noStrike">
                <a:solidFill>
                  <a:srgbClr val="eaeaea"/>
                </a:solidFill>
                <a:latin typeface="Comic Sans MS"/>
              </a:rPr>
              <a:t> века пошел этот обычай. Колядовщики-христославы: парни, девушки, подростки- собирались группкой, ходили от дома к дому, пели песни в честь праздника, а хозяева давали им угощени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74" name="Picture 5" descr="167647"/>
          <p:cNvPicPr/>
          <p:nvPr/>
        </p:nvPicPr>
        <p:blipFill>
          <a:blip r:embed="rId2"/>
          <a:stretch/>
        </p:blipFill>
        <p:spPr>
          <a:xfrm>
            <a:off x="4800600" y="4191120"/>
            <a:ext cx="3838680" cy="2209680"/>
          </a:xfrm>
          <a:prstGeom prst="rect">
            <a:avLst/>
          </a:prstGeom>
          <a:ln w="0">
            <a:noFill/>
          </a:ln>
        </p:spPr>
      </p:pic>
      <p:sp>
        <p:nvSpPr>
          <p:cNvPr id="575" name="WordArt 6"/>
          <p:cNvSpPr txBox="1"/>
          <p:nvPr/>
        </p:nvSpPr>
        <p:spPr>
          <a:xfrm>
            <a:off x="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ристослав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Святочные гад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о время святок различают «святые вечера» (7 – 13 января) – для веселых, смешных гаданий и «страшные вечера» (14 – 19 января) – для опасных, рискованных. Самыми «верными» считаются гадания на Васильев вечер – канун 14 января, т. е. на Старый Новый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78" name="Picture 4" descr="f8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7:01:33Z</dcterms:created>
  <dc:creator>Ольга</dc:creator>
  <dc:description/>
  <dc:language>en-US</dc:language>
  <cp:lastModifiedBy>user</cp:lastModifiedBy>
  <dcterms:modified xsi:type="dcterms:W3CDTF">2013-01-14T11:35:15Z</dcterms:modified>
  <cp:revision>5</cp:revision>
  <dc:subject/>
  <dc:title>Слайд 1</dc:title>
</cp:coreProperties>
</file>