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20.png" ContentType="image/png"/>
  <Override PartName="/ppt/media/image26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42.png" ContentType="image/png"/>
  <Override PartName="/ppt/media/image43.png" ContentType="image/png"/>
  <Override PartName="/ppt/media/image28.png" ContentType="image/png"/>
  <Override PartName="/ppt/media/image7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949-FFED-4F33-850A-E79792D6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487-D28A-4083-A614-D73019E2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345-9D7E-4812-9234-65881314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ABA-BEC6-4D96-8DA5-07C8C9C7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96AC-23AB-4F6F-89F1-A8C8D3DB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FE16-7FDE-4C45-AE8A-FE923B9F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AD5A-9B81-47B8-9728-1A30DC9E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8232-85C9-4DF3-A9A9-706CCEE7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AEEA-14D7-4768-9D71-06F9D847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F9EC-58E8-4B4A-94B1-8CA9F6D5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3715-F033-4DCF-A7BC-6BB59B6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310-7697-48A4-85E4-0A855C55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3A48-E276-4E58-AF72-4D25D930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889F-751D-4FFE-86D9-99490088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9BFB-EA6D-44B3-9D59-69540D90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94E1-8526-4406-BDB3-6E3936AC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CFCE-7B10-4319-80C8-17E99B13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AF86E-9941-46FB-96E9-BBA6851E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8446-3EB7-4EF8-BCF7-3A67F911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81BAD-B1A7-4B5F-A964-753B69AE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A2E1-4DC3-44E7-B0AF-4067BFAA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522C-69F6-4B7E-9152-8B2222DD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D3C-5ED6-4004-BB49-73400B4B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5A4D2-E2F7-43FD-913B-5896E86D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9A67-FA5C-4F3D-A362-E5ACC9CC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1C25-5077-4CD3-99AD-6BBE4F08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6D8E-9EBA-4DC9-B6DB-824DD13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ED90C-C9BC-485B-9A81-67A1A628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9504-FC84-4136-B874-22396D4E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451E-17EB-433A-AD73-99380378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513E5-F601-436D-B11B-462DFA4C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0F96A-A4EB-4042-99BE-78EB052F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826A-281D-4AD0-B773-C8204A85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272-7E6E-4D1A-86EC-75BF8252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A94A-FB81-45B4-9FC1-6BEA5014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395E-C5F5-4ECD-871D-291DCE5E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7283-08F5-4F24-8035-47F17802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882F7-C1EA-4D30-831F-8228CA2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DF2EF-CB17-40D1-A8B2-2E600095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65D36-F024-4549-8C0F-0BAF06C9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C72E3-7CD0-4B48-8CF7-3215944F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6D09C-84B2-494C-9AE8-2A040C10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C6400-7961-4D5F-A3A7-515D9011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3FF24-2B56-41FF-969D-56D384B4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ECE-4557-440F-8070-71A480D8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96377-5845-4E09-9605-E2EC2AF0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52A79-1D8E-409A-A4FE-A5A851D2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22869-2508-4EC1-BCE0-F9293912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99E8E-4B40-48D5-B2B6-FD0FDD16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94C86-B0BA-4D23-A43E-8AEE17D0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41C2D-0A94-4EA1-A4B7-8B84E8AD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187FC-E2C2-4E4A-B3D7-AD70C19D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9B8C8-233D-477B-923B-B5DA276E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59F6-B910-4A23-92B0-7A14377C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5968-B57E-4814-844E-6E0744A3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D96-79D3-4937-8A1D-F4D910CD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0AB1F-45F4-49FB-ACD1-9D280B19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CDF35-0E67-4B93-BB32-19C6EB85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00C80-A75D-45C9-883B-CCC9938A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FFE55-0385-46D4-B443-BDA6DB5A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69704-6D5B-45AA-BD72-AA640F77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B17E7-F8F0-4755-810E-D177782D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B8C46-FA21-4B36-968F-D4C5A801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26AB1-974D-49B4-9009-D00BBC39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1FBE1-1473-4E9F-803D-26B80D03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3ECE0-AC9B-4DDE-88A7-86B21468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5DC-DB90-4644-828E-8E28C159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0AC29-4776-48FE-BFD3-A6DB3C06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A6A5E-3276-4676-B98C-01D33695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FF965-BC47-48E4-9699-775CED04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8CF08-6D1E-4E0E-9D4F-61AF6446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A58EB-1B4E-48E6-993D-DAD6AA88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38DC0-1BCF-4FAF-8056-8ABEFBB4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85359-CF93-4D7E-B561-B227A728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23EF5-3377-401E-88F4-96B6E59D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64B36-BF53-4062-B50B-D8C5A2D5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1E119-0ABB-4533-BFC7-FE2A2BBF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23E-49B5-42E9-8225-B1B04459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2F6A1-415D-40EE-94CB-2625A007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54E80-FF40-4D50-BB0F-91AE912A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E153F-5766-49F3-9C7B-F3B8388C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9C380-9D8C-4A08-89C2-A503DB8B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C3435-A35D-4FAA-89BC-B92AE1D9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8BD86-4E1F-4A76-8A04-5EB622BB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3266F-D645-47AD-94BA-745AF1C9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AB18E-B806-4CF5-9962-B25E0B14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2E860-8AED-4830-9C7C-FEC61F20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D60D7-E4CE-40BE-AC15-D033E5B6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272-A0FE-49A1-803F-FE89887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0FD7E-431A-4516-B986-81F0E0A5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7C6B1-3CCD-4F97-A785-D2FBD5F6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B0D9F-CDAE-465C-B7DC-9081D9E9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5693B-631C-48E2-A00B-80199CB5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FCD3F-9725-4FFE-AADB-025AA628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2B1BB-A028-467F-979F-FE336E27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B3A6B-03E3-4610-9350-1EFAEA9F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64B2-0086-40F8-B75A-BB6CCB6FFD6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60b5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bb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DC43-3FA4-4D6D-A415-1E3C195A98F2}" type="slidenum"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9CF9-6E47-4F37-B4BC-68FDC2A42F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157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2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3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f0ad0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f0ad00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3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4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5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f0ad00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0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3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f0ad00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8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2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f0ad0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f0ad00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f0ad00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0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1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242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60b5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bb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EA50-59E8-426B-9B89-50183E0538B7}" type="slidenum"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287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f0ad0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4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f0ad00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5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6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7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8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9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0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1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2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3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4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5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6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7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9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1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f0ad00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2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4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5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6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7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8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9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0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4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f0ad00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6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7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9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0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2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3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f0ad0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8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9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f0ad00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1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2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4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5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7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8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f0ad00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0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60b5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bb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4814-32C0-44A1-9E2F-547FC74F1037}" type="slidenum">
              <a:rPr b="0" lang="ru-RU" sz="12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60b5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bb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6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7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A352-E5A2-4EB6-8072-703570A9759E}" type="slidenum"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60b5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bb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9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0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A033-885A-45E5-A9C9-A3BC20ECB7D9}" type="slidenum"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60b5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bb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0E0F-11DE-4491-9F3D-7695C4C93837}" type="slidenum"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fudz.ru/pictures/1232835781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3.bp.blogspot.com/_M10zo_ZcksM/StkSx8RIb1I/AAAAAAAAIh4/h-WvpIFShGo/s400/cuisine-01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3809880" cy="483876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1"/>
          <p:cNvSpPr/>
          <p:nvPr/>
        </p:nvSpPr>
        <p:spPr>
          <a:xfrm>
            <a:off x="379584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бина Ольга Владимировн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БОУ Зайцевореченская ОСШ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4716360" y="62064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Святки</a:t>
            </a:r>
            <a:endParaRPr b="0" lang="en-US" sz="8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TextBox 5"/>
          <p:cNvSpPr/>
          <p:nvPr/>
        </p:nvSpPr>
        <p:spPr>
          <a:xfrm>
            <a:off x="4716360" y="234936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Народные примет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Святочные гада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Коляд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Рождественская ноч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Рождественский сто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Народные примет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На Рождество метель – пчелы хорошо роиться будут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В Рождество день теплый – хлеб будет темный, густо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Зима снежная – лето дождливо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Холодная зима – лето жарко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Воробьи дружно чирикают – к теплу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Зимнее тепло – летний холод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Кольцо вокруг солнца – к ненастью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Снегирь под окошком  зимой чирикает – к оттепел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Если зимой сухо и холодно – летом сухо и жарко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81" name="Picture 4" descr="f1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История праздника Рождества Христо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ождество - день, когда родился Иисус Христос. Бог - Отец послал в земной мир своего Сына Иисуса, чтобы спасти человечество от гибели. И со дня Рождения Спасителя на земле наступило новое время. Рождество в разных странах и даже районах встречают по-разному. На Западе существуют так называемые  «рождественские каникулы» - целая неделя отдыха. И «главные» подарки там принято дарить именно на Рождеств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Руси еще за неделю до Рождества открывались новогодние праздники - Святки. Ходили ряженые, гадали, колядовали, съезжали со снежных горок на рогожках и дощечках, катались на празднично украшенных санях. Например, новгородские ряженые ездили по городу, заходя только в дома, где их ждали, и в окнах были выставлены зажженные свечи. Хозяева потчевали ряженых замысловатыми кушаньями и вин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4d6"/>
                </a:solidFill>
                <a:latin typeface="Calibri"/>
              </a:rPr>
              <a:t>- Добрый вечер, щедрый вечер 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4d6"/>
                </a:solidFill>
                <a:latin typeface="Calibri"/>
              </a:rPr>
              <a:t>добрым людям на весь вечер!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4d6"/>
                </a:solidFill>
                <a:latin typeface="Calibri"/>
              </a:rPr>
              <a:t>Ангел с неба к нам спустился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4d6"/>
                </a:solidFill>
                <a:latin typeface="Calibri"/>
              </a:rPr>
              <a:t>И сказал: «Христос родился»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4d6"/>
                </a:solidFill>
                <a:latin typeface="Calibri"/>
              </a:rPr>
              <a:t>Мы пришли его прославить 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4d6"/>
                </a:solidFill>
                <a:latin typeface="Calibri"/>
              </a:rPr>
              <a:t>И вас с праздником поздравить. 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85" name="WordArt 4"/>
          <p:cNvSpPr txBox="1"/>
          <p:nvPr/>
        </p:nvSpPr>
        <p:spPr>
          <a:xfrm>
            <a:off x="1523880" y="30492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ляд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6" name="Picture 5" descr="kolyada-300x226"/>
          <p:cNvPicPr/>
          <p:nvPr/>
        </p:nvPicPr>
        <p:blipFill>
          <a:blip r:embed="rId1"/>
          <a:stretch/>
        </p:blipFill>
        <p:spPr>
          <a:xfrm>
            <a:off x="5029200" y="20574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ишла Коляда накануне Рождест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айте коровку, масляну головку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 окне стоит, на меня глядит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дайте блина, будет печь гладка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ляда, Коляда, подавай пирога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лин да лепешку в заднее окошко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78240" cy="337824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5"/>
          <p:cNvSpPr/>
          <p:nvPr/>
        </p:nvSpPr>
        <p:spPr>
          <a:xfrm>
            <a:off x="4089240" y="588960"/>
            <a:ext cx="347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Мороз! Мороз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В Новый год ходи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Никого не холоди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Ни курчат, ни поросят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Ни маленьких ребя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Ты зимой-то гуляй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А летом не бывай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3816360" cy="2314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024000" cy="28828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"/>
          <p:cNvPicPr/>
          <p:nvPr/>
        </p:nvPicPr>
        <p:blipFill>
          <a:blip r:embed="rId3"/>
          <a:stretch/>
        </p:blipFill>
        <p:spPr>
          <a:xfrm>
            <a:off x="4284720" y="333360"/>
            <a:ext cx="3105000" cy="3529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7"/>
          <p:cNvSpPr/>
          <p:nvPr/>
        </p:nvSpPr>
        <p:spPr>
          <a:xfrm>
            <a:off x="250920" y="436140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оробушек лети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Хвостиком верти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А вы, люди, знайте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толы застилайте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Гостей принимайте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954600" cy="2637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3862440" y="2900520"/>
            <a:ext cx="4309920" cy="32112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7"/>
          <p:cNvSpPr/>
          <p:nvPr/>
        </p:nvSpPr>
        <p:spPr>
          <a:xfrm>
            <a:off x="4575960" y="529200"/>
            <a:ext cx="306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 нам будете дарить 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ы будем хвалить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А не будешь дарить 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ы будем корить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яда, коляда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давай пирога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6960" y="3162600"/>
            <a:ext cx="282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япу-ляпу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корей дайте коляду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ожки зябну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Я домой побегу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то дас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от - князь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то не даст 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ого в грязь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593880" cy="32115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2"/>
          <a:stretch/>
        </p:blipFill>
        <p:spPr>
          <a:xfrm>
            <a:off x="4932360" y="836640"/>
            <a:ext cx="2759040" cy="547668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6"/>
          <p:cNvSpPr/>
          <p:nvPr/>
        </p:nvSpPr>
        <p:spPr>
          <a:xfrm>
            <a:off x="854640" y="3738600"/>
            <a:ext cx="2578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Щедрик, ведрик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айте вареник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Ложечку кашки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верх колбас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того мало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айте кусок сал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носите скорей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 морозьте детей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5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243320" cy="31971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068640" cy="460224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7"/>
          <p:cNvSpPr/>
          <p:nvPr/>
        </p:nvSpPr>
        <p:spPr>
          <a:xfrm>
            <a:off x="317520" y="4075560"/>
            <a:ext cx="505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егодня гулянье, гаданье, катанье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Блины, пироги, чаепитие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 розыгрыши и свида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има нас торопит. Спешите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пешите видеть, слышать, участвовать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ядитесь и из домов выходите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ядуйте, пляшите, шутите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386240" cy="2952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602240" cy="334512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6"/>
          <p:cNvSpPr/>
          <p:nvPr/>
        </p:nvSpPr>
        <p:spPr>
          <a:xfrm>
            <a:off x="4654080" y="689400"/>
            <a:ext cx="4298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 привет, за угощень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 примите поздравленье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***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Жить вам лет до двести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частья вам да крепкого здравия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5920" y="3768840"/>
            <a:ext cx="31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йте нам печенье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 можно и варенье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Rectang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Calibri"/>
              </a:rPr>
              <a:t>это обряд, известный многим европейским народам. Он состоит в том, что парни, девушки, мальчишки и девчонки, нарядившись в вывернутые наизнанку тулупы, надев смешные маски, собираются группами и, переходя от  одного двора  к другому, поют под окошками, а иногда и в избах, песни то в честь праздника, то, как поздравление хозяевам, то просто ради потехи и развлечения. Участникам таких концертов - поздравлений хозяева дарили угощение. Считалось дурным тоном отказать колядовщикам. Для них принято было печь пирожки, булочки или пряники в форме домашних животных. Заканчивалось колядование всеобщей потехой, катанием с горок, общим пиром.</a:t>
            </a:r>
            <a:endParaRPr b="0" lang="en-US" sz="1800" spc="-1" strike="noStrike">
              <a:solidFill>
                <a:srgbClr val="d4d4d6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80000"/>
                </a:solidFill>
                <a:latin typeface="Calibri"/>
              </a:rPr>
              <a:t>Коляда бывает не только рождественской, но и Васильевской (под Новый год) и крещенской.</a:t>
            </a:r>
            <a:endParaRPr b="0" lang="en-US" sz="1800" spc="-1" strike="noStrike">
              <a:solidFill>
                <a:srgbClr val="d4d4d6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Calibri"/>
              </a:rPr>
              <a:t>С праздником Рождества связано немало радостных обычаев. На Рождество всегда зажигали елку. На ее верхушку прикрепляли звезду- символ Вифлеемской звезды, под которой был рожден Иисус Христос.</a:t>
            </a:r>
            <a:endParaRPr b="0" lang="en-US" sz="1800" spc="-1" strike="noStrike">
              <a:solidFill>
                <a:srgbClr val="d4d4d6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Calibri"/>
              </a:rPr>
              <a:t>В ночь перед Рождеством в дома, где есть дети, приходит Дед Мороз, чтобы подарить подарки. Раньше дети вешали у кроватки чулки, чтобы утром найти в них сюрприз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4116240" cy="41436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6"/>
          <p:cNvSpPr/>
          <p:nvPr/>
        </p:nvSpPr>
        <p:spPr>
          <a:xfrm>
            <a:off x="110160" y="6480"/>
            <a:ext cx="302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еем, веем снежок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 шелковый положок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нежок устилается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етель разыграется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айте вам, хозяева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новый год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 поле – приплод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 гумне – примоло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 нас будете дарить 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ы будем хвалить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А не будете дарить 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ы будем бранить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3348000" y="3500280"/>
            <a:ext cx="4103640" cy="30909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4643280" y="366840"/>
            <a:ext cx="3961080" cy="293040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6"/>
          <p:cNvSpPr/>
          <p:nvPr/>
        </p:nvSpPr>
        <p:spPr>
          <a:xfrm>
            <a:off x="322200" y="471600"/>
            <a:ext cx="34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ляда, коляд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ходи из далек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дин раз в годок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любуемся часо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морозом трескуч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 стужей колючей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 снегами белыми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вьюгой, с метеля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амокаты-сан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катили сами 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 села до сел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ляда весел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3338640" cy="49575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"/>
          <p:cNvPicPr/>
          <p:nvPr/>
        </p:nvPicPr>
        <p:blipFill>
          <a:blip r:embed="rId2"/>
          <a:stretch/>
        </p:blipFill>
        <p:spPr>
          <a:xfrm>
            <a:off x="4500720" y="836640"/>
            <a:ext cx="3660480" cy="36608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6"/>
          <p:cNvSpPr/>
          <p:nvPr/>
        </p:nvSpPr>
        <p:spPr>
          <a:xfrm>
            <a:off x="4435920" y="4109400"/>
            <a:ext cx="347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Коляда, коляда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Жили-были три кот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Три кота и коти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одавайте торти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593880" cy="35942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"/>
          <p:cNvPicPr/>
          <p:nvPr/>
        </p:nvPicPr>
        <p:blipFill>
          <a:blip r:embed="rId2"/>
          <a:stretch/>
        </p:blipFill>
        <p:spPr>
          <a:xfrm>
            <a:off x="3857760" y="2876400"/>
            <a:ext cx="4530600" cy="350388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6"/>
          <p:cNvSpPr/>
          <p:nvPr/>
        </p:nvSpPr>
        <p:spPr>
          <a:xfrm>
            <a:off x="4656240" y="346320"/>
            <a:ext cx="35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осподин, господа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осподинова жен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вери отвори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 нас одарит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ирогом, калач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ли чем-нибудь ещ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5" descr=""/>
          <p:cNvPicPr/>
          <p:nvPr/>
        </p:nvPicPr>
        <p:blipFill>
          <a:blip r:embed="rId1"/>
          <a:stretch/>
        </p:blipFill>
        <p:spPr>
          <a:xfrm>
            <a:off x="4572000" y="3357720"/>
            <a:ext cx="4021200" cy="30286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537080" cy="35384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7"/>
          <p:cNvSpPr/>
          <p:nvPr/>
        </p:nvSpPr>
        <p:spPr>
          <a:xfrm>
            <a:off x="4788360" y="437400"/>
            <a:ext cx="419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Не дадите нам ватрушки -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олучите по макушк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Не дадите пирога -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Уведем корову за рог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5" descr=""/>
          <p:cNvPicPr/>
          <p:nvPr/>
        </p:nvPicPr>
        <p:blipFill>
          <a:blip r:embed="rId1"/>
          <a:stretch/>
        </p:blipFill>
        <p:spPr>
          <a:xfrm>
            <a:off x="5508720" y="3500280"/>
            <a:ext cx="3384360" cy="26402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"/>
          <p:cNvPicPr/>
          <p:nvPr/>
        </p:nvPicPr>
        <p:blipFill>
          <a:blip r:embed="rId2"/>
          <a:stretch/>
        </p:blipFill>
        <p:spPr>
          <a:xfrm>
            <a:off x="1258920" y="620640"/>
            <a:ext cx="2846520" cy="352908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7"/>
          <p:cNvSpPr/>
          <p:nvPr/>
        </p:nvSpPr>
        <p:spPr>
          <a:xfrm>
            <a:off x="4656240" y="852840"/>
            <a:ext cx="35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осподин, господа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осподинова жен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вери отвори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 нас одарит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ирогом, калач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ли чем-нибудь ещ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1"/>
          <p:cNvSpPr/>
          <p:nvPr/>
        </p:nvSpPr>
        <p:spPr>
          <a:xfrm>
            <a:off x="1187280" y="47628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Иллюстрации и анимации взяты со следующих сайтов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TextBox 2"/>
          <p:cNvSpPr/>
          <p:nvPr/>
        </p:nvSpPr>
        <p:spPr>
          <a:xfrm>
            <a:off x="684360" y="2014560"/>
            <a:ext cx="46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Интернет- источн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retropost.r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felizy-congratulate.blogspot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kroha.dn.u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http://www.kulina.ru/articles/holy/doc_2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http://www.inmoment.ru/holidays/old_new_year.htm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gorod.tomsk.r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sankt-petersburgpost.r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250920" y="836640"/>
            <a:ext cx="8137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дк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дки - это обрядовые песни, древняя и устойчивая часть русского фольклор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дуют с Рождества (7 января) до Крещения (19 январ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довщики - не попрошайки, а люди, которых всегда ждали с нетерпением для благославения на новый урожай на весь год. И чем больше дашь - тем больше будет удач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мвол коляды - солнечный диск из картона, прикрепленный к палке и украшенный лентами и бумажными цветам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ждественско – новогодние праздники начинались колядованием. Так назывались праздничные обходы домов с пением колядок – песен, в которых славились хозяева дома и содержались пожелания богатого урожая, изобилия т. д. Началу года придавалось особенное значение. Как встретишь Новый год, таков он и весь будет. Весёлый, коротенькие колядки были песенной формой таких пожеланий.</a:t>
            </a:r>
            <a:endParaRPr b="0" lang="en-US" sz="28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54" name="WordArt 3"/>
          <p:cNvSpPr txBox="1"/>
          <p:nvPr/>
        </p:nvSpPr>
        <p:spPr>
          <a:xfrm>
            <a:off x="684360" y="260280"/>
            <a:ext cx="80010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олядк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990720" y="5638680"/>
            <a:ext cx="76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Comic Sans MS"/>
              </a:rPr>
              <a:t>Символами Рождества в России можно назвать изображения и фигурки ангелов, колокольный звон, а также рождественскую звезду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56" name="Picture 5" descr="images"/>
          <p:cNvPicPr/>
          <p:nvPr/>
        </p:nvPicPr>
        <p:blipFill>
          <a:blip r:embed="rId1"/>
          <a:stretch/>
        </p:blipFill>
        <p:spPr>
          <a:xfrm>
            <a:off x="533520" y="380880"/>
            <a:ext cx="2228760" cy="20480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panna"/>
          <p:cNvPicPr/>
          <p:nvPr/>
        </p:nvPicPr>
        <p:blipFill>
          <a:blip r:embed="rId2"/>
          <a:stretch/>
        </p:blipFill>
        <p:spPr>
          <a:xfrm>
            <a:off x="2971800" y="457200"/>
            <a:ext cx="2895480" cy="2324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patriarh"/>
          <p:cNvPicPr/>
          <p:nvPr/>
        </p:nvPicPr>
        <p:blipFill>
          <a:blip r:embed="rId3"/>
          <a:stretch/>
        </p:blipFill>
        <p:spPr>
          <a:xfrm>
            <a:off x="6095880" y="838080"/>
            <a:ext cx="2374920" cy="28958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67177560_index"/>
          <p:cNvPicPr/>
          <p:nvPr/>
        </p:nvPicPr>
        <p:blipFill>
          <a:blip r:embed="rId4"/>
          <a:stretch/>
        </p:blipFill>
        <p:spPr>
          <a:xfrm>
            <a:off x="762120" y="2819520"/>
            <a:ext cx="4343400" cy="2514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ангел12"/>
          <p:cNvPicPr/>
          <p:nvPr/>
        </p:nvPicPr>
        <p:blipFill>
          <a:blip r:embed="rId5"/>
          <a:stretch/>
        </p:blipFill>
        <p:spPr>
          <a:xfrm>
            <a:off x="6858000" y="3809880"/>
            <a:ext cx="12193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d4d6"/>
                </a:solidFill>
                <a:latin typeface="Calibri"/>
              </a:rPr>
              <a:t>фото</a:t>
            </a:r>
            <a:endParaRPr b="0" lang="en-US" sz="2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62" name="WordArt 4"/>
          <p:cNvSpPr txBox="1"/>
          <p:nvPr/>
        </p:nvSpPr>
        <p:spPr>
          <a:xfrm>
            <a:off x="468360" y="304920"/>
            <a:ext cx="7380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ждественский сто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609480" y="464832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omic Sans MS"/>
              </a:rPr>
              <a:t>На стол ставились кутья, сочни, компот. Прежде чем установить еду на стол, устилали его сеном или соломой, так как это напоминало ясли, в которых находился младенец Иисус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4" name="Picture 6" descr="37633747_P1043268_"/>
          <p:cNvPicPr/>
          <p:nvPr/>
        </p:nvPicPr>
        <p:blipFill>
          <a:blip r:embed="rId1"/>
          <a:stretch/>
        </p:blipFill>
        <p:spPr>
          <a:xfrm>
            <a:off x="304920" y="1523880"/>
            <a:ext cx="2666880" cy="22100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Картинка 3 из 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1676520"/>
            <a:ext cx="2686320" cy="2057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Картинка 9 из 9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1600200"/>
            <a:ext cx="2438640" cy="2057400"/>
          </a:xfrm>
          <a:prstGeom prst="rect">
            <a:avLst/>
          </a:prstGeom>
          <a:ln w="0">
            <a:noFill/>
          </a:ln>
        </p:spPr>
      </p:pic>
      <p:sp>
        <p:nvSpPr>
          <p:cNvPr id="567" name="WordArt 9"/>
          <p:cNvSpPr txBox="1"/>
          <p:nvPr/>
        </p:nvSpPr>
        <p:spPr>
          <a:xfrm>
            <a:off x="2819520" y="380988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чиво(кутья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3" descr="9cf5c86f902d1b7f9b3809726af3766a_743"/>
          <p:cNvPicPr/>
          <p:nvPr/>
        </p:nvPicPr>
        <p:blipFill>
          <a:blip r:embed="rId1"/>
          <a:stretch/>
        </p:blipFill>
        <p:spPr>
          <a:xfrm>
            <a:off x="5105520" y="2438280"/>
            <a:ext cx="2895480" cy="2438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d7e34580f5445fa785c38ac42398d154_414"/>
          <p:cNvPicPr/>
          <p:nvPr/>
        </p:nvPicPr>
        <p:blipFill>
          <a:blip r:embed="rId2"/>
          <a:stretch/>
        </p:blipFill>
        <p:spPr>
          <a:xfrm>
            <a:off x="0" y="2438280"/>
            <a:ext cx="3697200" cy="2514600"/>
          </a:xfrm>
          <a:prstGeom prst="rect">
            <a:avLst/>
          </a:prstGeom>
          <a:ln w="0">
            <a:noFill/>
          </a:ln>
        </p:spPr>
      </p:pic>
      <p:sp>
        <p:nvSpPr>
          <p:cNvPr id="570" name="WordArt 5"/>
          <p:cNvSpPr txBox="1"/>
          <p:nvPr/>
        </p:nvSpPr>
        <p:spPr>
          <a:xfrm>
            <a:off x="838080" y="206280"/>
            <a:ext cx="7162920" cy="192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ждественская ноч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1905120" y="4739400"/>
            <a:ext cx="67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omic Sans MS"/>
              </a:rPr>
              <a:t>В ночь перед Рождеством было принято буйное народное веселье. Этот обычай идет из глубины языческих времен, который несет традицию гаданий, игр, переодеваний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3" descr="koljadki"/>
          <p:cNvPicPr/>
          <p:nvPr/>
        </p:nvPicPr>
        <p:blipFill>
          <a:blip r:embed="rId1"/>
          <a:stretch/>
        </p:blipFill>
        <p:spPr>
          <a:xfrm>
            <a:off x="4724280" y="1523880"/>
            <a:ext cx="3810240" cy="233388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4"/>
          <p:cNvSpPr/>
          <p:nvPr/>
        </p:nvSpPr>
        <p:spPr>
          <a:xfrm>
            <a:off x="304920" y="205740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Comic Sans MS"/>
              </a:rPr>
              <a:t>Славление Христа со звездою, вертепом. С Х</a:t>
            </a: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VIII</a:t>
            </a:r>
            <a:r>
              <a:rPr b="0" lang="ru-RU" sz="2000" spc="-1" strike="noStrike">
                <a:solidFill>
                  <a:srgbClr val="eaeaea"/>
                </a:solidFill>
                <a:latin typeface="Comic Sans MS"/>
              </a:rPr>
              <a:t> века пошел этот обычай. Колядовщики-христославы: парни, девушки, подростки- собирались группкой, ходили от дома к дому, пели песни в честь праздника, а хозяева давали им угощени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74" name="Picture 5" descr="167647"/>
          <p:cNvPicPr/>
          <p:nvPr/>
        </p:nvPicPr>
        <p:blipFill>
          <a:blip r:embed="rId2"/>
          <a:stretch/>
        </p:blipFill>
        <p:spPr>
          <a:xfrm>
            <a:off x="4800600" y="4191120"/>
            <a:ext cx="3838680" cy="2209680"/>
          </a:xfrm>
          <a:prstGeom prst="rect">
            <a:avLst/>
          </a:prstGeom>
          <a:ln w="0">
            <a:noFill/>
          </a:ln>
        </p:spPr>
      </p:pic>
      <p:sp>
        <p:nvSpPr>
          <p:cNvPr id="575" name="WordArt 6"/>
          <p:cNvSpPr txBox="1"/>
          <p:nvPr/>
        </p:nvSpPr>
        <p:spPr>
          <a:xfrm>
            <a:off x="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ристослав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Святочные гад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о время святок различают «святые вечера» (7 – 13 января) – для веселых, смешных гаданий и «страшные вечера» (14 – 19 января) – для опасных, рискованных. Самыми «верными» считаются гадания на Васильев вечер – канун 14 января, т. е. на Старый Новый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78" name="Picture 4" descr="f8"/>
          <p:cNvPicPr/>
          <p:nvPr/>
        </p:nvPicPr>
        <p:blipFill>
          <a:blip r:embed="rId1"/>
          <a:stretch/>
        </p:blipFill>
        <p:spPr>
          <a:xfrm>
            <a:off x="2209680" y="32004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7:01:33Z</dcterms:created>
  <dc:creator>Ольга</dc:creator>
  <dc:description/>
  <dc:language>en-US</dc:language>
  <cp:lastModifiedBy>user</cp:lastModifiedBy>
  <dcterms:modified xsi:type="dcterms:W3CDTF">2013-01-14T11:35:15Z</dcterms:modified>
  <cp:revision>5</cp:revision>
  <dc:subject/>
  <dc:title>Слайд 1</dc:title>
</cp:coreProperties>
</file>