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2EE3-5397-4B08-AE68-03EA656D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B251-8B5A-4486-9DF0-07F636FC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A79-38F0-4BBC-B410-537357DA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A63-F02C-4417-B2CD-97361F5E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A63B8-0A3E-4CF8-B872-4D92FB5A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2DBF6-00E4-446C-BD28-20B7D3B9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F9634-33A7-4729-B437-8B2CE4CF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CAD83-0DA0-4CF7-8C1D-F1490858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61AA4-B9A8-4BE4-A393-7C4204A9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C7754-7D70-42EE-A851-73016DBC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AFCDB-6A6F-47CA-88C4-1BBFD44B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AE1-D16C-41AE-B88C-640B874F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932BE-231E-4BED-AA27-66FA47CA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6D92A-DD92-4ED3-B820-7F2BE8A7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18DA0-7ABB-4920-82AC-DEB3B9F3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FBE23-AA2D-4AA7-ACA9-88257E30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C9C96-0349-4500-A71C-71D6502E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E31-AC27-4F51-9056-53E6900F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0C88-17F4-4669-BC2C-D1F26C3F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670-4104-4D13-BBFF-B5CAEBB6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AE1-4CFD-4F2B-94C3-B1EC2530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FC6-7326-45A9-A859-0DA78304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0D4-6268-443C-9B8A-D5B343E4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CC3-FCD6-4360-B10E-D3CC3DD7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A75E-B3A2-4E9D-B9AC-BAE11765D7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4DB0-348E-4469-8C42-5F712D02A7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003280" y="4292640"/>
            <a:ext cx="4140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смик Л. В.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БОУ «СОШ №6 г. Юрг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rot="21079800">
            <a:off x="468000" y="2421000"/>
            <a:ext cx="42148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наш клуб приходит очень много писем с просьбой о помощи . Сегодняшнее заседание мы посвятим письмам , которые пришли из страны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льтляндии. Тамошним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телям очень требуется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очная математическая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мощ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4360" y="260280"/>
            <a:ext cx="792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клуб влюблённых в математи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03640" y="1773360"/>
            <a:ext cx="2752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заседание 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4360" y="4508640"/>
            <a:ext cx="19447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рогие ребята! Мой брат Кай находится в плену у Снежной королевы. Она обещала отпустить его, но только в обмен на выполнен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ми задание. Нужн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ить любимое е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ово. Гер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340000" y="981000"/>
            <a:ext cx="431964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559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исьмо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867280" y="3645000"/>
            <a:ext cx="25401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вет рибятам отпиратов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магите справиться с задачькой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прос важны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нежны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дём атвет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деемся  а то са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ете что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ра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40000" y="836640"/>
            <a:ext cx="403236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662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письмо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0" y="3141720"/>
            <a:ext cx="40734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дравствуйте, ребята! Пишет вам котёнок по имени Гав. Нужно срочно, очень срочно  разделить одну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сиску на двоих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колько от этой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сиск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станетс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не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сколько щенку?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медлите с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ветом. Кушать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чень хочется!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яу!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тёнок Га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411280" y="907920"/>
            <a:ext cx="410544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исьмо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42973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771640" y="907920"/>
            <a:ext cx="381636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письмо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2997360"/>
            <a:ext cx="345600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1625760" cy="2471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5950080"/>
            <a:ext cx="7129440" cy="7128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ый пешеход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шёл 8 км, что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ставляет ½ пут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торого пешех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олько км прошёл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торой пешеход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39640" y="3357720"/>
            <a:ext cx="1625760" cy="247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теперь следующее задание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тели Мультляндии хотят вам выразить своё призн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чтоб узнать,что вам хотят сказат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обходимо снова посчит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659640" y="4437000"/>
            <a:ext cx="19447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00000" y="260280"/>
            <a:ext cx="755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спасибо за помощь, ребя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92720" y="2565360"/>
            <a:ext cx="2951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4285" t="12184" r="9179" b="12153"/>
          <a:stretch/>
        </p:blipFill>
        <p:spPr>
          <a:xfrm>
            <a:off x="900000" y="2205000"/>
            <a:ext cx="3996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21:35:59Z</dcterms:created>
  <dc:creator>Слава</dc:creator>
  <dc:description/>
  <dc:language>en-US</dc:language>
  <cp:lastModifiedBy>Илья</cp:lastModifiedBy>
  <dcterms:modified xsi:type="dcterms:W3CDTF">2013-01-17T20:11:56Z</dcterms:modified>
  <cp:revision>7</cp:revision>
  <dc:subject/>
  <dc:title>Слайд 1</dc:title>
</cp:coreProperties>
</file>