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A7A3-1C99-4A66-B7D7-88B12786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1FBE-DA85-4817-A273-18DE4AA3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BFD7-301A-41EA-9FD1-C27171B1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FFB4-D5E1-4870-BACB-D2DEA8EF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731E-4A67-496F-BAD9-09949E81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A75B-E084-4A51-9CBE-3F63CC18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6437-A4EF-4568-8C58-56B5A6F2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22B0-F96A-4D72-8562-DCFB5149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240E-EA6F-4481-8A31-5E6158A1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287E-50E6-448D-AA76-E0B97064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6DFC-979F-453A-98D3-C180495C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A035-0B03-4B03-B7F5-F393BFB4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2139-AABD-4C18-B0A6-DB7FB7F7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1C1C-965D-4643-A640-8D65EC27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B308-6E52-45FB-8EE0-D4E9ABFE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1C40-0C85-4D93-93FB-00264383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DF33-0292-4CF7-8321-A16DC744E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680B-2D82-4CC5-AF3B-883DF6F2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37E4-6DA8-4CDF-842D-986C29A1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0B90-1539-459B-BCD6-24005BA9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0DB6-581E-439E-B474-B1796C27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6CBA-6DE4-447D-B2E8-EDAB1489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6C6A-CBA5-4DB4-B6FF-B0BB80E2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A75B-8111-4F30-992C-7A8F2CFC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B138-2B0E-473E-8ADE-A4D64BA541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3403-4FA6-40A7-A35A-648DB9197F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003280" y="4292640"/>
            <a:ext cx="4140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смик Л. В.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БОУ «СОШ №6 г. Юрг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 rot="21079800">
            <a:off x="468000" y="2421000"/>
            <a:ext cx="4214880" cy="31161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3203640" y="1484280"/>
            <a:ext cx="2752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заседание 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920" y="-243000"/>
            <a:ext cx="7772400" cy="12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     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Карта путешествия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292720" y="3573360"/>
            <a:ext cx="3070080" cy="2170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2144880" cy="2232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23920" cy="2030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631240" y="623664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ре Занимательных Зада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4"/>
          <a:srcRect l="27802" t="-9290" r="36130" b="58330"/>
          <a:stretch/>
        </p:blipFill>
        <p:spPr>
          <a:xfrm rot="20320800">
            <a:off x="4572000" y="5373360"/>
            <a:ext cx="934920" cy="792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085080" y="5660280"/>
            <a:ext cx="21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стров Циф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5"/>
          <a:srcRect l="0" t="0" r="0" b="21175"/>
          <a:stretch/>
        </p:blipFill>
        <p:spPr>
          <a:xfrm>
            <a:off x="6372360" y="1125360"/>
            <a:ext cx="2160360" cy="17035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794120" y="2997360"/>
            <a:ext cx="39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емля Математических ребус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1979640" y="1125360"/>
            <a:ext cx="2368440" cy="19479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>
            <a:off x="2411280" y="3789360"/>
            <a:ext cx="2276640" cy="2381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flipH="1">
            <a:off x="899640" y="2421000"/>
            <a:ext cx="863640" cy="1584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642920" y="1989000"/>
            <a:ext cx="151308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172360" y="3500280"/>
            <a:ext cx="0" cy="1224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643280" y="5300280"/>
            <a:ext cx="720720" cy="73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411280" y="5949720"/>
            <a:ext cx="1008360" cy="431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7T19:50:24Z</dcterms:created>
  <dc:creator>Илья</dc:creator>
  <dc:description/>
  <dc:language>en-US</dc:language>
  <cp:lastModifiedBy>Илья</cp:lastModifiedBy>
  <dcterms:modified xsi:type="dcterms:W3CDTF">2013-01-17T20:09:47Z</dcterms:modified>
  <cp:revision>2</cp:revision>
  <dc:subject/>
  <dc:title>Слайд 1</dc:title>
</cp:coreProperties>
</file>