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13A-1640-4FE1-8E7C-5E2EA5DF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7D7-D7F1-458A-B33E-4B89DEC8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72E-1C10-4D8D-B637-0B4D0FF5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091-6B79-4FF4-9D11-23D8C34F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5835-4961-4430-888A-A6D059B7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8907-8499-4508-8653-BE8AD2AF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70A6-9377-4811-B545-405FF96B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8D2F-595F-4927-9F0D-32E39CC2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C577-AF9D-4645-8418-8F60FE91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E566-76BE-4D0D-8CD2-D934D83E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3592-FB6E-4760-8BAC-8D9254DE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72C-26C8-425F-95F8-A4097B97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84F2-6344-4F7D-9F6E-1C56DD2B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35C3-BB01-4AF4-A5DC-A7056B45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3BEA-CED7-43AA-AB7F-7CF170E0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8DE3-E501-4ED2-BA51-9C5FE832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B9A0-B28A-4C43-B3E6-9FAE6E75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378-19F7-49F8-94BE-1852E194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669-58B4-4EE7-926A-2A5F600B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5F3-B6ED-4543-8AC3-15F74F4F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3B91-D60A-45FB-8482-F5074F80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768-E967-4CBF-9E4D-427D89DD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B51-4CB8-4942-9052-684C3D5B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4FD-6D7C-4727-9995-731D835F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DAB3-BA0D-486C-AB83-3EF57AF20D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76B1-8E4E-4CC4-ABB8-D093641595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18172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хорошая возможность раскрытия творческого потенциала ребе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них развивается творческое воображение, ассоциативное мышление, речь, умение видеть необычные моменты в обыден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атрализованная деятельность помогает ребенку преодолеть робость, неуверенность в себе, застенчив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ким образом, театр помогает ребенку развиваться всесторон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33"/>
                </a:solidFill>
                <a:latin typeface="Times New Roman"/>
              </a:rPr>
              <a:t>Театрализованная деятельность в детском сад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7598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Развитие артистических способностей детей через театральную деятельность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6248520"/>
            <a:ext cx="8686800" cy="380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иагностика развития артистических способностей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762120"/>
            <a:ext cx="8686800" cy="1066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Последовательное знакомство детей с различными видами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Поэтапное освоение детьми различных видов твор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Совершенствование артистических навыков детей посредством переживания и воплощ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раза в сказ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1905120"/>
            <a:ext cx="868680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Инсценировка  пес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Театральные этю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Развле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Фольклорные празд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Сказки, мюзиклы, водевили, театрализованные предст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34290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Создание театрального коллекти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Изготовление декораций, шир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Приобретение кукол для теа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Организация оркест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4419720"/>
            <a:ext cx="8686800" cy="685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Индивидуальные беседы с род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Консультации для воспита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Сотрудничество с городским театром кукол, с ТЮЗом, со школ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5257800"/>
            <a:ext cx="868680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Работа с программой Н.Ф.Сорокиной, Л.Г.Миланович «Театр - творчество –дет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Поиск высокохудожественных музыкальных произведений для аранжир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атральных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Изучение русских народных иг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1828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6172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4"/>
          <p:cNvSpPr/>
          <p:nvPr/>
        </p:nvSpPr>
        <p:spPr>
          <a:xfrm>
            <a:off x="1447920" y="380880"/>
            <a:ext cx="670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:\Users\user\Desktop\МАМА\Эльвира\ФОТО\Рисунки\ладони.jpeg"/>
          <p:cNvPicPr/>
          <p:nvPr/>
        </p:nvPicPr>
        <p:blipFill>
          <a:blip r:embed="rId1"/>
          <a:stretch/>
        </p:blipFill>
        <p:spPr>
          <a:xfrm>
            <a:off x="3200400" y="1981080"/>
            <a:ext cx="308628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Значение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театрализованн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детских образовательных учреждениях можно и нужно уделять, всем видам детского театра, потому что они помог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формировать правильную модель поведения в современном ми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сить общую культуру ребенка, приобщать к духовным ценност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накомить его с детской литературой, музыкой, изобразительным искусством, правилами этикета, обрядами, традициями, привить устойчивый интере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ет элементарные представления о видах теат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ершенствовать навык воплощать в игре определенные переживания, побуждать к созданию новых образов, побуждать к мышл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особствуют развитию игрового поведения, эстетического чувства, способности творчески относиться к любому делу, умение общаться со сверстниками и взрослыми, развитию сценического творчества , музыкальных и артистических способностей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вает навыки публичного выступления и творческого содруж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Разностороннее развитие  детей дошкольного возраста в театрализованной        деятельност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2" name="Diagram 18"/>
          <p:cNvGrpSpPr/>
          <p:nvPr/>
        </p:nvGrpSpPr>
        <p:grpSpPr>
          <a:xfrm>
            <a:off x="2295360" y="1758960"/>
            <a:ext cx="4554360" cy="4711320"/>
            <a:chOff x="2295360" y="1758960"/>
            <a:chExt cx="4554360" cy="4711320"/>
          </a:xfrm>
        </p:grpSpPr>
        <p:sp>
          <p:nvSpPr>
            <p:cNvPr id="103" name="_s34822"/>
            <p:cNvSpPr/>
            <p:nvPr/>
          </p:nvSpPr>
          <p:spPr>
            <a:xfrm flipH="1" flipV="1">
              <a:off x="3763800" y="327924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4823"/>
            <p:cNvSpPr/>
            <p:nvPr/>
          </p:nvSpPr>
          <p:spPr>
            <a:xfrm>
              <a:off x="2795040" y="227736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ЛЕП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34824"/>
            <p:cNvSpPr/>
            <p:nvPr/>
          </p:nvSpPr>
          <p:spPr>
            <a:xfrm flipH="1">
              <a:off x="3429360" y="4113720"/>
              <a:ext cx="572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4825"/>
            <p:cNvSpPr/>
            <p:nvPr/>
          </p:nvSpPr>
          <p:spPr>
            <a:xfrm>
              <a:off x="2295360" y="352620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ФИЗИЧЕСК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4826"/>
            <p:cNvSpPr/>
            <p:nvPr/>
          </p:nvSpPr>
          <p:spPr>
            <a:xfrm flipH="1">
              <a:off x="3763440" y="4529880"/>
              <a:ext cx="405720" cy="41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34827"/>
            <p:cNvSpPr/>
            <p:nvPr/>
          </p:nvSpPr>
          <p:spPr>
            <a:xfrm>
              <a:off x="2795040" y="4775040"/>
              <a:ext cx="113760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ХУДОЖЕСТВЕННА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4828"/>
            <p:cNvSpPr/>
            <p:nvPr/>
          </p:nvSpPr>
          <p:spPr>
            <a:xfrm>
              <a:off x="4570200" y="4700880"/>
              <a:ext cx="1440" cy="59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34829"/>
            <p:cNvSpPr/>
            <p:nvPr/>
          </p:nvSpPr>
          <p:spPr>
            <a:xfrm>
              <a:off x="4002480" y="52938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ИС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34830"/>
            <p:cNvSpPr/>
            <p:nvPr/>
          </p:nvSpPr>
          <p:spPr>
            <a:xfrm>
              <a:off x="4972680" y="4528080"/>
              <a:ext cx="4039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34831"/>
            <p:cNvSpPr/>
            <p:nvPr/>
          </p:nvSpPr>
          <p:spPr>
            <a:xfrm>
              <a:off x="5211360" y="47772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КОНСТРУИРОВАНИ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УЧ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ТРУ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34832"/>
            <p:cNvSpPr/>
            <p:nvPr/>
          </p:nvSpPr>
          <p:spPr>
            <a:xfrm>
              <a:off x="5137920" y="411372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4833"/>
            <p:cNvSpPr/>
            <p:nvPr/>
          </p:nvSpPr>
          <p:spPr>
            <a:xfrm>
              <a:off x="5712840" y="3526200"/>
              <a:ext cx="1136880" cy="11768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МУЗЫКАЛЬНО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ВОСПИТ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4834"/>
            <p:cNvSpPr/>
            <p:nvPr/>
          </p:nvSpPr>
          <p:spPr>
            <a:xfrm flipV="1">
              <a:off x="4970880" y="3279240"/>
              <a:ext cx="40572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4835"/>
            <p:cNvSpPr/>
            <p:nvPr/>
          </p:nvSpPr>
          <p:spPr>
            <a:xfrm>
              <a:off x="5211360" y="22755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АЗВИТ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РЕЧ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34836"/>
            <p:cNvSpPr/>
            <p:nvPr/>
          </p:nvSpPr>
          <p:spPr>
            <a:xfrm flipV="1">
              <a:off x="4570200" y="2933280"/>
              <a:ext cx="0" cy="59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34837"/>
            <p:cNvSpPr/>
            <p:nvPr/>
          </p:nvSpPr>
          <p:spPr>
            <a:xfrm>
              <a:off x="4002480" y="175896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РЭМ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4838"/>
            <p:cNvSpPr/>
            <p:nvPr/>
          </p:nvSpPr>
          <p:spPr>
            <a:xfrm>
              <a:off x="4002480" y="3528000"/>
              <a:ext cx="1136880" cy="117648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ТЕАТРАЛИЗОВАННА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0033"/>
                  </a:solidFill>
                  <a:latin typeface="Tahoma"/>
                </a:rPr>
                <a:t>ДЕЯТЕЛЬНОСТ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990033"/>
                </a:solidFill>
                <a:latin typeface="Times New Roman"/>
              </a:rPr>
              <a:t>Основные направления </a:t>
            </a:r>
            <a:br>
              <a:rPr sz="3800"/>
            </a:br>
            <a:r>
              <a:rPr b="1" lang="en-US" sz="3800" spc="-1" strike="noStrike">
                <a:solidFill>
                  <a:srgbClr val="990033"/>
                </a:solidFill>
                <a:latin typeface="Times New Roman"/>
              </a:rPr>
              <a:t>работы с детьм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Театральная и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Задачи: Учить детей ориентироваться в пространстве, равномерно размещаться по площадке, строить диалог с партнёром на заданную тему. Развивать способность произвольно напрягать и расслаблять отдельные группы мышц, запоминать слова героев спектаклей, развивать зрительное слуховое внимание, память, наблюдательность, образное мышление, фантазию, воображение, интерес к сценическому искусств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Ритмопл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Задачи: Развивать умение произвольно реагировать на команду или музыкальный сигнал, готовность действовать согласовано, развивать координацию движения, учить запоминать заданные позы и образно передавать 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Культура и техника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76092"/>
                </a:solidFill>
                <a:latin typeface="Arial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Развивать речевое дыхание и правильною артикуляцию, чёткую дикцию, разнообразную интонацию логику речи; учить сочинять небольшие рассказы и сказки, подбирать простейшие рифмы; произносить скороговорки и стихи, пополнять словарный запа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Основы театральной куль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Познакомить детей с театральной терминологией, с основными видами театрального искусства, воспитывать культуру поведения в театр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Работа над спектак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76092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Задачи: Учить сочинять этюды по сказкам; развивать навыки действий с воображаемыми предметами; развивать умение пользоваться интонациями, выражающими разнообразные эмоциональные состояния (грустно, радостно, сердито, удивленно, восхищённо, жалобно и т.д.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33"/>
                </a:solidFill>
                <a:latin typeface="Arial"/>
              </a:rPr>
              <a:t>Формы организации театрализованной деятель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76092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Выбирая материал для инсценировки, нужно отталкиваться от возрастных возможностей, знаний и умений детей, обогащать их жизненный опыт, побуждать интерес к новым знаниям, расширять творческий потенци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местная театрализованная деятельность взрослых и детей, театральное занятие, театрализованная игра на праздниках и развлеч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остоятельная театрально-художественная деятельность, театрализованные игра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ни-игры на других занятиях, театрализованные игры-спектакли, посещение детьми театров совместно с родителями, мини-сценки с куклами в ходе изучения регионального компонента с детьми, привлечение главной куклы - Петрушки в решение познавательных 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Times New Roman"/>
              </a:rPr>
              <a:t>Формы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атраль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чев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итмопл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сценировка песен, попевок, хоро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ние различных видов теа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раматизация ска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ещение теа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заимодействие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33"/>
                </a:solidFill>
                <a:latin typeface="Arial"/>
              </a:rPr>
              <a:t>Виды театра в детском саду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ба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оль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на фланелеграф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ижка-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пяти паль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ма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ручных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ьчиковый теневой театр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 «живых» теней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гнитный теа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ионеточный теа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Организация уголка театрализованной деятельности</a:t>
            </a:r>
            <a:br>
              <a:rPr sz="32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руппах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ского сада организованы уголки для  театрализованных представлений, спектаклей. В них отводится место для режиссёрских игр с пальчиковым, настольным теа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уголке располагаю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зличные виды театров: бибабо, настольный, театр на фланелеграфе и др.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квизит для разыгрывания сценок и спектаклей: набор кукол, ширмы для кукольного театра, костюмы, элементы костюмов, мас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трибуты для различных игровых позиций: театральный реквизит,  декорации, сценарии, книги, образцы музыкальных произведений, афиши, касса, билеты, карандаши, краски, клей, виды бумаги, природный матери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Модель:развитие творческой активности дошкольников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(программа Н.Ф.Сорокиной и Л.Г.Миланович 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«Театр – творчество – дети»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1219320"/>
            <a:ext cx="175284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мпров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733920" y="990720"/>
            <a:ext cx="1676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хем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82880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оль костюм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корац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дмет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кр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274320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и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раз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809880"/>
            <a:ext cx="175284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гр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44956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бота н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торикой ру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ее дви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 ши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5715000"/>
            <a:ext cx="1676520" cy="685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нтонац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характер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ук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1600200"/>
            <a:ext cx="175284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4343400"/>
            <a:ext cx="182880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ком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кольного теат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кукл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32004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160020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наком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 осн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ктер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сте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4343400"/>
            <a:ext cx="1676520" cy="12193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мостоя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еатрализова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5867280"/>
            <a:ext cx="1752840" cy="8384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аздни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звл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114300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гровые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15200" y="18288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рази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15200" y="2438280"/>
            <a:ext cx="1600200" cy="3049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им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2895480"/>
            <a:ext cx="167652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раз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ви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8862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пектак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91520" y="472428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гры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ра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91520" y="5486400"/>
            <a:ext cx="1600200" cy="53352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сказы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ка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876920" y="27432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352680" y="27432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429000" y="38098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38098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3809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04760" y="144756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476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828440" y="22860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904760" y="411444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90476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904760" y="487692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705720" y="13712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1981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1981080"/>
            <a:ext cx="609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934320" y="42670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3432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4952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11:15Z</dcterms:created>
  <dc:creator>USER</dc:creator>
  <dc:description/>
  <dc:language>en-US</dc:language>
  <cp:lastModifiedBy>USER</cp:lastModifiedBy>
  <dcterms:modified xsi:type="dcterms:W3CDTF">2012-11-15T16:17:5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